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CC0-9331-4097-A51E-ADBDD879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FC1-8586-462C-8AEC-94503F1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2D1-BC60-4552-8E0A-39BC2CC9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9A3-76AE-4182-A44C-2A0840CC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98B-8CA8-4ADB-BA62-CC44CD3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FA2-AC6A-4D3A-9AE6-1F4B0AA8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BE8-E969-415D-BB82-00A5AB3F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E52-9240-40A3-93A2-759A1C25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751-F97A-4779-8011-5A751DC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339-25F6-4B35-A1DA-C62079E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AE1-448B-474C-821A-040FFF0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CEF-A4BF-40C5-968C-A1CC53D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27F7-6DCE-48F2-A4D4-E5B29EEE4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64691418377"/>
          <p:cNvPicPr/>
          <p:nvPr/>
        </p:nvPicPr>
        <p:blipFill>
          <a:blip r:embed="rId1"/>
          <a:stretch/>
        </p:blipFill>
        <p:spPr>
          <a:xfrm>
            <a:off x="108000" y="0"/>
            <a:ext cx="586728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93320" y="155736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三顾茅庐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191763074_1_b"/>
          <p:cNvPicPr/>
          <p:nvPr/>
        </p:nvPicPr>
        <p:blipFill>
          <a:blip r:embed="rId1"/>
          <a:stretch/>
        </p:blipFill>
        <p:spPr>
          <a:xfrm>
            <a:off x="468360" y="330120"/>
            <a:ext cx="4716360" cy="6166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435640" y="836640"/>
            <a:ext cx="345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课文根据罗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的著名古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历史小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三十七回“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马徽再荐名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刘玄德三顾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庐”的内容改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而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805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A3D-EE8B-4867-85B8-8647E5E179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240_l6PUR4aE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879480" y="98100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顾茅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66760" y="2852640"/>
            <a:ext cx="47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：三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顾：拜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茅庐：指诸葛亮的住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721511451979209"/>
          <p:cNvPicPr/>
          <p:nvPr/>
        </p:nvPicPr>
        <p:blipFill>
          <a:blip r:embed="rId1"/>
          <a:stretch/>
        </p:blipFill>
        <p:spPr>
          <a:xfrm>
            <a:off x="250920" y="260280"/>
            <a:ext cx="3673440" cy="5473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706640" y="463680"/>
            <a:ext cx="3540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略写刘备两次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隆中拜访诸葛亮，都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见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-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具体写刘备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次拜访诸葛亮的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写刘备和诸葛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亲密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82520" y="561960"/>
            <a:ext cx="78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z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顾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o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诸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zhū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葛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gě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亮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l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g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宜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í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cǎo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堂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g)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恭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gōng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j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g)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shǎng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wǔ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tǎo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顾茅庐  蜿蜒起伏  青翠欲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秀丽宜人  群雄纷争  茅塞顿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721511451979209"/>
          <p:cNvPicPr/>
          <p:nvPr/>
        </p:nvPicPr>
        <p:blipFill>
          <a:blip r:embed="rId1"/>
          <a:stretch/>
        </p:blipFill>
        <p:spPr>
          <a:xfrm>
            <a:off x="539640" y="1052640"/>
            <a:ext cx="4830840" cy="4830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192720" y="1058760"/>
            <a:ext cx="185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课文讲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一个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样的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39:23Z</dcterms:created>
  <dc:creator/>
  <dc:description/>
  <cp:keywords>幻灯片之家 http:/www.eeppt.com</cp:keywords>
  <dc:language>en-US</dc:language>
  <cp:lastModifiedBy/>
  <dcterms:modified xsi:type="dcterms:W3CDTF">2015-07-20T02:04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