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7.jpeg" ContentType="image/jpeg"/>
  <Override PartName="/ppt/media/image3.jpeg" ContentType="image/jpeg"/>
  <Override PartName="/ppt/media/image2.jpeg" ContentType="image/jpeg"/>
  <Override PartName="/ppt/media/image2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C8E-B6F4-435E-842D-66EF45DD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6AA-EEED-43BE-822B-5B8C625C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C225D-8FA4-4F56-B84B-F0CAE1F6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832F6-9039-49E0-98BC-713E45C7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74411-15E3-4D04-B7C9-159C32CA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E90DA-29CF-4DDF-8982-1B445F78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A82F7-E760-492B-BF47-0C326BDC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854D0-5D6F-44B2-9204-CB4B5EF8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F0DE8-3812-4A5A-8878-9695E046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57346-BC2D-4B0F-9E13-4E4A48D8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85334-6D9F-419C-B438-81BF04DB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808-1D78-4A17-936A-A9A3EFC5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4D0-CCA4-4B98-B39D-C50090E3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EC2C-14C3-42A4-B5A3-FBF436EE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5D22-680B-46C9-B2DD-3C069E6E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FB5D-30AA-4198-82C4-05B835D1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3528-5571-4E4B-A253-319C6F93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A066-6284-4F7A-98E1-1B6C31B9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29A1-36F7-45D6-8B5A-C3B59346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CA9B-BB93-418A-AAAE-9E501417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515-3F8F-479F-90DE-DF418E44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47FF-B3C8-4B11-8DFD-684CCA4E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D0EF-3B8F-4A90-BA59-1E0AF37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B19C-93B8-4EBA-BB1B-10A5D2F5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8F58-7A78-4135-9940-E5960DFD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9379-7B4A-4340-B7FC-E406D135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9D16E-3D0D-42C3-AE12-41B832FD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8A1D-6747-42C9-94F2-50036563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1D23-A57A-4932-A167-6AC4369D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C3DB-FA1C-4621-A326-0F23FEE5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C831-B4F0-4D3D-BE59-599FC044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D3C-E648-4321-AB4E-E36421B5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D310D-6603-48E3-A254-91275438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220E-CCBD-433C-8101-1B8EBC67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77AB0-2ABB-479A-BEAB-12A720DA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49581-D46D-4899-9300-8CF995B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3964-BA23-4270-84AF-CCF04734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74D4-8FA9-4418-A865-3949F9CF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B347-0AB4-4C4E-897E-3ADEB77C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AFCA0-7263-4E4E-AF0C-45EC6B08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94414-4E6C-4AE4-AFBC-CAD075FF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9323-ECCE-471D-AC96-907141AA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B9C-EF73-477F-A773-E6E35ED2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49B2F-205C-4050-A1C5-3A7E0E13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53E21-DA85-445D-B361-0B6D3E7C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4D96-080B-473D-BAA3-FD431E32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B21B-D206-451A-9B39-E6C00CBA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CC72-5F78-4CDF-B370-22B2D137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DF383-CE9B-451D-9782-CFCB1D42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5A92-4296-48A3-A64F-2F80F96B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6AC83-EE6E-4D8E-9656-E323B29F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C987-757F-4515-80A3-70BC58D8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4845C-6101-49D9-B85F-78298300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0CE-3D35-4839-92AF-6DAB4442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9FF09-D85E-4C16-B4C9-1CDF5AB7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82C8D-B355-4981-B920-B9E73094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80BD9-4BC1-4470-9204-5DE69ED6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44A69-38C5-4FB3-863D-83D8E502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C1DAE-7695-45F8-877D-7555EE05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E596C-8C54-47DF-826D-B34D927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25CBA-E65E-4E07-94B7-241CCEE1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1FDCA-08B3-4453-9744-01039555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4F69F-BCF3-4E7C-B8BE-C299607A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58917-044E-4A39-97DE-B44144A3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7D4-316D-4688-B5F4-40F56C7C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D04B-4B96-4E93-9392-E3BCDB3C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C5F64-1214-4B90-A173-50334C1A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6C208-A516-4AD2-BA92-B59B61DB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B2E30-5A97-423E-9E69-E3E1B396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A275E-E07E-41E9-873A-DCAC9811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894B7-1B76-40CB-BBDB-02C6D7B4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F8309-B211-4B81-8D41-CCE8B38C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95B8D-78E6-401E-94C2-B212D224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BFB1A-197B-4692-BAD5-A7AC3862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AB903-84DF-451D-9FD7-1EE46C4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C2C-38B4-4BCA-A4D3-D04DD745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5DB9A-9591-487F-A2C9-FD09436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9538A-5E27-45AF-B661-6FD63353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ACB46-8232-46D1-B711-32DA4FF3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9D83-FBC1-4532-B0F2-E366F1E8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759E9-4724-4125-9FE2-442F27FC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D16CA-5827-44F5-87DB-E56A0D62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5551B-B690-4D05-9419-DF4FAFE7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72523-E60A-4B3C-9186-37945DFA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C5AF2-CC4D-49D5-A29B-780ACA45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B4DF8-EB65-4162-B5DC-CAC085B5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DBD-581B-4ABD-B867-C8EA4249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0F52-103D-46CC-BC41-AD7A905C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3C81C-010F-4452-81AA-92F49D53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34BF4-A205-4D5A-9F42-9F25514A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8A3D-6D62-42E2-BCA1-CE9257E7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7EC22-9B5A-4045-BF29-E78689EC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8B1ED-48F7-47B5-9126-EB6D1985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7D1F9-C81C-43C1-8E3F-4B586CC1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E5D72-A398-439E-92FB-E4049784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5D393-F964-4101-B245-A113CF98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CEB21-7EA9-4753-8820-807430E9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474-A910-4B2D-81A1-4A8FBCFF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553AB-9DE8-40C9-8BA7-CD0F634B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9E316-A2F6-41A6-8B78-318A02C1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E20E0-BB63-4DC0-A154-AC1CE9F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6E9EE-497F-474B-8EFE-DAA9447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B70C7-46B8-4BB8-ACC5-7F0FBA3F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6FB43-B6C0-4BB6-9808-ABF4027F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08A4B-9FA0-4E02-9885-C9DC938B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29D45-7A39-4FB2-A0A7-BC4EEBCB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7A7C9-EEF6-4426-A085-A732A388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1BA59-8F09-4DD1-B898-99E5AA68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0481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任意多边形 20482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任意多边形 20483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任意多边形 20484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任意多边形 20485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椭圆 20486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椭圆 20487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椭圆 20488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EAB6-D0B2-4258-96C2-B35946ACF43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36A1-4324-4F34-8A5E-B78A47A7D1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79873"/>
          <p:cNvGrpSpPr/>
          <p:nvPr/>
        </p:nvGrpSpPr>
        <p:grpSpPr>
          <a:xfrm>
            <a:off x="-86760" y="-93600"/>
            <a:ext cx="2772360" cy="6950160"/>
            <a:chOff x="-86760" y="-93600"/>
            <a:chExt cx="2772360" cy="6950160"/>
          </a:xfrm>
        </p:grpSpPr>
        <p:sp>
          <p:nvSpPr>
            <p:cNvPr id="91" name="任意多边形 79874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组合 79875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3" name="任意多边形 79876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任意多边形 79877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任意多边形 79878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任意多边形 79879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组合 79880"/>
            <p:cNvGrpSpPr/>
            <p:nvPr/>
          </p:nvGrpSpPr>
          <p:grpSpPr>
            <a:xfrm>
              <a:off x="-1080" y="2601000"/>
              <a:ext cx="2686680" cy="3117600"/>
              <a:chOff x="-1080" y="2601000"/>
              <a:chExt cx="2686680" cy="3117600"/>
            </a:xfrm>
          </p:grpSpPr>
          <p:sp>
            <p:nvSpPr>
              <p:cNvPr id="98" name="任意多边形 79881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任意多边形 79882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任意多边形 79883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任意多边形 79884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任意多边形 79885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3" name="组合 79886"/>
              <p:cNvGrpSpPr/>
              <p:nvPr/>
            </p:nvGrpSpPr>
            <p:grpSpPr>
              <a:xfrm>
                <a:off x="852840" y="4055400"/>
                <a:ext cx="1832760" cy="1663200"/>
                <a:chOff x="852840" y="4055400"/>
                <a:chExt cx="1832760" cy="1663200"/>
              </a:xfrm>
            </p:grpSpPr>
            <p:sp>
              <p:nvSpPr>
                <p:cNvPr id="104" name="任意多边形 79887"/>
                <p:cNvSpPr/>
                <p:nvPr/>
              </p:nvSpPr>
              <p:spPr>
                <a:xfrm flipH="1" rot="7102800">
                  <a:off x="1263240" y="3944880"/>
                  <a:ext cx="474480" cy="1216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任意多边形 79888"/>
                <p:cNvSpPr/>
                <p:nvPr/>
              </p:nvSpPr>
              <p:spPr>
                <a:xfrm flipH="1" rot="7102800">
                  <a:off x="2327760" y="4973400"/>
                  <a:ext cx="108720" cy="4986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任意多边形 79889"/>
                <p:cNvSpPr/>
                <p:nvPr/>
              </p:nvSpPr>
              <p:spPr>
                <a:xfrm flipH="1" rot="7102800">
                  <a:off x="250236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" name="组合 79890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8" name="任意多边形 79891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任意多边形 79892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任意多边形 79893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79894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2" name="任意多边形 79895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任意多边形 79896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任意多边形 79897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79898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6" name="任意多边形 79899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任意多边形 79900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任意多边形 79901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任意多边形 79902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任意多边形 79903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任意多边形 79904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任意多边形 79905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任意多边形 79906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任意多边形 79907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任意多边形 79908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任意多边形 79909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任意多边形 79910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任意多边形 79911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任意多边形 79912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任意多边形 79913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任意多边形 79914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任意多边形 79915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BF92-5E10-4197-AD82-EC412362D1E8}" type="slidenum"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2592-3281-441E-8199-480E825790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C288-A230-4571-881B-0E58A08BE0A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852D-8FA6-4C46-8819-42BFEA5FAF4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组合 21505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7" name="任意多边形 21506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任意多边形 21507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任意多边形 21508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任意多边形 21509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椭圆 21510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椭圆 21511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椭圆 21512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177D-230D-4A74-A15D-17B8AA10681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A029-D693-414E-88EF-95734603FD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组合 80897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47" name="组合 80898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48" name="任意多边形 80899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任意多边形 80900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任意多边形 80901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任意多边形 80902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任意多边形 80903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任意多边形 80904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任意多边形 80905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5" name="任意多边形 80906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80907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80908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80909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80910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80911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" name="组合 80912"/>
            <p:cNvGrpSpPr/>
            <p:nvPr/>
          </p:nvGrpSpPr>
          <p:grpSpPr>
            <a:xfrm>
              <a:off x="4138920" y="1037520"/>
              <a:ext cx="1017360" cy="1263240"/>
              <a:chOff x="4138920" y="1037520"/>
              <a:chExt cx="1017360" cy="1263240"/>
            </a:xfrm>
          </p:grpSpPr>
          <p:sp>
            <p:nvSpPr>
              <p:cNvPr id="362" name="任意多边形 80913"/>
              <p:cNvSpPr/>
              <p:nvPr/>
            </p:nvSpPr>
            <p:spPr>
              <a:xfrm rot="3220200">
                <a:off x="4554720" y="10753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任意多边形 80914"/>
              <p:cNvSpPr/>
              <p:nvPr/>
            </p:nvSpPr>
            <p:spPr>
              <a:xfrm rot="3220200">
                <a:off x="4639680" y="1609200"/>
                <a:ext cx="48924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任意多边形 80915"/>
              <p:cNvSpPr/>
              <p:nvPr/>
            </p:nvSpPr>
            <p:spPr>
              <a:xfrm rot="3220200">
                <a:off x="4099320" y="19670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组合 80916"/>
            <p:cNvGrpSpPr/>
            <p:nvPr/>
          </p:nvGrpSpPr>
          <p:grpSpPr>
            <a:xfrm>
              <a:off x="5643720" y="296280"/>
              <a:ext cx="888840" cy="833760"/>
              <a:chOff x="5643720" y="296280"/>
              <a:chExt cx="888840" cy="833760"/>
            </a:xfrm>
          </p:grpSpPr>
          <p:sp>
            <p:nvSpPr>
              <p:cNvPr id="366" name="任意多边形 80917"/>
              <p:cNvSpPr/>
              <p:nvPr/>
            </p:nvSpPr>
            <p:spPr>
              <a:xfrm rot="14908200">
                <a:off x="5754960" y="7999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任意多边形 80918"/>
              <p:cNvSpPr/>
              <p:nvPr/>
            </p:nvSpPr>
            <p:spPr>
              <a:xfrm rot="14908200">
                <a:off x="5703840" y="4795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任意多边形 80919"/>
              <p:cNvSpPr/>
              <p:nvPr/>
            </p:nvSpPr>
            <p:spPr>
              <a:xfrm rot="14908200">
                <a:off x="6242760" y="39672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组合 80920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70" name="任意多边形 80921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任意多边形 80922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任意多边形 80923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组合 80924"/>
            <p:cNvGrpSpPr/>
            <p:nvPr/>
          </p:nvGrpSpPr>
          <p:grpSpPr>
            <a:xfrm>
              <a:off x="357840" y="431640"/>
              <a:ext cx="1693440" cy="1148040"/>
              <a:chOff x="357840" y="431640"/>
              <a:chExt cx="1693440" cy="1148040"/>
            </a:xfrm>
          </p:grpSpPr>
          <p:sp>
            <p:nvSpPr>
              <p:cNvPr id="374" name="任意多边形 80925"/>
              <p:cNvSpPr/>
              <p:nvPr/>
            </p:nvSpPr>
            <p:spPr>
              <a:xfrm flipH="1" rot="4107000">
                <a:off x="1560600" y="1050480"/>
                <a:ext cx="35604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任意多边形 80926"/>
              <p:cNvSpPr/>
              <p:nvPr/>
            </p:nvSpPr>
            <p:spPr>
              <a:xfrm flipH="1" rot="4107000">
                <a:off x="1006560" y="57528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任意多边形 80927"/>
              <p:cNvSpPr/>
              <p:nvPr/>
            </p:nvSpPr>
            <p:spPr>
              <a:xfrm flipH="1" rot="4107000">
                <a:off x="260280" y="108972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组合 80928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78" name="任意多边形 80929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任意多边形 80930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任意多边形 80931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任意多边形 80932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任意多边形 80933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任意多边形 80934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任意多边形 80935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任意多边形 80936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任意多边形 80937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任意多边形 80938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2285-3EB7-4BFB-B1AB-359A51F400AC}" type="slidenum"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9786-0A16-45F6-97DE-A760E8CDFF9E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16390"/>
          <p:cNvSpPr txBox="1"/>
          <p:nvPr/>
        </p:nvSpPr>
        <p:spPr>
          <a:xfrm>
            <a:off x="468360" y="981000"/>
            <a:ext cx="813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数列的应用</a:t>
            </a:r>
            <a:endParaRPr b="0" lang="en-US" sz="6000" spc="1" strike="noStrike">
              <a:ln w="12600">
                <a:solidFill>
                  <a:srgbClr val="ffffff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1" name="文本框 16391"/>
          <p:cNvSpPr/>
          <p:nvPr/>
        </p:nvSpPr>
        <p:spPr>
          <a:xfrm>
            <a:off x="3995640" y="3573360"/>
            <a:ext cx="39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华文行楷"/>
              </a:rPr>
              <a:t>XX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行楷"/>
              </a:rPr>
              <a:t>市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华文行楷"/>
              </a:rPr>
              <a:t>XX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行楷"/>
              </a:rPr>
              <a:t>中数学科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文本框 9218"/>
          <p:cNvSpPr/>
          <p:nvPr/>
        </p:nvSpPr>
        <p:spPr>
          <a:xfrm>
            <a:off x="395280" y="333360"/>
            <a:ext cx="813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文本框 9219"/>
          <p:cNvSpPr/>
          <p:nvPr/>
        </p:nvSpPr>
        <p:spPr>
          <a:xfrm>
            <a:off x="34920" y="2035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文本框 9220"/>
          <p:cNvSpPr/>
          <p:nvPr/>
        </p:nvSpPr>
        <p:spPr>
          <a:xfrm>
            <a:off x="431640" y="20350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1.004575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…+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+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=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对象 9221" descr=""/>
          <p:cNvPicPr/>
          <p:nvPr/>
        </p:nvPicPr>
        <p:blipFill>
          <a:blip r:embed="rId1"/>
          <a:stretch/>
        </p:blipFill>
        <p:spPr>
          <a:xfrm>
            <a:off x="1332000" y="2611440"/>
            <a:ext cx="5832360" cy="1104840"/>
          </a:xfrm>
          <a:prstGeom prst="rect">
            <a:avLst/>
          </a:prstGeom>
          <a:ln w="0">
            <a:noFill/>
          </a:ln>
        </p:spPr>
      </p:pic>
      <p:pic>
        <p:nvPicPr>
          <p:cNvPr id="572" name="对象 9223" descr=""/>
          <p:cNvPicPr/>
          <p:nvPr/>
        </p:nvPicPr>
        <p:blipFill>
          <a:blip r:embed="rId2"/>
          <a:stretch/>
        </p:blipFill>
        <p:spPr>
          <a:xfrm>
            <a:off x="1476360" y="3763800"/>
            <a:ext cx="6012000" cy="1105200"/>
          </a:xfrm>
          <a:prstGeom prst="rect">
            <a:avLst/>
          </a:prstGeom>
          <a:ln w="0">
            <a:noFill/>
          </a:ln>
        </p:spPr>
      </p:pic>
      <p:sp>
        <p:nvSpPr>
          <p:cNvPr id="573" name="文本框 9224"/>
          <p:cNvSpPr/>
          <p:nvPr/>
        </p:nvSpPr>
        <p:spPr>
          <a:xfrm>
            <a:off x="324000" y="51325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对象 9226" descr=""/>
          <p:cNvPicPr/>
          <p:nvPr/>
        </p:nvPicPr>
        <p:blipFill>
          <a:blip r:embed="rId3"/>
          <a:stretch/>
        </p:blipFill>
        <p:spPr>
          <a:xfrm>
            <a:off x="1763640" y="5086440"/>
            <a:ext cx="2087640" cy="439560"/>
          </a:xfrm>
          <a:prstGeom prst="rect">
            <a:avLst/>
          </a:prstGeom>
          <a:ln w="0">
            <a:noFill/>
          </a:ln>
        </p:spPr>
      </p:pic>
      <p:sp>
        <p:nvSpPr>
          <p:cNvPr id="575" name="文本框 9228"/>
          <p:cNvSpPr/>
          <p:nvPr/>
        </p:nvSpPr>
        <p:spPr>
          <a:xfrm>
            <a:off x="395280" y="59245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每月应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0.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文本框 9229"/>
          <p:cNvSpPr/>
          <p:nvPr/>
        </p:nvSpPr>
        <p:spPr>
          <a:xfrm>
            <a:off x="539640" y="4076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文本框 9230"/>
          <p:cNvSpPr/>
          <p:nvPr/>
        </p:nvSpPr>
        <p:spPr>
          <a:xfrm>
            <a:off x="216000" y="14590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4x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…+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x+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x=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文本框 9234"/>
          <p:cNvSpPr/>
          <p:nvPr/>
        </p:nvSpPr>
        <p:spPr>
          <a:xfrm>
            <a:off x="144360" y="225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最后根据到期偿还贷款的含义，即各月所付款额连同贷款付清时所生利息之和，等于贷款本金及到贷款付清时的利息之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：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对象 14339" descr=""/>
          <p:cNvPicPr/>
          <p:nvPr/>
        </p:nvPicPr>
        <p:blipFill>
          <a:blip r:embed="rId1"/>
          <a:stretch/>
        </p:blipFill>
        <p:spPr>
          <a:xfrm>
            <a:off x="4500720" y="3068640"/>
            <a:ext cx="2808000" cy="136836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14340"/>
          <p:cNvSpPr/>
          <p:nvPr/>
        </p:nvSpPr>
        <p:spPr>
          <a:xfrm>
            <a:off x="179280" y="14796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思考：一般地，采用上述分期付款的方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个月将款全部付清，月利率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，那么每月付款款额的计算公式是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文本框 14341"/>
          <p:cNvSpPr/>
          <p:nvPr/>
        </p:nvSpPr>
        <p:spPr>
          <a:xfrm>
            <a:off x="684360" y="35575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设每月付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，则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日期占位符 1"/>
          <p:cNvSpPr/>
          <p:nvPr/>
        </p:nvSpPr>
        <p:spPr>
          <a:xfrm>
            <a:off x="3016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文本框 8193"/>
          <p:cNvSpPr/>
          <p:nvPr/>
        </p:nvSpPr>
        <p:spPr>
          <a:xfrm>
            <a:off x="468360" y="476280"/>
            <a:ext cx="611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文本框 8194"/>
          <p:cNvSpPr/>
          <p:nvPr/>
        </p:nvSpPr>
        <p:spPr>
          <a:xfrm>
            <a:off x="539640" y="8222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练习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文本框 8195"/>
          <p:cNvSpPr/>
          <p:nvPr/>
        </p:nvSpPr>
        <p:spPr>
          <a:xfrm>
            <a:off x="179280" y="162864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用分期付款的方式购买家用电器一件，价格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，购买当天先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，以后每月这一天都加付当时欠款的利息，并交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；月利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为，共交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次，若从交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以后的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个月开始算分期付款的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月，问：分期付款的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各月该交付多少钱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全部贷款付清后，买这件家店实际花费了多少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文本框 8196"/>
          <p:cNvSpPr/>
          <p:nvPr/>
        </p:nvSpPr>
        <p:spPr>
          <a:xfrm>
            <a:off x="1979640" y="4797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答案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5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日期占位符 1"/>
          <p:cNvSpPr/>
          <p:nvPr/>
        </p:nvSpPr>
        <p:spPr>
          <a:xfrm>
            <a:off x="301680" y="617220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文本框 2051"/>
          <p:cNvSpPr/>
          <p:nvPr/>
        </p:nvSpPr>
        <p:spPr>
          <a:xfrm>
            <a:off x="179280" y="1159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一</a:t>
            </a:r>
            <a:r>
              <a:rPr b="1" lang="en-US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等差数列的应用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文本框 2052"/>
          <p:cNvSpPr/>
          <p:nvPr/>
        </p:nvSpPr>
        <p:spPr>
          <a:xfrm>
            <a:off x="324000" y="620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纸厂用若干台效率相同的抽水机从河里往蓄水池灌水，若所有机械同时开动，则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灌满水池．若一台一台的开动，每相临两台启动时间间隔都相同，那么到灌满水池时，第一台的工作时间是最后一台的七倍，问第一台的工作了多少时间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文本框 2053"/>
          <p:cNvSpPr/>
          <p:nvPr/>
        </p:nvSpPr>
        <p:spPr>
          <a:xfrm>
            <a:off x="324000" y="24210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解：设有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台抽水机．每相临两台启动的时间间隔为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小时，最后一台工作时间为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小时，依题意，得方程组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组合 2062"/>
          <p:cNvGrpSpPr/>
          <p:nvPr/>
        </p:nvGrpSpPr>
        <p:grpSpPr>
          <a:xfrm>
            <a:off x="2484360" y="3141720"/>
            <a:ext cx="3600000" cy="1656720"/>
            <a:chOff x="2484360" y="3141720"/>
            <a:chExt cx="3600000" cy="1656720"/>
          </a:xfrm>
        </p:grpSpPr>
        <p:pic>
          <p:nvPicPr>
            <p:cNvPr id="477" name="对象 2054" descr=""/>
            <p:cNvPicPr/>
            <p:nvPr/>
          </p:nvPicPr>
          <p:blipFill>
            <a:blip r:embed="rId1"/>
            <a:stretch/>
          </p:blipFill>
          <p:spPr>
            <a:xfrm>
              <a:off x="2704320" y="3141720"/>
              <a:ext cx="294084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对象 2055" descr=""/>
            <p:cNvPicPr/>
            <p:nvPr/>
          </p:nvPicPr>
          <p:blipFill>
            <a:blip r:embed="rId2"/>
            <a:stretch/>
          </p:blipFill>
          <p:spPr>
            <a:xfrm>
              <a:off x="2631600" y="3702240"/>
              <a:ext cx="3452760" cy="109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左大括号 2056"/>
            <p:cNvSpPr/>
            <p:nvPr/>
          </p:nvSpPr>
          <p:spPr>
            <a:xfrm>
              <a:off x="2484360" y="3381480"/>
              <a:ext cx="147240" cy="960480"/>
            </a:xfrm>
            <a:custGeom>
              <a:avLst/>
              <a:gdLst>
                <a:gd name="textAreaLeft" fmla="*/ 93960 w 147240"/>
                <a:gd name="textAreaRight" fmla="*/ 147600 w 147240"/>
                <a:gd name="textAreaTop" fmla="*/ 24840 h 960480"/>
                <a:gd name="textAreaBottom" fmla="*/ 93564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文本框 2058"/>
          <p:cNvSpPr/>
          <p:nvPr/>
        </p:nvSpPr>
        <p:spPr>
          <a:xfrm>
            <a:off x="2052720" y="526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组合 2063"/>
          <p:cNvGrpSpPr/>
          <p:nvPr/>
        </p:nvGrpSpPr>
        <p:grpSpPr>
          <a:xfrm>
            <a:off x="2627280" y="4653000"/>
            <a:ext cx="2881080" cy="1225080"/>
            <a:chOff x="2627280" y="4653000"/>
            <a:chExt cx="2881080" cy="1225080"/>
          </a:xfrm>
        </p:grpSpPr>
        <p:pic>
          <p:nvPicPr>
            <p:cNvPr id="482" name="对象 2059" descr=""/>
            <p:cNvPicPr/>
            <p:nvPr/>
          </p:nvPicPr>
          <p:blipFill>
            <a:blip r:embed="rId3"/>
            <a:stretch/>
          </p:blipFill>
          <p:spPr>
            <a:xfrm>
              <a:off x="2854440" y="4653000"/>
              <a:ext cx="227268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对象 2060" descr=""/>
            <p:cNvPicPr/>
            <p:nvPr/>
          </p:nvPicPr>
          <p:blipFill>
            <a:blip r:embed="rId4"/>
            <a:stretch/>
          </p:blipFill>
          <p:spPr>
            <a:xfrm>
              <a:off x="2779200" y="5312880"/>
              <a:ext cx="272916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左大括号 2061"/>
            <p:cNvSpPr/>
            <p:nvPr/>
          </p:nvSpPr>
          <p:spPr>
            <a:xfrm>
              <a:off x="2627280" y="4900320"/>
              <a:ext cx="76680" cy="825120"/>
            </a:xfrm>
            <a:custGeom>
              <a:avLst/>
              <a:gdLst>
                <a:gd name="textAreaLeft" fmla="*/ 48960 w 76680"/>
                <a:gd name="textAreaRight" fmla="*/ 77040 w 76680"/>
                <a:gd name="textAreaTop" fmla="*/ 21240 h 825120"/>
                <a:gd name="textAreaBottom" fmla="*/ 803880 h 82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文本框 2064"/>
          <p:cNvSpPr/>
          <p:nvPr/>
        </p:nvSpPr>
        <p:spPr>
          <a:xfrm>
            <a:off x="2050920" y="587700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得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=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文本框 2066"/>
          <p:cNvSpPr/>
          <p:nvPr/>
        </p:nvSpPr>
        <p:spPr>
          <a:xfrm>
            <a:off x="2050920" y="62946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第一台工作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3075"/>
          <p:cNvSpPr/>
          <p:nvPr/>
        </p:nvSpPr>
        <p:spPr>
          <a:xfrm>
            <a:off x="755640" y="907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练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文本框 3076"/>
          <p:cNvSpPr/>
          <p:nvPr/>
        </p:nvSpPr>
        <p:spPr>
          <a:xfrm>
            <a:off x="611280" y="1700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服装厂的三年生产计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年比前一年增产的服装件数相同，如果第三年比原计划多生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那么每一年比上一年的增长率相同，而且第三年生产的件数恰等于原计划生产件数的一半，求原计划生产服装的件数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文本框 3078"/>
          <p:cNvSpPr/>
          <p:nvPr/>
        </p:nvSpPr>
        <p:spPr>
          <a:xfrm>
            <a:off x="684360" y="4437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案：原计划每年生产的件数分别为４，６，８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日期占位符 1"/>
          <p:cNvSpPr/>
          <p:nvPr/>
        </p:nvSpPr>
        <p:spPr>
          <a:xfrm>
            <a:off x="301680" y="617220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5123"/>
          <p:cNvSpPr/>
          <p:nvPr/>
        </p:nvSpPr>
        <p:spPr>
          <a:xfrm>
            <a:off x="34920" y="115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（二）增长率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文本框 5124"/>
          <p:cNvSpPr/>
          <p:nvPr/>
        </p:nvSpPr>
        <p:spPr>
          <a:xfrm>
            <a:off x="179280" y="8017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某地现有居民住房的总面积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其中需要拆除的旧住房面积占了一半．当地有关部门决定在每年拆除一定数量旧住房的情况下，仍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住房增长率建设新住房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文本框 5125"/>
          <p:cNvSpPr/>
          <p:nvPr/>
        </p:nvSpPr>
        <p:spPr>
          <a:xfrm>
            <a:off x="179280" y="19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１）如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后该地的住房总面积正好比目前翻一翻，那么每年应拆除的旧房总面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多少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示：计算时可取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.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.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文本框 5126"/>
          <p:cNvSpPr/>
          <p:nvPr/>
        </p:nvSpPr>
        <p:spPr>
          <a:xfrm>
            <a:off x="0" y="2852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２）过十年还未拆除的旧住房总面积占当时住房总面积的百分比是多少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留到小数点后第１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文本框 5134"/>
          <p:cNvSpPr/>
          <p:nvPr/>
        </p:nvSpPr>
        <p:spPr>
          <a:xfrm>
            <a:off x="108000" y="38131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住房总面积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文本框 5135"/>
          <p:cNvSpPr/>
          <p:nvPr/>
        </p:nvSpPr>
        <p:spPr>
          <a:xfrm>
            <a:off x="399960" y="4340160"/>
            <a:ext cx="41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住房总面积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文本框 5136"/>
          <p:cNvSpPr/>
          <p:nvPr/>
        </p:nvSpPr>
        <p:spPr>
          <a:xfrm>
            <a:off x="399960" y="541980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住房总面积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对象 5137" descr=""/>
          <p:cNvPicPr/>
          <p:nvPr/>
        </p:nvPicPr>
        <p:blipFill>
          <a:blip r:embed="rId1"/>
          <a:stretch/>
        </p:blipFill>
        <p:spPr>
          <a:xfrm>
            <a:off x="4067280" y="3649680"/>
            <a:ext cx="2374920" cy="690480"/>
          </a:xfrm>
          <a:prstGeom prst="rect">
            <a:avLst/>
          </a:prstGeom>
          <a:ln w="0">
            <a:noFill/>
          </a:ln>
        </p:spPr>
      </p:pic>
      <p:pic>
        <p:nvPicPr>
          <p:cNvPr id="500" name="对象 5138" descr=""/>
          <p:cNvPicPr/>
          <p:nvPr/>
        </p:nvPicPr>
        <p:blipFill>
          <a:blip r:embed="rId2"/>
          <a:stretch/>
        </p:blipFill>
        <p:spPr>
          <a:xfrm>
            <a:off x="826920" y="4700520"/>
            <a:ext cx="6337440" cy="673200"/>
          </a:xfrm>
          <a:prstGeom prst="rect">
            <a:avLst/>
          </a:prstGeom>
          <a:ln w="0">
            <a:noFill/>
          </a:ln>
        </p:spPr>
      </p:pic>
      <p:pic>
        <p:nvPicPr>
          <p:cNvPr id="501" name="对象 5139" descr=""/>
          <p:cNvPicPr/>
          <p:nvPr/>
        </p:nvPicPr>
        <p:blipFill>
          <a:blip r:embed="rId3"/>
          <a:stretch/>
        </p:blipFill>
        <p:spPr>
          <a:xfrm>
            <a:off x="684360" y="5877000"/>
            <a:ext cx="7991280" cy="717480"/>
          </a:xfrm>
          <a:prstGeom prst="rect">
            <a:avLst/>
          </a:prstGeom>
          <a:ln w="0">
            <a:noFill/>
          </a:ln>
        </p:spPr>
      </p:pic>
      <p:sp>
        <p:nvSpPr>
          <p:cNvPr id="502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文本框 11271"/>
          <p:cNvSpPr/>
          <p:nvPr/>
        </p:nvSpPr>
        <p:spPr>
          <a:xfrm>
            <a:off x="826920" y="44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文本框 11272"/>
          <p:cNvSpPr/>
          <p:nvPr/>
        </p:nvSpPr>
        <p:spPr>
          <a:xfrm>
            <a:off x="755640" y="5475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住房总面积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对象 11275" descr=""/>
          <p:cNvPicPr/>
          <p:nvPr/>
        </p:nvPicPr>
        <p:blipFill>
          <a:blip r:embed="rId1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506" name="对象 11277" descr=""/>
          <p:cNvPicPr/>
          <p:nvPr/>
        </p:nvPicPr>
        <p:blipFill>
          <a:blip r:embed="rId2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507" name="对象 11278" descr=""/>
          <p:cNvPicPr/>
          <p:nvPr/>
        </p:nvPicPr>
        <p:blipFill>
          <a:blip r:embed="rId3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508" name="对象 11279" descr=""/>
          <p:cNvPicPr/>
          <p:nvPr/>
        </p:nvPicPr>
        <p:blipFill>
          <a:blip r:embed="rId4"/>
          <a:stretch/>
        </p:blipFill>
        <p:spPr>
          <a:xfrm>
            <a:off x="4514760" y="333864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509" name="对象 11287" descr=""/>
          <p:cNvPicPr/>
          <p:nvPr/>
        </p:nvPicPr>
        <p:blipFill>
          <a:blip r:embed="rId5"/>
          <a:stretch/>
        </p:blipFill>
        <p:spPr>
          <a:xfrm>
            <a:off x="1187280" y="907920"/>
            <a:ext cx="6985080" cy="648000"/>
          </a:xfrm>
          <a:prstGeom prst="rect">
            <a:avLst/>
          </a:prstGeom>
          <a:ln w="0">
            <a:noFill/>
          </a:ln>
        </p:spPr>
      </p:pic>
      <p:pic>
        <p:nvPicPr>
          <p:cNvPr id="510" name="对象 11288" descr=""/>
          <p:cNvPicPr/>
          <p:nvPr/>
        </p:nvPicPr>
        <p:blipFill>
          <a:blip r:embed="rId6"/>
          <a:stretch/>
        </p:blipFill>
        <p:spPr>
          <a:xfrm>
            <a:off x="826920" y="1484280"/>
            <a:ext cx="3961080" cy="1297080"/>
          </a:xfrm>
          <a:prstGeom prst="rect">
            <a:avLst/>
          </a:prstGeom>
          <a:ln w="0">
            <a:noFill/>
          </a:ln>
        </p:spPr>
      </p:pic>
      <p:pic>
        <p:nvPicPr>
          <p:cNvPr id="511" name="对象 11289" descr=""/>
          <p:cNvPicPr/>
          <p:nvPr/>
        </p:nvPicPr>
        <p:blipFill>
          <a:blip r:embed="rId7"/>
          <a:stretch/>
        </p:blipFill>
        <p:spPr>
          <a:xfrm>
            <a:off x="755640" y="2708280"/>
            <a:ext cx="3600360" cy="57636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11290"/>
          <p:cNvSpPr/>
          <p:nvPr/>
        </p:nvSpPr>
        <p:spPr>
          <a:xfrm>
            <a:off x="684360" y="34765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由题意，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对象 11291" descr=""/>
          <p:cNvPicPr/>
          <p:nvPr/>
        </p:nvPicPr>
        <p:blipFill>
          <a:blip r:embed="rId8"/>
          <a:stretch/>
        </p:blipFill>
        <p:spPr>
          <a:xfrm>
            <a:off x="2771640" y="3357720"/>
            <a:ext cx="3889440" cy="576000"/>
          </a:xfrm>
          <a:prstGeom prst="rect">
            <a:avLst/>
          </a:prstGeom>
          <a:ln w="0">
            <a:noFill/>
          </a:ln>
        </p:spPr>
      </p:pic>
      <p:sp>
        <p:nvSpPr>
          <p:cNvPr id="514" name="文本框 11292"/>
          <p:cNvSpPr/>
          <p:nvPr/>
        </p:nvSpPr>
        <p:spPr>
          <a:xfrm>
            <a:off x="682560" y="441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对象 11293" descr=""/>
          <p:cNvPicPr/>
          <p:nvPr/>
        </p:nvPicPr>
        <p:blipFill>
          <a:blip r:embed="rId9"/>
          <a:stretch/>
        </p:blipFill>
        <p:spPr>
          <a:xfrm>
            <a:off x="2700360" y="3933720"/>
            <a:ext cx="2735280" cy="115092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11294"/>
          <p:cNvSpPr/>
          <p:nvPr/>
        </p:nvSpPr>
        <p:spPr>
          <a:xfrm>
            <a:off x="108000" y="58514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对象 11296" descr=""/>
          <p:cNvPicPr/>
          <p:nvPr/>
        </p:nvPicPr>
        <p:blipFill>
          <a:blip r:embed="rId10"/>
          <a:stretch/>
        </p:blipFill>
        <p:spPr>
          <a:xfrm>
            <a:off x="1187280" y="4869000"/>
            <a:ext cx="4608720" cy="1655640"/>
          </a:xfrm>
          <a:prstGeom prst="rect">
            <a:avLst/>
          </a:prstGeom>
          <a:ln w="0">
            <a:noFill/>
          </a:ln>
        </p:spPr>
      </p:pic>
      <p:sp>
        <p:nvSpPr>
          <p:cNvPr id="518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10243"/>
          <p:cNvSpPr/>
          <p:nvPr/>
        </p:nvSpPr>
        <p:spPr>
          <a:xfrm>
            <a:off x="395280" y="404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练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文本框 10244"/>
          <p:cNvSpPr/>
          <p:nvPr/>
        </p:nvSpPr>
        <p:spPr>
          <a:xfrm>
            <a:off x="431640" y="981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企业经过调整后，第一年的资金增长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%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对象 10245" descr=""/>
          <p:cNvPicPr/>
          <p:nvPr/>
        </p:nvPicPr>
        <p:blipFill>
          <a:blip r:embed="rId1"/>
          <a:stretch/>
        </p:blipFill>
        <p:spPr>
          <a:xfrm>
            <a:off x="7093080" y="1341360"/>
            <a:ext cx="576000" cy="1079640"/>
          </a:xfrm>
          <a:prstGeom prst="rect">
            <a:avLst/>
          </a:prstGeom>
          <a:ln w="0">
            <a:noFill/>
          </a:ln>
        </p:spPr>
      </p:pic>
      <p:sp>
        <p:nvSpPr>
          <p:cNvPr id="522" name="文本框 10246"/>
          <p:cNvSpPr/>
          <p:nvPr/>
        </p:nvSpPr>
        <p:spPr>
          <a:xfrm>
            <a:off x="179280" y="16858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后每年的资金增长率都是前一年增长率的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文本框 10247"/>
          <p:cNvSpPr/>
          <p:nvPr/>
        </p:nvSpPr>
        <p:spPr>
          <a:xfrm>
            <a:off x="684360" y="2405160"/>
            <a:ext cx="88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后，企业的资金是原来资金的多少倍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文本框 10248"/>
          <p:cNvSpPr/>
          <p:nvPr/>
        </p:nvSpPr>
        <p:spPr>
          <a:xfrm>
            <a:off x="250920" y="31305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由于某种原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年损失资金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%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那么经过多少年后企业的资金开始下降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文本框 10249"/>
          <p:cNvSpPr/>
          <p:nvPr/>
        </p:nvSpPr>
        <p:spPr>
          <a:xfrm>
            <a:off x="539640" y="4653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案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对象 10251" descr=""/>
          <p:cNvPicPr/>
          <p:nvPr/>
        </p:nvPicPr>
        <p:blipFill>
          <a:blip r:embed="rId2"/>
          <a:stretch/>
        </p:blipFill>
        <p:spPr>
          <a:xfrm>
            <a:off x="2373480" y="4229280"/>
            <a:ext cx="903240" cy="1215720"/>
          </a:xfrm>
          <a:prstGeom prst="rect">
            <a:avLst/>
          </a:prstGeom>
          <a:ln w="0">
            <a:noFill/>
          </a:ln>
        </p:spPr>
      </p:pic>
      <p:pic>
        <p:nvPicPr>
          <p:cNvPr id="527" name="对象 10252" descr=""/>
          <p:cNvPicPr/>
          <p:nvPr/>
        </p:nvPicPr>
        <p:blipFill>
          <a:blip r:embed="rId3"/>
          <a:stretch/>
        </p:blipFill>
        <p:spPr>
          <a:xfrm>
            <a:off x="4114800" y="3328920"/>
            <a:ext cx="914400" cy="19836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10253"/>
          <p:cNvSpPr/>
          <p:nvPr/>
        </p:nvSpPr>
        <p:spPr>
          <a:xfrm>
            <a:off x="1258920" y="537372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２）经过４年，从第五年起企业的资金开始下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文本框 10254"/>
          <p:cNvSpPr/>
          <p:nvPr/>
        </p:nvSpPr>
        <p:spPr>
          <a:xfrm>
            <a:off x="1187280" y="4589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１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日期占位符 1"/>
          <p:cNvSpPr/>
          <p:nvPr/>
        </p:nvSpPr>
        <p:spPr>
          <a:xfrm>
            <a:off x="301680" y="617220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文本框 6145"/>
          <p:cNvSpPr/>
          <p:nvPr/>
        </p:nvSpPr>
        <p:spPr>
          <a:xfrm>
            <a:off x="838080" y="14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  <a:ea typeface="宋体"/>
              </a:rPr>
              <a:t>三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  <a:ea typeface="宋体"/>
              </a:rPr>
              <a:t>储蓄和分期付款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文本框 6146"/>
          <p:cNvSpPr/>
          <p:nvPr/>
        </p:nvSpPr>
        <p:spPr>
          <a:xfrm>
            <a:off x="152280" y="457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零整取储蓄是指分期存入后一次取出的一种储蓄方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某人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月第一天存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最后一天取出全部本金及其利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知月率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65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那么他实际取出的本利和是多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利息税的税率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文本框 6147"/>
          <p:cNvSpPr/>
          <p:nvPr/>
        </p:nvSpPr>
        <p:spPr>
          <a:xfrm>
            <a:off x="152280" y="19051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分析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分别计算每个月月末所存金额产生的利息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然后相加即得总利息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从中扣取利息税再加上本金即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文本框 6148"/>
          <p:cNvSpPr/>
          <p:nvPr/>
        </p:nvSpPr>
        <p:spPr>
          <a:xfrm>
            <a:off x="304920" y="278136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题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金共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且各月存款的利息如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文本框 6149"/>
          <p:cNvSpPr/>
          <p:nvPr/>
        </p:nvSpPr>
        <p:spPr>
          <a:xfrm>
            <a:off x="914400" y="3332160"/>
            <a:ext cx="76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存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的利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×0.165% ×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文本框 6150"/>
          <p:cNvSpPr/>
          <p:nvPr/>
        </p:nvSpPr>
        <p:spPr>
          <a:xfrm>
            <a:off x="914400" y="3908520"/>
            <a:ext cx="69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存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的利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×0.165% ×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文本框 6152"/>
          <p:cNvSpPr/>
          <p:nvPr/>
        </p:nvSpPr>
        <p:spPr>
          <a:xfrm>
            <a:off x="914400" y="4772160"/>
            <a:ext cx="73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存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的利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×0.165% ×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文本框 6153"/>
          <p:cNvSpPr/>
          <p:nvPr/>
        </p:nvSpPr>
        <p:spPr>
          <a:xfrm>
            <a:off x="914400" y="549288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存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的利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×0.165% ×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文本框 6154"/>
          <p:cNvSpPr/>
          <p:nvPr/>
        </p:nvSpPr>
        <p:spPr>
          <a:xfrm>
            <a:off x="990720" y="42670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文本框 6155"/>
          <p:cNvSpPr/>
          <p:nvPr/>
        </p:nvSpPr>
        <p:spPr>
          <a:xfrm>
            <a:off x="457200" y="606744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于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得的全部利息就是上面各期利息之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文本框 13315"/>
          <p:cNvSpPr/>
          <p:nvPr/>
        </p:nvSpPr>
        <p:spPr>
          <a:xfrm>
            <a:off x="250920" y="33577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设每期期初存入金额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a,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连存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n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次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每期的利率为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p,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那么到第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n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期期末将存款全部取出时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本利和共有多少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?(</a:t>
            </a:r>
            <a:r>
              <a:rPr b="0" lang="zh-CN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利息税的税率为</a:t>
            </a:r>
            <a:r>
              <a:rPr b="0" lang="en-US" sz="2800" spc="-1" strike="noStrike">
                <a:solidFill>
                  <a:srgbClr val="ff6600"/>
                </a:solidFill>
                <a:latin typeface="华文行楷"/>
                <a:ea typeface="华文行楷"/>
              </a:rPr>
              <a:t>2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文本框 13316"/>
          <p:cNvSpPr/>
          <p:nvPr/>
        </p:nvSpPr>
        <p:spPr>
          <a:xfrm>
            <a:off x="324000" y="234936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纳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87 × 2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75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文本框 13317"/>
          <p:cNvSpPr/>
          <p:nvPr/>
        </p:nvSpPr>
        <p:spPr>
          <a:xfrm>
            <a:off x="268200" y="2852640"/>
            <a:ext cx="83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际取出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利和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+12.78-2.57=1210.3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文本框 13318"/>
          <p:cNvSpPr/>
          <p:nvPr/>
        </p:nvSpPr>
        <p:spPr>
          <a:xfrm>
            <a:off x="358920" y="333360"/>
            <a:ext cx="88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0.165%+100 × 0.165×2+…+100×0.16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文本框 13319"/>
          <p:cNvSpPr/>
          <p:nvPr/>
        </p:nvSpPr>
        <p:spPr>
          <a:xfrm>
            <a:off x="755640" y="1268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0.165% × (1+2+…+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文本框 13320"/>
          <p:cNvSpPr/>
          <p:nvPr/>
        </p:nvSpPr>
        <p:spPr>
          <a:xfrm>
            <a:off x="755640" y="184464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.16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78 = 12.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文本框 13321"/>
          <p:cNvSpPr/>
          <p:nvPr/>
        </p:nvSpPr>
        <p:spPr>
          <a:xfrm>
            <a:off x="973080" y="765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100×0.16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对象 13323" descr=""/>
          <p:cNvPicPr/>
          <p:nvPr/>
        </p:nvPicPr>
        <p:blipFill>
          <a:blip r:embed="rId1"/>
          <a:stretch/>
        </p:blipFill>
        <p:spPr>
          <a:xfrm>
            <a:off x="1332000" y="4508640"/>
            <a:ext cx="6191280" cy="1009440"/>
          </a:xfrm>
          <a:prstGeom prst="rect">
            <a:avLst/>
          </a:prstGeom>
          <a:ln w="0">
            <a:noFill/>
          </a:ln>
        </p:spPr>
      </p:pic>
      <p:pic>
        <p:nvPicPr>
          <p:cNvPr id="550" name="对象 13324" descr=""/>
          <p:cNvPicPr/>
          <p:nvPr/>
        </p:nvPicPr>
        <p:blipFill>
          <a:blip r:embed="rId2"/>
          <a:stretch/>
        </p:blipFill>
        <p:spPr>
          <a:xfrm>
            <a:off x="1049400" y="5516640"/>
            <a:ext cx="3666960" cy="1152360"/>
          </a:xfrm>
          <a:prstGeom prst="rect">
            <a:avLst/>
          </a:prstGeom>
          <a:ln w="0">
            <a:noFill/>
          </a:ln>
        </p:spPr>
      </p:pic>
      <p:sp>
        <p:nvSpPr>
          <p:cNvPr id="551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7170"/>
          <p:cNvSpPr/>
          <p:nvPr/>
        </p:nvSpPr>
        <p:spPr>
          <a:xfrm>
            <a:off x="228600" y="1890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例四</a:t>
            </a:r>
            <a:r>
              <a:rPr b="1" lang="en-US" sz="2400" spc="-1" strike="noStrike">
                <a:solidFill>
                  <a:srgbClr val="ff66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银行设立了教育助学贷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中规定一年期以上贷款月均等额还本付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贷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年内还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利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.475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那么每月应还多少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利息按月以复利计算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文本框 7171"/>
          <p:cNvSpPr/>
          <p:nvPr/>
        </p:nvSpPr>
        <p:spPr>
          <a:xfrm>
            <a:off x="34920" y="1382760"/>
            <a:ext cx="91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分析：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到贷款两年付清时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,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00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元贷款的本金与它的利息之和是多少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文本框 7172"/>
          <p:cNvSpPr/>
          <p:nvPr/>
        </p:nvSpPr>
        <p:spPr>
          <a:xfrm>
            <a:off x="36360" y="1743120"/>
            <a:ext cx="91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  <a:ea typeface="宋体"/>
              </a:rPr>
              <a:t>　　　　　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设每月还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元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到贷款两年付清时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各月所付款 额与它的利息之和是多少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79280" y="2627280"/>
          <a:ext cx="4392720" cy="3840120"/>
        </p:xfrm>
        <a:graphic>
          <a:graphicData uri="http://schemas.openxmlformats.org/drawingml/2006/table">
            <a:tbl>
              <a:tblPr/>
              <a:tblGrid>
                <a:gridCol w="1368360"/>
                <a:gridCol w="3024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贷款的本金与它的利息之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文本框 7222"/>
          <p:cNvSpPr/>
          <p:nvPr/>
        </p:nvSpPr>
        <p:spPr>
          <a:xfrm>
            <a:off x="1447920" y="44402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文本框 7223"/>
          <p:cNvSpPr/>
          <p:nvPr/>
        </p:nvSpPr>
        <p:spPr>
          <a:xfrm>
            <a:off x="1447920" y="386388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文本框 7224"/>
          <p:cNvSpPr/>
          <p:nvPr/>
        </p:nvSpPr>
        <p:spPr>
          <a:xfrm>
            <a:off x="1447920" y="545004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文本框 7225"/>
          <p:cNvSpPr/>
          <p:nvPr/>
        </p:nvSpPr>
        <p:spPr>
          <a:xfrm>
            <a:off x="1447920" y="5918040"/>
            <a:ext cx="34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文本框 7228"/>
          <p:cNvSpPr/>
          <p:nvPr/>
        </p:nvSpPr>
        <p:spPr>
          <a:xfrm>
            <a:off x="1447920" y="3325680"/>
            <a:ext cx="29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1.00457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4716360" y="2604960"/>
          <a:ext cx="4176720" cy="3825720"/>
        </p:xfrm>
        <a:graphic>
          <a:graphicData uri="http://schemas.openxmlformats.org/drawingml/2006/table">
            <a:tbl>
              <a:tblPr/>
              <a:tblGrid>
                <a:gridCol w="2016000"/>
                <a:gridCol w="2160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各月所付款额与它的利息之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后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2" name="文本框 7277"/>
          <p:cNvSpPr/>
          <p:nvPr/>
        </p:nvSpPr>
        <p:spPr>
          <a:xfrm>
            <a:off x="6629400" y="332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文本框 7282"/>
          <p:cNvSpPr/>
          <p:nvPr/>
        </p:nvSpPr>
        <p:spPr>
          <a:xfrm>
            <a:off x="6629400" y="3828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文本框 7283"/>
          <p:cNvSpPr/>
          <p:nvPr/>
        </p:nvSpPr>
        <p:spPr>
          <a:xfrm>
            <a:off x="6629400" y="43340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45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文本框 7284"/>
          <p:cNvSpPr/>
          <p:nvPr/>
        </p:nvSpPr>
        <p:spPr>
          <a:xfrm>
            <a:off x="6629400" y="53769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4575x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文本框 7285"/>
          <p:cNvSpPr/>
          <p:nvPr/>
        </p:nvSpPr>
        <p:spPr>
          <a:xfrm>
            <a:off x="6629400" y="59180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4:23Z</dcterms:created>
  <dc:creator/>
  <dc:description/>
  <cp:keywords>数列 应用</cp:keywords>
  <dc:language>en-US</dc:language>
  <cp:lastModifiedBy>An</cp:lastModifiedBy>
  <dcterms:modified xsi:type="dcterms:W3CDTF">2016-05-01T00:44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