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0CF-D80A-4533-B470-5E93468D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690-AA7F-45FA-87AB-260ACC5F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674-A727-4544-B062-EE2E3D6A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3A4-4F2B-43BF-B729-5F6B26A7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B549-F120-4F66-B3D9-D36F90AC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34A3-BBC9-47FB-82C1-C95EF8A0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5785-51C0-4987-9979-CA8E4B5E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5A05-8AA0-4A67-8440-8B006C4F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4AD1-9D1A-45E4-A1FF-EEFCF2C1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155F-4C72-4327-A7D2-B3C86AC1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4432-A189-4715-91B9-936FD2C1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7AF-A706-4497-AAB8-F1490E8A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018D-8EB4-4E8C-8601-13E2A235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08F9-68C2-4648-BEA6-151AAF45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710A-5AB9-4CF6-9F37-E60B2C6F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7309-AAD2-41AF-80DC-2D79B909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5D59-2C85-4CA3-B022-5BAE5F73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9CBA6-A7F8-4C6A-A2EA-08BEB73D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3B182-1E6F-473E-B634-1C1B146F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FBDE6-419F-45C5-BFF5-E3C5894E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35124-9CAE-48B8-A43B-F326B1EA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C6241-3832-4BE9-B547-D7BA9BFB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002-44FA-4D89-9037-11602DC2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86836-6990-4C34-89D0-63E14F9B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02647-5318-484F-A36B-50F44641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80379-23AB-474D-AF64-F65A359F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58F8C-1E78-48B2-A23C-8DE9FC72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1FEA3-59AB-4F2C-9298-8A2D341B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83047-6DAD-4572-B664-B9519713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BDFBF-CFEB-41C9-BDB8-B173FCD8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ED3-005D-477E-A960-5BDB86D5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C0F-7B2C-4229-90AE-24AC6557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75E-676B-4A4A-85C7-E4538A9B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466-6ADF-41DE-8931-C7A5A962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521-B1A8-47C7-B98C-BA206DB4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983-35BE-46D2-A870-AE85B72A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0167-DBBC-40A3-87E1-4D6B36AC0B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751B-8508-4084-B6BD-B03B12D54BB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1612-805E-4682-97DB-1919E0E3589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30723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CB56-9706-42E6-A792-64B85B13937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商品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商品差价：是指同一种商品在流通中由于购销环节、地区、质量和季节的不同而形成的价格差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04920"/>
            <a:ext cx="7772400" cy="60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第二节  地区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地区差价的概念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地区差价是指同一时间、同一品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种在不同地区的相应环节的价格之间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的差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地区差价构成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运杂费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资金占压费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商品损耗经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营管理费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利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三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地区差价形成的原因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由商品流通所引起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由于商品的生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产同消费在地区上的矛盾所致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由生产而引起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由于生产条件差别 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而引起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24740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四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地区差价的计算方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对象 15362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391520" cy="11016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第三 节季节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季节差价的概念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季节差价是指同一商品在同一市场不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同季节收购价格之间或销售价格之间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的差额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120"/>
            <a:ext cx="7772400" cy="38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三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季节差价形成的原因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不同季节生产同一种产品的成本不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同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生产与消费存在季节性的矛盾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对象 18433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7010280" cy="1187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58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四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季节差价计算方法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季节价格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基价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×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+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季节差率）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季节差价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季节价格－基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注：基价为全年中的最低价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5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第四节    质量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质量差价的概念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质量差价是指同一市场、同一时间、同种商品，由于质量不同所形成的价格差异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                      品种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                      品质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质量差价形式        等级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                      规格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                      花色样式差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343400" y="3657600"/>
            <a:ext cx="360" cy="2209680"/>
            <a:chOff x="4343400" y="3657600"/>
            <a:chExt cx="360" cy="2209680"/>
          </a:xfrm>
        </p:grpSpPr>
        <p:sp>
          <p:nvSpPr>
            <p:cNvPr id="147" name="直接连接符 19458"/>
            <p:cNvSpPr/>
            <p:nvPr/>
          </p:nvSpPr>
          <p:spPr>
            <a:xfrm>
              <a:off x="4343400" y="3657600"/>
              <a:ext cx="0" cy="220968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4343400" y="3657600"/>
              <a:ext cx="36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343400" y="3657600"/>
            <a:ext cx="380880" cy="360"/>
            <a:chOff x="4343400" y="3657600"/>
            <a:chExt cx="380880" cy="360"/>
          </a:xfrm>
        </p:grpSpPr>
        <p:sp>
          <p:nvSpPr>
            <p:cNvPr id="150" name="直接连接符 19459"/>
            <p:cNvSpPr/>
            <p:nvPr/>
          </p:nvSpPr>
          <p:spPr>
            <a:xfrm>
              <a:off x="43434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4343400" y="365760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343400" y="4267080"/>
            <a:ext cx="380880" cy="360"/>
            <a:chOff x="4343400" y="4267080"/>
            <a:chExt cx="380880" cy="360"/>
          </a:xfrm>
        </p:grpSpPr>
        <p:sp>
          <p:nvSpPr>
            <p:cNvPr id="153" name="直接连接符 19460"/>
            <p:cNvSpPr/>
            <p:nvPr/>
          </p:nvSpPr>
          <p:spPr>
            <a:xfrm>
              <a:off x="4343400" y="42670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4343400" y="426708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886200" y="4800600"/>
            <a:ext cx="838080" cy="360"/>
            <a:chOff x="3886200" y="4800600"/>
            <a:chExt cx="838080" cy="360"/>
          </a:xfrm>
        </p:grpSpPr>
        <p:sp>
          <p:nvSpPr>
            <p:cNvPr id="156" name="直接连接符 19461"/>
            <p:cNvSpPr/>
            <p:nvPr/>
          </p:nvSpPr>
          <p:spPr>
            <a:xfrm>
              <a:off x="3886200" y="480060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3886200" y="480060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343400" y="5334120"/>
            <a:ext cx="380880" cy="360"/>
            <a:chOff x="4343400" y="5334120"/>
            <a:chExt cx="380880" cy="360"/>
          </a:xfrm>
        </p:grpSpPr>
        <p:sp>
          <p:nvSpPr>
            <p:cNvPr id="159" name="直接连接符 19462"/>
            <p:cNvSpPr/>
            <p:nvPr/>
          </p:nvSpPr>
          <p:spPr>
            <a:xfrm>
              <a:off x="4343400" y="5334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4343400" y="533412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343400" y="5867280"/>
            <a:ext cx="380880" cy="360"/>
            <a:chOff x="4343400" y="5867280"/>
            <a:chExt cx="380880" cy="360"/>
          </a:xfrm>
        </p:grpSpPr>
        <p:sp>
          <p:nvSpPr>
            <p:cNvPr id="162" name="直接连接符 19463"/>
            <p:cNvSpPr/>
            <p:nvPr/>
          </p:nvSpPr>
          <p:spPr>
            <a:xfrm>
              <a:off x="4343400" y="586728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343400" y="586728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1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质量差价形成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原材料质量水平差别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生产工具不同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劳动熟练程度不同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生产态度不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三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安排质量差价的原则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有利于生产者不断采用先进技术，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增加花色品种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有利于贯彻按质论价原则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有利于贯彻地区差价服从质量差价 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原则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第一节     购销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购销差价的概念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购销差价，也称进销差价，是指同一种商品在全国一产地，同一时间内，购进价格和销售价格之间的差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四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质量差价的制订方法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划分商品类别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确定标准品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审定质量标准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审查标准品价格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制订非标准品质量差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五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质量差价计算方法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质量差价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费标准品价格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标准品价格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对象 23554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858000" cy="250344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第五 节批零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批零差价的概念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批零差价是指同一种商品，在同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一市场，同一时间内，批发价格与零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售价格之间的差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批零差价的构成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批零差价构成：市内装卸搬运费、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资金占压利息、商品损耗、经营管理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费、应纳税金和利息构成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三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安排批零差价的原则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正确处理国家、企业、个人三者利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益关系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兼顾批发企业和零售企业的经济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益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有利于市场竞争和各种流通渠道的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形成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80964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四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批零差价计算方法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批零差价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零售价格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批发价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对象 27650" descr=""/>
          <p:cNvPicPr/>
          <p:nvPr/>
        </p:nvPicPr>
        <p:blipFill>
          <a:blip r:embed="rId1"/>
          <a:stretch/>
        </p:blipFill>
        <p:spPr>
          <a:xfrm>
            <a:off x="1295280" y="3048120"/>
            <a:ext cx="6782040" cy="2674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工业品进销差价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⑴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概念：指同一种工业品在同一产地，    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同一时间奈内，出厂价格和商业批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发价格之间的差额。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⑵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构成：有由采购商品的资金占用利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息、市内装卸搬运费、商品损耗、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经营管理费及应纳税金和合理利润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构成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计算方法：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进销差价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产地批发价格－出厂价格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对象 6146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162920" cy="1024200"/>
          </a:xfrm>
          <a:prstGeom prst="rect">
            <a:avLst/>
          </a:prstGeom>
          <a:ln w="0">
            <a:noFill/>
          </a:ln>
        </p:spPr>
      </p:pic>
      <p:pic>
        <p:nvPicPr>
          <p:cNvPr id="129" name="对象 6147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7010280" cy="10051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28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农产品购销差价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⑴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概念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农产品购销差价是指当地生产、当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地销售同一种农产品，在同一时间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内收购价格与销售价格之间的差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⑵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农产品购销差价形式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●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购零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●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购批差价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●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原成差价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720360"/>
            <a:ext cx="77724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农产品购销差价构成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商业部门购销农产品的流通费用、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应纳税金及合理利润构成的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⑷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计算方法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购销差价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销售价格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购进价格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零售价格、批发价格）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对象 10242" descr=""/>
          <p:cNvPicPr/>
          <p:nvPr/>
        </p:nvPicPr>
        <p:blipFill>
          <a:blip r:embed="rId1"/>
          <a:stretch/>
        </p:blipFill>
        <p:spPr>
          <a:xfrm>
            <a:off x="1447920" y="3886200"/>
            <a:ext cx="5638680" cy="12412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63160"/>
            <a:ext cx="77724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合理安排购销差价应掌握的原则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要合理安排工商利益和农商利益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要区别不同商品特性、用途及供 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求情况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34:42Z</dcterms:created>
  <dc:creator/>
  <dc:description/>
  <cp:keywords>商品 差价</cp:keywords>
  <dc:language>en-US</dc:language>
  <cp:lastModifiedBy>An</cp:lastModifiedBy>
  <dcterms:modified xsi:type="dcterms:W3CDTF">2016-05-01T00:34:4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