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jpeg" ContentType="image/jpe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E75F-844D-4843-AA7F-AED5B3F5C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2211-B293-4DA5-BC8B-102B84D93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CAD1-CBAB-4687-B1BC-24AE86BB9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F13B-7CB0-496E-9BE8-4EA8B1B7B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4CC46-6EB5-4F61-AD7B-3B79C9330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B2F07-D801-436C-9AC6-A6A2C1BF8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684A9-1AB1-4977-BE51-54BF64410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53031-4ECD-41E5-88AA-BF412D3F9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6C8A2-CEAB-4799-86A1-26444AD80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86433-E90D-49B6-87E0-40A852615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EC3DB-1FD0-47C7-A937-35A61717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C3BF-5382-44FD-BE76-AF46BFC87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7FB90-5F4A-4516-98CC-C63680D6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C0CFC-A788-4614-ADCE-69E22CDC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F44D1-D5A8-425D-8AAD-5FA8AE8BC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9F7EF-7D6E-4149-BF37-1087CDEDB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EDA0B-6C83-4A3B-8560-FCDF88983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8FBE-61F1-4D3F-B479-1CEE97F82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C103-B2EE-44D8-A207-373208AF3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7855-8C23-4189-A903-46997C9B9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5700-988D-41EC-A6E8-B50CD34B1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482A-7E11-4345-BD90-6CA4B205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AEEB-25E6-4CFD-ACC7-04ECBF20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C595-4689-4CA8-84A6-50A5431D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EC706-687C-4C5A-B027-DD4ACA1599C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5F2DF-80D8-45D1-BEF6-392E8534AF38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6C07D-A8CB-4DFA-82C0-7D19FE25D69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组合 205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3" name="图片 2055" descr="CHAGCHE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文本框 2056"/>
            <p:cNvSpPr/>
            <p:nvPr/>
          </p:nvSpPr>
          <p:spPr>
            <a:xfrm>
              <a:off x="762120" y="2286000"/>
              <a:ext cx="5257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8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生态系统的多样性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文本框 2057"/>
          <p:cNvSpPr/>
          <p:nvPr/>
        </p:nvSpPr>
        <p:spPr>
          <a:xfrm>
            <a:off x="2514600" y="3352680"/>
            <a:ext cx="38098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课件设计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课件制作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作者单位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X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6156" descr="风景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文本框 6145"/>
          <p:cNvSpPr/>
          <p:nvPr/>
        </p:nvSpPr>
        <p:spPr>
          <a:xfrm>
            <a:off x="2057400" y="380880"/>
            <a:ext cx="617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生态系统的多样性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文本框 6146"/>
          <p:cNvSpPr/>
          <p:nvPr/>
        </p:nvSpPr>
        <p:spPr>
          <a:xfrm>
            <a:off x="1263600" y="27432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陆地生态系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文本框 6147"/>
          <p:cNvSpPr/>
          <p:nvPr/>
        </p:nvSpPr>
        <p:spPr>
          <a:xfrm>
            <a:off x="1187280" y="536400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水域生态系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左大括号 6148"/>
          <p:cNvSpPr/>
          <p:nvPr/>
        </p:nvSpPr>
        <p:spPr>
          <a:xfrm>
            <a:off x="4006800" y="1647720"/>
            <a:ext cx="152280" cy="2819520"/>
          </a:xfrm>
          <a:custGeom>
            <a:avLst/>
            <a:gdLst>
              <a:gd name="textAreaLeft" fmla="*/ 97200 w 152280"/>
              <a:gd name="textAreaRight" fmla="*/ 152640 w 15228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文本框 6149"/>
          <p:cNvSpPr/>
          <p:nvPr/>
        </p:nvSpPr>
        <p:spPr>
          <a:xfrm>
            <a:off x="4159080" y="146196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森林生态系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文本框 6150"/>
          <p:cNvSpPr/>
          <p:nvPr/>
        </p:nvSpPr>
        <p:spPr>
          <a:xfrm>
            <a:off x="4159080" y="214776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草原生态系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文本框 6151"/>
          <p:cNvSpPr/>
          <p:nvPr/>
        </p:nvSpPr>
        <p:spPr>
          <a:xfrm>
            <a:off x="4159080" y="397656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农田生态系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文本框 6152"/>
          <p:cNvSpPr/>
          <p:nvPr/>
        </p:nvSpPr>
        <p:spPr>
          <a:xfrm>
            <a:off x="4159080" y="332280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沼泽生态系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矩形 6153"/>
          <p:cNvSpPr/>
          <p:nvPr/>
        </p:nvSpPr>
        <p:spPr>
          <a:xfrm>
            <a:off x="4574880" y="27432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荒漠生态系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文本框 6157"/>
          <p:cNvSpPr/>
          <p:nvPr/>
        </p:nvSpPr>
        <p:spPr>
          <a:xfrm>
            <a:off x="4159080" y="5119560"/>
            <a:ext cx="244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海洋生态系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矩形 6158"/>
          <p:cNvSpPr/>
          <p:nvPr/>
        </p:nvSpPr>
        <p:spPr>
          <a:xfrm>
            <a:off x="4581000" y="56991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淡水生态系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左大括号 6159"/>
          <p:cNvSpPr/>
          <p:nvPr/>
        </p:nvSpPr>
        <p:spPr>
          <a:xfrm>
            <a:off x="3886200" y="5119560"/>
            <a:ext cx="272880" cy="1098720"/>
          </a:xfrm>
          <a:custGeom>
            <a:avLst/>
            <a:gdLst>
              <a:gd name="textAreaLeft" fmla="*/ 174240 w 272880"/>
              <a:gd name="textAreaRight" fmla="*/ 272880 w 272880"/>
              <a:gd name="textAreaTop" fmla="*/ 28440 h 1098720"/>
              <a:gd name="textAreaBottom" fmla="*/ 1070280 h 109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组合 717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02" name="图片 7170" descr="CHAGCHE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文本框 7171"/>
            <p:cNvSpPr/>
            <p:nvPr/>
          </p:nvSpPr>
          <p:spPr>
            <a:xfrm>
              <a:off x="762120" y="2286000"/>
              <a:ext cx="5562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生态系统中的物质流动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文本框 7172"/>
          <p:cNvSpPr/>
          <p:nvPr/>
        </p:nvSpPr>
        <p:spPr>
          <a:xfrm>
            <a:off x="2514600" y="3352680"/>
            <a:ext cx="38098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课件设计：陈小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课件制作：陈小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作者单位：北京劲松四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1"/>
            </a:gs>
            <a:gs pos="100000">
              <a:srgbClr val="ffcc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对象 11265" descr=""/>
          <p:cNvPicPr/>
          <p:nvPr/>
        </p:nvPicPr>
        <p:blipFill>
          <a:blip r:embed="rId1"/>
          <a:stretch/>
        </p:blipFill>
        <p:spPr>
          <a:xfrm>
            <a:off x="7178760" y="2292480"/>
            <a:ext cx="1492200" cy="1685880"/>
          </a:xfrm>
          <a:prstGeom prst="rect">
            <a:avLst/>
          </a:prstGeom>
          <a:ln w="0">
            <a:noFill/>
          </a:ln>
        </p:spPr>
      </p:pic>
      <p:grpSp>
        <p:nvGrpSpPr>
          <p:cNvPr id="107" name="组合 11511"/>
          <p:cNvGrpSpPr/>
          <p:nvPr/>
        </p:nvGrpSpPr>
        <p:grpSpPr>
          <a:xfrm>
            <a:off x="3597120" y="493560"/>
            <a:ext cx="1847880" cy="914400"/>
            <a:chOff x="3597120" y="493560"/>
            <a:chExt cx="1847880" cy="914400"/>
          </a:xfrm>
        </p:grpSpPr>
        <p:sp>
          <p:nvSpPr>
            <p:cNvPr id="108" name="云形标注 11450"/>
            <p:cNvSpPr/>
            <p:nvPr/>
          </p:nvSpPr>
          <p:spPr>
            <a:xfrm>
              <a:off x="3597120" y="493560"/>
              <a:ext cx="1847880" cy="914400"/>
            </a:xfrm>
            <a:prstGeom prst="cloudCallout">
              <a:avLst>
                <a:gd name="adj1" fmla="val -45875"/>
                <a:gd name="adj2" fmla="val 199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ea8aa"/>
                </a:gs>
              </a:gsLst>
              <a:lin ang="18900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文本框 11462"/>
            <p:cNvSpPr/>
            <p:nvPr/>
          </p:nvSpPr>
          <p:spPr>
            <a:xfrm>
              <a:off x="3749400" y="722160"/>
              <a:ext cx="154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二氧化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组合 11466"/>
          <p:cNvGrpSpPr/>
          <p:nvPr/>
        </p:nvGrpSpPr>
        <p:grpSpPr>
          <a:xfrm>
            <a:off x="720720" y="2494080"/>
            <a:ext cx="1628640" cy="1395360"/>
            <a:chOff x="720720" y="2494080"/>
            <a:chExt cx="1628640" cy="1395360"/>
          </a:xfrm>
        </p:grpSpPr>
        <p:grpSp>
          <p:nvGrpSpPr>
            <p:cNvPr id="111" name="组合 11461"/>
            <p:cNvGrpSpPr/>
            <p:nvPr/>
          </p:nvGrpSpPr>
          <p:grpSpPr>
            <a:xfrm>
              <a:off x="720720" y="2494080"/>
              <a:ext cx="1395360" cy="1395360"/>
              <a:chOff x="720720" y="2494080"/>
              <a:chExt cx="1395360" cy="1395360"/>
            </a:xfrm>
          </p:grpSpPr>
          <p:sp>
            <p:nvSpPr>
              <p:cNvPr id="112" name="椭圆 11442"/>
              <p:cNvSpPr/>
              <p:nvPr/>
            </p:nvSpPr>
            <p:spPr>
              <a:xfrm>
                <a:off x="720720" y="2494080"/>
                <a:ext cx="1395360" cy="13953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闪电形 11416"/>
              <p:cNvSpPr/>
              <p:nvPr/>
            </p:nvSpPr>
            <p:spPr>
              <a:xfrm flipH="1">
                <a:off x="1353240" y="3108600"/>
                <a:ext cx="75960" cy="74520"/>
              </a:xfrm>
              <a:prstGeom prst="lightningBol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闪电形 11418"/>
              <p:cNvSpPr/>
              <p:nvPr/>
            </p:nvSpPr>
            <p:spPr>
              <a:xfrm flipH="1">
                <a:off x="1225440" y="2897280"/>
                <a:ext cx="75600" cy="74520"/>
              </a:xfrm>
              <a:prstGeom prst="lightningBol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闪电形 11419"/>
              <p:cNvSpPr/>
              <p:nvPr/>
            </p:nvSpPr>
            <p:spPr>
              <a:xfrm flipH="1">
                <a:off x="1430280" y="3668760"/>
                <a:ext cx="75600" cy="74520"/>
              </a:xfrm>
              <a:prstGeom prst="lightningBol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闪电形 11420"/>
              <p:cNvSpPr/>
              <p:nvPr/>
            </p:nvSpPr>
            <p:spPr>
              <a:xfrm flipH="1">
                <a:off x="948240" y="3435480"/>
                <a:ext cx="75960" cy="74520"/>
              </a:xfrm>
              <a:prstGeom prst="lightningBol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任意多边形 11421"/>
              <p:cNvSpPr/>
              <p:nvPr/>
            </p:nvSpPr>
            <p:spPr>
              <a:xfrm>
                <a:off x="1201680" y="3332160"/>
                <a:ext cx="51840" cy="525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33"/>
                    </a:moveTo>
                    <a:cubicBezTo>
                      <a:pt x="11" y="22"/>
                      <a:pt x="33" y="0"/>
                      <a:pt x="33" y="0"/>
                    </a:cubicBezTo>
                    <a:cubicBezTo>
                      <a:pt x="33" y="0"/>
                      <a:pt x="11" y="22"/>
                      <a:pt x="0" y="33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任意多边形 11422"/>
              <p:cNvSpPr/>
              <p:nvPr/>
            </p:nvSpPr>
            <p:spPr>
              <a:xfrm>
                <a:off x="1582560" y="3564000"/>
                <a:ext cx="51840" cy="525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33"/>
                    </a:moveTo>
                    <a:cubicBezTo>
                      <a:pt x="11" y="22"/>
                      <a:pt x="33" y="0"/>
                      <a:pt x="33" y="0"/>
                    </a:cubicBezTo>
                    <a:cubicBezTo>
                      <a:pt x="33" y="0"/>
                      <a:pt x="11" y="22"/>
                      <a:pt x="0" y="33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任意多边形 11423"/>
              <p:cNvSpPr/>
              <p:nvPr/>
            </p:nvSpPr>
            <p:spPr>
              <a:xfrm>
                <a:off x="1125360" y="3027600"/>
                <a:ext cx="51840" cy="5220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33"/>
                    </a:moveTo>
                    <a:cubicBezTo>
                      <a:pt x="11" y="22"/>
                      <a:pt x="33" y="0"/>
                      <a:pt x="33" y="0"/>
                    </a:cubicBezTo>
                    <a:cubicBezTo>
                      <a:pt x="33" y="0"/>
                      <a:pt x="11" y="22"/>
                      <a:pt x="0" y="33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任意多边形 11424"/>
              <p:cNvSpPr/>
              <p:nvPr/>
            </p:nvSpPr>
            <p:spPr>
              <a:xfrm>
                <a:off x="1430280" y="3256200"/>
                <a:ext cx="51840" cy="5220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33"/>
                    </a:moveTo>
                    <a:cubicBezTo>
                      <a:pt x="11" y="22"/>
                      <a:pt x="33" y="0"/>
                      <a:pt x="33" y="0"/>
                    </a:cubicBezTo>
                    <a:cubicBezTo>
                      <a:pt x="33" y="0"/>
                      <a:pt x="11" y="22"/>
                      <a:pt x="0" y="33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任意多边形 11425"/>
              <p:cNvSpPr/>
              <p:nvPr/>
            </p:nvSpPr>
            <p:spPr>
              <a:xfrm>
                <a:off x="1658880" y="2695680"/>
                <a:ext cx="51840" cy="525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33"/>
                    </a:moveTo>
                    <a:cubicBezTo>
                      <a:pt x="11" y="22"/>
                      <a:pt x="33" y="0"/>
                      <a:pt x="33" y="0"/>
                    </a:cubicBezTo>
                    <a:cubicBezTo>
                      <a:pt x="33" y="0"/>
                      <a:pt x="11" y="22"/>
                      <a:pt x="0" y="33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任意多边形 11426"/>
              <p:cNvSpPr/>
              <p:nvPr/>
            </p:nvSpPr>
            <p:spPr>
              <a:xfrm>
                <a:off x="1225440" y="2643120"/>
                <a:ext cx="51840" cy="525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33"/>
                    </a:moveTo>
                    <a:cubicBezTo>
                      <a:pt x="11" y="22"/>
                      <a:pt x="33" y="0"/>
                      <a:pt x="33" y="0"/>
                    </a:cubicBezTo>
                    <a:cubicBezTo>
                      <a:pt x="33" y="0"/>
                      <a:pt x="11" y="22"/>
                      <a:pt x="0" y="33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任意多边形 11427"/>
              <p:cNvSpPr/>
              <p:nvPr/>
            </p:nvSpPr>
            <p:spPr>
              <a:xfrm>
                <a:off x="973080" y="2844720"/>
                <a:ext cx="51840" cy="525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33"/>
                    </a:moveTo>
                    <a:cubicBezTo>
                      <a:pt x="11" y="22"/>
                      <a:pt x="33" y="0"/>
                      <a:pt x="33" y="0"/>
                    </a:cubicBezTo>
                    <a:cubicBezTo>
                      <a:pt x="33" y="0"/>
                      <a:pt x="11" y="22"/>
                      <a:pt x="0" y="33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闪电形 11430"/>
              <p:cNvSpPr/>
              <p:nvPr/>
            </p:nvSpPr>
            <p:spPr>
              <a:xfrm flipH="1">
                <a:off x="1505520" y="3132360"/>
                <a:ext cx="75960" cy="74520"/>
              </a:xfrm>
              <a:prstGeom prst="lightningBol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闪电形 11431"/>
              <p:cNvSpPr/>
              <p:nvPr/>
            </p:nvSpPr>
            <p:spPr>
              <a:xfrm flipH="1">
                <a:off x="973080" y="3306960"/>
                <a:ext cx="75600" cy="74520"/>
              </a:xfrm>
              <a:prstGeom prst="lightningBol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闪电形 11432"/>
              <p:cNvSpPr/>
              <p:nvPr/>
            </p:nvSpPr>
            <p:spPr>
              <a:xfrm flipH="1">
                <a:off x="1838880" y="3510000"/>
                <a:ext cx="75960" cy="74520"/>
              </a:xfrm>
              <a:prstGeom prst="lightningBol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闪电形 11433"/>
              <p:cNvSpPr/>
              <p:nvPr/>
            </p:nvSpPr>
            <p:spPr>
              <a:xfrm flipH="1">
                <a:off x="1124640" y="3541680"/>
                <a:ext cx="75960" cy="74880"/>
              </a:xfrm>
              <a:prstGeom prst="lightningBol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任意多边形 11434"/>
              <p:cNvSpPr/>
              <p:nvPr/>
            </p:nvSpPr>
            <p:spPr>
              <a:xfrm>
                <a:off x="1353960" y="3616560"/>
                <a:ext cx="51840" cy="5220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33"/>
                    </a:moveTo>
                    <a:cubicBezTo>
                      <a:pt x="11" y="22"/>
                      <a:pt x="33" y="0"/>
                      <a:pt x="33" y="0"/>
                    </a:cubicBezTo>
                    <a:cubicBezTo>
                      <a:pt x="33" y="0"/>
                      <a:pt x="11" y="22"/>
                      <a:pt x="0" y="33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任意多边形 11435"/>
              <p:cNvSpPr/>
              <p:nvPr/>
            </p:nvSpPr>
            <p:spPr>
              <a:xfrm>
                <a:off x="1711080" y="3206880"/>
                <a:ext cx="52200" cy="5220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33"/>
                    </a:moveTo>
                    <a:cubicBezTo>
                      <a:pt x="11" y="22"/>
                      <a:pt x="33" y="0"/>
                      <a:pt x="33" y="0"/>
                    </a:cubicBezTo>
                    <a:cubicBezTo>
                      <a:pt x="33" y="0"/>
                      <a:pt x="11" y="22"/>
                      <a:pt x="0" y="33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任意多边形 11436"/>
              <p:cNvSpPr/>
              <p:nvPr/>
            </p:nvSpPr>
            <p:spPr>
              <a:xfrm rot="5400000">
                <a:off x="1252080" y="3205440"/>
                <a:ext cx="52200" cy="5184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33"/>
                    </a:moveTo>
                    <a:cubicBezTo>
                      <a:pt x="11" y="22"/>
                      <a:pt x="33" y="0"/>
                      <a:pt x="33" y="0"/>
                    </a:cubicBezTo>
                    <a:cubicBezTo>
                      <a:pt x="33" y="0"/>
                      <a:pt x="11" y="22"/>
                      <a:pt x="0" y="33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任意多边形 11437"/>
              <p:cNvSpPr/>
              <p:nvPr/>
            </p:nvSpPr>
            <p:spPr>
              <a:xfrm>
                <a:off x="1558800" y="3435480"/>
                <a:ext cx="51840" cy="5220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33"/>
                    </a:moveTo>
                    <a:cubicBezTo>
                      <a:pt x="11" y="22"/>
                      <a:pt x="33" y="0"/>
                      <a:pt x="33" y="0"/>
                    </a:cubicBezTo>
                    <a:cubicBezTo>
                      <a:pt x="33" y="0"/>
                      <a:pt x="11" y="22"/>
                      <a:pt x="0" y="33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任意多边形 11438"/>
              <p:cNvSpPr/>
              <p:nvPr/>
            </p:nvSpPr>
            <p:spPr>
              <a:xfrm rot="16200000">
                <a:off x="1785600" y="3205080"/>
                <a:ext cx="52200" cy="5220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33"/>
                    </a:moveTo>
                    <a:cubicBezTo>
                      <a:pt x="11" y="22"/>
                      <a:pt x="33" y="0"/>
                      <a:pt x="33" y="0"/>
                    </a:cubicBezTo>
                    <a:cubicBezTo>
                      <a:pt x="33" y="0"/>
                      <a:pt x="11" y="22"/>
                      <a:pt x="0" y="33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任意多边形 11439"/>
              <p:cNvSpPr/>
              <p:nvPr/>
            </p:nvSpPr>
            <p:spPr>
              <a:xfrm>
                <a:off x="920520" y="3130560"/>
                <a:ext cx="52200" cy="525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33"/>
                    </a:moveTo>
                    <a:cubicBezTo>
                      <a:pt x="11" y="22"/>
                      <a:pt x="33" y="0"/>
                      <a:pt x="33" y="0"/>
                    </a:cubicBezTo>
                    <a:cubicBezTo>
                      <a:pt x="33" y="0"/>
                      <a:pt x="11" y="22"/>
                      <a:pt x="0" y="33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任意多边形 11440"/>
              <p:cNvSpPr/>
              <p:nvPr/>
            </p:nvSpPr>
            <p:spPr>
              <a:xfrm>
                <a:off x="772920" y="3000600"/>
                <a:ext cx="52200" cy="5220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33"/>
                    </a:moveTo>
                    <a:cubicBezTo>
                      <a:pt x="11" y="22"/>
                      <a:pt x="33" y="0"/>
                      <a:pt x="33" y="0"/>
                    </a:cubicBezTo>
                    <a:cubicBezTo>
                      <a:pt x="33" y="0"/>
                      <a:pt x="11" y="22"/>
                      <a:pt x="0" y="33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闪电形 11443"/>
              <p:cNvSpPr/>
              <p:nvPr/>
            </p:nvSpPr>
            <p:spPr>
              <a:xfrm flipH="1">
                <a:off x="1535040" y="2800440"/>
                <a:ext cx="75600" cy="74520"/>
              </a:xfrm>
              <a:prstGeom prst="lightningBol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闪电形 11445"/>
              <p:cNvSpPr/>
              <p:nvPr/>
            </p:nvSpPr>
            <p:spPr>
              <a:xfrm flipH="1" rot="16200000">
                <a:off x="1175040" y="3615840"/>
                <a:ext cx="76320" cy="74160"/>
              </a:xfrm>
              <a:prstGeom prst="lightningBol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闪电形 11446"/>
              <p:cNvSpPr/>
              <p:nvPr/>
            </p:nvSpPr>
            <p:spPr>
              <a:xfrm flipH="1">
                <a:off x="1581840" y="2952720"/>
                <a:ext cx="75960" cy="74880"/>
              </a:xfrm>
              <a:prstGeom prst="lightningBol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闪电形 11447"/>
              <p:cNvSpPr/>
              <p:nvPr/>
            </p:nvSpPr>
            <p:spPr>
              <a:xfrm flipH="1">
                <a:off x="1353240" y="2643120"/>
                <a:ext cx="75960" cy="74880"/>
              </a:xfrm>
              <a:prstGeom prst="lightningBol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任意多边形 11448"/>
              <p:cNvSpPr/>
              <p:nvPr/>
            </p:nvSpPr>
            <p:spPr>
              <a:xfrm>
                <a:off x="1125360" y="2874960"/>
                <a:ext cx="51840" cy="525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33"/>
                    </a:moveTo>
                    <a:cubicBezTo>
                      <a:pt x="11" y="22"/>
                      <a:pt x="33" y="0"/>
                      <a:pt x="33" y="0"/>
                    </a:cubicBezTo>
                    <a:cubicBezTo>
                      <a:pt x="33" y="0"/>
                      <a:pt x="11" y="22"/>
                      <a:pt x="0" y="33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闪电形 11451"/>
              <p:cNvSpPr/>
              <p:nvPr/>
            </p:nvSpPr>
            <p:spPr>
              <a:xfrm flipH="1">
                <a:off x="1838880" y="2952720"/>
                <a:ext cx="75960" cy="74880"/>
              </a:xfrm>
              <a:prstGeom prst="lightningBol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闪电形 11452"/>
              <p:cNvSpPr/>
              <p:nvPr/>
            </p:nvSpPr>
            <p:spPr>
              <a:xfrm flipH="1">
                <a:off x="1763640" y="3256200"/>
                <a:ext cx="75600" cy="74520"/>
              </a:xfrm>
              <a:prstGeom prst="lightningBol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闪电形 11453"/>
              <p:cNvSpPr/>
              <p:nvPr/>
            </p:nvSpPr>
            <p:spPr>
              <a:xfrm flipH="1">
                <a:off x="1710360" y="2844720"/>
                <a:ext cx="75960" cy="74880"/>
              </a:xfrm>
              <a:prstGeom prst="lightningBol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闪电形 11454"/>
              <p:cNvSpPr/>
              <p:nvPr/>
            </p:nvSpPr>
            <p:spPr>
              <a:xfrm flipH="1">
                <a:off x="1838880" y="3308400"/>
                <a:ext cx="75960" cy="74520"/>
              </a:xfrm>
              <a:prstGeom prst="lightningBol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闪电形 11455"/>
              <p:cNvSpPr/>
              <p:nvPr/>
            </p:nvSpPr>
            <p:spPr>
              <a:xfrm flipH="1" rot="4740000">
                <a:off x="1913400" y="3175200"/>
                <a:ext cx="75960" cy="74160"/>
              </a:xfrm>
              <a:prstGeom prst="lightningBol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闪电形 11456"/>
              <p:cNvSpPr/>
              <p:nvPr/>
            </p:nvSpPr>
            <p:spPr>
              <a:xfrm flipH="1" rot="4740000">
                <a:off x="1912680" y="3383280"/>
                <a:ext cx="76320" cy="74520"/>
              </a:xfrm>
              <a:prstGeom prst="lightningBol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任意多边形 11457"/>
              <p:cNvSpPr/>
              <p:nvPr/>
            </p:nvSpPr>
            <p:spPr>
              <a:xfrm>
                <a:off x="1763640" y="3584520"/>
                <a:ext cx="51840" cy="525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33"/>
                    </a:moveTo>
                    <a:cubicBezTo>
                      <a:pt x="11" y="22"/>
                      <a:pt x="33" y="0"/>
                      <a:pt x="33" y="0"/>
                    </a:cubicBezTo>
                    <a:cubicBezTo>
                      <a:pt x="33" y="0"/>
                      <a:pt x="11" y="22"/>
                      <a:pt x="0" y="33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闪电形 11458"/>
              <p:cNvSpPr/>
              <p:nvPr/>
            </p:nvSpPr>
            <p:spPr>
              <a:xfrm flipH="1">
                <a:off x="1330200" y="3382920"/>
                <a:ext cx="75600" cy="74880"/>
              </a:xfrm>
              <a:prstGeom prst="lightningBol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任意多边形 11459"/>
              <p:cNvSpPr/>
              <p:nvPr/>
            </p:nvSpPr>
            <p:spPr>
              <a:xfrm>
                <a:off x="1406160" y="2927520"/>
                <a:ext cx="52200" cy="5220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33"/>
                    </a:moveTo>
                    <a:cubicBezTo>
                      <a:pt x="11" y="22"/>
                      <a:pt x="33" y="0"/>
                      <a:pt x="33" y="0"/>
                    </a:cubicBezTo>
                    <a:cubicBezTo>
                      <a:pt x="33" y="0"/>
                      <a:pt x="11" y="22"/>
                      <a:pt x="0" y="33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闪电形 11460"/>
              <p:cNvSpPr/>
              <p:nvPr/>
            </p:nvSpPr>
            <p:spPr>
              <a:xfrm flipH="1">
                <a:off x="1101600" y="2643120"/>
                <a:ext cx="75600" cy="74880"/>
              </a:xfrm>
              <a:prstGeom prst="lightningBol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" name="文本框 11464"/>
            <p:cNvSpPr/>
            <p:nvPr/>
          </p:nvSpPr>
          <p:spPr>
            <a:xfrm>
              <a:off x="720720" y="2925720"/>
              <a:ext cx="162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细菌真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组合 11467"/>
          <p:cNvGrpSpPr/>
          <p:nvPr/>
        </p:nvGrpSpPr>
        <p:grpSpPr>
          <a:xfrm>
            <a:off x="3273480" y="4456080"/>
            <a:ext cx="2381040" cy="1892160"/>
            <a:chOff x="3273480" y="4456080"/>
            <a:chExt cx="2381040" cy="1892160"/>
          </a:xfrm>
        </p:grpSpPr>
        <p:pic>
          <p:nvPicPr>
            <p:cNvPr id="152" name="对象 11266" descr=""/>
            <p:cNvPicPr/>
            <p:nvPr/>
          </p:nvPicPr>
          <p:blipFill>
            <a:blip r:embed="rId2"/>
            <a:stretch/>
          </p:blipFill>
          <p:spPr>
            <a:xfrm>
              <a:off x="3273480" y="4456080"/>
              <a:ext cx="2381040" cy="189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文本框 11465"/>
            <p:cNvSpPr/>
            <p:nvPr/>
          </p:nvSpPr>
          <p:spPr>
            <a:xfrm>
              <a:off x="3882960" y="5141880"/>
              <a:ext cx="1218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动 物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组合 11509"/>
          <p:cNvGrpSpPr/>
          <p:nvPr/>
        </p:nvGrpSpPr>
        <p:grpSpPr>
          <a:xfrm>
            <a:off x="5463360" y="341280"/>
            <a:ext cx="3392280" cy="2053440"/>
            <a:chOff x="5463360" y="341280"/>
            <a:chExt cx="3392280" cy="2053440"/>
          </a:xfrm>
        </p:grpSpPr>
        <p:sp>
          <p:nvSpPr>
            <p:cNvPr id="155" name="上弧形箭头 11470"/>
            <p:cNvSpPr/>
            <p:nvPr/>
          </p:nvSpPr>
          <p:spPr>
            <a:xfrm rot="1470600">
              <a:off x="5444640" y="1056960"/>
              <a:ext cx="3429000" cy="655920"/>
            </a:xfrm>
            <a:custGeom>
              <a:avLst/>
              <a:gdLst>
                <a:gd name="textAreaLeft" fmla="*/ 600120 w 3429000"/>
                <a:gd name="textAreaRight" fmla="*/ 2486160 w 3429000"/>
                <a:gd name="textAreaTop" fmla="*/ 87840 h 655920"/>
                <a:gd name="textAreaBottom" fmla="*/ 568080 h 65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906"/>
                  <a:lnTo>
                    <a:pt x="21168" y="14401"/>
                  </a:lnTo>
                  <a:lnTo>
                    <a:pt x="17280" y="21600"/>
                  </a:lnTo>
                  <a:lnTo>
                    <a:pt x="12528" y="14401"/>
                  </a:lnTo>
                  <a:lnTo>
                    <a:pt x="14688" y="14401"/>
                  </a:lnTo>
                  <a:arcTo wR="7560" hR="21600" stAng="-2717094" swAng="-2325471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" name="组合 11487"/>
            <p:cNvGrpSpPr/>
            <p:nvPr/>
          </p:nvGrpSpPr>
          <p:grpSpPr>
            <a:xfrm>
              <a:off x="6416280" y="341280"/>
              <a:ext cx="1593360" cy="1068480"/>
              <a:chOff x="6416280" y="341280"/>
              <a:chExt cx="1593360" cy="1068480"/>
            </a:xfrm>
          </p:grpSpPr>
          <p:sp>
            <p:nvSpPr>
              <p:cNvPr id="157" name="文本框 11477"/>
              <p:cNvSpPr/>
              <p:nvPr/>
            </p:nvSpPr>
            <p:spPr>
              <a:xfrm>
                <a:off x="6416280" y="341280"/>
                <a:ext cx="381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3300"/>
                    </a:solidFill>
                    <a:latin typeface="Times New Roman"/>
                    <a:ea typeface="隶书"/>
                  </a:rPr>
                  <a:t>光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矩形 11479"/>
              <p:cNvSpPr/>
              <p:nvPr/>
            </p:nvSpPr>
            <p:spPr>
              <a:xfrm>
                <a:off x="6899400" y="493560"/>
                <a:ext cx="424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3300"/>
                    </a:solidFill>
                    <a:latin typeface="Times New Roman"/>
                    <a:ea typeface="隶书"/>
                  </a:rPr>
                  <a:t>合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矩形 11480"/>
              <p:cNvSpPr/>
              <p:nvPr/>
            </p:nvSpPr>
            <p:spPr>
              <a:xfrm>
                <a:off x="7261200" y="645840"/>
                <a:ext cx="424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3300"/>
                    </a:solidFill>
                    <a:latin typeface="Times New Roman"/>
                    <a:ea typeface="隶书"/>
                  </a:rPr>
                  <a:t>作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矩形 11481"/>
              <p:cNvSpPr/>
              <p:nvPr/>
            </p:nvSpPr>
            <p:spPr>
              <a:xfrm>
                <a:off x="7585200" y="828360"/>
                <a:ext cx="424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3300"/>
                    </a:solidFill>
                    <a:latin typeface="Times New Roman"/>
                    <a:ea typeface="隶书"/>
                  </a:rPr>
                  <a:t>用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1" name="组合 11508"/>
          <p:cNvGrpSpPr/>
          <p:nvPr/>
        </p:nvGrpSpPr>
        <p:grpSpPr>
          <a:xfrm>
            <a:off x="4916160" y="991440"/>
            <a:ext cx="2784240" cy="1599840"/>
            <a:chOff x="4916160" y="991440"/>
            <a:chExt cx="2784240" cy="1599840"/>
          </a:xfrm>
        </p:grpSpPr>
        <p:sp>
          <p:nvSpPr>
            <p:cNvPr id="162" name="上弧形箭头 11482"/>
            <p:cNvSpPr/>
            <p:nvPr/>
          </p:nvSpPr>
          <p:spPr>
            <a:xfrm flipH="1" flipV="1" rot="1470600">
              <a:off x="4882680" y="1562040"/>
              <a:ext cx="2850840" cy="458640"/>
            </a:xfrm>
            <a:custGeom>
              <a:avLst/>
              <a:gdLst>
                <a:gd name="textAreaLeft" fmla="*/ 498600 w 2850840"/>
                <a:gd name="textAreaRight" fmla="*/ 2066760 w 2850840"/>
                <a:gd name="textAreaTop" fmla="*/ 61200 h 458640"/>
                <a:gd name="textAreaBottom" fmla="*/ 397440 h 458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906"/>
                  <a:lnTo>
                    <a:pt x="21168" y="14401"/>
                  </a:lnTo>
                  <a:lnTo>
                    <a:pt x="17280" y="21600"/>
                  </a:lnTo>
                  <a:lnTo>
                    <a:pt x="12528" y="14401"/>
                  </a:lnTo>
                  <a:lnTo>
                    <a:pt x="14688" y="14401"/>
                  </a:lnTo>
                  <a:arcTo wR="7560" hR="21600" stAng="-2717094" swAng="-2325471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" name="组合 11488"/>
            <p:cNvGrpSpPr/>
            <p:nvPr/>
          </p:nvGrpSpPr>
          <p:grpSpPr>
            <a:xfrm>
              <a:off x="5832720" y="1441440"/>
              <a:ext cx="1567440" cy="852840"/>
              <a:chOff x="5832720" y="1441440"/>
              <a:chExt cx="1567440" cy="852840"/>
            </a:xfrm>
          </p:grpSpPr>
          <p:sp>
            <p:nvSpPr>
              <p:cNvPr id="164" name="矩形 11483"/>
              <p:cNvSpPr/>
              <p:nvPr/>
            </p:nvSpPr>
            <p:spPr>
              <a:xfrm>
                <a:off x="5832720" y="1441440"/>
                <a:ext cx="424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Times New Roman"/>
                    <a:ea typeface="隶书"/>
                  </a:rPr>
                  <a:t>呼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矩形 11484"/>
              <p:cNvSpPr/>
              <p:nvPr/>
            </p:nvSpPr>
            <p:spPr>
              <a:xfrm>
                <a:off x="6194520" y="1623960"/>
                <a:ext cx="424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Times New Roman"/>
                    <a:ea typeface="隶书"/>
                  </a:rPr>
                  <a:t>吸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矩形 11485"/>
              <p:cNvSpPr/>
              <p:nvPr/>
            </p:nvSpPr>
            <p:spPr>
              <a:xfrm>
                <a:off x="6575400" y="1712880"/>
                <a:ext cx="424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Times New Roman"/>
                    <a:ea typeface="隶书"/>
                  </a:rPr>
                  <a:t>作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矩形 11486"/>
              <p:cNvSpPr/>
              <p:nvPr/>
            </p:nvSpPr>
            <p:spPr>
              <a:xfrm>
                <a:off x="6975720" y="1712880"/>
                <a:ext cx="424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Times New Roman"/>
                    <a:ea typeface="隶书"/>
                  </a:rPr>
                  <a:t>用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8" name="组合 11515"/>
          <p:cNvGrpSpPr/>
          <p:nvPr/>
        </p:nvGrpSpPr>
        <p:grpSpPr>
          <a:xfrm>
            <a:off x="427320" y="3843360"/>
            <a:ext cx="2793960" cy="2082600"/>
            <a:chOff x="427320" y="3843360"/>
            <a:chExt cx="2793960" cy="2082600"/>
          </a:xfrm>
        </p:grpSpPr>
        <p:sp>
          <p:nvSpPr>
            <p:cNvPr id="169" name="矩形 11492"/>
            <p:cNvSpPr/>
            <p:nvPr/>
          </p:nvSpPr>
          <p:spPr>
            <a:xfrm>
              <a:off x="1589400" y="456264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尸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" name="组合 11506"/>
            <p:cNvGrpSpPr/>
            <p:nvPr/>
          </p:nvGrpSpPr>
          <p:grpSpPr>
            <a:xfrm>
              <a:off x="427320" y="3843360"/>
              <a:ext cx="2793960" cy="2082600"/>
              <a:chOff x="427320" y="3843360"/>
              <a:chExt cx="2793960" cy="2082600"/>
            </a:xfrm>
          </p:grpSpPr>
          <p:sp>
            <p:nvSpPr>
              <p:cNvPr id="171" name="上弧形箭头 11472"/>
              <p:cNvSpPr/>
              <p:nvPr/>
            </p:nvSpPr>
            <p:spPr>
              <a:xfrm flipH="1" flipV="1" rot="2002200">
                <a:off x="319680" y="4627800"/>
                <a:ext cx="3008160" cy="512640"/>
              </a:xfrm>
              <a:custGeom>
                <a:avLst/>
                <a:gdLst>
                  <a:gd name="textAreaLeft" fmla="*/ 526320 w 3008160"/>
                  <a:gd name="textAreaRight" fmla="*/ 2180880 w 3008160"/>
                  <a:gd name="textAreaTop" fmla="*/ 68400 h 512640"/>
                  <a:gd name="textAreaBottom" fmla="*/ 444240 h 51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906"/>
                    <a:lnTo>
                      <a:pt x="21168" y="14401"/>
                    </a:lnTo>
                    <a:lnTo>
                      <a:pt x="17280" y="21600"/>
                    </a:lnTo>
                    <a:lnTo>
                      <a:pt x="12528" y="14401"/>
                    </a:lnTo>
                    <a:lnTo>
                      <a:pt x="14688" y="14401"/>
                    </a:lnTo>
                    <a:arcTo wR="7560" hR="21600" stAng="-2717094" swAng="-2325471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cc9900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矩形 11493"/>
              <p:cNvSpPr/>
              <p:nvPr/>
            </p:nvSpPr>
            <p:spPr>
              <a:xfrm>
                <a:off x="1899000" y="4760280"/>
                <a:ext cx="424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3333cc"/>
                    </a:solidFill>
                    <a:latin typeface="Times New Roman"/>
                    <a:ea typeface="隶书"/>
                  </a:rPr>
                  <a:t>体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3" name="组合 11512"/>
          <p:cNvGrpSpPr/>
          <p:nvPr/>
        </p:nvGrpSpPr>
        <p:grpSpPr>
          <a:xfrm>
            <a:off x="1237680" y="248760"/>
            <a:ext cx="2391840" cy="2142360"/>
            <a:chOff x="1237680" y="248760"/>
            <a:chExt cx="2391840" cy="2142360"/>
          </a:xfrm>
        </p:grpSpPr>
        <p:sp>
          <p:nvSpPr>
            <p:cNvPr id="174" name="上弧形箭头 11473"/>
            <p:cNvSpPr/>
            <p:nvPr/>
          </p:nvSpPr>
          <p:spPr>
            <a:xfrm flipH="1" flipV="1" rot="8391600">
              <a:off x="1108800" y="1035000"/>
              <a:ext cx="2649240" cy="568440"/>
            </a:xfrm>
            <a:custGeom>
              <a:avLst/>
              <a:gdLst>
                <a:gd name="textAreaLeft" fmla="*/ 463320 w 2649240"/>
                <a:gd name="textAreaRight" fmla="*/ 1920600 w 2649240"/>
                <a:gd name="textAreaTop" fmla="*/ 75960 h 568440"/>
                <a:gd name="textAreaBottom" fmla="*/ 49248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906"/>
                  <a:lnTo>
                    <a:pt x="21168" y="14401"/>
                  </a:lnTo>
                  <a:lnTo>
                    <a:pt x="17280" y="21600"/>
                  </a:lnTo>
                  <a:lnTo>
                    <a:pt x="12528" y="14401"/>
                  </a:lnTo>
                  <a:lnTo>
                    <a:pt x="14688" y="14401"/>
                  </a:lnTo>
                  <a:arcTo wR="7560" hR="21600" stAng="-2717094" swAng="-2325471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" name="组合 11498"/>
            <p:cNvGrpSpPr/>
            <p:nvPr/>
          </p:nvGrpSpPr>
          <p:grpSpPr>
            <a:xfrm>
              <a:off x="1898640" y="798480"/>
              <a:ext cx="910440" cy="1344960"/>
              <a:chOff x="1898640" y="798480"/>
              <a:chExt cx="910440" cy="1344960"/>
            </a:xfrm>
          </p:grpSpPr>
          <p:sp>
            <p:nvSpPr>
              <p:cNvPr id="176" name="矩形 11494"/>
              <p:cNvSpPr/>
              <p:nvPr/>
            </p:nvSpPr>
            <p:spPr>
              <a:xfrm>
                <a:off x="1898640" y="1562040"/>
                <a:ext cx="424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3333cc"/>
                    </a:solidFill>
                    <a:latin typeface="Times New Roman"/>
                    <a:ea typeface="隶书"/>
                  </a:rPr>
                  <a:t>分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矩形 11495"/>
              <p:cNvSpPr/>
              <p:nvPr/>
            </p:nvSpPr>
            <p:spPr>
              <a:xfrm>
                <a:off x="1927440" y="1285560"/>
                <a:ext cx="424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3333cc"/>
                    </a:solidFill>
                    <a:latin typeface="Times New Roman"/>
                    <a:ea typeface="隶书"/>
                  </a:rPr>
                  <a:t>解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矩形 11496"/>
              <p:cNvSpPr/>
              <p:nvPr/>
            </p:nvSpPr>
            <p:spPr>
              <a:xfrm>
                <a:off x="2079720" y="1025280"/>
                <a:ext cx="424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3333cc"/>
                    </a:solidFill>
                    <a:latin typeface="Times New Roman"/>
                    <a:ea typeface="隶书"/>
                  </a:rPr>
                  <a:t>作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矩形 11497"/>
              <p:cNvSpPr/>
              <p:nvPr/>
            </p:nvSpPr>
            <p:spPr>
              <a:xfrm>
                <a:off x="2384640" y="798480"/>
                <a:ext cx="424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3333cc"/>
                    </a:solidFill>
                    <a:latin typeface="Times New Roman"/>
                    <a:ea typeface="隶书"/>
                  </a:rPr>
                  <a:t>用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0" name="组合 11507"/>
          <p:cNvGrpSpPr/>
          <p:nvPr/>
        </p:nvGrpSpPr>
        <p:grpSpPr>
          <a:xfrm>
            <a:off x="4524480" y="1604160"/>
            <a:ext cx="672480" cy="3228840"/>
            <a:chOff x="4524480" y="1604160"/>
            <a:chExt cx="672480" cy="3228840"/>
          </a:xfrm>
        </p:grpSpPr>
        <p:sp>
          <p:nvSpPr>
            <p:cNvPr id="181" name="左箭头 11476"/>
            <p:cNvSpPr/>
            <p:nvPr/>
          </p:nvSpPr>
          <p:spPr>
            <a:xfrm flipV="1" rot="5400000">
              <a:off x="3001680" y="3126240"/>
              <a:ext cx="3228840" cy="183600"/>
            </a:xfrm>
            <a:prstGeom prst="leftArrow">
              <a:avLst>
                <a:gd name="adj1" fmla="val 50000"/>
                <a:gd name="adj2" fmla="val 439575"/>
              </a:avLst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文本框 11500"/>
            <p:cNvSpPr/>
            <p:nvPr/>
          </p:nvSpPr>
          <p:spPr>
            <a:xfrm>
              <a:off x="4644720" y="1858680"/>
              <a:ext cx="5522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呼吸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文本框 11501"/>
          <p:cNvSpPr/>
          <p:nvPr/>
        </p:nvSpPr>
        <p:spPr>
          <a:xfrm>
            <a:off x="8550360" y="2643120"/>
            <a:ext cx="2030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生产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文本框 11502"/>
          <p:cNvSpPr/>
          <p:nvPr/>
        </p:nvSpPr>
        <p:spPr>
          <a:xfrm>
            <a:off x="3673440" y="620856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消费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矩形 11503"/>
          <p:cNvSpPr/>
          <p:nvPr/>
        </p:nvSpPr>
        <p:spPr>
          <a:xfrm>
            <a:off x="349920" y="2747880"/>
            <a:ext cx="36360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组合 11505"/>
          <p:cNvGrpSpPr/>
          <p:nvPr/>
        </p:nvGrpSpPr>
        <p:grpSpPr>
          <a:xfrm>
            <a:off x="2116080" y="3176640"/>
            <a:ext cx="5138640" cy="664200"/>
            <a:chOff x="2116080" y="3176640"/>
            <a:chExt cx="5138640" cy="664200"/>
          </a:xfrm>
        </p:grpSpPr>
        <p:sp>
          <p:nvSpPr>
            <p:cNvPr id="187" name="左箭头 11475"/>
            <p:cNvSpPr/>
            <p:nvPr/>
          </p:nvSpPr>
          <p:spPr>
            <a:xfrm>
              <a:off x="2116080" y="3176640"/>
              <a:ext cx="5138640" cy="258840"/>
            </a:xfrm>
            <a:prstGeom prst="leftArrow">
              <a:avLst>
                <a:gd name="adj1" fmla="val 50000"/>
                <a:gd name="adj2" fmla="val 496222"/>
              </a:avLst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文本框 11504"/>
            <p:cNvSpPr/>
            <p:nvPr/>
          </p:nvSpPr>
          <p:spPr>
            <a:xfrm>
              <a:off x="5292360" y="3259440"/>
              <a:ext cx="1199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尸 体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文本框 11516"/>
          <p:cNvSpPr/>
          <p:nvPr/>
        </p:nvSpPr>
        <p:spPr>
          <a:xfrm>
            <a:off x="162000" y="316080"/>
            <a:ext cx="3597120" cy="9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Times New Roman"/>
              </a:rPr>
              <a:t>碳在自然界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Times New Roman"/>
              </a:rPr>
              <a:t>的循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组合 11519"/>
          <p:cNvGrpSpPr/>
          <p:nvPr/>
        </p:nvGrpSpPr>
        <p:grpSpPr>
          <a:xfrm>
            <a:off x="5001480" y="4039920"/>
            <a:ext cx="3762720" cy="2586240"/>
            <a:chOff x="5001480" y="4039920"/>
            <a:chExt cx="3762720" cy="2586240"/>
          </a:xfrm>
        </p:grpSpPr>
        <p:sp>
          <p:nvSpPr>
            <p:cNvPr id="191" name="上弧形箭头 11471"/>
            <p:cNvSpPr/>
            <p:nvPr/>
          </p:nvSpPr>
          <p:spPr>
            <a:xfrm rot="8969400">
              <a:off x="4892040" y="5005080"/>
              <a:ext cx="3981240" cy="655560"/>
            </a:xfrm>
            <a:custGeom>
              <a:avLst/>
              <a:gdLst>
                <a:gd name="textAreaLeft" fmla="*/ 696600 w 3981240"/>
                <a:gd name="textAreaRight" fmla="*/ 2886480 w 3981240"/>
                <a:gd name="textAreaTop" fmla="*/ 87840 h 655560"/>
                <a:gd name="textAreaBottom" fmla="*/ 567720 h 65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906"/>
                  <a:lnTo>
                    <a:pt x="21168" y="14401"/>
                  </a:lnTo>
                  <a:lnTo>
                    <a:pt x="17280" y="21600"/>
                  </a:lnTo>
                  <a:lnTo>
                    <a:pt x="12528" y="14401"/>
                  </a:lnTo>
                  <a:lnTo>
                    <a:pt x="14688" y="14401"/>
                  </a:lnTo>
                  <a:arcTo wR="7560" hR="21600" stAng="-2717094" swAng="-2325471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" name="组合 11518"/>
            <p:cNvGrpSpPr/>
            <p:nvPr/>
          </p:nvGrpSpPr>
          <p:grpSpPr>
            <a:xfrm>
              <a:off x="6747120" y="4629240"/>
              <a:ext cx="999360" cy="1033920"/>
              <a:chOff x="6747120" y="4629240"/>
              <a:chExt cx="999360" cy="1033920"/>
            </a:xfrm>
          </p:grpSpPr>
          <p:sp>
            <p:nvSpPr>
              <p:cNvPr id="193" name="文本框 11489"/>
              <p:cNvSpPr/>
              <p:nvPr/>
            </p:nvSpPr>
            <p:spPr>
              <a:xfrm>
                <a:off x="7007400" y="4906800"/>
                <a:ext cx="475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3333cc"/>
                    </a:solidFill>
                    <a:latin typeface="Times New Roman"/>
                    <a:ea typeface="隶书"/>
                  </a:rPr>
                  <a:t>摄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矩形 11490"/>
              <p:cNvSpPr/>
              <p:nvPr/>
            </p:nvSpPr>
            <p:spPr>
              <a:xfrm>
                <a:off x="6747120" y="5081760"/>
                <a:ext cx="424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3333cc"/>
                    </a:solidFill>
                    <a:latin typeface="Times New Roman"/>
                    <a:ea typeface="隶书"/>
                  </a:rPr>
                  <a:t>食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矩形 11517"/>
              <p:cNvSpPr/>
              <p:nvPr/>
            </p:nvSpPr>
            <p:spPr>
              <a:xfrm>
                <a:off x="7322040" y="4629240"/>
                <a:ext cx="424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3333cc"/>
                    </a:solidFill>
                    <a:latin typeface="Times New Roman"/>
                    <a:ea typeface="隶书"/>
                  </a:rPr>
                  <a:t>被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6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b97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组合 13401"/>
          <p:cNvGrpSpPr/>
          <p:nvPr/>
        </p:nvGrpSpPr>
        <p:grpSpPr>
          <a:xfrm>
            <a:off x="748080" y="2971800"/>
            <a:ext cx="5832000" cy="2590560"/>
            <a:chOff x="748080" y="2971800"/>
            <a:chExt cx="5832000" cy="2590560"/>
          </a:xfrm>
        </p:grpSpPr>
        <p:grpSp>
          <p:nvGrpSpPr>
            <p:cNvPr id="198" name="组合 13400"/>
            <p:cNvGrpSpPr/>
            <p:nvPr/>
          </p:nvGrpSpPr>
          <p:grpSpPr>
            <a:xfrm>
              <a:off x="2514600" y="5181480"/>
              <a:ext cx="4065480" cy="380880"/>
              <a:chOff x="2514600" y="5181480"/>
              <a:chExt cx="4065480" cy="380880"/>
            </a:xfrm>
          </p:grpSpPr>
          <p:sp>
            <p:nvSpPr>
              <p:cNvPr id="199" name="五边形 13317"/>
              <p:cNvSpPr/>
              <p:nvPr/>
            </p:nvSpPr>
            <p:spPr>
              <a:xfrm>
                <a:off x="4267080" y="5181480"/>
                <a:ext cx="2313000" cy="380880"/>
              </a:xfrm>
              <a:custGeom>
                <a:avLst/>
                <a:gdLst>
                  <a:gd name="textAreaLeft" fmla="*/ 0 w 2313000"/>
                  <a:gd name="textAreaRight" fmla="*/ 2313360 w 231300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" y="0"/>
                    </a:lnTo>
                    <a:lnTo>
                      <a:pt x="21600" y="10800"/>
                    </a:lnTo>
                    <a:lnTo>
                      <a:pt x="1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7cba00"/>
              </a:solidFill>
              <a:ln w="9360">
                <a:solidFill>
                  <a:srgbClr val="81c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矩形 13318"/>
              <p:cNvSpPr/>
              <p:nvPr/>
            </p:nvSpPr>
            <p:spPr>
              <a:xfrm flipH="1">
                <a:off x="2514600" y="5181480"/>
                <a:ext cx="1752480" cy="380880"/>
              </a:xfrm>
              <a:prstGeom prst="rect">
                <a:avLst/>
              </a:prstGeom>
              <a:solidFill>
                <a:srgbClr val="7cba00"/>
              </a:solidFill>
              <a:ln w="9360">
                <a:solidFill>
                  <a:srgbClr val="81c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组合 13398"/>
            <p:cNvGrpSpPr/>
            <p:nvPr/>
          </p:nvGrpSpPr>
          <p:grpSpPr>
            <a:xfrm>
              <a:off x="748080" y="2971800"/>
              <a:ext cx="2680200" cy="2514240"/>
              <a:chOff x="748080" y="2971800"/>
              <a:chExt cx="2680200" cy="2514240"/>
            </a:xfrm>
          </p:grpSpPr>
          <p:sp>
            <p:nvSpPr>
              <p:cNvPr id="202" name="右弧形箭头 13315"/>
              <p:cNvSpPr/>
              <p:nvPr/>
            </p:nvSpPr>
            <p:spPr>
              <a:xfrm flipH="1" flipV="1">
                <a:off x="882000" y="3267720"/>
                <a:ext cx="2545560" cy="2218320"/>
              </a:xfrm>
              <a:custGeom>
                <a:avLst/>
                <a:gdLst>
                  <a:gd name="textAreaLeft" fmla="*/ 340920 w 2545560"/>
                  <a:gd name="textAreaRight" fmla="*/ 2204640 w 2545560"/>
                  <a:gd name="textAreaTop" fmla="*/ 492840 h 2218320"/>
                  <a:gd name="textAreaBottom" fmla="*/ 1705680 h 2218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21600" hR="9590" stAng="-5400000" swAng="5400000"/>
                    <a:lnTo>
                      <a:pt x="21600" y="11810"/>
                    </a:lnTo>
                    <a:arcTo wR="21600" hR="9590" stAng="0" swAng="3227795"/>
                    <a:lnTo>
                      <a:pt x="6676" y="21130"/>
                    </a:lnTo>
                    <a:lnTo>
                      <a:pt x="0" y="20290"/>
                    </a:lnTo>
                    <a:lnTo>
                      <a:pt x="6676" y="18510"/>
                    </a:lnTo>
                    <a:lnTo>
                      <a:pt x="6676" y="18710"/>
                    </a:lnTo>
                    <a:arcTo wR="21600" hR="9590" stAng="3227795" swAng="-3050096"/>
                    <a:lnTo>
                      <a:pt x="21455" y="10700"/>
                    </a:lnTo>
                    <a:arcTo wR="21600" hR="9590" stAng="-177699" swAng="-5222301"/>
                    <a:close/>
                  </a:path>
                  <a:path fill="darkenLess" w="21600" h="21600">
                    <a:moveTo>
                      <a:pt x="0" y="0"/>
                    </a:moveTo>
                    <a:arcTo wR="21600" hR="9590" stAng="-5400000" swAng="5400000"/>
                    <a:lnTo>
                      <a:pt x="21600" y="11810"/>
                    </a:lnTo>
                    <a:arcTo wR="21600" hR="9590" stAng="0" swAng="-177699"/>
                    <a:lnTo>
                      <a:pt x="21455" y="10700"/>
                    </a:lnTo>
                    <a:arcTo wR="21600" hR="9590" stAng="-177699" swAng="-5222301"/>
                    <a:close/>
                  </a:path>
                </a:pathLst>
              </a:custGeom>
              <a:solidFill>
                <a:srgbClr val="b2ef43"/>
              </a:solidFill>
              <a:ln w="9360">
                <a:solidFill>
                  <a:srgbClr val="09c38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3" name="组合 13319"/>
              <p:cNvGrpSpPr/>
              <p:nvPr/>
            </p:nvGrpSpPr>
            <p:grpSpPr>
              <a:xfrm>
                <a:off x="748080" y="2971800"/>
                <a:ext cx="2274840" cy="1141920"/>
                <a:chOff x="748080" y="2971800"/>
                <a:chExt cx="2274840" cy="1141920"/>
              </a:xfrm>
            </p:grpSpPr>
            <p:grpSp>
              <p:nvGrpSpPr>
                <p:cNvPr id="204" name="组合 13320"/>
                <p:cNvGrpSpPr/>
                <p:nvPr/>
              </p:nvGrpSpPr>
              <p:grpSpPr>
                <a:xfrm>
                  <a:off x="946800" y="2971800"/>
                  <a:ext cx="2076120" cy="993960"/>
                  <a:chOff x="946800" y="2971800"/>
                  <a:chExt cx="2076120" cy="993960"/>
                </a:xfrm>
              </p:grpSpPr>
              <p:sp>
                <p:nvSpPr>
                  <p:cNvPr id="205" name="矩形 13321"/>
                  <p:cNvSpPr/>
                  <p:nvPr/>
                </p:nvSpPr>
                <p:spPr>
                  <a:xfrm>
                    <a:off x="2659320" y="2971800"/>
                    <a:ext cx="3636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6c68f"/>
                        </a:solidFill>
                        <a:latin typeface="Times New Roman"/>
                        <a:ea typeface="隶书"/>
                      </a:rPr>
                      <a:t>水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矩形 13322"/>
                  <p:cNvSpPr/>
                  <p:nvPr/>
                </p:nvSpPr>
                <p:spPr>
                  <a:xfrm>
                    <a:off x="2395800" y="2971800"/>
                    <a:ext cx="3636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6c68f"/>
                        </a:solidFill>
                        <a:latin typeface="Times New Roman"/>
                        <a:ea typeface="隶书"/>
                      </a:rPr>
                      <a:t>生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矩形 13323"/>
                  <p:cNvSpPr/>
                  <p:nvPr/>
                </p:nvSpPr>
                <p:spPr>
                  <a:xfrm>
                    <a:off x="2170800" y="3016440"/>
                    <a:ext cx="3636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6c68f"/>
                        </a:solidFill>
                        <a:latin typeface="Times New Roman"/>
                        <a:ea typeface="隶书"/>
                      </a:rPr>
                      <a:t>植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矩形 13324"/>
                  <p:cNvSpPr/>
                  <p:nvPr/>
                </p:nvSpPr>
                <p:spPr>
                  <a:xfrm>
                    <a:off x="1868760" y="3062880"/>
                    <a:ext cx="3636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6c68f"/>
                        </a:solidFill>
                        <a:latin typeface="Times New Roman"/>
                        <a:ea typeface="隶书"/>
                      </a:rPr>
                      <a:t>物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矩形 13325"/>
                  <p:cNvSpPr/>
                  <p:nvPr/>
                </p:nvSpPr>
                <p:spPr>
                  <a:xfrm>
                    <a:off x="1605240" y="3136320"/>
                    <a:ext cx="3636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6c68f"/>
                        </a:solidFill>
                        <a:latin typeface="Times New Roman"/>
                        <a:ea typeface="隶书"/>
                      </a:rPr>
                      <a:t>的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矩形 13326"/>
                  <p:cNvSpPr/>
                  <p:nvPr/>
                </p:nvSpPr>
                <p:spPr>
                  <a:xfrm>
                    <a:off x="1341720" y="3211920"/>
                    <a:ext cx="3636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6c68f"/>
                        </a:solidFill>
                        <a:latin typeface="Times New Roman"/>
                        <a:ea typeface="隶书"/>
                      </a:rPr>
                      <a:t>光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矩形 13327"/>
                  <p:cNvSpPr/>
                  <p:nvPr/>
                </p:nvSpPr>
                <p:spPr>
                  <a:xfrm>
                    <a:off x="1143000" y="3358080"/>
                    <a:ext cx="3636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6c68f"/>
                        </a:solidFill>
                        <a:latin typeface="Times New Roman"/>
                        <a:ea typeface="隶书"/>
                      </a:rPr>
                      <a:t>合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矩形 13328"/>
                  <p:cNvSpPr/>
                  <p:nvPr/>
                </p:nvSpPr>
                <p:spPr>
                  <a:xfrm>
                    <a:off x="946800" y="3506040"/>
                    <a:ext cx="3636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6c68f"/>
                        </a:solidFill>
                        <a:latin typeface="Times New Roman"/>
                        <a:ea typeface="隶书"/>
                      </a:rPr>
                      <a:t>作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3" name="矩形 13329"/>
                <p:cNvSpPr/>
                <p:nvPr/>
              </p:nvSpPr>
              <p:spPr>
                <a:xfrm>
                  <a:off x="748080" y="3654000"/>
                  <a:ext cx="363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6c68f"/>
                      </a:solidFill>
                      <a:latin typeface="Times New Roman"/>
                      <a:ea typeface="隶书"/>
                    </a:rPr>
                    <a:t>用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14" name="矩形 13330"/>
          <p:cNvSpPr/>
          <p:nvPr/>
        </p:nvSpPr>
        <p:spPr>
          <a:xfrm>
            <a:off x="5141880" y="-3348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66ccff"/>
                </a:solidFill>
                <a:latin typeface="Times New Roman"/>
              </a:rPr>
              <a:t>碳在自然界中的循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文本框 13331"/>
          <p:cNvSpPr/>
          <p:nvPr/>
        </p:nvSpPr>
        <p:spPr>
          <a:xfrm>
            <a:off x="3276720" y="1143000"/>
            <a:ext cx="2666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99ff"/>
                </a:solidFill>
                <a:latin typeface="Times New Roman"/>
                <a:ea typeface="隶书"/>
              </a:rPr>
              <a:t>    </a:t>
            </a:r>
            <a:r>
              <a:rPr b="1" lang="en-US" sz="2400" spc="-1" strike="noStrike">
                <a:solidFill>
                  <a:srgbClr val="6699ff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6699ff"/>
                </a:solidFill>
                <a:latin typeface="Times New Roman"/>
                <a:ea typeface="隶书"/>
              </a:rPr>
              <a:t>在大气中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二氧化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矩形 13332"/>
          <p:cNvSpPr/>
          <p:nvPr/>
        </p:nvSpPr>
        <p:spPr>
          <a:xfrm>
            <a:off x="3877920" y="3124080"/>
            <a:ext cx="1540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6699ff"/>
                </a:solidFill>
                <a:latin typeface="Times New Roman"/>
                <a:ea typeface="隶书"/>
              </a:rPr>
              <a:t>在水中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二氧化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组合 13333"/>
          <p:cNvGrpSpPr/>
          <p:nvPr/>
        </p:nvGrpSpPr>
        <p:grpSpPr>
          <a:xfrm>
            <a:off x="5943600" y="533520"/>
            <a:ext cx="2819520" cy="5943600"/>
            <a:chOff x="5943600" y="533520"/>
            <a:chExt cx="2819520" cy="5943600"/>
          </a:xfrm>
        </p:grpSpPr>
        <p:sp>
          <p:nvSpPr>
            <p:cNvPr id="218" name="右弧形箭头 13334"/>
            <p:cNvSpPr/>
            <p:nvPr/>
          </p:nvSpPr>
          <p:spPr>
            <a:xfrm flipV="1">
              <a:off x="5943600" y="533160"/>
              <a:ext cx="2819520" cy="5943600"/>
            </a:xfrm>
            <a:custGeom>
              <a:avLst/>
              <a:gdLst>
                <a:gd name="textAreaLeft" fmla="*/ 377640 w 2819520"/>
                <a:gd name="textAreaRight" fmla="*/ 2441880 w 2819520"/>
                <a:gd name="textAreaTop" fmla="*/ 1233720 h 5943600"/>
                <a:gd name="textAreaBottom" fmla="*/ 4088160 h 594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8966" stAng="-5400000" swAng="5400000"/>
                  <a:lnTo>
                    <a:pt x="21600" y="10373"/>
                  </a:lnTo>
                  <a:arcTo wR="21600" hR="8966" stAng="0" swAng="2974817"/>
                  <a:lnTo>
                    <a:pt x="7199" y="21087"/>
                  </a:lnTo>
                  <a:lnTo>
                    <a:pt x="0" y="18635"/>
                  </a:lnTo>
                  <a:lnTo>
                    <a:pt x="7199" y="15156"/>
                  </a:lnTo>
                  <a:lnTo>
                    <a:pt x="7199" y="17418"/>
                  </a:lnTo>
                  <a:arcTo wR="21600" hR="8966" stAng="2974817" swAng="-2862545"/>
                  <a:lnTo>
                    <a:pt x="21533" y="9669"/>
                  </a:lnTo>
                  <a:arcTo wR="21600" hR="8966" stAng="-112272" swAng="-5287728"/>
                  <a:close/>
                </a:path>
                <a:path fill="darkenLess" w="21600" h="21600">
                  <a:moveTo>
                    <a:pt x="0" y="0"/>
                  </a:moveTo>
                  <a:arcTo wR="21600" hR="8966" stAng="-5400000" swAng="5400000"/>
                  <a:lnTo>
                    <a:pt x="21600" y="10373"/>
                  </a:lnTo>
                  <a:arcTo wR="21600" hR="8966" stAng="0" swAng="-112272"/>
                  <a:lnTo>
                    <a:pt x="21533" y="9669"/>
                  </a:lnTo>
                  <a:arcTo wR="21600" hR="8966" stAng="-112272" swAng="-5287728"/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右弧形箭头 13335"/>
            <p:cNvSpPr/>
            <p:nvPr/>
          </p:nvSpPr>
          <p:spPr>
            <a:xfrm flipV="1">
              <a:off x="5943600" y="3047400"/>
              <a:ext cx="2362320" cy="3429000"/>
            </a:xfrm>
            <a:custGeom>
              <a:avLst/>
              <a:gdLst>
                <a:gd name="textAreaLeft" fmla="*/ 316440 w 2362320"/>
                <a:gd name="textAreaRight" fmla="*/ 2045880 w 2362320"/>
                <a:gd name="textAreaTop" fmla="*/ 699120 h 3429000"/>
                <a:gd name="textAreaBottom" fmla="*/ 2396880 h 342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8812" stAng="-5400000" swAng="5400000"/>
                  <a:lnTo>
                    <a:pt x="21600" y="10694"/>
                  </a:lnTo>
                  <a:arcTo wR="21600" hR="8812" stAng="0" swAng="2945473"/>
                  <a:lnTo>
                    <a:pt x="7199" y="21096"/>
                  </a:lnTo>
                  <a:lnTo>
                    <a:pt x="0" y="18565"/>
                  </a:lnTo>
                  <a:lnTo>
                    <a:pt x="7199" y="15026"/>
                  </a:lnTo>
                  <a:lnTo>
                    <a:pt x="7199" y="17120"/>
                  </a:lnTo>
                  <a:arcTo wR="21600" hR="8812" stAng="2945473" swAng="-2794943"/>
                  <a:lnTo>
                    <a:pt x="21476" y="9753"/>
                  </a:lnTo>
                  <a:arcTo wR="21600" hR="8812" stAng="-150530" swAng="-5249470"/>
                  <a:close/>
                </a:path>
                <a:path fill="darkenLess" w="21600" h="21600">
                  <a:moveTo>
                    <a:pt x="0" y="0"/>
                  </a:moveTo>
                  <a:arcTo wR="21600" hR="8812" stAng="-5400000" swAng="5400000"/>
                  <a:lnTo>
                    <a:pt x="21600" y="10694"/>
                  </a:lnTo>
                  <a:arcTo wR="21600" hR="8812" stAng="0" swAng="-150530"/>
                  <a:lnTo>
                    <a:pt x="21476" y="9753"/>
                  </a:lnTo>
                  <a:arcTo wR="21600" hR="8812" stAng="-150530" swAng="-5249470"/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上箭头 13336"/>
          <p:cNvSpPr/>
          <p:nvPr/>
        </p:nvSpPr>
        <p:spPr>
          <a:xfrm>
            <a:off x="3809880" y="1905120"/>
            <a:ext cx="228600" cy="1143000"/>
          </a:xfrm>
          <a:prstGeom prst="upArrow">
            <a:avLst>
              <a:gd name="adj1" fmla="val 50000"/>
              <a:gd name="adj2" fmla="val 125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上箭头 13337"/>
          <p:cNvSpPr/>
          <p:nvPr/>
        </p:nvSpPr>
        <p:spPr>
          <a:xfrm>
            <a:off x="4724280" y="1905120"/>
            <a:ext cx="228600" cy="1143000"/>
          </a:xfrm>
          <a:prstGeom prst="upArrow">
            <a:avLst>
              <a:gd name="adj1" fmla="val 50000"/>
              <a:gd name="adj2" fmla="val 125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上箭头 13338"/>
          <p:cNvSpPr/>
          <p:nvPr/>
        </p:nvSpPr>
        <p:spPr>
          <a:xfrm flipV="1">
            <a:off x="4267080" y="1980360"/>
            <a:ext cx="228600" cy="1143000"/>
          </a:xfrm>
          <a:prstGeom prst="upArrow">
            <a:avLst>
              <a:gd name="adj1" fmla="val 50000"/>
              <a:gd name="adj2" fmla="val 125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上箭头 13339"/>
          <p:cNvSpPr/>
          <p:nvPr/>
        </p:nvSpPr>
        <p:spPr>
          <a:xfrm flipV="1">
            <a:off x="5257800" y="1980360"/>
            <a:ext cx="228600" cy="1143000"/>
          </a:xfrm>
          <a:prstGeom prst="upArrow">
            <a:avLst>
              <a:gd name="adj1" fmla="val 50000"/>
              <a:gd name="adj2" fmla="val 125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组合 13340"/>
          <p:cNvGrpSpPr/>
          <p:nvPr/>
        </p:nvGrpSpPr>
        <p:grpSpPr>
          <a:xfrm>
            <a:off x="2438280" y="5562720"/>
            <a:ext cx="2819160" cy="533160"/>
            <a:chOff x="2438280" y="5562720"/>
            <a:chExt cx="2819160" cy="533160"/>
          </a:xfrm>
        </p:grpSpPr>
        <p:sp>
          <p:nvSpPr>
            <p:cNvPr id="225" name="左弧形箭头 13341"/>
            <p:cNvSpPr/>
            <p:nvPr/>
          </p:nvSpPr>
          <p:spPr>
            <a:xfrm>
              <a:off x="3124080" y="5562720"/>
              <a:ext cx="685800" cy="533160"/>
            </a:xfrm>
            <a:custGeom>
              <a:avLst/>
              <a:gdLst>
                <a:gd name="textAreaLeft" fmla="*/ 91800 w 685800"/>
                <a:gd name="textAreaRight" fmla="*/ 594000 w 685800"/>
                <a:gd name="textAreaTop" fmla="*/ 93240 h 533160"/>
                <a:gd name="textAreaBottom" fmla="*/ 38664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906"/>
                  <a:lnTo>
                    <a:pt x="14401" y="21168"/>
                  </a:lnTo>
                  <a:lnTo>
                    <a:pt x="21600" y="17280"/>
                  </a:lnTo>
                  <a:lnTo>
                    <a:pt x="14401" y="12528"/>
                  </a:lnTo>
                  <a:lnTo>
                    <a:pt x="14401" y="14688"/>
                  </a:lnTo>
                  <a:arcTo wR="21600" hR="7560" stAng="8117094" swAng="2325471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左弧形箭头 13342"/>
            <p:cNvSpPr/>
            <p:nvPr/>
          </p:nvSpPr>
          <p:spPr>
            <a:xfrm>
              <a:off x="2438280" y="5562720"/>
              <a:ext cx="685800" cy="533160"/>
            </a:xfrm>
            <a:custGeom>
              <a:avLst/>
              <a:gdLst>
                <a:gd name="textAreaLeft" fmla="*/ 91800 w 685800"/>
                <a:gd name="textAreaRight" fmla="*/ 594000 w 685800"/>
                <a:gd name="textAreaTop" fmla="*/ 93240 h 533160"/>
                <a:gd name="textAreaBottom" fmla="*/ 38664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906"/>
                  <a:lnTo>
                    <a:pt x="14401" y="21168"/>
                  </a:lnTo>
                  <a:lnTo>
                    <a:pt x="21600" y="17280"/>
                  </a:lnTo>
                  <a:lnTo>
                    <a:pt x="14401" y="12528"/>
                  </a:lnTo>
                  <a:lnTo>
                    <a:pt x="14401" y="14688"/>
                  </a:lnTo>
                  <a:arcTo wR="21600" hR="7560" stAng="8117094" swAng="2325471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左弧形箭头 13343"/>
            <p:cNvSpPr/>
            <p:nvPr/>
          </p:nvSpPr>
          <p:spPr>
            <a:xfrm>
              <a:off x="3885840" y="5562720"/>
              <a:ext cx="685800" cy="533160"/>
            </a:xfrm>
            <a:custGeom>
              <a:avLst/>
              <a:gdLst>
                <a:gd name="textAreaLeft" fmla="*/ 91800 w 685800"/>
                <a:gd name="textAreaRight" fmla="*/ 594000 w 685800"/>
                <a:gd name="textAreaTop" fmla="*/ 93240 h 533160"/>
                <a:gd name="textAreaBottom" fmla="*/ 38664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906"/>
                  <a:lnTo>
                    <a:pt x="14401" y="21168"/>
                  </a:lnTo>
                  <a:lnTo>
                    <a:pt x="21600" y="17280"/>
                  </a:lnTo>
                  <a:lnTo>
                    <a:pt x="14401" y="12528"/>
                  </a:lnTo>
                  <a:lnTo>
                    <a:pt x="14401" y="14688"/>
                  </a:lnTo>
                  <a:arcTo wR="21600" hR="7560" stAng="8117094" swAng="2325471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左弧形箭头 13344"/>
            <p:cNvSpPr/>
            <p:nvPr/>
          </p:nvSpPr>
          <p:spPr>
            <a:xfrm>
              <a:off x="4571640" y="5562720"/>
              <a:ext cx="685800" cy="533160"/>
            </a:xfrm>
            <a:custGeom>
              <a:avLst/>
              <a:gdLst>
                <a:gd name="textAreaLeft" fmla="*/ 91800 w 685800"/>
                <a:gd name="textAreaRight" fmla="*/ 594000 w 685800"/>
                <a:gd name="textAreaTop" fmla="*/ 93240 h 533160"/>
                <a:gd name="textAreaBottom" fmla="*/ 38664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906"/>
                  <a:lnTo>
                    <a:pt x="14401" y="21168"/>
                  </a:lnTo>
                  <a:lnTo>
                    <a:pt x="21600" y="17280"/>
                  </a:lnTo>
                  <a:lnTo>
                    <a:pt x="14401" y="12528"/>
                  </a:lnTo>
                  <a:lnTo>
                    <a:pt x="14401" y="14688"/>
                  </a:lnTo>
                  <a:arcTo wR="21600" hR="7560" stAng="8117094" swAng="2325471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组合 13345"/>
          <p:cNvGrpSpPr/>
          <p:nvPr/>
        </p:nvGrpSpPr>
        <p:grpSpPr>
          <a:xfrm>
            <a:off x="62640" y="1312560"/>
            <a:ext cx="3366000" cy="4267080"/>
            <a:chOff x="62640" y="1312560"/>
            <a:chExt cx="3366000" cy="4267080"/>
          </a:xfrm>
        </p:grpSpPr>
        <p:sp>
          <p:nvSpPr>
            <p:cNvPr id="230" name="右弧形箭头 13346"/>
            <p:cNvSpPr/>
            <p:nvPr/>
          </p:nvSpPr>
          <p:spPr>
            <a:xfrm flipH="1" flipV="1">
              <a:off x="379800" y="1312200"/>
              <a:ext cx="3048120" cy="4267080"/>
            </a:xfrm>
            <a:custGeom>
              <a:avLst/>
              <a:gdLst>
                <a:gd name="textAreaLeft" fmla="*/ 408240 w 3048120"/>
                <a:gd name="textAreaRight" fmla="*/ 2639880 w 3048120"/>
                <a:gd name="textAreaTop" fmla="*/ 982440 h 4267080"/>
                <a:gd name="textAreaBottom" fmla="*/ 3244680 h 426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950" stAng="-5400000" swAng="5400000"/>
                  <a:lnTo>
                    <a:pt x="21600" y="11451"/>
                  </a:lnTo>
                  <a:arcTo wR="21600" hR="9950" stAng="0" swAng="3149774"/>
                  <a:lnTo>
                    <a:pt x="7199" y="21031"/>
                  </a:lnTo>
                  <a:lnTo>
                    <a:pt x="0" y="20650"/>
                  </a:lnTo>
                  <a:lnTo>
                    <a:pt x="7199" y="19130"/>
                  </a:lnTo>
                  <a:lnTo>
                    <a:pt x="7199" y="19330"/>
                  </a:lnTo>
                  <a:arcTo wR="21600" hR="9950" stAng="3149774" swAng="-3030035"/>
                  <a:lnTo>
                    <a:pt x="21538" y="10700"/>
                  </a:lnTo>
                  <a:arcTo wR="21600" hR="9950" stAng="-119739" swAng="-5280261"/>
                  <a:close/>
                </a:path>
                <a:path fill="darkenLess" w="21600" h="21600">
                  <a:moveTo>
                    <a:pt x="0" y="0"/>
                  </a:moveTo>
                  <a:arcTo wR="21600" hR="9950" stAng="-5400000" swAng="5400000"/>
                  <a:lnTo>
                    <a:pt x="21600" y="11451"/>
                  </a:lnTo>
                  <a:arcTo wR="21600" hR="9950" stAng="0" swAng="-119739"/>
                  <a:lnTo>
                    <a:pt x="21538" y="10700"/>
                  </a:lnTo>
                  <a:arcTo wR="21600" hR="9950" stAng="-119739" swAng="-5280261"/>
                  <a:close/>
                </a:path>
              </a:pathLst>
            </a:custGeom>
            <a:solidFill>
              <a:srgbClr val="b2ef43"/>
            </a:solidFill>
            <a:ln w="9360">
              <a:solidFill>
                <a:srgbClr val="09c3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" name="组合 13347"/>
            <p:cNvGrpSpPr/>
            <p:nvPr/>
          </p:nvGrpSpPr>
          <p:grpSpPr>
            <a:xfrm>
              <a:off x="62640" y="1312920"/>
              <a:ext cx="1842480" cy="1907640"/>
              <a:chOff x="62640" y="1312920"/>
              <a:chExt cx="1842480" cy="1907640"/>
            </a:xfrm>
          </p:grpSpPr>
          <p:grpSp>
            <p:nvGrpSpPr>
              <p:cNvPr id="232" name="组合 13348"/>
              <p:cNvGrpSpPr/>
              <p:nvPr/>
            </p:nvGrpSpPr>
            <p:grpSpPr>
              <a:xfrm>
                <a:off x="138960" y="1312920"/>
                <a:ext cx="1766160" cy="1679040"/>
                <a:chOff x="138960" y="1312920"/>
                <a:chExt cx="1766160" cy="1679040"/>
              </a:xfrm>
            </p:grpSpPr>
            <p:sp>
              <p:nvSpPr>
                <p:cNvPr id="233" name="矩形 13349"/>
                <p:cNvSpPr/>
                <p:nvPr/>
              </p:nvSpPr>
              <p:spPr>
                <a:xfrm>
                  <a:off x="1205640" y="1389240"/>
                  <a:ext cx="363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6c68f"/>
                      </a:solidFill>
                      <a:latin typeface="Times New Roman"/>
                      <a:ea typeface="隶书"/>
                    </a:rPr>
                    <a:t>生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矩形 13350"/>
                <p:cNvSpPr/>
                <p:nvPr/>
              </p:nvSpPr>
              <p:spPr>
                <a:xfrm>
                  <a:off x="564120" y="1922760"/>
                  <a:ext cx="363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6c68f"/>
                      </a:solidFill>
                      <a:latin typeface="Times New Roman"/>
                      <a:ea typeface="隶书"/>
                    </a:rPr>
                    <a:t>的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矩形 13351"/>
                <p:cNvSpPr/>
                <p:nvPr/>
              </p:nvSpPr>
              <p:spPr>
                <a:xfrm>
                  <a:off x="367560" y="2075040"/>
                  <a:ext cx="363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6c68f"/>
                      </a:solidFill>
                      <a:latin typeface="Times New Roman"/>
                      <a:ea typeface="隶书"/>
                    </a:rPr>
                    <a:t>光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文本框 13352"/>
                <p:cNvSpPr/>
                <p:nvPr/>
              </p:nvSpPr>
              <p:spPr>
                <a:xfrm>
                  <a:off x="1447920" y="131292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6c68f"/>
                      </a:solidFill>
                      <a:latin typeface="Times New Roman"/>
                      <a:ea typeface="隶书"/>
                    </a:rPr>
                    <a:t>陆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矩形 13353"/>
                <p:cNvSpPr/>
                <p:nvPr/>
              </p:nvSpPr>
              <p:spPr>
                <a:xfrm>
                  <a:off x="977040" y="1541520"/>
                  <a:ext cx="363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6c68f"/>
                      </a:solidFill>
                      <a:latin typeface="Times New Roman"/>
                      <a:ea typeface="隶书"/>
                    </a:rPr>
                    <a:t>植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矩形 13354"/>
                <p:cNvSpPr/>
                <p:nvPr/>
              </p:nvSpPr>
              <p:spPr>
                <a:xfrm>
                  <a:off x="748440" y="1694160"/>
                  <a:ext cx="363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6c68f"/>
                      </a:solidFill>
                      <a:latin typeface="Times New Roman"/>
                      <a:ea typeface="隶书"/>
                    </a:rPr>
                    <a:t>物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文本框 13355"/>
                <p:cNvSpPr/>
                <p:nvPr/>
              </p:nvSpPr>
              <p:spPr>
                <a:xfrm>
                  <a:off x="152280" y="230364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6c68f"/>
                      </a:solidFill>
                      <a:latin typeface="Times New Roman"/>
                      <a:ea typeface="隶书"/>
                    </a:rPr>
                    <a:t>合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矩形 13356"/>
                <p:cNvSpPr/>
                <p:nvPr/>
              </p:nvSpPr>
              <p:spPr>
                <a:xfrm>
                  <a:off x="138960" y="2532240"/>
                  <a:ext cx="363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6c68f"/>
                      </a:solidFill>
                      <a:latin typeface="Times New Roman"/>
                      <a:ea typeface="隶书"/>
                    </a:rPr>
                    <a:t>作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1" name="矩形 13357"/>
              <p:cNvSpPr/>
              <p:nvPr/>
            </p:nvSpPr>
            <p:spPr>
              <a:xfrm>
                <a:off x="62640" y="27608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6c68f"/>
                    </a:solidFill>
                    <a:latin typeface="Times New Roman"/>
                    <a:ea typeface="隶书"/>
                  </a:rPr>
                  <a:t>用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2" name="文本框 13358"/>
          <p:cNvSpPr/>
          <p:nvPr/>
        </p:nvSpPr>
        <p:spPr>
          <a:xfrm>
            <a:off x="2438280" y="5105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生物体中的有机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组合 13359"/>
          <p:cNvGrpSpPr/>
          <p:nvPr/>
        </p:nvGrpSpPr>
        <p:grpSpPr>
          <a:xfrm>
            <a:off x="1219320" y="6019920"/>
            <a:ext cx="4724280" cy="459720"/>
            <a:chOff x="1219320" y="6019920"/>
            <a:chExt cx="4724280" cy="459720"/>
          </a:xfrm>
        </p:grpSpPr>
        <p:sp>
          <p:nvSpPr>
            <p:cNvPr id="244" name="五边形 13360"/>
            <p:cNvSpPr/>
            <p:nvPr/>
          </p:nvSpPr>
          <p:spPr>
            <a:xfrm>
              <a:off x="5410080" y="6095880"/>
              <a:ext cx="457200" cy="763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76320"/>
                <a:gd name="textAreaBottom" fmla="*/ 76320 h 7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5" name="组合 13361"/>
            <p:cNvGrpSpPr/>
            <p:nvPr/>
          </p:nvGrpSpPr>
          <p:grpSpPr>
            <a:xfrm>
              <a:off x="1219320" y="6019920"/>
              <a:ext cx="4724280" cy="459720"/>
              <a:chOff x="1219320" y="6019920"/>
              <a:chExt cx="4724280" cy="459720"/>
            </a:xfrm>
          </p:grpSpPr>
          <p:sp>
            <p:nvSpPr>
              <p:cNvPr id="246" name="五边形 13362"/>
              <p:cNvSpPr/>
              <p:nvPr/>
            </p:nvSpPr>
            <p:spPr>
              <a:xfrm>
                <a:off x="5486400" y="6324480"/>
                <a:ext cx="457200" cy="7632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76320"/>
                  <a:gd name="textAreaBottom" fmla="*/ 7632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dddddd"/>
              </a:soli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组合 13363"/>
              <p:cNvGrpSpPr/>
              <p:nvPr/>
            </p:nvGrpSpPr>
            <p:grpSpPr>
              <a:xfrm>
                <a:off x="1219320" y="6019920"/>
                <a:ext cx="4724280" cy="459720"/>
                <a:chOff x="1219320" y="6019920"/>
                <a:chExt cx="4724280" cy="459720"/>
              </a:xfrm>
            </p:grpSpPr>
            <p:grpSp>
              <p:nvGrpSpPr>
                <p:cNvPr id="248" name="组合 13364"/>
                <p:cNvGrpSpPr/>
                <p:nvPr/>
              </p:nvGrpSpPr>
              <p:grpSpPr>
                <a:xfrm>
                  <a:off x="1219320" y="6019920"/>
                  <a:ext cx="4724280" cy="457200"/>
                  <a:chOff x="1219320" y="6019920"/>
                  <a:chExt cx="4724280" cy="457200"/>
                </a:xfrm>
              </p:grpSpPr>
              <p:grpSp>
                <p:nvGrpSpPr>
                  <p:cNvPr id="249" name="组合 13365"/>
                  <p:cNvGrpSpPr/>
                  <p:nvPr/>
                </p:nvGrpSpPr>
                <p:grpSpPr>
                  <a:xfrm>
                    <a:off x="1219320" y="6019920"/>
                    <a:ext cx="4419000" cy="457200"/>
                    <a:chOff x="1219320" y="6019920"/>
                    <a:chExt cx="4419000" cy="457200"/>
                  </a:xfrm>
                </p:grpSpPr>
                <p:sp>
                  <p:nvSpPr>
                    <p:cNvPr id="250" name="五边形 13366"/>
                    <p:cNvSpPr/>
                    <p:nvPr/>
                  </p:nvSpPr>
                  <p:spPr>
                    <a:xfrm flipH="1">
                      <a:off x="1219320" y="6019920"/>
                      <a:ext cx="2514240" cy="457200"/>
                    </a:xfrm>
                    <a:custGeom>
                      <a:avLst/>
                      <a:gdLst>
                        <a:gd name="textAreaLeft" fmla="*/ 360 w 2514240"/>
                        <a:gd name="textAreaRight" fmla="*/ 2514960 w 2514240"/>
                        <a:gd name="textAreaTop" fmla="*/ 0 h 457200"/>
                        <a:gd name="textAreaBottom" fmla="*/ 457560 h 45720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21600" y="10800"/>
                          </a:lnTo>
                          <a:lnTo>
                            <a:pt x="0" y="21600"/>
                          </a:lnTo>
                          <a:lnTo>
                            <a:pt x="0" y="21600"/>
                          </a:lnTo>
                          <a:close/>
                        </a:path>
                      </a:pathLst>
                    </a:custGeom>
                    <a:solidFill>
                      <a:srgbClr val="dddddd"/>
                    </a:solidFill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矩形 13367"/>
                    <p:cNvSpPr/>
                    <p:nvPr/>
                  </p:nvSpPr>
                  <p:spPr>
                    <a:xfrm>
                      <a:off x="3733560" y="6019920"/>
                      <a:ext cx="1904760" cy="457200"/>
                    </a:xfrm>
                    <a:prstGeom prst="rect">
                      <a:avLst/>
                    </a:prstGeom>
                    <a:solidFill>
                      <a:srgbClr val="dddddd"/>
                    </a:solidFill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2" name="五边形 13368"/>
                  <p:cNvSpPr/>
                  <p:nvPr/>
                </p:nvSpPr>
                <p:spPr>
                  <a:xfrm>
                    <a:off x="5486400" y="6172200"/>
                    <a:ext cx="457200" cy="76320"/>
                  </a:xfrm>
                  <a:custGeom>
                    <a:avLst/>
                    <a:gdLst>
                      <a:gd name="textAreaLeft" fmla="*/ 0 w 457200"/>
                      <a:gd name="textAreaRight" fmla="*/ 457560 w 457200"/>
                      <a:gd name="textAreaTop" fmla="*/ 0 h 76320"/>
                      <a:gd name="textAreaBottom" fmla="*/ 76320 h 76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6200" y="0"/>
                        </a:lnTo>
                        <a:lnTo>
                          <a:pt x="21600" y="10800"/>
                        </a:lnTo>
                        <a:lnTo>
                          <a:pt x="16200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dddddd"/>
                  </a:solidFill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3" name="矩形 13369"/>
                <p:cNvSpPr/>
                <p:nvPr/>
              </p:nvSpPr>
              <p:spPr>
                <a:xfrm>
                  <a:off x="3430440" y="6019920"/>
                  <a:ext cx="1095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808080"/>
                      </a:solidFill>
                      <a:latin typeface="Times New Roman"/>
                      <a:ea typeface="隶书"/>
                    </a:rPr>
                    <a:t>生物体残骸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54" name="组合 13370"/>
          <p:cNvGrpSpPr/>
          <p:nvPr/>
        </p:nvGrpSpPr>
        <p:grpSpPr>
          <a:xfrm>
            <a:off x="0" y="380880"/>
            <a:ext cx="3124080" cy="2667240"/>
            <a:chOff x="0" y="380880"/>
            <a:chExt cx="3124080" cy="2667240"/>
          </a:xfrm>
        </p:grpSpPr>
        <p:sp>
          <p:nvSpPr>
            <p:cNvPr id="255" name="椭圆 13371"/>
            <p:cNvSpPr/>
            <p:nvPr/>
          </p:nvSpPr>
          <p:spPr>
            <a:xfrm>
              <a:off x="304920" y="533520"/>
              <a:ext cx="914400" cy="9144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0" y="990720"/>
              <a:ext cx="1447920" cy="360"/>
              <a:chOff x="0" y="990720"/>
              <a:chExt cx="1447920" cy="360"/>
            </a:xfrm>
          </p:grpSpPr>
          <p:sp>
            <p:nvSpPr>
              <p:cNvPr id="257" name="直接连接符 13372"/>
              <p:cNvSpPr/>
              <p:nvPr/>
            </p:nvSpPr>
            <p:spPr>
              <a:xfrm>
                <a:off x="0" y="990720"/>
                <a:ext cx="14479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 txBox="1"/>
              <p:nvPr/>
            </p:nvSpPr>
            <p:spPr>
              <a:xfrm>
                <a:off x="0" y="990720"/>
                <a:ext cx="1447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753120" y="455760"/>
              <a:ext cx="15480" cy="1295280"/>
              <a:chOff x="753120" y="455760"/>
              <a:chExt cx="15480" cy="1295280"/>
            </a:xfrm>
          </p:grpSpPr>
          <p:sp>
            <p:nvSpPr>
              <p:cNvPr id="260" name="直接连接符 13373"/>
              <p:cNvSpPr/>
              <p:nvPr/>
            </p:nvSpPr>
            <p:spPr>
              <a:xfrm>
                <a:off x="754920" y="455760"/>
                <a:ext cx="11880" cy="1295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 txBox="1"/>
              <p:nvPr/>
            </p:nvSpPr>
            <p:spPr>
              <a:xfrm rot="5364000">
                <a:off x="113040" y="1102320"/>
                <a:ext cx="129528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228600" y="533520"/>
              <a:ext cx="1143000" cy="990360"/>
              <a:chOff x="228600" y="533520"/>
              <a:chExt cx="1143000" cy="990360"/>
            </a:xfrm>
          </p:grpSpPr>
          <p:sp>
            <p:nvSpPr>
              <p:cNvPr id="263" name="直接连接符 13374"/>
              <p:cNvSpPr/>
              <p:nvPr/>
            </p:nvSpPr>
            <p:spPr>
              <a:xfrm>
                <a:off x="228600" y="533520"/>
                <a:ext cx="1143000" cy="990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 txBox="1"/>
              <p:nvPr/>
            </p:nvSpPr>
            <p:spPr>
              <a:xfrm>
                <a:off x="228600" y="533520"/>
                <a:ext cx="1143000" cy="990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304560" y="380880"/>
              <a:ext cx="1067040" cy="1143000"/>
              <a:chOff x="304560" y="380880"/>
              <a:chExt cx="1067040" cy="1143000"/>
            </a:xfrm>
          </p:grpSpPr>
          <p:sp>
            <p:nvSpPr>
              <p:cNvPr id="266" name="直接连接符 13375"/>
              <p:cNvSpPr/>
              <p:nvPr/>
            </p:nvSpPr>
            <p:spPr>
              <a:xfrm flipH="1">
                <a:off x="304560" y="380880"/>
                <a:ext cx="1066680" cy="114300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 txBox="1"/>
              <p:nvPr/>
            </p:nvSpPr>
            <p:spPr>
              <a:xfrm>
                <a:off x="304920" y="380880"/>
                <a:ext cx="1066680" cy="1143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533520" y="457200"/>
              <a:ext cx="609480" cy="1371600"/>
              <a:chOff x="533520" y="457200"/>
              <a:chExt cx="609480" cy="1371600"/>
            </a:xfrm>
          </p:grpSpPr>
          <p:sp>
            <p:nvSpPr>
              <p:cNvPr id="269" name="直接连接符 13376"/>
              <p:cNvSpPr/>
              <p:nvPr/>
            </p:nvSpPr>
            <p:spPr>
              <a:xfrm>
                <a:off x="533520" y="457200"/>
                <a:ext cx="609480" cy="1371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 txBox="1"/>
              <p:nvPr/>
            </p:nvSpPr>
            <p:spPr>
              <a:xfrm>
                <a:off x="533520" y="457200"/>
                <a:ext cx="609480" cy="137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457200" y="380880"/>
              <a:ext cx="533520" cy="1371600"/>
              <a:chOff x="457200" y="380880"/>
              <a:chExt cx="533520" cy="1371600"/>
            </a:xfrm>
          </p:grpSpPr>
          <p:sp>
            <p:nvSpPr>
              <p:cNvPr id="272" name="直接连接符 13377"/>
              <p:cNvSpPr/>
              <p:nvPr/>
            </p:nvSpPr>
            <p:spPr>
              <a:xfrm flipH="1">
                <a:off x="457200" y="380880"/>
                <a:ext cx="533520" cy="1371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 txBox="1"/>
              <p:nvPr/>
            </p:nvSpPr>
            <p:spPr>
              <a:xfrm>
                <a:off x="457200" y="380880"/>
                <a:ext cx="533520" cy="137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151920" y="609480"/>
              <a:ext cx="1296000" cy="685800"/>
              <a:chOff x="151920" y="609480"/>
              <a:chExt cx="1296000" cy="685800"/>
            </a:xfrm>
          </p:grpSpPr>
          <p:sp>
            <p:nvSpPr>
              <p:cNvPr id="275" name="直接连接符 13378"/>
              <p:cNvSpPr/>
              <p:nvPr/>
            </p:nvSpPr>
            <p:spPr>
              <a:xfrm flipH="1">
                <a:off x="151920" y="609480"/>
                <a:ext cx="1295640" cy="685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 txBox="1"/>
              <p:nvPr/>
            </p:nvSpPr>
            <p:spPr>
              <a:xfrm>
                <a:off x="152280" y="609480"/>
                <a:ext cx="1295640" cy="685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304920" y="762120"/>
              <a:ext cx="1371600" cy="533160"/>
              <a:chOff x="304920" y="762120"/>
              <a:chExt cx="1371600" cy="533160"/>
            </a:xfrm>
          </p:grpSpPr>
          <p:sp>
            <p:nvSpPr>
              <p:cNvPr id="278" name="直接连接符 13379"/>
              <p:cNvSpPr/>
              <p:nvPr/>
            </p:nvSpPr>
            <p:spPr>
              <a:xfrm>
                <a:off x="304920" y="762120"/>
                <a:ext cx="1371600" cy="533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 txBox="1"/>
              <p:nvPr/>
            </p:nvSpPr>
            <p:spPr>
              <a:xfrm>
                <a:off x="304920" y="762120"/>
                <a:ext cx="1371600" cy="533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1143000" y="1828800"/>
              <a:ext cx="685800" cy="1219320"/>
              <a:chOff x="1143000" y="1828800"/>
              <a:chExt cx="685800" cy="1219320"/>
            </a:xfrm>
          </p:grpSpPr>
          <p:sp>
            <p:nvSpPr>
              <p:cNvPr id="281" name="直接连接符 13380"/>
              <p:cNvSpPr/>
              <p:nvPr/>
            </p:nvSpPr>
            <p:spPr>
              <a:xfrm>
                <a:off x="1143000" y="1828800"/>
                <a:ext cx="685800" cy="1219320"/>
              </a:xfrm>
              <a:prstGeom prst="line">
                <a:avLst/>
              </a:prstGeom>
              <a:ln w="28440">
                <a:solidFill>
                  <a:srgbClr val="f491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 txBox="1"/>
              <p:nvPr/>
            </p:nvSpPr>
            <p:spPr>
              <a:xfrm>
                <a:off x="1143000" y="1828800"/>
                <a:ext cx="685800" cy="1219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1371600" y="1523880"/>
              <a:ext cx="1752480" cy="1524240"/>
              <a:chOff x="1371600" y="1523880"/>
              <a:chExt cx="1752480" cy="1524240"/>
            </a:xfrm>
          </p:grpSpPr>
          <p:sp>
            <p:nvSpPr>
              <p:cNvPr id="284" name="直接连接符 13381"/>
              <p:cNvSpPr/>
              <p:nvPr/>
            </p:nvSpPr>
            <p:spPr>
              <a:xfrm>
                <a:off x="1371600" y="1523880"/>
                <a:ext cx="1752480" cy="1524240"/>
              </a:xfrm>
              <a:prstGeom prst="line">
                <a:avLst/>
              </a:prstGeom>
              <a:ln w="28440">
                <a:solidFill>
                  <a:srgbClr val="f491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 txBox="1"/>
              <p:nvPr/>
            </p:nvSpPr>
            <p:spPr>
              <a:xfrm>
                <a:off x="1371600" y="1523880"/>
                <a:ext cx="1752480" cy="1524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1676520" y="1295280"/>
              <a:ext cx="1295280" cy="457200"/>
              <a:chOff x="1676520" y="1295280"/>
              <a:chExt cx="1295280" cy="457200"/>
            </a:xfrm>
          </p:grpSpPr>
          <p:sp>
            <p:nvSpPr>
              <p:cNvPr id="287" name="直接连接符 13382"/>
              <p:cNvSpPr/>
              <p:nvPr/>
            </p:nvSpPr>
            <p:spPr>
              <a:xfrm>
                <a:off x="1676520" y="1295280"/>
                <a:ext cx="1295280" cy="457200"/>
              </a:xfrm>
              <a:prstGeom prst="line">
                <a:avLst/>
              </a:prstGeom>
              <a:ln w="28440">
                <a:solidFill>
                  <a:srgbClr val="f491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 txBox="1"/>
              <p:nvPr/>
            </p:nvSpPr>
            <p:spPr>
              <a:xfrm>
                <a:off x="1676520" y="1295280"/>
                <a:ext cx="129528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1371600" y="990720"/>
              <a:ext cx="1143000" cy="360"/>
              <a:chOff x="1371600" y="990720"/>
              <a:chExt cx="1143000" cy="360"/>
            </a:xfrm>
          </p:grpSpPr>
          <p:sp>
            <p:nvSpPr>
              <p:cNvPr id="290" name="直接连接符 13383"/>
              <p:cNvSpPr/>
              <p:nvPr/>
            </p:nvSpPr>
            <p:spPr>
              <a:xfrm>
                <a:off x="1371600" y="990720"/>
                <a:ext cx="1143000" cy="0"/>
              </a:xfrm>
              <a:prstGeom prst="line">
                <a:avLst/>
              </a:prstGeom>
              <a:ln w="28440">
                <a:solidFill>
                  <a:srgbClr val="f491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 txBox="1"/>
              <p:nvPr/>
            </p:nvSpPr>
            <p:spPr>
              <a:xfrm>
                <a:off x="1371600" y="990720"/>
                <a:ext cx="1143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" name="文本框 13384"/>
            <p:cNvSpPr/>
            <p:nvPr/>
          </p:nvSpPr>
          <p:spPr>
            <a:xfrm>
              <a:off x="380880" y="76212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99"/>
                  </a:solidFill>
                  <a:latin typeface="Times New Roman"/>
                  <a:ea typeface="隶书"/>
                </a:rPr>
                <a:t>太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组合 13385"/>
          <p:cNvGrpSpPr/>
          <p:nvPr/>
        </p:nvGrpSpPr>
        <p:grpSpPr>
          <a:xfrm>
            <a:off x="2362320" y="4723920"/>
            <a:ext cx="2819160" cy="533160"/>
            <a:chOff x="2362320" y="4723920"/>
            <a:chExt cx="2819160" cy="533160"/>
          </a:xfrm>
        </p:grpSpPr>
        <p:sp>
          <p:nvSpPr>
            <p:cNvPr id="294" name="左弧形箭头 13386"/>
            <p:cNvSpPr/>
            <p:nvPr/>
          </p:nvSpPr>
          <p:spPr>
            <a:xfrm flipV="1">
              <a:off x="3048120" y="4723560"/>
              <a:ext cx="685800" cy="533160"/>
            </a:xfrm>
            <a:custGeom>
              <a:avLst/>
              <a:gdLst>
                <a:gd name="textAreaLeft" fmla="*/ 91800 w 685800"/>
                <a:gd name="textAreaRight" fmla="*/ 594000 w 685800"/>
                <a:gd name="textAreaTop" fmla="*/ 93240 h 533160"/>
                <a:gd name="textAreaBottom" fmla="*/ 38664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906"/>
                  <a:lnTo>
                    <a:pt x="14401" y="21168"/>
                  </a:lnTo>
                  <a:lnTo>
                    <a:pt x="21600" y="17280"/>
                  </a:lnTo>
                  <a:lnTo>
                    <a:pt x="14401" y="12528"/>
                  </a:lnTo>
                  <a:lnTo>
                    <a:pt x="14401" y="14688"/>
                  </a:lnTo>
                  <a:arcTo wR="21600" hR="7560" stAng="8117094" swAng="2325471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左弧形箭头 13387"/>
            <p:cNvSpPr/>
            <p:nvPr/>
          </p:nvSpPr>
          <p:spPr>
            <a:xfrm flipV="1">
              <a:off x="2362320" y="4723560"/>
              <a:ext cx="685800" cy="533160"/>
            </a:xfrm>
            <a:custGeom>
              <a:avLst/>
              <a:gdLst>
                <a:gd name="textAreaLeft" fmla="*/ 91800 w 685800"/>
                <a:gd name="textAreaRight" fmla="*/ 594000 w 685800"/>
                <a:gd name="textAreaTop" fmla="*/ 93240 h 533160"/>
                <a:gd name="textAreaBottom" fmla="*/ 38664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906"/>
                  <a:lnTo>
                    <a:pt x="14401" y="21168"/>
                  </a:lnTo>
                  <a:lnTo>
                    <a:pt x="21600" y="17280"/>
                  </a:lnTo>
                  <a:lnTo>
                    <a:pt x="14401" y="12528"/>
                  </a:lnTo>
                  <a:lnTo>
                    <a:pt x="14401" y="14688"/>
                  </a:lnTo>
                  <a:arcTo wR="21600" hR="7560" stAng="8117094" swAng="2325471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左弧形箭头 13388"/>
            <p:cNvSpPr/>
            <p:nvPr/>
          </p:nvSpPr>
          <p:spPr>
            <a:xfrm flipV="1">
              <a:off x="3809880" y="4723560"/>
              <a:ext cx="685800" cy="533160"/>
            </a:xfrm>
            <a:custGeom>
              <a:avLst/>
              <a:gdLst>
                <a:gd name="textAreaLeft" fmla="*/ 91800 w 685800"/>
                <a:gd name="textAreaRight" fmla="*/ 594000 w 685800"/>
                <a:gd name="textAreaTop" fmla="*/ 93240 h 533160"/>
                <a:gd name="textAreaBottom" fmla="*/ 38664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906"/>
                  <a:lnTo>
                    <a:pt x="14401" y="21168"/>
                  </a:lnTo>
                  <a:lnTo>
                    <a:pt x="21600" y="17280"/>
                  </a:lnTo>
                  <a:lnTo>
                    <a:pt x="14401" y="12528"/>
                  </a:lnTo>
                  <a:lnTo>
                    <a:pt x="14401" y="14688"/>
                  </a:lnTo>
                  <a:arcTo wR="21600" hR="7560" stAng="8117094" swAng="2325471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左弧形箭头 13389"/>
            <p:cNvSpPr/>
            <p:nvPr/>
          </p:nvSpPr>
          <p:spPr>
            <a:xfrm flipV="1">
              <a:off x="4495680" y="4723560"/>
              <a:ext cx="685800" cy="533160"/>
            </a:xfrm>
            <a:custGeom>
              <a:avLst/>
              <a:gdLst>
                <a:gd name="textAreaLeft" fmla="*/ 91800 w 685800"/>
                <a:gd name="textAreaRight" fmla="*/ 594000 w 685800"/>
                <a:gd name="textAreaTop" fmla="*/ 93240 h 533160"/>
                <a:gd name="textAreaBottom" fmla="*/ 38664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906"/>
                  <a:lnTo>
                    <a:pt x="14401" y="21168"/>
                  </a:lnTo>
                  <a:lnTo>
                    <a:pt x="21600" y="17280"/>
                  </a:lnTo>
                  <a:lnTo>
                    <a:pt x="14401" y="12528"/>
                  </a:lnTo>
                  <a:lnTo>
                    <a:pt x="14401" y="14688"/>
                  </a:lnTo>
                  <a:arcTo wR="21600" hR="7560" stAng="8117094" swAng="2325471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组合 13396"/>
          <p:cNvGrpSpPr/>
          <p:nvPr/>
        </p:nvGrpSpPr>
        <p:grpSpPr>
          <a:xfrm>
            <a:off x="2209680" y="4343400"/>
            <a:ext cx="6095880" cy="459720"/>
            <a:chOff x="2209680" y="4343400"/>
            <a:chExt cx="6095880" cy="459720"/>
          </a:xfrm>
        </p:grpSpPr>
        <p:grpSp>
          <p:nvGrpSpPr>
            <p:cNvPr id="299" name="组合 13391"/>
            <p:cNvGrpSpPr/>
            <p:nvPr/>
          </p:nvGrpSpPr>
          <p:grpSpPr>
            <a:xfrm>
              <a:off x="2209680" y="4495680"/>
              <a:ext cx="6095880" cy="228600"/>
              <a:chOff x="2209680" y="4495680"/>
              <a:chExt cx="6095880" cy="228600"/>
            </a:xfrm>
          </p:grpSpPr>
          <p:sp>
            <p:nvSpPr>
              <p:cNvPr id="300" name="五边形 13392"/>
              <p:cNvSpPr/>
              <p:nvPr/>
            </p:nvSpPr>
            <p:spPr>
              <a:xfrm flipH="1">
                <a:off x="2209680" y="4495680"/>
                <a:ext cx="3468240" cy="228600"/>
              </a:xfrm>
              <a:custGeom>
                <a:avLst/>
                <a:gdLst>
                  <a:gd name="textAreaLeft" fmla="*/ 360 w 3468240"/>
                  <a:gd name="textAreaRight" fmla="*/ 3468960 w 34682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0" y="0"/>
                    </a:lnTo>
                    <a:lnTo>
                      <a:pt x="21600" y="10800"/>
                    </a:lnTo>
                    <a:lnTo>
                      <a:pt x="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cc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矩形 13393"/>
              <p:cNvSpPr/>
              <p:nvPr/>
            </p:nvSpPr>
            <p:spPr>
              <a:xfrm>
                <a:off x="5677920" y="4495680"/>
                <a:ext cx="2627640" cy="228600"/>
              </a:xfrm>
              <a:prstGeom prst="rect">
                <a:avLst/>
              </a:prstGeom>
              <a:solidFill>
                <a:srgbClr val="cccc00"/>
              </a:solidFill>
              <a:ln w="9360">
                <a:solidFill>
                  <a:srgbClr val="cc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2" name="文本框 13394"/>
            <p:cNvSpPr/>
            <p:nvPr/>
          </p:nvSpPr>
          <p:spPr>
            <a:xfrm>
              <a:off x="5486400" y="434340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996600"/>
                  </a:solidFill>
                  <a:latin typeface="Times New Roman"/>
                  <a:ea typeface="隶书"/>
                </a:rPr>
                <a:t>有机体呼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矩形 13395"/>
          <p:cNvSpPr/>
          <p:nvPr/>
        </p:nvSpPr>
        <p:spPr>
          <a:xfrm>
            <a:off x="5487840" y="56386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8080"/>
                </a:solidFill>
                <a:latin typeface="Times New Roman"/>
                <a:ea typeface="隶书"/>
              </a:rPr>
              <a:t>微生物分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1"/>
            </a:gs>
            <a:gs pos="100000">
              <a:srgbClr val="ffc38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对象 14337" descr=""/>
          <p:cNvPicPr/>
          <p:nvPr/>
        </p:nvPicPr>
        <p:blipFill>
          <a:blip r:embed="rId1"/>
          <a:stretch/>
        </p:blipFill>
        <p:spPr>
          <a:xfrm>
            <a:off x="3886200" y="4943520"/>
            <a:ext cx="1492200" cy="1685880"/>
          </a:xfrm>
          <a:prstGeom prst="rect">
            <a:avLst/>
          </a:prstGeom>
          <a:ln w="0">
            <a:noFill/>
          </a:ln>
        </p:spPr>
      </p:pic>
      <p:grpSp>
        <p:nvGrpSpPr>
          <p:cNvPr id="306" name="组合 14459"/>
          <p:cNvGrpSpPr/>
          <p:nvPr/>
        </p:nvGrpSpPr>
        <p:grpSpPr>
          <a:xfrm>
            <a:off x="7469280" y="1444320"/>
            <a:ext cx="1674360" cy="2443680"/>
            <a:chOff x="7469280" y="1444320"/>
            <a:chExt cx="1674360" cy="2443680"/>
          </a:xfrm>
        </p:grpSpPr>
        <p:sp>
          <p:nvSpPr>
            <p:cNvPr id="307" name="任意多边形 14452"/>
            <p:cNvSpPr/>
            <p:nvPr/>
          </p:nvSpPr>
          <p:spPr>
            <a:xfrm>
              <a:off x="7888320" y="1928520"/>
              <a:ext cx="874800" cy="511200"/>
            </a:xfrm>
            <a:custGeom>
              <a:avLst/>
              <a:gdLst/>
              <a:ahLst/>
              <a:rect l="l" t="t" r="r" b="b"/>
              <a:pathLst>
                <a:path w="24300" h="16200">
                  <a:moveTo>
                    <a:pt x="16200" y="10800"/>
                  </a:move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lnTo>
                    <a:pt x="0" y="10800"/>
                  </a:ln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lnTo>
                    <a:pt x="24300" y="10800"/>
                  </a:lnTo>
                  <a:lnTo>
                    <a:pt x="18900" y="16200"/>
                  </a:lnTo>
                  <a:lnTo>
                    <a:pt x="13500" y="10800"/>
                  </a:lnTo>
                  <a:lnTo>
                    <a:pt x="16200" y="10800"/>
                  </a:lnTo>
                  <a:close/>
                </a:path>
              </a:pathLst>
            </a:custGeom>
            <a:solidFill>
              <a:srgbClr val="dc8300"/>
            </a:solidFill>
            <a:ln w="9360">
              <a:solidFill>
                <a:srgbClr val="dc8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上弧形箭头 14434"/>
            <p:cNvSpPr/>
            <p:nvPr/>
          </p:nvSpPr>
          <p:spPr>
            <a:xfrm flipH="1" flipV="1" rot="14955000">
              <a:off x="6894360" y="2437920"/>
              <a:ext cx="2440080" cy="456480"/>
            </a:xfrm>
            <a:custGeom>
              <a:avLst/>
              <a:gdLst>
                <a:gd name="textAreaLeft" fmla="*/ 378360 w 2440080"/>
                <a:gd name="textAreaRight" fmla="*/ 1817640 w 2440080"/>
                <a:gd name="textAreaTop" fmla="*/ 61200 h 456480"/>
                <a:gd name="textAreaBottom" fmla="*/ 395280 h 45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6700" hR="21600" stAng="10800000" swAng="5400000"/>
                  <a:lnTo>
                    <a:pt x="12741" y="0"/>
                  </a:lnTo>
                  <a:arcTo wR="6700" hR="21600" stAng="-5400000" swAng="2326042"/>
                  <a:lnTo>
                    <a:pt x="21150" y="13818"/>
                  </a:lnTo>
                  <a:lnTo>
                    <a:pt x="16420" y="21600"/>
                  </a:lnTo>
                  <a:lnTo>
                    <a:pt x="10789" y="13818"/>
                  </a:lnTo>
                  <a:lnTo>
                    <a:pt x="12949" y="13818"/>
                  </a:lnTo>
                  <a:arcTo wR="6700" hR="21600" stAng="-3073958" swAng="-1791813"/>
                  <a:lnTo>
                    <a:pt x="9720" y="2320"/>
                  </a:lnTo>
                  <a:arcTo wR="6700" hR="21600" stAng="-5934229" swAng="-4865771"/>
                  <a:close/>
                </a:path>
                <a:path fill="darkenLess" w="21600" h="21600">
                  <a:moveTo>
                    <a:pt x="0" y="21600"/>
                  </a:moveTo>
                  <a:arcTo wR="6700" hR="21600" stAng="10800000" swAng="5400000"/>
                  <a:lnTo>
                    <a:pt x="6700" y="0"/>
                  </a:lnTo>
                  <a:arcTo wR="6700" hR="21600" stAng="-5400000" swAng="534229"/>
                  <a:lnTo>
                    <a:pt x="9720" y="2320"/>
                  </a:lnTo>
                  <a:arcTo wR="6700" hR="21600" stAng="-5934229" swAng="-4865771"/>
                  <a:close/>
                </a:path>
              </a:pathLst>
            </a:custGeom>
            <a:solidFill>
              <a:srgbClr val="dc8300"/>
            </a:solidFill>
            <a:ln w="9360">
              <a:solidFill>
                <a:srgbClr val="dc8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文本框 14340"/>
            <p:cNvSpPr/>
            <p:nvPr/>
          </p:nvSpPr>
          <p:spPr>
            <a:xfrm>
              <a:off x="8345160" y="2439720"/>
              <a:ext cx="79848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3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CO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文本框 14381"/>
          <p:cNvSpPr/>
          <p:nvPr/>
        </p:nvSpPr>
        <p:spPr>
          <a:xfrm>
            <a:off x="5943600" y="1160640"/>
            <a:ext cx="230040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97d29"/>
                </a:solidFill>
                <a:latin typeface="Times New Roman"/>
              </a:rPr>
              <a:t>细菌真菌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97d29"/>
                </a:solidFill>
                <a:latin typeface="Times New Roman"/>
              </a:rPr>
              <a:t>分解作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组合 14382"/>
          <p:cNvGrpSpPr/>
          <p:nvPr/>
        </p:nvGrpSpPr>
        <p:grpSpPr>
          <a:xfrm>
            <a:off x="404640" y="171360"/>
            <a:ext cx="2381400" cy="1892160"/>
            <a:chOff x="404640" y="171360"/>
            <a:chExt cx="2381400" cy="1892160"/>
          </a:xfrm>
        </p:grpSpPr>
        <p:pic>
          <p:nvPicPr>
            <p:cNvPr id="312" name="对象 14383" descr=""/>
            <p:cNvPicPr/>
            <p:nvPr/>
          </p:nvPicPr>
          <p:blipFill>
            <a:blip r:embed="rId2"/>
            <a:stretch/>
          </p:blipFill>
          <p:spPr>
            <a:xfrm>
              <a:off x="404640" y="171360"/>
              <a:ext cx="2381400" cy="189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文本框 14384"/>
            <p:cNvSpPr/>
            <p:nvPr/>
          </p:nvSpPr>
          <p:spPr>
            <a:xfrm>
              <a:off x="1014480" y="857160"/>
              <a:ext cx="121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动 物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组合 14451"/>
          <p:cNvGrpSpPr/>
          <p:nvPr/>
        </p:nvGrpSpPr>
        <p:grpSpPr>
          <a:xfrm>
            <a:off x="0" y="1895040"/>
            <a:ext cx="1452240" cy="2543760"/>
            <a:chOff x="0" y="1895040"/>
            <a:chExt cx="1452240" cy="2543760"/>
          </a:xfrm>
        </p:grpSpPr>
        <p:sp>
          <p:nvSpPr>
            <p:cNvPr id="315" name="上弧形箭头 14386"/>
            <p:cNvSpPr/>
            <p:nvPr/>
          </p:nvSpPr>
          <p:spPr>
            <a:xfrm flipH="1" rot="17136600">
              <a:off x="-398880" y="2877840"/>
              <a:ext cx="2479680" cy="577440"/>
            </a:xfrm>
            <a:custGeom>
              <a:avLst/>
              <a:gdLst>
                <a:gd name="textAreaLeft" fmla="*/ 434160 w 2479680"/>
                <a:gd name="textAreaRight" fmla="*/ 1798200 w 2479680"/>
                <a:gd name="textAreaTop" fmla="*/ 77400 h 577440"/>
                <a:gd name="textAreaBottom" fmla="*/ 500040 h 57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906"/>
                  <a:lnTo>
                    <a:pt x="21168" y="14401"/>
                  </a:lnTo>
                  <a:lnTo>
                    <a:pt x="17280" y="21600"/>
                  </a:lnTo>
                  <a:lnTo>
                    <a:pt x="12528" y="14401"/>
                  </a:lnTo>
                  <a:lnTo>
                    <a:pt x="14688" y="14401"/>
                  </a:lnTo>
                  <a:arcTo wR="7560" hR="21600" stAng="-2717094" swAng="-2325471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dc8300"/>
            </a:solidFill>
            <a:ln w="9360">
              <a:solidFill>
                <a:srgbClr val="dc8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文本框 14418"/>
            <p:cNvSpPr/>
            <p:nvPr/>
          </p:nvSpPr>
          <p:spPr>
            <a:xfrm>
              <a:off x="0" y="2854440"/>
              <a:ext cx="552600" cy="78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5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呼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5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文本框 14425"/>
          <p:cNvSpPr/>
          <p:nvPr/>
        </p:nvSpPr>
        <p:spPr>
          <a:xfrm>
            <a:off x="7162920" y="3625920"/>
            <a:ext cx="19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97d29"/>
                </a:solidFill>
                <a:latin typeface="Times New Roman"/>
              </a:rPr>
              <a:t>土壤中的水或地表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文本框 14426"/>
          <p:cNvSpPr/>
          <p:nvPr/>
        </p:nvSpPr>
        <p:spPr>
          <a:xfrm>
            <a:off x="0" y="4281480"/>
            <a:ext cx="21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97d29"/>
                </a:solidFill>
                <a:latin typeface="Times New Roman"/>
              </a:rPr>
              <a:t>大气中的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组合 14457"/>
          <p:cNvGrpSpPr/>
          <p:nvPr/>
        </p:nvGrpSpPr>
        <p:grpSpPr>
          <a:xfrm>
            <a:off x="2779200" y="315000"/>
            <a:ext cx="4663440" cy="744120"/>
            <a:chOff x="2779200" y="315000"/>
            <a:chExt cx="4663440" cy="744120"/>
          </a:xfrm>
        </p:grpSpPr>
        <p:sp>
          <p:nvSpPr>
            <p:cNvPr id="320" name="上弧形箭头 14410"/>
            <p:cNvSpPr/>
            <p:nvPr/>
          </p:nvSpPr>
          <p:spPr>
            <a:xfrm flipH="1" flipV="1" rot="10882800">
              <a:off x="2786040" y="370440"/>
              <a:ext cx="4649760" cy="632160"/>
            </a:xfrm>
            <a:custGeom>
              <a:avLst/>
              <a:gdLst>
                <a:gd name="textAreaLeft" fmla="*/ 813600 w 4649760"/>
                <a:gd name="textAreaRight" fmla="*/ 3371040 w 4649760"/>
                <a:gd name="textAreaTop" fmla="*/ 84600 h 632160"/>
                <a:gd name="textAreaBottom" fmla="*/ 547560 h 63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906"/>
                  <a:lnTo>
                    <a:pt x="21168" y="14401"/>
                  </a:lnTo>
                  <a:lnTo>
                    <a:pt x="17280" y="21600"/>
                  </a:lnTo>
                  <a:lnTo>
                    <a:pt x="12528" y="14401"/>
                  </a:lnTo>
                  <a:lnTo>
                    <a:pt x="14688" y="14401"/>
                  </a:lnTo>
                  <a:arcTo wR="7560" hR="21600" stAng="-2717094" swAng="-2325471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dc8300"/>
            </a:solidFill>
            <a:ln w="9360">
              <a:solidFill>
                <a:srgbClr val="dc8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文本框 14427"/>
            <p:cNvSpPr/>
            <p:nvPr/>
          </p:nvSpPr>
          <p:spPr>
            <a:xfrm>
              <a:off x="2867040" y="444600"/>
              <a:ext cx="178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隶书"/>
                  <a:ea typeface="隶书"/>
                </a:rPr>
                <a:t>尸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组合 14460"/>
          <p:cNvGrpSpPr/>
          <p:nvPr/>
        </p:nvGrpSpPr>
        <p:grpSpPr>
          <a:xfrm>
            <a:off x="5477040" y="1944720"/>
            <a:ext cx="2239200" cy="3950280"/>
            <a:chOff x="5477040" y="1944720"/>
            <a:chExt cx="2239200" cy="3950280"/>
          </a:xfrm>
        </p:grpSpPr>
        <p:sp>
          <p:nvSpPr>
            <p:cNvPr id="323" name="上弧形箭头 14430"/>
            <p:cNvSpPr/>
            <p:nvPr/>
          </p:nvSpPr>
          <p:spPr>
            <a:xfrm flipV="1" rot="17609400">
              <a:off x="4595400" y="3568320"/>
              <a:ext cx="4002120" cy="702000"/>
            </a:xfrm>
            <a:custGeom>
              <a:avLst/>
              <a:gdLst>
                <a:gd name="textAreaLeft" fmla="*/ 700200 w 4002120"/>
                <a:gd name="textAreaRight" fmla="*/ 2901600 w 4002120"/>
                <a:gd name="textAreaTop" fmla="*/ 93960 h 702000"/>
                <a:gd name="textAreaBottom" fmla="*/ 608040 h 70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906"/>
                  <a:lnTo>
                    <a:pt x="21168" y="14401"/>
                  </a:lnTo>
                  <a:lnTo>
                    <a:pt x="17280" y="21600"/>
                  </a:lnTo>
                  <a:lnTo>
                    <a:pt x="12528" y="14401"/>
                  </a:lnTo>
                  <a:lnTo>
                    <a:pt x="14688" y="14401"/>
                  </a:lnTo>
                  <a:arcTo wR="7560" hR="21600" stAng="-2717094" swAng="-2325471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dc8300"/>
            </a:solidFill>
            <a:ln w="9360">
              <a:solidFill>
                <a:srgbClr val="dc8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文本框 14432"/>
            <p:cNvSpPr/>
            <p:nvPr/>
          </p:nvSpPr>
          <p:spPr>
            <a:xfrm flipH="1" rot="2370600">
              <a:off x="5658840" y="5065920"/>
              <a:ext cx="668520" cy="34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尸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组合 14445"/>
          <p:cNvGrpSpPr/>
          <p:nvPr/>
        </p:nvGrpSpPr>
        <p:grpSpPr>
          <a:xfrm>
            <a:off x="3243240" y="4135320"/>
            <a:ext cx="1405080" cy="807840"/>
            <a:chOff x="3243240" y="4135320"/>
            <a:chExt cx="1405080" cy="807840"/>
          </a:xfrm>
        </p:grpSpPr>
        <p:sp>
          <p:nvSpPr>
            <p:cNvPr id="326" name="云形标注 14339"/>
            <p:cNvSpPr/>
            <p:nvPr/>
          </p:nvSpPr>
          <p:spPr>
            <a:xfrm>
              <a:off x="3243240" y="4135320"/>
              <a:ext cx="1252440" cy="655560"/>
            </a:xfrm>
            <a:prstGeom prst="cloudCallout">
              <a:avLst>
                <a:gd name="adj1" fmla="val -58111"/>
                <a:gd name="adj2" fmla="val 1253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6ccff"/>
                </a:gs>
              </a:gsLst>
              <a:lin ang="18900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云形标注 14444"/>
            <p:cNvSpPr/>
            <p:nvPr/>
          </p:nvSpPr>
          <p:spPr>
            <a:xfrm>
              <a:off x="3395520" y="4287600"/>
              <a:ext cx="1252800" cy="655560"/>
            </a:xfrm>
            <a:prstGeom prst="cloudCallout">
              <a:avLst>
                <a:gd name="adj1" fmla="val -58111"/>
                <a:gd name="adj2" fmla="val 1253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6ccff"/>
                </a:gs>
              </a:gsLst>
              <a:lin ang="18900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文本框 14443"/>
            <p:cNvSpPr/>
            <p:nvPr/>
          </p:nvSpPr>
          <p:spPr>
            <a:xfrm>
              <a:off x="3652920" y="42876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73c2"/>
                  </a:solidFill>
                  <a:latin typeface="Times New Roman"/>
                  <a:ea typeface="隶书"/>
                </a:rPr>
                <a:t>雨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9" name="右箭头 14453"/>
          <p:cNvSpPr/>
          <p:nvPr/>
        </p:nvSpPr>
        <p:spPr>
          <a:xfrm>
            <a:off x="1860480" y="4406760"/>
            <a:ext cx="1339920" cy="365400"/>
          </a:xfrm>
          <a:prstGeom prst="rightArrow">
            <a:avLst>
              <a:gd name="adj1" fmla="val 50000"/>
              <a:gd name="adj2" fmla="val 91658"/>
            </a:avLst>
          </a:prstGeom>
          <a:solidFill>
            <a:srgbClr val="dc8300"/>
          </a:solidFill>
          <a:ln w="9360">
            <a:solidFill>
              <a:srgbClr val="dc8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下弧形箭头 14455"/>
          <p:cNvSpPr/>
          <p:nvPr/>
        </p:nvSpPr>
        <p:spPr>
          <a:xfrm>
            <a:off x="4648320" y="4530600"/>
            <a:ext cx="3590640" cy="412920"/>
          </a:xfrm>
          <a:custGeom>
            <a:avLst/>
            <a:gdLst>
              <a:gd name="textAreaLeft" fmla="*/ 628200 w 3590640"/>
              <a:gd name="textAreaRight" fmla="*/ 2603160 w 3590640"/>
              <a:gd name="textAreaTop" fmla="*/ 55080 h 412920"/>
              <a:gd name="textAreaBottom" fmla="*/ 357840 h 41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906"/>
                <a:lnTo>
                  <a:pt x="21168" y="7199"/>
                </a:lnTo>
                <a:lnTo>
                  <a:pt x="17280" y="0"/>
                </a:lnTo>
                <a:lnTo>
                  <a:pt x="12528" y="7199"/>
                </a:lnTo>
                <a:lnTo>
                  <a:pt x="14688" y="7199"/>
                </a:lnTo>
                <a:arcTo wR="7560" hR="21600" stAng="2717094" swAng="2325471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dc8300"/>
          </a:solidFill>
          <a:ln w="9360">
            <a:solidFill>
              <a:srgbClr val="dc8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文本框 14456"/>
          <p:cNvSpPr/>
          <p:nvPr/>
        </p:nvSpPr>
        <p:spPr>
          <a:xfrm>
            <a:off x="2233440" y="2198520"/>
            <a:ext cx="325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水在自然界中的循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组合 14474"/>
          <p:cNvGrpSpPr/>
          <p:nvPr/>
        </p:nvGrpSpPr>
        <p:grpSpPr>
          <a:xfrm>
            <a:off x="4915800" y="4604760"/>
            <a:ext cx="3712680" cy="2500200"/>
            <a:chOff x="4915800" y="4604760"/>
            <a:chExt cx="3712680" cy="2500200"/>
          </a:xfrm>
        </p:grpSpPr>
        <p:sp>
          <p:nvSpPr>
            <p:cNvPr id="333" name="上弧形箭头 14462"/>
            <p:cNvSpPr/>
            <p:nvPr/>
          </p:nvSpPr>
          <p:spPr>
            <a:xfrm rot="8969400">
              <a:off x="4781160" y="5576760"/>
              <a:ext cx="3981600" cy="555840"/>
            </a:xfrm>
            <a:custGeom>
              <a:avLst/>
              <a:gdLst>
                <a:gd name="textAreaLeft" fmla="*/ 696600 w 3981600"/>
                <a:gd name="textAreaRight" fmla="*/ 2886840 w 3981600"/>
                <a:gd name="textAreaTop" fmla="*/ 74160 h 555840"/>
                <a:gd name="textAreaBottom" fmla="*/ 481680 h 55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906"/>
                  <a:lnTo>
                    <a:pt x="21168" y="14401"/>
                  </a:lnTo>
                  <a:lnTo>
                    <a:pt x="17280" y="21600"/>
                  </a:lnTo>
                  <a:lnTo>
                    <a:pt x="12528" y="14401"/>
                  </a:lnTo>
                  <a:lnTo>
                    <a:pt x="14688" y="14401"/>
                  </a:lnTo>
                  <a:arcTo wR="7560" hR="21600" stAng="-2717094" swAng="-2325471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dc8300"/>
            </a:solidFill>
            <a:ln w="9360">
              <a:solidFill>
                <a:srgbClr val="dc8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4" name="组合 14467"/>
            <p:cNvGrpSpPr/>
            <p:nvPr/>
          </p:nvGrpSpPr>
          <p:grpSpPr>
            <a:xfrm>
              <a:off x="6553080" y="5191200"/>
              <a:ext cx="1040760" cy="943560"/>
              <a:chOff x="6553080" y="5191200"/>
              <a:chExt cx="1040760" cy="943560"/>
            </a:xfrm>
          </p:grpSpPr>
          <p:sp>
            <p:nvSpPr>
              <p:cNvPr id="335" name="文本框 14402"/>
              <p:cNvSpPr/>
              <p:nvPr/>
            </p:nvSpPr>
            <p:spPr>
              <a:xfrm>
                <a:off x="6858000" y="5424120"/>
                <a:ext cx="476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3333cc"/>
                    </a:solidFill>
                    <a:latin typeface="Times New Roman"/>
                    <a:ea typeface="隶书"/>
                  </a:rPr>
                  <a:t>吸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文本框 14464"/>
              <p:cNvSpPr/>
              <p:nvPr/>
            </p:nvSpPr>
            <p:spPr>
              <a:xfrm>
                <a:off x="6553080" y="5553360"/>
                <a:ext cx="476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3333cc"/>
                    </a:solidFill>
                    <a:latin typeface="Times New Roman"/>
                    <a:ea typeface="隶书"/>
                  </a:rPr>
                  <a:t>收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矩形 14466"/>
              <p:cNvSpPr/>
              <p:nvPr/>
            </p:nvSpPr>
            <p:spPr>
              <a:xfrm>
                <a:off x="7169400" y="5191200"/>
                <a:ext cx="424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3333cc"/>
                    </a:solidFill>
                    <a:latin typeface="Times New Roman"/>
                    <a:ea typeface="隶书"/>
                  </a:rPr>
                  <a:t>被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8" name="组合 14472"/>
          <p:cNvGrpSpPr/>
          <p:nvPr/>
        </p:nvGrpSpPr>
        <p:grpSpPr>
          <a:xfrm>
            <a:off x="361080" y="4402080"/>
            <a:ext cx="3500640" cy="2548080"/>
            <a:chOff x="361080" y="4402080"/>
            <a:chExt cx="3500640" cy="2548080"/>
          </a:xfrm>
        </p:grpSpPr>
        <p:sp>
          <p:nvSpPr>
            <p:cNvPr id="339" name="上弧形箭头 14407"/>
            <p:cNvSpPr/>
            <p:nvPr/>
          </p:nvSpPr>
          <p:spPr>
            <a:xfrm flipH="1" flipV="1" rot="2002200">
              <a:off x="183960" y="5419440"/>
              <a:ext cx="3854160" cy="512640"/>
            </a:xfrm>
            <a:custGeom>
              <a:avLst/>
              <a:gdLst>
                <a:gd name="textAreaLeft" fmla="*/ 674640 w 3854160"/>
                <a:gd name="textAreaRight" fmla="*/ 2794680 w 3854160"/>
                <a:gd name="textAreaTop" fmla="*/ 68400 h 512640"/>
                <a:gd name="textAreaBottom" fmla="*/ 444240 h 51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906"/>
                  <a:lnTo>
                    <a:pt x="21168" y="14401"/>
                  </a:lnTo>
                  <a:lnTo>
                    <a:pt x="17280" y="21600"/>
                  </a:lnTo>
                  <a:lnTo>
                    <a:pt x="12528" y="14401"/>
                  </a:lnTo>
                  <a:lnTo>
                    <a:pt x="14688" y="14401"/>
                  </a:lnTo>
                  <a:arcTo wR="7560" hR="21600" stAng="-2717094" swAng="-2325471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dc8300"/>
            </a:solidFill>
            <a:ln w="9360">
              <a:solidFill>
                <a:srgbClr val="dc8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0" name="组合 14471"/>
            <p:cNvGrpSpPr/>
            <p:nvPr/>
          </p:nvGrpSpPr>
          <p:grpSpPr>
            <a:xfrm>
              <a:off x="1702080" y="5288040"/>
              <a:ext cx="1491480" cy="1084680"/>
              <a:chOff x="1702080" y="5288040"/>
              <a:chExt cx="1491480" cy="1084680"/>
            </a:xfrm>
          </p:grpSpPr>
          <p:sp>
            <p:nvSpPr>
              <p:cNvPr id="341" name="矩形 14405"/>
              <p:cNvSpPr/>
              <p:nvPr/>
            </p:nvSpPr>
            <p:spPr>
              <a:xfrm>
                <a:off x="1702080" y="5288040"/>
                <a:ext cx="424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3333cc"/>
                    </a:solidFill>
                    <a:latin typeface="Times New Roman"/>
                    <a:ea typeface="隶书"/>
                  </a:rPr>
                  <a:t>蒸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矩形 14408"/>
              <p:cNvSpPr/>
              <p:nvPr/>
            </p:nvSpPr>
            <p:spPr>
              <a:xfrm>
                <a:off x="1987920" y="5592600"/>
                <a:ext cx="424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3333cc"/>
                    </a:solidFill>
                    <a:latin typeface="Times New Roman"/>
                    <a:ea typeface="隶书"/>
                  </a:rPr>
                  <a:t>腾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矩形 14469"/>
              <p:cNvSpPr/>
              <p:nvPr/>
            </p:nvSpPr>
            <p:spPr>
              <a:xfrm>
                <a:off x="2387880" y="5745240"/>
                <a:ext cx="424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3333cc"/>
                    </a:solidFill>
                    <a:latin typeface="Times New Roman"/>
                    <a:ea typeface="隶书"/>
                  </a:rPr>
                  <a:t>作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矩形 14470"/>
              <p:cNvSpPr/>
              <p:nvPr/>
            </p:nvSpPr>
            <p:spPr>
              <a:xfrm>
                <a:off x="2769120" y="5791320"/>
                <a:ext cx="424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3333cc"/>
                    </a:solidFill>
                    <a:latin typeface="Times New Roman"/>
                    <a:ea typeface="隶书"/>
                  </a:rPr>
                  <a:t>用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5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矩形 16386"/>
          <p:cNvSpPr/>
          <p:nvPr/>
        </p:nvSpPr>
        <p:spPr>
          <a:xfrm>
            <a:off x="685800" y="198108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文本框 16387"/>
          <p:cNvSpPr/>
          <p:nvPr/>
        </p:nvSpPr>
        <p:spPr>
          <a:xfrm>
            <a:off x="601560" y="2438280"/>
            <a:ext cx="595152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</a:rPr>
              <a:t>一、</a:t>
            </a:r>
            <a:r>
              <a:rPr b="0" lang="zh-CN" sz="44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</a:rPr>
              <a:t>生态环境的多样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文本框 16388"/>
          <p:cNvSpPr/>
          <p:nvPr/>
        </p:nvSpPr>
        <p:spPr>
          <a:xfrm>
            <a:off x="601560" y="358128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ccccff"/>
                </a:solidFill>
                <a:latin typeface="Times New Roman"/>
                <a:ea typeface="隶书"/>
              </a:rPr>
              <a:t>二、生态系统中的物质流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文本框 16389"/>
          <p:cNvSpPr/>
          <p:nvPr/>
        </p:nvSpPr>
        <p:spPr>
          <a:xfrm>
            <a:off x="601560" y="4405320"/>
            <a:ext cx="838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ccff"/>
                </a:solidFill>
                <a:latin typeface="Times New Roman"/>
                <a:ea typeface="隶书"/>
              </a:rPr>
              <a:t>1·</a:t>
            </a:r>
            <a:r>
              <a:rPr b="1" i="1" lang="zh-CN" sz="4000" spc="-1" strike="noStrike">
                <a:solidFill>
                  <a:srgbClr val="ccccff"/>
                </a:solidFill>
                <a:latin typeface="Times New Roman"/>
                <a:ea typeface="隶书"/>
              </a:rPr>
              <a:t>碳在自然界中的循环（教材</a:t>
            </a:r>
            <a:r>
              <a:rPr b="1" i="1" lang="en-US" sz="4000" spc="-1" strike="noStrike">
                <a:solidFill>
                  <a:srgbClr val="ccccff"/>
                </a:solidFill>
                <a:latin typeface="Times New Roman"/>
                <a:ea typeface="隶书"/>
              </a:rPr>
              <a:t>P·52</a:t>
            </a:r>
            <a:r>
              <a:rPr b="1" i="1" lang="zh-CN" sz="4000" spc="-1" strike="noStrike">
                <a:solidFill>
                  <a:srgbClr val="ccccff"/>
                </a:solidFill>
                <a:latin typeface="Times New Roman"/>
                <a:ea typeface="隶书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组合 16470"/>
          <p:cNvGrpSpPr/>
          <p:nvPr/>
        </p:nvGrpSpPr>
        <p:grpSpPr>
          <a:xfrm>
            <a:off x="685800" y="0"/>
            <a:ext cx="8458200" cy="2438280"/>
            <a:chOff x="685800" y="0"/>
            <a:chExt cx="8458200" cy="2438280"/>
          </a:xfrm>
        </p:grpSpPr>
        <p:sp>
          <p:nvSpPr>
            <p:cNvPr id="354" name="矩形 16385"/>
            <p:cNvSpPr/>
            <p:nvPr/>
          </p:nvSpPr>
          <p:spPr>
            <a:xfrm>
              <a:off x="685800" y="838080"/>
              <a:ext cx="49528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本节课内容小结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5" name="对象 16468" descr=""/>
            <p:cNvPicPr/>
            <p:nvPr/>
          </p:nvPicPr>
          <p:blipFill>
            <a:blip r:embed="rId2"/>
            <a:stretch/>
          </p:blipFill>
          <p:spPr>
            <a:xfrm>
              <a:off x="5638680" y="0"/>
              <a:ext cx="3505320" cy="243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6" name="矩形 16469"/>
          <p:cNvSpPr/>
          <p:nvPr/>
        </p:nvSpPr>
        <p:spPr>
          <a:xfrm>
            <a:off x="1517760" y="5626080"/>
            <a:ext cx="33476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</a:rPr>
              <a:t>2·</a:t>
            </a: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</a:rPr>
              <a:t>水在自然界中的循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文本框 16471"/>
          <p:cNvSpPr/>
          <p:nvPr/>
        </p:nvSpPr>
        <p:spPr>
          <a:xfrm>
            <a:off x="1074600" y="5106960"/>
            <a:ext cx="768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碳是以二氧化碳的形式在自然界进行循环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1T00:52:18Z</dcterms:created>
  <dc:creator/>
  <dc:description/>
  <cp:keywords>生态系统 多样性</cp:keywords>
  <dc:language>en-US</dc:language>
  <cp:lastModifiedBy>An</cp:lastModifiedBy>
  <dcterms:modified xsi:type="dcterms:W3CDTF">2016-05-01T00:52:18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