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63B-3746-424F-AFDC-98EFEB4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F3E-DA42-496A-90D2-51D2BAA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134-7111-4131-9292-137D036E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3D0-6579-40BF-AC79-9DD3D5C2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6774-BE6F-498E-91FD-50F4A0F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3614-1D78-48D6-9AF6-A0C0BBA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C5C3-1F27-4FBA-850A-174BD076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52D-27BA-41B8-AA7F-C4DCB0C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ABDE-A0D8-4954-B4E9-55B1CF4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9361-C7D7-4B8F-A0EF-F7467D6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481A-3112-437D-AAAD-5942680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4ED-6B43-41A6-B373-571C831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03F3-0D68-4CE7-9D34-27313B0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0F8D-2C77-4CCE-BE5C-B0DD092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EFB2-CD1F-4118-9969-363F64F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7A2-9E3A-4F48-BCBA-39BFDCB8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0AB7-9D9E-4BBC-9365-E7898B91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9A05-C9C8-4B3E-8806-699908C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C844-33CB-494A-9C50-68210384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A6CC-1147-4C29-9606-F85CDF8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F2A9-9B4D-40DE-9613-080B3BE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DD61-5796-4FF1-982A-ADD655E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E18-22B0-4CE6-9BE7-2E77E198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AE81-8CBD-47A1-A6B3-509B3C2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0CB5-A38F-4363-A633-1E3CE7F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BD40-86BE-4DAA-87D6-A9A02FA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E69A-7ACC-4670-873E-0FCED0E9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896B-7071-493B-9D29-7B0C0C7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5821-83C0-4882-AE51-07F8AF98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EBB1-EB28-440A-BBCE-8BD94533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30B-EDEA-41C0-90C8-A68914B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CDB-D1DC-426A-8477-C648030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3EA-6183-4F36-93E7-EC8A8EC2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982-A19F-4853-92DF-6309F0B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1DE-18A9-40F1-9252-59DA7C8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812-5568-4D3D-BA55-1AA3D46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4A8-F3B1-4CBA-AD31-7E22031B04F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F36-E59D-4F31-861F-BD1AB1A6DC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787-69AC-4FCC-9B08-C4A337C2624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217-6250-4483-A03B-E84EA8405552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b7e7ff"/>
                </a:solidFill>
                <a:latin typeface="Times New Roman"/>
                <a:ea typeface="DFKai-SB"/>
              </a:rPr>
              <a:t>本 章 架 構</a:t>
            </a:r>
            <a:endParaRPr b="0" lang="en-US" sz="40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28280"/>
            <a:ext cx="854064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1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在商業與管理的應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與推論統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3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3054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4  XXX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年的全國失業率</a:t>
            </a:r>
            <a:endParaRPr b="0" lang="en-US" sz="32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之實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1 XXXXX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全國失業率的統計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矩形 33796"/>
          <p:cNvSpPr/>
          <p:nvPr/>
        </p:nvSpPr>
        <p:spPr>
          <a:xfrm>
            <a:off x="25812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图片 33795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93432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2136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5  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加權指數前十二大漲、跌點數</a:t>
            </a:r>
            <a:endParaRPr b="0" lang="en-US" sz="32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之實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表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 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台灣加權指數前十二大漲、跌點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(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民國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79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至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90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对象 75779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37120" cy="4464000"/>
          </a:xfrm>
          <a:prstGeom prst="rect">
            <a:avLst/>
          </a:prstGeom>
          <a:ln w="0">
            <a:noFill/>
          </a:ln>
        </p:spPr>
      </p:pic>
      <p:sp>
        <p:nvSpPr>
          <p:cNvPr id="159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(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續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母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population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研究某一現象的全部個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樣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sample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從母體中抽取部分個體作為研究調查的對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參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parameter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用來描述母體的特徵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量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statistic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樣本資料所形成的函數，其主要目的是用來推論母體參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8720" y="22860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（續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）</a:t>
            </a:r>
            <a:r>
              <a:rPr b="0" lang="zh-TW" sz="40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Times New Roman"/>
            </a:endParaRPr>
          </a:p>
        </p:txBody>
      </p:sp>
      <p:grpSp>
        <p:nvGrpSpPr>
          <p:cNvPr id="164" name="组合 11306"/>
          <p:cNvGrpSpPr/>
          <p:nvPr/>
        </p:nvGrpSpPr>
        <p:grpSpPr>
          <a:xfrm>
            <a:off x="4343400" y="3124080"/>
            <a:ext cx="1143000" cy="587520"/>
            <a:chOff x="4343400" y="3124080"/>
            <a:chExt cx="1143000" cy="587520"/>
          </a:xfrm>
        </p:grpSpPr>
        <p:sp>
          <p:nvSpPr>
            <p:cNvPr id="165" name="右箭头 11271"/>
            <p:cNvSpPr/>
            <p:nvPr/>
          </p:nvSpPr>
          <p:spPr>
            <a:xfrm>
              <a:off x="4343400" y="3505320"/>
              <a:ext cx="1143000" cy="206280"/>
            </a:xfrm>
            <a:prstGeom prst="rightArrow">
              <a:avLst>
                <a:gd name="adj1" fmla="val 50000"/>
                <a:gd name="adj2" fmla="val 1385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文本框 11272"/>
            <p:cNvSpPr/>
            <p:nvPr/>
          </p:nvSpPr>
          <p:spPr>
            <a:xfrm>
              <a:off x="466524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抽樣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组合 11309"/>
          <p:cNvGrpSpPr/>
          <p:nvPr/>
        </p:nvGrpSpPr>
        <p:grpSpPr>
          <a:xfrm>
            <a:off x="4343040" y="4898880"/>
            <a:ext cx="1143000" cy="587520"/>
            <a:chOff x="4343040" y="4898880"/>
            <a:chExt cx="1143000" cy="587520"/>
          </a:xfrm>
        </p:grpSpPr>
        <p:sp>
          <p:nvSpPr>
            <p:cNvPr id="168" name="右箭头 11273"/>
            <p:cNvSpPr/>
            <p:nvPr/>
          </p:nvSpPr>
          <p:spPr>
            <a:xfrm flipH="1">
              <a:off x="4342680" y="5280120"/>
              <a:ext cx="1143000" cy="206280"/>
            </a:xfrm>
            <a:prstGeom prst="rightArrow">
              <a:avLst>
                <a:gd name="adj1" fmla="val 50000"/>
                <a:gd name="adj2" fmla="val 13850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文本框 11274"/>
            <p:cNvSpPr/>
            <p:nvPr/>
          </p:nvSpPr>
          <p:spPr>
            <a:xfrm>
              <a:off x="4665240" y="4898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推論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组合 11310"/>
          <p:cNvGrpSpPr/>
          <p:nvPr/>
        </p:nvGrpSpPr>
        <p:grpSpPr>
          <a:xfrm>
            <a:off x="2988720" y="4529160"/>
            <a:ext cx="455040" cy="1020600"/>
            <a:chOff x="2988720" y="4529160"/>
            <a:chExt cx="455040" cy="1020600"/>
          </a:xfrm>
        </p:grpSpPr>
        <p:grpSp>
          <p:nvGrpSpPr>
            <p:cNvPr id="171" name="组合 11278"/>
            <p:cNvGrpSpPr/>
            <p:nvPr/>
          </p:nvGrpSpPr>
          <p:grpSpPr>
            <a:xfrm>
              <a:off x="3087720" y="4529160"/>
              <a:ext cx="228600" cy="647280"/>
              <a:chOff x="3087720" y="4529160"/>
              <a:chExt cx="228600" cy="647280"/>
            </a:xfrm>
          </p:grpSpPr>
          <p:sp>
            <p:nvSpPr>
              <p:cNvPr id="172" name="矩形 11276"/>
              <p:cNvSpPr/>
              <p:nvPr/>
            </p:nvSpPr>
            <p:spPr>
              <a:xfrm>
                <a:off x="3146400" y="4795560"/>
                <a:ext cx="108000" cy="3808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等腰三角形 11277"/>
              <p:cNvSpPr/>
              <p:nvPr/>
            </p:nvSpPr>
            <p:spPr>
              <a:xfrm>
                <a:off x="3087720" y="452916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文本框 11286"/>
            <p:cNvSpPr/>
            <p:nvPr/>
          </p:nvSpPr>
          <p:spPr>
            <a:xfrm>
              <a:off x="2988720" y="5181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參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组合 11308"/>
          <p:cNvGrpSpPr/>
          <p:nvPr/>
        </p:nvGrpSpPr>
        <p:grpSpPr>
          <a:xfrm>
            <a:off x="6020280" y="4529160"/>
            <a:ext cx="729360" cy="1020600"/>
            <a:chOff x="6020280" y="4529160"/>
            <a:chExt cx="729360" cy="1020600"/>
          </a:xfrm>
        </p:grpSpPr>
        <p:grpSp>
          <p:nvGrpSpPr>
            <p:cNvPr id="176" name="组合 11285"/>
            <p:cNvGrpSpPr/>
            <p:nvPr/>
          </p:nvGrpSpPr>
          <p:grpSpPr>
            <a:xfrm>
              <a:off x="6248520" y="4529160"/>
              <a:ext cx="228600" cy="647640"/>
              <a:chOff x="6248520" y="4529160"/>
              <a:chExt cx="228600" cy="647640"/>
            </a:xfrm>
          </p:grpSpPr>
          <p:sp>
            <p:nvSpPr>
              <p:cNvPr id="177" name="矩形 11283"/>
              <p:cNvSpPr/>
              <p:nvPr/>
            </p:nvSpPr>
            <p:spPr>
              <a:xfrm flipV="1">
                <a:off x="6307200" y="4529160"/>
                <a:ext cx="108000" cy="3808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等腰三角形 11284"/>
              <p:cNvSpPr/>
              <p:nvPr/>
            </p:nvSpPr>
            <p:spPr>
              <a:xfrm flipV="1">
                <a:off x="6248520" y="487224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文本框 11287"/>
            <p:cNvSpPr/>
            <p:nvPr/>
          </p:nvSpPr>
          <p:spPr>
            <a:xfrm>
              <a:off x="6020280" y="5181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統計量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矩形 11288"/>
          <p:cNvSpPr/>
          <p:nvPr/>
        </p:nvSpPr>
        <p:spPr>
          <a:xfrm>
            <a:off x="1752480" y="2057400"/>
            <a:ext cx="5943600" cy="3886200"/>
          </a:xfrm>
          <a:prstGeom prst="rect">
            <a:avLst/>
          </a:prstGeom>
          <a:noFill/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组合 11305"/>
          <p:cNvGrpSpPr/>
          <p:nvPr/>
        </p:nvGrpSpPr>
        <p:grpSpPr>
          <a:xfrm>
            <a:off x="2286000" y="2209680"/>
            <a:ext cx="1828800" cy="2286000"/>
            <a:chOff x="2286000" y="2209680"/>
            <a:chExt cx="1828800" cy="2286000"/>
          </a:xfrm>
        </p:grpSpPr>
        <p:sp>
          <p:nvSpPr>
            <p:cNvPr id="182" name="椭圆 11268"/>
            <p:cNvSpPr/>
            <p:nvPr/>
          </p:nvSpPr>
          <p:spPr>
            <a:xfrm>
              <a:off x="2286000" y="2666880"/>
              <a:ext cx="1828800" cy="18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平均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比　例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變異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文本框 11303"/>
            <p:cNvSpPr/>
            <p:nvPr/>
          </p:nvSpPr>
          <p:spPr>
            <a:xfrm>
              <a:off x="2988720" y="220968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母　體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组合 11307"/>
          <p:cNvGrpSpPr/>
          <p:nvPr/>
        </p:nvGrpSpPr>
        <p:grpSpPr>
          <a:xfrm>
            <a:off x="5715000" y="2209680"/>
            <a:ext cx="1295280" cy="2286000"/>
            <a:chOff x="5715000" y="2209680"/>
            <a:chExt cx="1295280" cy="2286000"/>
          </a:xfrm>
        </p:grpSpPr>
        <p:sp>
          <p:nvSpPr>
            <p:cNvPr id="185" name="椭圆 11270"/>
            <p:cNvSpPr/>
            <p:nvPr/>
          </p:nvSpPr>
          <p:spPr>
            <a:xfrm>
              <a:off x="5715000" y="2666880"/>
              <a:ext cx="1295280" cy="18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平均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比例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變異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文本框 11304"/>
            <p:cNvSpPr/>
            <p:nvPr/>
          </p:nvSpPr>
          <p:spPr>
            <a:xfrm>
              <a:off x="6004800" y="220968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樣　本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矩形 11311"/>
          <p:cNvSpPr/>
          <p:nvPr/>
        </p:nvSpPr>
        <p:spPr>
          <a:xfrm>
            <a:off x="10666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母體與樣本的關係圖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343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3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的方法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演繹的統計分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deductive statistical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假設母體為已知的情形下，推導出樣本的特性。例如根據過去的經驗，工廠裡某一生產線的產品瑕疵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2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則我們任意抽取一組樣本，其瑕疵率即假設為百分之二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歸納的統計分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ductive statistical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用樣本資料來推估及臆測未知的母體參數。例如，民國八十九年總統大選前，某民調單位公佈陳水扁總統的支持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8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若抽樣誤差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 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則我們推估陳總統的得票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41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00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1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在商業與管理的應用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功能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用來蒐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collec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組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organiz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呈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present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分析與解釋資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ata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及數據所隱含的意義，並進一步地利用統計的技巧來作商情預測與管理決策制定之參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在商業與管理的應用實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風險分析、顧客行為分析、商品市場的變化趨勢及經濟環境的研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等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ata mining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乃以統計方法為基礎，輔以電腦儲存運算能力。其主要功能為在龐大資料庫中尋找有價值的訊息，作為決策支援之用，進而提昇企業之競爭優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文本框 3075"/>
          <p:cNvSpPr/>
          <p:nvPr/>
        </p:nvSpPr>
        <p:spPr>
          <a:xfrm>
            <a:off x="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在財務領域的應用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分析的結果是對企業的償債能力、盈利能力和抵抗風險能力作出評價，或找出存在的問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分析的一般目的可以概括為：評價過去的經營業績、衡量現在的財務狀況、預測未來的發展趨勢。根據分析的具體目的，財務分析可以分為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1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流動性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2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盈利性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3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風險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4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專題分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為達成上述目的，我們均可使用統計數量方法，提供精確的財務比率與衡量指標，輔佐管理者制定適當的決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顧客關係管理</a:t>
            </a:r>
            <a:r>
              <a:rPr b="0" lang="zh-TW" sz="44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「顧客關係管理」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ustomer Relationship Management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一詞，即意謂建立良好的顧客關係，以提供客製化服務為宗旨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RM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可以強化企業核心作業的競爭性，協助企業掌握與客戶間的有效互動，而透過市場調查、資料採礦技術與資料庫行銷功能，可強化行銷及客服能力，提供顧客客製化的產品及服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由上述可知，統計方法與工具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RM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扮演相當重要的角色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資料採礦的進行步驟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既然可以增加企業智慧，提昇企業競爭優勢，到底應該如何進行呢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理解資料與進行的工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2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獲取相關知識與技術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Acquisition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整合與查核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Integration and check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去除錯誤或不一致的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Data clean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5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發展模式與假設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Model and hypothesis development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6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實際資料採礦工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7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測試與檢核所採礦的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Testing and verification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8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解釋與使用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Interpretation and use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由上述步驟可看出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Data Min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牽涉了大量的準備工作與規劃過程 ，而這些過程都植基於統計學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13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</a:t>
            </a:r>
            <a:r>
              <a:rPr b="0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  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幾個結帳櫃台才足夠？</a:t>
            </a:r>
            <a:r>
              <a:rPr b="0" lang="zh-TW" sz="48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817280"/>
            <a:ext cx="80233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們知道大賣場每個時段的消費人數會有很大差異，因此可利用簡單的統計資料，來幫助管理者解決問題，以利安排及開放合適的結帳櫃台數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203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7659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類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escriptive statistic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用統計圖表與統計量數來呈現與彙整所蒐集的資料。例如全體同學的統計學期中考平均成績，即是利用敘述統計來表達全體同學成績的中心分數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推論統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ferential statistic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根據樣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sample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推測母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popul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之某一特性或作區間估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terval estim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與假設檢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testing hypothesi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例如以民調來預測選舉結果， 即是利用推論統計來推測全體民眾對各候選人的支持狀況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的實例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—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共同基金績效評估指標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如何衡量基金的投資績效？大家習慣用報酬率及排名來作為衡量績效的指標，然而風險與報酬具有一體兩面的關係，投資人在承擔風險的同時就是希望可以獲得相對的報酬。因此，我們可選擇考量風險後的指標：年化標準差、貝他係數、夏普指標，來評估共同基金的投資績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這些共同基金的績效評估指標，便是敘述統計的實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民調在選舉中能夠發揮預測之功能？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原則上，每一份民調結果的呈現，都牽涉到其使用民調模式與應用時機的差異，是否能準確預測選舉結果，見仁見智。以民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89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的總統大選為例，要準確以民調測出總統大選結果，必須在投票前十天左右，精確掌握選舉的變動因素，定出一套預測模型，直接在問卷設計上掌握關鍵點偵測，從而判斷預測模型的正確性。以民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89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的總統大選來看，只要透過民調能偵測到連陣營即將崩盤、國民黨票源將為宋楚瑜所侵蝕，那就是一份很成功的調查，不過似乎很少有民調測出這種結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（資料來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:XXXXXXXX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教授）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7:20Z</dcterms:created>
  <dc:creator/>
  <dc:description/>
  <cp:keywords>统计学 应用 架构</cp:keywords>
  <dc:language>en-US</dc:language>
  <cp:lastModifiedBy>An</cp:lastModifiedBy>
  <dcterms:modified xsi:type="dcterms:W3CDTF">2016-05-01T00:5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