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458-D374-45BC-8050-8322D369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7FF-CA28-4EA5-859C-14710C62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1B6-CAFA-4715-B7D8-3110298F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CAB-BA55-4FB1-886D-1D910747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D6B-DCD2-4FF2-A34A-4DA59B3E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FED-E593-4820-BC69-A5DE865D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2B1-D074-4009-8B41-641BEBE4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DEF-FDBE-4C39-AB3A-ECDC29E2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785-2268-401F-B139-38942D56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932-ECE1-4A8A-AB69-4A7F22E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A2B-3BC5-48C1-85BB-C694887B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311-5C62-4958-BFAF-0BFE99AB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00F0-6D7B-4C02-8D88-21DF19B06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课文插图1"/>
          <p:cNvPicPr/>
          <p:nvPr/>
        </p:nvPicPr>
        <p:blipFill>
          <a:blip r:embed="rId1"/>
          <a:srcRect l="3526" t="961" r="2919" b="5143"/>
          <a:stretch/>
        </p:blipFill>
        <p:spPr>
          <a:xfrm>
            <a:off x="2843280" y="87480"/>
            <a:ext cx="5491080" cy="5933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11280" y="333360"/>
            <a:ext cx="137160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05200" y="76500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挑山工》课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1692360" y="15415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D:\My Documents\dd\第九册课件\挑山工\挑山工 摄影2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923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8720" y="595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D:\My Documents\dd\第九册课件\挑山工\挑山工 摄影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D:\My Documents\dd\第九册课件\挑山工\挑山工 摄影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合作梳理“三遇三见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要求：在阅读课文基础上，以小组合作方式填写下表规定的内容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709720"/>
          <a:ext cx="9144000" cy="4140360"/>
        </p:xfrm>
        <a:graphic>
          <a:graphicData uri="http://schemas.openxmlformats.org/drawingml/2006/table">
            <a:tbl>
              <a:tblPr/>
              <a:tblGrid>
                <a:gridCol w="2209680"/>
                <a:gridCol w="2438640"/>
                <a:gridCol w="44956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相遇次数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相遇地点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看见挑山工在干什么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第一次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第二次</a:t>
                      </a: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第一次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549-A475-479C-AB3D-040FC35477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895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我们哪里有近道，还不和你们走的一条道？你们肩膀上没有挑子，是走得快，可是一路上东看西看，玩玩闹闹，总得停下来嘛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!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我们跟你们不一样。不像你们那么随便，高兴怎么就怎么。一步踩不实不行，更不能耽误工夫。我们得一个劲儿往前走。别看我们慢，走长了就跑到你们前边去了。您看，是不是这个理儿？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细细咀嚼这些句子，从中你发现“挑山工”与“游人”在登山的过程中有哪些不同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我们”指（谁）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你们”指（谁）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负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速度负重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登山特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结果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（谁）跑到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（谁）前边去了</a:t>
            </a:r>
            <a:br>
              <a:rPr sz="3600"/>
            </a:br>
            <a:br>
              <a:rPr sz="1600"/>
            </a:br>
            <a:r>
              <a:rPr b="1" lang="zh-CN" sz="16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82680" y="6297480"/>
            <a:ext cx="675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0:50:13Z</dcterms:created>
  <dc:creator/>
  <dc:description/>
  <cp:keywords>幻灯片之家 http:/www.eeppt.com</cp:keywords>
  <dc:language>en-US</dc:language>
  <cp:lastModifiedBy/>
  <dcterms:modified xsi:type="dcterms:W3CDTF">2015-07-17T15:09:1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