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0A2E-5B2A-4AE3-9289-B7D8317A4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7EE5-309B-40A5-855D-497923728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DBFE-F628-4A90-B1D7-E53DAC7D4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7E8C-8862-46CB-9944-85D292248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4259-CF26-42F9-A0E3-217FDBD26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CB9D-BF94-4572-AA66-18115876B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0768-20C1-4F4F-97CC-0B9826B4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810F-36CB-4591-B254-0B0D357EB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791B-E613-4A61-A6CF-0B7D85A41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1656-18D2-4577-89CD-7F23D3D7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3F71-7E89-4E60-9B3A-99D3C67A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AFB2-1951-464C-B64F-A1343FF5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41AFE-9483-4201-AF85-1EBD09E45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ejianhome.com/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《文成公主进藏》课件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P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108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6"/>
          <p:cNvSpPr/>
          <p:nvPr/>
        </p:nvSpPr>
        <p:spPr>
          <a:xfrm>
            <a:off x="6937200" y="6303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79280" y="476280"/>
            <a:ext cx="850752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文成公主知书达理，不畏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险，远嫁吐蕃，为促进唐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蕃之间经济文化交流，增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汉藏两族人民亲密友好合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关系做出了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历史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性贡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藏族人民热爱美丽的文成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主，把她当成神一样崇拜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因此，民间流传着许多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于文成公主进藏的故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今天，我们要读的，是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中的一个故事。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11787185317251198"/>
          <p:cNvPicPr/>
          <p:nvPr/>
        </p:nvPicPr>
        <p:blipFill>
          <a:blip r:embed="rId3"/>
          <a:stretch/>
        </p:blipFill>
        <p:spPr>
          <a:xfrm>
            <a:off x="4932360" y="333360"/>
            <a:ext cx="4116240" cy="5832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Arial"/>
              </a:rPr>
              <a:t>字词质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使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碰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隆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1908000" y="170028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Arial"/>
              </a:rPr>
              <a:t>由一个国家派驻在另一个国家的外交代表</a:t>
            </a:r>
            <a:r>
              <a:rPr b="0" lang="en-US" sz="2400" spc="-1" strike="noStrike">
                <a:solidFill>
                  <a:srgbClr val="ff66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66ff"/>
                </a:solidFill>
                <a:latin typeface="Arial"/>
              </a:rPr>
              <a:t>或由一个国派遣到另一个国家去办理事务的代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908000" y="285264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Arial"/>
              </a:rPr>
              <a:t>刚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1835280" y="4076640"/>
            <a:ext cx="34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Arial"/>
              </a:rPr>
              <a:t>盛大庄重</a:t>
            </a:r>
            <a:r>
              <a:rPr b="0" lang="en-US" sz="2400" spc="-1" strike="noStrike">
                <a:solidFill>
                  <a:srgbClr val="ff66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4AF5-7A4F-4CD9-9AD3-226B1261EDA2}" type="slidenum">
              <a:t>4</a:t>
            </a:fld>
          </a:p>
        </p:txBody>
      </p:sp>
    </p:spTree>
  </p:cSld>
  <p:transition spd="med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99"/>
                </a:solidFill>
                <a:latin typeface="Arial"/>
              </a:rPr>
              <a:t>课文按什么顺序写文成公主进藏的</a:t>
            </a: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99ff"/>
                </a:solidFill>
                <a:latin typeface="Arial"/>
              </a:rPr>
              <a:t>求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5"/>
          <p:cNvSpPr/>
          <p:nvPr/>
        </p:nvSpPr>
        <p:spPr>
          <a:xfrm>
            <a:off x="1547640" y="1773360"/>
            <a:ext cx="865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2484360" y="148428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99ff"/>
                </a:solidFill>
                <a:latin typeface="Arial"/>
              </a:rPr>
              <a:t>接见使臣考智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8"/>
          <p:cNvSpPr/>
          <p:nvPr/>
        </p:nvSpPr>
        <p:spPr>
          <a:xfrm>
            <a:off x="5651640" y="1773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6516720" y="148428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99ff"/>
                </a:solidFill>
                <a:latin typeface="Arial"/>
              </a:rPr>
              <a:t>允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0"/>
          <p:cNvSpPr/>
          <p:nvPr/>
        </p:nvSpPr>
        <p:spPr>
          <a:xfrm>
            <a:off x="7667640" y="1773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468360" y="270828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99ff"/>
                </a:solidFill>
                <a:latin typeface="Arial"/>
              </a:rPr>
              <a:t>进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2"/>
          <p:cNvSpPr/>
          <p:nvPr/>
        </p:nvSpPr>
        <p:spPr>
          <a:xfrm>
            <a:off x="1476360" y="2997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2484360" y="2708280"/>
            <a:ext cx="64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99ff"/>
                </a:solidFill>
                <a:latin typeface="Arial"/>
              </a:rPr>
              <a:t>给西藏带去了先进的生产技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2872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0" y="2421000"/>
            <a:ext cx="161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30,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文成公主进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1476360" y="765000"/>
            <a:ext cx="458640" cy="54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0"/>
          <p:cNvSpPr/>
          <p:nvPr/>
        </p:nvSpPr>
        <p:spPr>
          <a:xfrm>
            <a:off x="1692360" y="620640"/>
            <a:ext cx="287280" cy="489744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7440 h 4897440"/>
              <a:gd name="textAreaBottom" fmla="*/ 4770000 h 489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2050920" y="404640"/>
            <a:ext cx="251964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99ff"/>
                </a:solidFill>
                <a:latin typeface="Arial"/>
              </a:rPr>
              <a:t>求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99ff"/>
                </a:solidFill>
                <a:latin typeface="Arial"/>
              </a:rPr>
              <a:t>接见使臣考智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99ff"/>
                </a:solidFill>
                <a:latin typeface="Arial"/>
              </a:rPr>
              <a:t>允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99ff"/>
                </a:solidFill>
                <a:latin typeface="Arial"/>
              </a:rPr>
              <a:t>进藏途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99ff"/>
                </a:solidFill>
                <a:latin typeface="Arial"/>
              </a:rPr>
              <a:t>给西藏带去了生产技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2"/>
          <p:cNvSpPr/>
          <p:nvPr/>
        </p:nvSpPr>
        <p:spPr>
          <a:xfrm>
            <a:off x="4356000" y="765000"/>
            <a:ext cx="289080" cy="863640"/>
          </a:xfrm>
          <a:custGeom>
            <a:avLst/>
            <a:gdLst>
              <a:gd name="textAreaLeft" fmla="*/ 184680 w 289080"/>
              <a:gd name="textAreaRight" fmla="*/ 289080 w 2890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643"/>
                </a:lnTo>
                <a:cubicBezTo>
                  <a:pt x="10800" y="9543"/>
                  <a:pt x="5400" y="10443"/>
                  <a:pt x="0" y="10443"/>
                </a:cubicBezTo>
                <a:cubicBezTo>
                  <a:pt x="5400" y="10443"/>
                  <a:pt x="10800" y="11343"/>
                  <a:pt x="10800" y="1224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4788000" y="692280"/>
            <a:ext cx="208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00"/>
                </a:solidFill>
                <a:latin typeface="Arial"/>
              </a:rPr>
              <a:t>辩认马母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00"/>
                </a:solidFill>
                <a:latin typeface="Arial"/>
              </a:rPr>
              <a:t>识别公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4"/>
          <p:cNvSpPr/>
          <p:nvPr/>
        </p:nvSpPr>
        <p:spPr>
          <a:xfrm>
            <a:off x="3348000" y="2997360"/>
            <a:ext cx="360360" cy="2016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3708360" y="2781360"/>
            <a:ext cx="3888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a,</a:t>
            </a:r>
            <a:r>
              <a:rPr b="0" lang="zh-CN" sz="2400" spc="-1" strike="noStrike">
                <a:solidFill>
                  <a:srgbClr val="00cc00"/>
                </a:solidFill>
                <a:latin typeface="Arial"/>
              </a:rPr>
              <a:t>河挡住去路，树干搭桥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b,</a:t>
            </a:r>
            <a:r>
              <a:rPr b="0" lang="zh-CN" sz="2400" spc="-1" strike="noStrike">
                <a:solidFill>
                  <a:srgbClr val="00cc00"/>
                </a:solidFill>
                <a:latin typeface="Arial"/>
              </a:rPr>
              <a:t>沼泽地撒羊毛，走过去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c,</a:t>
            </a:r>
            <a:r>
              <a:rPr b="0" lang="zh-CN" sz="2400" spc="-1" strike="noStrike">
                <a:solidFill>
                  <a:srgbClr val="00cc00"/>
                </a:solidFill>
                <a:latin typeface="Arial"/>
              </a:rPr>
              <a:t>恶乌鸦谎报，修石头房子纪念松赞干布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d,</a:t>
            </a:r>
            <a:r>
              <a:rPr b="0" lang="zh-CN" sz="2400" spc="-1" strike="noStrike">
                <a:solidFill>
                  <a:srgbClr val="00cc00"/>
                </a:solidFill>
                <a:latin typeface="Arial"/>
              </a:rPr>
              <a:t>背走乃巴山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9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8T02:45:10Z</dcterms:created>
  <dc:creator/>
  <dc:description/>
  <cp:keywords>幻灯片之家 http:/www.eeppt.com</cp:keywords>
  <dc:language>en-US</dc:language>
  <cp:lastModifiedBy/>
  <dcterms:modified xsi:type="dcterms:W3CDTF">2015-07-20T05:24:08Z</dcterms:modified>
  <cp:revision>1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