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B0C-640F-409D-BC71-B4802869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7CB-4FDD-4D55-8CFA-37833084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FA1E-16A0-4DDA-94FB-4C37FDDB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C4E-6785-47C6-8855-D3725297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8B34-FC4E-459A-88B3-B1410053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3337-9FBC-412C-973F-DCC4FD9D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0FD0-C27F-4082-84FD-29B27D46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105F-6470-4DBA-99AF-53E579DA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A70E-E930-431A-B75D-9C8266E6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A5E6-0431-4611-BC84-0B204390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ED20-C9EA-4D18-B2C4-9E5E731D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D0E-0353-4D4C-9726-B08D6056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14B5-6DBC-4190-8CDF-0354AE32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8D38-3830-4761-AC73-15566A10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EB0A-2176-415E-A2AA-B653998E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80EF-AD5C-41D5-89A4-AC3B2B5A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82DC-0372-4DC3-844F-52BB9D45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1989-7502-4A1E-BC10-50A2BD95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824-A882-4D74-B076-F8332F8B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F69F-BA22-4ECC-88CC-10A7A950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94CD-356B-496F-9990-41567E21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3DD-BB8D-4563-87DA-DB3D2C84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B0FA-92F8-4C34-A9F0-8F7A3022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D394-6C78-4234-B373-C10F1967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E38C-38DE-431B-AC17-7562054A1111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2B06-BE5A-47FC-A11C-166484374D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2"/>
          <p:cNvPicPr/>
          <p:nvPr/>
        </p:nvPicPr>
        <p:blipFill>
          <a:blip r:embed="rId2"/>
          <a:stretch/>
        </p:blipFill>
        <p:spPr>
          <a:xfrm>
            <a:off x="34920" y="-6984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 flipV="1">
            <a:off x="0" y="5372640"/>
            <a:ext cx="9144000" cy="1484280"/>
          </a:xfrm>
          <a:prstGeom prst="rect">
            <a:avLst/>
          </a:prstGeom>
          <a:solidFill>
            <a:srgbClr val="80808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33200" y="5423040"/>
            <a:ext cx="8871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汉仪娃娃篆简"/>
              </a:rPr>
              <a:t>今天，你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汉仪娃娃篆简"/>
              </a:rPr>
              <a:t>微笑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汉仪娃娃篆简"/>
              </a:rPr>
              <a:t>了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08000" y="5373720"/>
            <a:ext cx="887076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445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28520" y="46735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微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5079960" y="393372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836720" y="393372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079960" y="285264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836720" y="285264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079960" y="1844640"/>
            <a:ext cx="1871640" cy="5047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836720" y="1844640"/>
            <a:ext cx="1871640" cy="5047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219400" y="631800"/>
            <a:ext cx="494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2880" y="693720"/>
            <a:ext cx="588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微笑上班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绝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806480" y="180828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乐观心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105520" y="180828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提升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1806480" y="285264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管理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5119560" y="2852640"/>
            <a:ext cx="21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保持健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806480" y="39085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加强沟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5119560" y="3908520"/>
            <a:ext cx="21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把握今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6" descr="5"/>
          <p:cNvPicPr/>
          <p:nvPr/>
        </p:nvPicPr>
        <p:blipFill>
          <a:blip r:embed="rId2"/>
          <a:stretch/>
        </p:blipFill>
        <p:spPr>
          <a:xfrm rot="720000">
            <a:off x="7380360" y="4436640"/>
            <a:ext cx="118404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4"/>
          <p:cNvPicPr/>
          <p:nvPr/>
        </p:nvPicPr>
        <p:blipFill>
          <a:blip r:embed="rId2"/>
          <a:stretch/>
        </p:blipFill>
        <p:spPr>
          <a:xfrm>
            <a:off x="900000" y="2276640"/>
            <a:ext cx="3065400" cy="1996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1300000084627121640859141042"/>
          <p:cNvPicPr/>
          <p:nvPr/>
        </p:nvPicPr>
        <p:blipFill>
          <a:blip r:embed="rId3"/>
          <a:stretch/>
        </p:blipFill>
        <p:spPr>
          <a:xfrm>
            <a:off x="5364000" y="2133720"/>
            <a:ext cx="2816280" cy="2087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4140360" y="285444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汉仪娃娃篆简"/>
              </a:rPr>
              <a:t>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279440" y="866880"/>
            <a:ext cx="65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乐观心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619280" y="4365720"/>
            <a:ext cx="12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愁眉苦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6229440" y="4365720"/>
            <a:ext cx="15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笑对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619280" y="5157720"/>
            <a:ext cx="614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9900"/>
                </a:solidFill>
                <a:latin typeface="Arial"/>
                <a:ea typeface="汉仪娃娃篆简"/>
              </a:rPr>
              <a:t>我们不能选择工作，但可以选择心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828720" y="1557360"/>
            <a:ext cx="759132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遇到压力时要看到压力后面的动力；遇到挫折时要看到挫折后面的成长，遇到成功时要看到成功后面的失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任何事情都有两个以上的选择，我们要做的是选择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积极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应对心态。有专家研究，一个乐观系数高的人，在处理问题时，他就会比一般人多出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机会得到满意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正向乐观的态度不仅会平息由环境压力而带来的紊乱情绪，也较能使问题导向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积极正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692360" y="838080"/>
            <a:ext cx="58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、乐观心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8313604_093835684000_2副本"/>
          <p:cNvPicPr/>
          <p:nvPr/>
        </p:nvPicPr>
        <p:blipFill>
          <a:blip r:embed="rId2"/>
          <a:stretch/>
        </p:blipFill>
        <p:spPr>
          <a:xfrm>
            <a:off x="6811920" y="5016600"/>
            <a:ext cx="16081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979640" y="4797360"/>
            <a:ext cx="5256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9900"/>
                </a:solidFill>
                <a:latin typeface="汉仪娃娃篆简"/>
                <a:ea typeface="汉仪娃娃篆简"/>
              </a:rPr>
              <a:t>人们需要快乐</a:t>
            </a:r>
            <a:r>
              <a:rPr b="0" lang="zh-CN" sz="2600" spc="-1" strike="noStrike">
                <a:solidFill>
                  <a:srgbClr val="ff9900"/>
                </a:solidFill>
                <a:latin typeface="汉仪娃娃篆简"/>
                <a:ea typeface="汉仪娃娃篆简"/>
              </a:rPr>
              <a:t>,</a:t>
            </a:r>
            <a:r>
              <a:rPr b="0" lang="zh-CN" sz="2600" spc="-1" strike="noStrike">
                <a:solidFill>
                  <a:srgbClr val="ff9900"/>
                </a:solidFill>
                <a:latin typeface="汉仪娃娃篆简"/>
                <a:ea typeface="汉仪娃娃篆简"/>
              </a:rPr>
              <a:t>就像需要衣服一样。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玛格瑞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科利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格雷厄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2048040" y="981000"/>
            <a:ext cx="51879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044720" y="1557360"/>
            <a:ext cx="76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熟读以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黄金法则，让你快乐长伴，每天以微笑面对工作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042920" y="2635200"/>
            <a:ext cx="766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9900"/>
                </a:solidFill>
                <a:latin typeface="Arial"/>
                <a:ea typeface="汉仪娃娃篆简"/>
              </a:rPr>
              <a:t>今天，你微笑了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8313604_093835684000_2副本"/>
          <p:cNvPicPr/>
          <p:nvPr/>
        </p:nvPicPr>
        <p:blipFill>
          <a:blip r:embed="rId2"/>
          <a:stretch/>
        </p:blipFill>
        <p:spPr>
          <a:xfrm>
            <a:off x="3492360" y="3286080"/>
            <a:ext cx="2592360" cy="2589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08000" y="765000"/>
            <a:ext cx="44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9"/>
          <p:cNvPicPr/>
          <p:nvPr/>
        </p:nvPicPr>
        <p:blipFill>
          <a:blip r:embed="rId2"/>
          <a:stretch/>
        </p:blipFill>
        <p:spPr>
          <a:xfrm>
            <a:off x="2211480" y="3286080"/>
            <a:ext cx="4593960" cy="3313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1260360" y="2349360"/>
            <a:ext cx="667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汉仪娃娃篆简"/>
              </a:rPr>
              <a:t>谢  谢  观  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6962-95FB-4394-A2B8-F1E22CB384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45:0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