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F817-CD38-4B0D-9E63-8211DD2F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D19-685A-4B1A-95B6-0832E9B2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E77E-EFA4-47CC-A159-A10843F7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2FCD-1F48-4207-9CD2-7960DB16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71EE-CD86-45FC-B3D4-6BD20E4E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BC0B-65E5-4E39-B378-8888AB14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B15F-13E2-4C0A-ACE3-D9620616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C828-0676-447A-9164-8134BDC0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1C55-EF95-4CBE-BF84-8F10F2A9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B74A-5A60-4126-A128-F13D5AC3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6DD6-A0A4-437B-8F78-62B24DF8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D42-C16E-4880-81C9-F5E6D569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C2FA-8E7A-453F-B61E-9DAB4830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B4D6-61EF-4B5D-9201-F5300375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94B8-E85B-4767-B78C-DEF98067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9D43-D000-4B4E-A26E-09B3E889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32E8-4CC3-4E66-BFC9-99D49022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19846-9BE4-4A43-B7AB-62E99BC8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AFC10-D997-48C5-BC7F-63C85F57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923E4-B3DD-4266-B229-6E06573C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7E458-0197-4906-A9A6-6A0D0536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34E10-6303-43BD-98CD-66143B16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336C-EF2F-42E5-ABC9-7164FD44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EFF73-F00B-49D8-907E-BE77B6EF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51DCD-B291-4B8A-BD2F-B51B3366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4CA0B-8C24-4972-B763-214E6BF3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4F162-52FB-4C79-9736-FA35888F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68328-F2FD-42AE-82C3-2FD4F690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75B44-9425-4151-B42D-52A15DAC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F75B5-6EA2-459B-921F-AC9586AA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088B3-F6AD-411F-AE83-1D246406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542B1-4027-4883-97A5-6EFC0587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295D9-1951-4D4D-AE14-97128B1B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2D0A-14A3-4170-B098-93AB431B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1F361-460C-40FF-B7E4-BBE3DBFF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58FE6-4928-404C-9E42-3A2BD448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49BC5-2925-497C-9BAE-51B5E653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C97D1-0066-4A82-94A8-76828E8D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2711D-CBAF-4CDE-BEBE-1950EAC5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432CA-E04D-4583-B53A-774C9C75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6E3FE-3FE0-4EB9-AD5A-B3D336F3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4FC36-3559-4F5C-9180-5577C3F0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8F732-ACD8-4C10-B2CA-FF1087C7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95AC-7F67-4838-B26B-E6153EC2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4E51-7FB3-49DB-B241-E0C00227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3D85-9336-4150-9F27-0EEC15CD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35A0-5E6B-409A-8C45-94921D24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3AC7-8F29-457B-96DF-FA4D439E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240"/>
              <a:ext cx="3400560" cy="286416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600"/>
              <a:ext cx="2770200" cy="25038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61F7-E87A-4400-AA50-88886150EA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2BE6-29C1-487B-A01B-8BD8952F3B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0005-29E1-49E4-B463-AA33E253CA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87BC-CE5B-4919-83AA-6DC38E79F15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kejian/" TargetMode="External"/><Relationship Id="rId3" Type="http://schemas.openxmlformats.org/officeDocument/2006/relationships/hyperlink" Target="http://www.1ppt.com/kejian/yuwen/" TargetMode="External"/><Relationship Id="rId4" Type="http://schemas.openxmlformats.org/officeDocument/2006/relationships/hyperlink" Target="http://www.1ppt.com/kejian/shuxue/" TargetMode="External"/><Relationship Id="rId5" Type="http://schemas.openxmlformats.org/officeDocument/2006/relationships/hyperlink" Target="http://www.1ppt.com/kejian/yingyu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38/" TargetMode="External"/><Relationship Id="rId8" Type="http://schemas.openxmlformats.org/officeDocument/2006/relationships/hyperlink" Target="http://www.1ppt.com/kejian/yuwen/160/" TargetMode="External"/><Relationship Id="rId9" Type="http://schemas.openxmlformats.org/officeDocument/2006/relationships/hyperlink" Target="http://www.1ppt.com/kejian/yuwen/161/" TargetMode="External"/><Relationship Id="rId10" Type="http://schemas.openxmlformats.org/officeDocument/2006/relationships/hyperlink" Target="http://www.1ppt.com/kejian/yuwen/162/" TargetMode="External"/><Relationship Id="rId11" Type="http://schemas.openxmlformats.org/officeDocument/2006/relationships/hyperlink" Target="http://www.1ppt.com/kejian/yuwen/163/" TargetMode="External"/><Relationship Id="rId12" Type="http://schemas.openxmlformats.org/officeDocument/2006/relationships/hyperlink" Target="http://www.1ppt.com/kejian/yuwen/164/" TargetMode="External"/><Relationship Id="rId13" Type="http://schemas.openxmlformats.org/officeDocument/2006/relationships/hyperlink" Target="http://www.1ppt.com/kejian/yuwen/165/" TargetMode="External"/><Relationship Id="rId14" Type="http://schemas.openxmlformats.org/officeDocument/2006/relationships/hyperlink" Target="http://www.1ppt.com/" TargetMode="External"/><Relationship Id="rId15" Type="http://schemas.openxmlformats.org/officeDocument/2006/relationships/hyperlink" Target="http://www.1ppt.com/kejian/yuwen/166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hyperlink" Target="http://www.1ppt.com/kejian/yuwen/167/" TargetMode="External"/><Relationship Id="rId20" Type="http://schemas.openxmlformats.org/officeDocument/2006/relationships/hyperlink" Target="http://imgsrc.baidu.com/baike/pic/item/4bd1e8038c5b5b5f3812bb25.jpg" TargetMode="External"/><Relationship Id="rId21" Type="http://schemas.openxmlformats.org/officeDocument/2006/relationships/image" Target="../media/image5.jpeg"/><Relationship Id="rId2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src.baidu.com/baike/pic/item/4bd1e8038c5b5b5f3812bb25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1" descr=""/>
          <p:cNvPicPr/>
          <p:nvPr/>
        </p:nvPicPr>
        <p:blipFill>
          <a:blip r:embed="rId2"/>
          <a:stretch/>
        </p:blipFill>
        <p:spPr>
          <a:xfrm>
            <a:off x="2590920" y="2057400"/>
            <a:ext cx="3651120" cy="4016520"/>
          </a:xfrm>
          <a:prstGeom prst="rect">
            <a:avLst/>
          </a:prstGeom>
          <a:ln w="0">
            <a:noFill/>
          </a:ln>
        </p:spPr>
      </p:pic>
      <p:pic>
        <p:nvPicPr>
          <p:cNvPr id="173" name="课前.mp3" descr=""/>
          <p:cNvPicPr/>
          <p:nvPr/>
        </p:nvPicPr>
        <p:blipFill>
          <a:blip r:embed="rId3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52280" y="61722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77600" y="990720"/>
            <a:ext cx="173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《鞋匠的儿子》公开课课件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9488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33520" y="2590920"/>
            <a:ext cx="8001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填一填：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　　在参议员们的眼里，当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统的应该是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_________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而不应该是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________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85800" y="380880"/>
            <a:ext cx="74674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读课文第一段，思考：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林肯当选美国总统，议员们为什么感到尴尬？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自读课文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黑体"/>
              </a:rPr>
              <a:t>,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思考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黑体"/>
              </a:rPr>
              <a:t>: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林肯演讲前后，参议员的态度发生了怎样的变化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黑体"/>
              </a:rPr>
              <a:t>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19320" y="426708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尴尬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1752480" y="563868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黑体"/>
              </a:rPr>
              <a:t>——</a:t>
            </a:r>
            <a:r>
              <a:rPr b="1" lang="zh-CN" sz="4800" spc="-1" strike="noStrike" u="sng">
                <a:solidFill>
                  <a:srgbClr val="ffff00"/>
                </a:solidFill>
                <a:uFillTx/>
                <a:latin typeface="Arial"/>
                <a:ea typeface="黑体"/>
              </a:rPr>
              <a:t>静默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4800600" y="556272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黑体"/>
              </a:rPr>
              <a:t>——</a:t>
            </a:r>
            <a:r>
              <a:rPr b="1" lang="zh-CN" sz="4800" spc="-1" strike="noStrike" u="sng">
                <a:solidFill>
                  <a:srgbClr val="ffff00"/>
                </a:solidFill>
                <a:uFillTx/>
                <a:latin typeface="Arial"/>
                <a:ea typeface="黑体"/>
              </a:rPr>
              <a:t>赞叹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5410080" y="434340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黑体"/>
              </a:rPr>
              <a:t>——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大笑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2743200" y="426708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黑体"/>
              </a:rPr>
              <a:t>——</a:t>
            </a:r>
            <a:r>
              <a:rPr b="1" lang="zh-CN" sz="4800" spc="-1" strike="noStrike" u="sng">
                <a:solidFill>
                  <a:srgbClr val="ffff00"/>
                </a:solidFill>
                <a:uFillTx/>
                <a:latin typeface="Arial"/>
              </a:rPr>
              <a:t>羞辱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学习导航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黑体"/>
              </a:rPr>
              <a:t>: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、读课文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3—5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自然段，划出林肯的话，抓住关键词句在旁边写上感受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、在小组内交流，说说林肯给你留下了什么印象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61722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我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非常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感激你使我想起我的父亲。他已经过世了。我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定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会永远记住你的忠告， 我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永远是鞋匠的儿子。我知道我做总统，永远无法像父亲做鞋匠那样做得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那么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好 。”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1752480" y="236232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永远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3217320" y="38862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永远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779040" y="3124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永远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0" y="601992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宽宏大度的胸襟  对父亲的尊敬、爱戴和感激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虽然我不是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伟大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的鞋匠，但我从小就跟父亲学到了做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鞋子的艺术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但是有一件事是可以确定的， 我无法像我父亲那么伟大，他的手艺是无人能比的。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2438280" y="2057400"/>
            <a:ext cx="14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艺术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3293640" y="50292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手艺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4876920" y="609480"/>
            <a:ext cx="154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伟大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876920" y="502920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无人能比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课中.mp3" descr=""/>
          <p:cNvPicPr/>
          <p:nvPr/>
        </p:nvPicPr>
        <p:blipFill>
          <a:blip r:embed="rId2"/>
          <a:stretch/>
        </p:blipFill>
        <p:spPr>
          <a:xfrm>
            <a:off x="7848720" y="6019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3"/>
          <p:cNvSpPr/>
          <p:nvPr/>
        </p:nvSpPr>
        <p:spPr>
          <a:xfrm>
            <a:off x="4648320" y="2286000"/>
            <a:ext cx="35812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勤劳俭朴  不亢不卑的作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3886200" y="5943600"/>
            <a:ext cx="29718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谦逊朴实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264315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一个裂开的房子是站立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不住的， 我不希望这个房子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塌下去。”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  “我所希望的是它结束分裂，它应该成为一个完整的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整体。”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590920" y="5181480"/>
            <a:ext cx="601956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爱心  仁慈  高瞻远瞩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609480" y="304920"/>
            <a:ext cx="79250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这篇文章中，你看出林肯是个怎样的人？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85800" y="1905120"/>
            <a:ext cx="7772400" cy="216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襟怀坦荡   仁爱正义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宽容大度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762120" y="4419720"/>
            <a:ext cx="76960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林肯的伟大不仅在于打赢了南北战争，维护了美国的同意，而且在于他独特的精神力量和伟大的人格魅力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61722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609480" y="1600200"/>
            <a:ext cx="8153640" cy="16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启示：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宽容是一种力量。当我们掌握并能运用这种力量时，就会显得自信和强大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它不是软弱，而是刚强和坚韧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课后作业</a:t>
            </a:r>
            <a:r>
              <a:rPr b="0" i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: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读读美国诗人惠特曼的诗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黑体"/>
              </a:rPr>
              <a:t>《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啊，船长，我的船长啊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黑体"/>
              </a:rPr>
              <a:t>》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搜集林肯生平小故事，在同学间交流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09480" y="17524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尴尬      辱       豫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276720" y="3276720"/>
            <a:ext cx="5410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侮辱           犹豫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羞辱           豫州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228600" y="152280"/>
            <a:ext cx="2743200" cy="83844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228600" y="3049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检查预习情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60199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ppt课件模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eeppt.com/moban/kejian/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31F56-BE39-4CA8-B95C-5078E3E2F8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143000" y="1523880"/>
            <a:ext cx="76201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参议院   尴尬    鞋匠   卑微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羞辱       开怀不已       静默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名门望族   傲慢    改善   赞叹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毫不犹豫  武器   维护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6"/>
          <p:cNvSpPr/>
          <p:nvPr/>
        </p:nvSpPr>
        <p:spPr>
          <a:xfrm>
            <a:off x="1295280" y="198108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2"/>
              </a:rPr>
              <a:t>www.1ppt.com/kejian/</a:t>
            </a: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3"/>
              </a:rPr>
              <a:t>www.1ppt.com/kejian/yuwen/</a:t>
            </a: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4"/>
              </a:rPr>
              <a:t>www.1ppt.com/kejian/shuxue/</a:t>
            </a: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5"/>
              </a:rPr>
              <a:t>www.1ppt.com/kejian/yingyu/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6"/>
              </a:rPr>
              <a:t>www.1ppt.com/kejian/yuwen/138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7"/>
              </a:rPr>
              <a:t>/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8"/>
              </a:rPr>
              <a:t>www.1ppt.com/kejian/yuwen/160/</a:t>
            </a: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9"/>
              </a:rPr>
              <a:t>www.1ppt.com/kejian/yuwen/161/</a:t>
            </a: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0"/>
              </a:rPr>
              <a:t>www.1ppt.com/kejian/yuwen/162/</a:t>
            </a: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1"/>
              </a:rPr>
              <a:t>www.1ppt.com/kejian/yuwen/163/</a:t>
            </a: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2"/>
              </a:rPr>
              <a:t>www.1ppt.com/kejian/yuwen/164/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3"/>
              </a:rPr>
              <a:t>www.1ppt.com/kejian/yuwen/165/</a:t>
            </a: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4"/>
              </a:rPr>
              <a:t>www.1ppt.com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5"/>
              </a:rPr>
              <a:t>/kejian/yuwen/166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6"/>
              </a:rPr>
              <a:t>/</a:t>
            </a: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7"/>
              </a:rPr>
              <a:t>www.1ppt.com/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8"/>
              </a:rPr>
              <a:t>kejian</a:t>
            </a:r>
            <a:r>
              <a:rPr b="1" lang="en-US" sz="100" spc="-1" strike="noStrike" u="sng">
                <a:solidFill>
                  <a:srgbClr val="ffffcc"/>
                </a:solidFill>
                <a:uFillTx/>
                <a:latin typeface="Calibri"/>
                <a:hlinkClick r:id="rId19"/>
              </a:rPr>
              <a:t>/yuwen/167/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5" descr="4bd1e8038c5b5b5f3812bb25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304920" y="1219320"/>
            <a:ext cx="2798640" cy="4114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3505320" y="144792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亚伯拉罕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林肯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Abraham Lincoln,1809-1865),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政治家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任美国总统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任期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186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日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1865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日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,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是首位美国共和党籍总统，也是历史上首名遇刺身亡的总统。　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林肯上任后不久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南方奴隶主对他    “人人平等”的政治主张非常排斥，企图分裂，挑起了南北战争。在这场战争中，林肯凭借自己非凡的毅力和决心履行了自己的职责。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186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年林肯亲自领导人民同南方奴隶主进行了坚决斗争。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186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年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月，林肯发布了著名的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解放黑奴宣言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，宣布废除奴隶制。南北战争的胜利，标志着奴隶制的彻底崩溃，它维护了国家的统一，推动了国家的发展。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A12FE-A8C5-4BA9-86D6-25B1B22747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200400" y="304920"/>
            <a:ext cx="59436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6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日晚，林肯在华盛顿的福特剧院遇刺身亡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日，林肯葬于橡树岭公墓。林肯领导美国人民维护了国家统一，废除了奴隶制，为资本主义的发展扫除了障碍，促进了美国历史的发展，一百多年来，受到美国人民的尊敬。由于林肯在美国历史上所起的进步作用，人们称赞他为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新时代国家统治者的楷模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”。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亚伯拉罕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林肯是美国第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6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任总统，是世界历史中最伟大的人物之一，领导了拯救联邦和结束奴隶制度的伟大斗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。人们怀念他的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正直、仁慈、和坚强的个性，他一直是美国历史上最受人景仰的总统之一。尽管他只受过一点儿初级教育，担任公职的经验也很少，然而，他那敏锐的洞察力和深厚的人道主义意识，使他成了美国历史上最伟大的总统。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4bd1e8038c5b5b5f3812bb2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1295280"/>
            <a:ext cx="2799000" cy="4114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61722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他不会被困难所吓倒，不会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为成功所迷惑 ，他不屈不挠地迈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向自己的伟大目标，而从不轻举妄动，他稳步向前，而从不倒退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黑体"/>
              </a:rPr>
              <a:t>……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总之，他是一位达到了伟大境界而仍然保持自己优良品质的罕有的人物。”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马克思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12:22:35Z</dcterms:created>
  <dc:creator/>
  <dc:description/>
  <cp:keywords>幻灯片之家 http:/www.eeppt.com</cp:keywords>
  <dc:language>en-US</dc:language>
  <cp:lastModifiedBy/>
  <dcterms:modified xsi:type="dcterms:W3CDTF">2015-07-20T01:51:53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