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44FB-5A75-430B-93D9-30CF13C7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1243-1A69-45E4-9872-34F0B6D3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1558-3E90-44C1-A3D1-DFA42234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CE62-703A-44A6-BE2B-8D8CCCD0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6EF6-DE4F-487C-B366-F88209D0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DDDF-50F1-428A-B81D-2BA4CEEC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F3BE-A220-450A-A482-5061A587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9CF2-A2AA-483B-8943-FC5604D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CE56-A10F-45D9-894C-448AA94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1F22-D23D-4C17-A064-B2D577DD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AA32-3E67-4049-AF44-2DAC7C8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141A-D1DD-42E1-B301-3CEE1A3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60DA-D0FA-4CD4-8E39-9D6E50BEBB73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26920" y="981000"/>
            <a:ext cx="30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5" descr="pic_228526季2"/>
          <p:cNvPicPr/>
          <p:nvPr/>
        </p:nvPicPr>
        <p:blipFill>
          <a:blip r:embed="rId2"/>
          <a:stretch/>
        </p:blipFill>
        <p:spPr>
          <a:xfrm>
            <a:off x="1403280" y="1987560"/>
            <a:ext cx="655344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69280" y="62064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小苗与大树的对话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件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0" y="0"/>
            <a:ext cx="1655640" cy="1008000"/>
          </a:xfrm>
          <a:prstGeom prst="flowChartMultidocumen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读一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1111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兴趣　三国演义　水浒传　绿林好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偷偷藏　三侠五义　彭公案　能文能武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才生　中西贯通　能文能理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嗯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语    起码   古今贯通　　文理贯通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    建议   古文观止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２１世纪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5076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0920" y="170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　　认真读读课文，看看苗苗同季老交流了哪些问题 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26920" y="3500280"/>
            <a:ext cx="77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１、 阅读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２、 偏科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３、 学习外语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４、 积累古诗文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766880" y="17002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季羡林先生对于读书，提出了哪些见解？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2852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１、把文章写好，要多看书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２、要中西贯通、古今贯通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理贯通，不要偏科，要学好外语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３、进行古诗文积累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谈一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773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苗苗对季老先生的采访中，他们用了很长时间在讨论看闲书。那么，到底闲书指什么，能结合课文谈谈你们的理解吗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B9C7-964D-447A-8E5E-94C096712F87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19162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课文中的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苗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指的是谁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4005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读了课文，你认为文中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苗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什么更深的含义吗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96720" y="3213000"/>
            <a:ext cx="835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积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555360" y="1557360"/>
            <a:ext cx="173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把钥匙，为我打开知识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宝库的大门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位向导，帮我找到智慧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源泉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架望远镜，让我看得很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远很远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ebf25a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15:12Z</dcterms:created>
  <dc:creator/>
  <dc:description/>
  <cp:keywords>幻灯片之家 http:/www.eeppt.com</cp:keywords>
  <dc:language>en-US</dc:language>
  <cp:lastModifiedBy/>
  <dcterms:modified xsi:type="dcterms:W3CDTF">2015-07-20T01:34:42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