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1AF-2C20-4E3A-99B7-32CCDE78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EF7-7A9D-4292-80AF-1E746CB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839-72BD-4B17-9E01-6A19BEEF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20D-7F89-48AD-86DF-B5631A33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665-DF83-4DBD-85A5-22DF1E8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92A-69DE-48A5-A7EE-05F2632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EA4-7484-4616-A539-F239533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6EE-B5EE-45DD-8582-28BB0B4A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07F-7122-481C-ACE0-8BD0FB9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F62-2E87-472A-B313-E273E23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601-FCD1-40AC-8106-2809039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37B-1E33-4C6C-8A44-C8FA30B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DEC-C11C-4B2C-9185-994DB9FC7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42920" y="1865160"/>
            <a:ext cx="72946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5240" y="1636560"/>
            <a:ext cx="51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圆的面积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54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"/>
          <p:cNvGrpSpPr/>
          <p:nvPr/>
        </p:nvGrpSpPr>
        <p:grpSpPr>
          <a:xfrm>
            <a:off x="990720" y="2576880"/>
            <a:ext cx="7676280" cy="2749680"/>
            <a:chOff x="990720" y="2576880"/>
            <a:chExt cx="7676280" cy="2749680"/>
          </a:xfrm>
        </p:grpSpPr>
        <p:sp>
          <p:nvSpPr>
            <p:cNvPr id="161" name="Freeform 10"/>
            <p:cNvSpPr/>
            <p:nvPr/>
          </p:nvSpPr>
          <p:spPr>
            <a:xfrm flipV="1" rot="17171400">
              <a:off x="686520" y="33271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 flipV="1" rot="17118000">
              <a:off x="1900440" y="332748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 flipV="1" rot="20654400">
              <a:off x="3288960" y="270648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 flipH="1" flipV="1" rot="4428000">
              <a:off x="6476760" y="333576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 flipH="1" flipV="1" rot="4544400">
              <a:off x="5180400" y="332748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 flipH="1" flipV="1" rot="866400">
              <a:off x="5090760" y="270108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68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990720" y="2233800"/>
            <a:ext cx="7675560" cy="2750400"/>
            <a:chOff x="990720" y="2233800"/>
            <a:chExt cx="7675560" cy="2750400"/>
          </a:xfrm>
        </p:grpSpPr>
        <p:sp>
          <p:nvSpPr>
            <p:cNvPr id="175" name="Freeform 10"/>
            <p:cNvSpPr/>
            <p:nvPr/>
          </p:nvSpPr>
          <p:spPr>
            <a:xfrm flipV="1" rot="17171400">
              <a:off x="686520" y="2983680"/>
              <a:ext cx="249408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 flipV="1" rot="17118000">
              <a:off x="1900440" y="2983680"/>
              <a:ext cx="24940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 flipV="1" rot="20654400">
              <a:off x="3289320" y="2363400"/>
              <a:ext cx="1233000" cy="24958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 flipH="1" flipV="1" rot="4428000">
              <a:off x="6475680" y="2993760"/>
              <a:ext cx="24940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 flipH="1" flipV="1" rot="4544400">
              <a:off x="5179320" y="2984760"/>
              <a:ext cx="24948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 flipH="1" flipV="1" rot="866400">
              <a:off x="5090760" y="2358720"/>
              <a:ext cx="1233000" cy="24958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796-7F9D-4FDB-991D-4E60288B49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85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990720" y="1948320"/>
            <a:ext cx="7676280" cy="2749680"/>
            <a:chOff x="990720" y="1948320"/>
            <a:chExt cx="7676280" cy="2749680"/>
          </a:xfrm>
        </p:grpSpPr>
        <p:sp>
          <p:nvSpPr>
            <p:cNvPr id="192" name="Freeform 10"/>
            <p:cNvSpPr/>
            <p:nvPr/>
          </p:nvSpPr>
          <p:spPr>
            <a:xfrm flipV="1" rot="17171400">
              <a:off x="686520" y="269856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 flipV="1" rot="17118000">
              <a:off x="1900440" y="26989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 flipV="1" rot="20654400">
              <a:off x="3288960" y="207792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 flipH="1" flipV="1" rot="4428000">
              <a:off x="6476760" y="270720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 flipH="1" flipV="1" rot="4544400">
              <a:off x="5180400" y="269892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 flipH="1" flipV="1" rot="866400">
              <a:off x="5090760" y="207252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7"/>
          <p:cNvGrpSpPr/>
          <p:nvPr/>
        </p:nvGrpSpPr>
        <p:grpSpPr>
          <a:xfrm>
            <a:off x="371160" y="1311480"/>
            <a:ext cx="7666200" cy="2741040"/>
            <a:chOff x="371160" y="1311480"/>
            <a:chExt cx="7666200" cy="2741040"/>
          </a:xfrm>
        </p:grpSpPr>
        <p:sp>
          <p:nvSpPr>
            <p:cNvPr id="199" name="Freeform 3"/>
            <p:cNvSpPr/>
            <p:nvPr/>
          </p:nvSpPr>
          <p:spPr>
            <a:xfrm rot="4455000">
              <a:off x="60480" y="206640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3"/>
          <p:cNvGrpSpPr/>
          <p:nvPr/>
        </p:nvGrpSpPr>
        <p:grpSpPr>
          <a:xfrm>
            <a:off x="1023120" y="1695240"/>
            <a:ext cx="7609320" cy="2741040"/>
            <a:chOff x="1023120" y="1695240"/>
            <a:chExt cx="7609320" cy="2741040"/>
          </a:xfrm>
        </p:grpSpPr>
        <p:sp>
          <p:nvSpPr>
            <p:cNvPr id="206" name="Freeform 10"/>
            <p:cNvSpPr/>
            <p:nvPr/>
          </p:nvSpPr>
          <p:spPr>
            <a:xfrm flipV="1" rot="17065800">
              <a:off x="686880" y="2441160"/>
              <a:ext cx="249336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 flipV="1" rot="17118000">
              <a:off x="1900440" y="24415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 flipV="1" rot="20654400">
              <a:off x="3288960" y="182052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 flipH="1" flipV="1" rot="4542600">
              <a:off x="6476400" y="244980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flipV="1" rot="4544400">
              <a:off x="5180400" y="244152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flipV="1" rot="866400">
              <a:off x="5090760" y="181512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Line 18"/>
          <p:cNvSpPr/>
          <p:nvPr/>
        </p:nvSpPr>
        <p:spPr>
          <a:xfrm>
            <a:off x="314280" y="1577880"/>
            <a:ext cx="776592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942840" y="4172040"/>
            <a:ext cx="776628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994520" y="1593720"/>
            <a:ext cx="0" cy="25941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4238640" y="2239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2092320" y="32767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5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60768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1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2057400" y="3263760"/>
          <a:ext cx="5052960" cy="266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263760"/>
                    <a:ext cx="50529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Line 4"/>
          <p:cNvSpPr/>
          <p:nvPr/>
        </p:nvSpPr>
        <p:spPr>
          <a:xfrm flipH="1">
            <a:off x="2057040" y="3276720"/>
            <a:ext cx="49878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4"/>
          <p:cNvGrpSpPr/>
          <p:nvPr/>
        </p:nvGrpSpPr>
        <p:grpSpPr>
          <a:xfrm>
            <a:off x="2057400" y="771480"/>
            <a:ext cx="5001480" cy="5085720"/>
            <a:chOff x="2057400" y="771480"/>
            <a:chExt cx="5001480" cy="5085720"/>
          </a:xfrm>
        </p:grpSpPr>
        <p:grpSp>
          <p:nvGrpSpPr>
            <p:cNvPr id="53" name="Group 33"/>
            <p:cNvGrpSpPr/>
            <p:nvPr/>
          </p:nvGrpSpPr>
          <p:grpSpPr>
            <a:xfrm>
              <a:off x="2085840" y="771480"/>
              <a:ext cx="4973040" cy="2538000"/>
              <a:chOff x="2085840" y="771480"/>
              <a:chExt cx="4973040" cy="2538000"/>
            </a:xfrm>
          </p:grpSpPr>
          <p:sp>
            <p:nvSpPr>
              <p:cNvPr id="54" name="Freeform 14"/>
              <p:cNvSpPr/>
              <p:nvPr/>
            </p:nvSpPr>
            <p:spPr>
              <a:xfrm>
                <a:off x="2085840" y="20548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8"/>
              <p:cNvSpPr/>
              <p:nvPr/>
            </p:nvSpPr>
            <p:spPr>
              <a:xfrm rot="1807800">
                <a:off x="2562120" y="150444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9"/>
              <p:cNvSpPr/>
              <p:nvPr/>
            </p:nvSpPr>
            <p:spPr>
              <a:xfrm>
                <a:off x="3340080" y="771480"/>
                <a:ext cx="123696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22"/>
              <p:cNvSpPr/>
              <p:nvPr/>
            </p:nvSpPr>
            <p:spPr>
              <a:xfrm flipH="1">
                <a:off x="4561200" y="20548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23"/>
              <p:cNvSpPr/>
              <p:nvPr/>
            </p:nvSpPr>
            <p:spPr>
              <a:xfrm flipH="1" rot="19792200">
                <a:off x="4084200" y="150480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4"/>
              <p:cNvSpPr/>
              <p:nvPr/>
            </p:nvSpPr>
            <p:spPr>
              <a:xfrm flipH="1">
                <a:off x="4567680" y="771480"/>
                <a:ext cx="123696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32"/>
            <p:cNvGrpSpPr/>
            <p:nvPr/>
          </p:nvGrpSpPr>
          <p:grpSpPr>
            <a:xfrm>
              <a:off x="2057400" y="3318840"/>
              <a:ext cx="4972680" cy="2538360"/>
              <a:chOff x="2057400" y="3318840"/>
              <a:chExt cx="4972680" cy="2538360"/>
            </a:xfrm>
          </p:grpSpPr>
          <p:sp>
            <p:nvSpPr>
              <p:cNvPr id="61" name="Freeform 25"/>
              <p:cNvSpPr/>
              <p:nvPr/>
            </p:nvSpPr>
            <p:spPr>
              <a:xfrm flipV="1">
                <a:off x="2057400" y="33184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6"/>
              <p:cNvSpPr/>
              <p:nvPr/>
            </p:nvSpPr>
            <p:spPr>
              <a:xfrm flipV="1" rot="19792200">
                <a:off x="2533680" y="3868200"/>
                <a:ext cx="249804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7"/>
              <p:cNvSpPr/>
              <p:nvPr/>
            </p:nvSpPr>
            <p:spPr>
              <a:xfrm flipV="1">
                <a:off x="3311640" y="3335040"/>
                <a:ext cx="1236600" cy="252216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8"/>
              <p:cNvSpPr/>
              <p:nvPr/>
            </p:nvSpPr>
            <p:spPr>
              <a:xfrm flipH="1" flipV="1">
                <a:off x="4532400" y="33184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9"/>
              <p:cNvSpPr/>
              <p:nvPr/>
            </p:nvSpPr>
            <p:spPr>
              <a:xfrm flipH="1" flipV="1" rot="1807800">
                <a:off x="4055760" y="3868200"/>
                <a:ext cx="249804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30"/>
              <p:cNvSpPr/>
              <p:nvPr/>
            </p:nvSpPr>
            <p:spPr>
              <a:xfrm flipH="1" flipV="1">
                <a:off x="4538160" y="3335040"/>
                <a:ext cx="1236600" cy="252216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6"/>
          <p:cNvGrpSpPr/>
          <p:nvPr/>
        </p:nvGrpSpPr>
        <p:grpSpPr>
          <a:xfrm>
            <a:off x="1615320" y="383040"/>
            <a:ext cx="6198840" cy="3054960"/>
            <a:chOff x="1615320" y="383040"/>
            <a:chExt cx="6198840" cy="3054960"/>
          </a:xfrm>
        </p:grpSpPr>
        <p:sp>
          <p:nvSpPr>
            <p:cNvPr id="68" name="Freeform 3"/>
            <p:cNvSpPr/>
            <p:nvPr/>
          </p:nvSpPr>
          <p:spPr>
            <a:xfrm rot="1211400">
              <a:off x="1752480" y="1733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4"/>
            <p:cNvSpPr/>
            <p:nvPr/>
          </p:nvSpPr>
          <p:spPr>
            <a:xfrm rot="2385600">
              <a:off x="2437920" y="12002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 rot="188400">
              <a:off x="3335040" y="4377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flipH="1" rot="20106000">
              <a:off x="5181120" y="173304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7"/>
            <p:cNvSpPr/>
            <p:nvPr/>
          </p:nvSpPr>
          <p:spPr>
            <a:xfrm flipH="1" rot="18993000">
              <a:off x="4419000" y="119988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 flipH="1" rot="21256800">
              <a:off x="4723920" y="438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1614960" y="3477240"/>
            <a:ext cx="6199560" cy="3054960"/>
            <a:chOff x="1614960" y="3477240"/>
            <a:chExt cx="6199560" cy="3054960"/>
          </a:xfrm>
        </p:grpSpPr>
        <p:sp>
          <p:nvSpPr>
            <p:cNvPr id="75" name="Freeform 18"/>
            <p:cNvSpPr/>
            <p:nvPr/>
          </p:nvSpPr>
          <p:spPr>
            <a:xfrm flipV="1" rot="20388600">
              <a:off x="1752480" y="3943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9"/>
            <p:cNvSpPr/>
            <p:nvPr/>
          </p:nvSpPr>
          <p:spPr>
            <a:xfrm flipV="1" rot="19214400">
              <a:off x="2437560" y="44762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 flipV="1" rot="21411600">
              <a:off x="3335040" y="39877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 flipH="1" flipV="1" rot="1494000">
              <a:off x="5181120" y="394308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 flipH="1" flipV="1" rot="2607000">
              <a:off x="4418280" y="44762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 flipH="1" flipV="1" rot="343200">
              <a:off x="4723920" y="3987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9"/>
          <p:cNvGrpSpPr/>
          <p:nvPr/>
        </p:nvGrpSpPr>
        <p:grpSpPr>
          <a:xfrm>
            <a:off x="981360" y="285120"/>
            <a:ext cx="7339680" cy="3169440"/>
            <a:chOff x="981360" y="285120"/>
            <a:chExt cx="7339680" cy="3169440"/>
          </a:xfrm>
        </p:grpSpPr>
        <p:sp>
          <p:nvSpPr>
            <p:cNvPr id="82" name="Freeform 3"/>
            <p:cNvSpPr/>
            <p:nvPr/>
          </p:nvSpPr>
          <p:spPr>
            <a:xfrm rot="3217200">
              <a:off x="973080" y="14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 rot="3763800">
              <a:off x="2034360" y="115380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 rot="602400">
              <a:off x="3201480" y="380880"/>
              <a:ext cx="1233000" cy="24944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flipH="1" rot="18318000">
              <a:off x="5848200" y="14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flipH="1" rot="17936400">
              <a:off x="4779720" y="115380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flipH="1" rot="20931000">
              <a:off x="4879800" y="380520"/>
              <a:ext cx="1233000" cy="24948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0"/>
          <p:cNvGrpSpPr/>
          <p:nvPr/>
        </p:nvGrpSpPr>
        <p:grpSpPr>
          <a:xfrm>
            <a:off x="1058040" y="3403800"/>
            <a:ext cx="7339320" cy="3169080"/>
            <a:chOff x="1058040" y="3403800"/>
            <a:chExt cx="7339320" cy="3169080"/>
          </a:xfrm>
        </p:grpSpPr>
        <p:sp>
          <p:nvSpPr>
            <p:cNvPr id="89" name="Freeform 11"/>
            <p:cNvSpPr/>
            <p:nvPr/>
          </p:nvSpPr>
          <p:spPr>
            <a:xfrm flipV="1" rot="18382800">
              <a:off x="1049400" y="4159080"/>
              <a:ext cx="24926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 flipV="1" rot="17836200">
              <a:off x="2110680" y="446436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 flipV="1" rot="20997600">
              <a:off x="3277800" y="3982320"/>
              <a:ext cx="1233000" cy="24944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 flipH="1" flipV="1" rot="3282000">
              <a:off x="5924520" y="41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 flipH="1" flipV="1" rot="3663600">
              <a:off x="4856040" y="446436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 flipH="1" flipV="1" rot="669000">
              <a:off x="4956120" y="3981960"/>
              <a:ext cx="1233000" cy="24948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0"/>
          <p:cNvGrpSpPr/>
          <p:nvPr/>
        </p:nvGrpSpPr>
        <p:grpSpPr>
          <a:xfrm>
            <a:off x="592200" y="397080"/>
            <a:ext cx="7673760" cy="2742480"/>
            <a:chOff x="592200" y="397080"/>
            <a:chExt cx="7673760" cy="2742480"/>
          </a:xfrm>
        </p:grpSpPr>
        <p:sp>
          <p:nvSpPr>
            <p:cNvPr id="97" name="Freeform 3"/>
            <p:cNvSpPr/>
            <p:nvPr/>
          </p:nvSpPr>
          <p:spPr>
            <a:xfrm rot="4428600">
              <a:off x="289440" y="11516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 rot="4482000">
              <a:off x="1503000" y="11545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 rot="921000">
              <a:off x="2854080" y="5281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 flipH="1" rot="17172000">
              <a:off x="6078960" y="11451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 flipH="1" rot="17055600">
              <a:off x="4781880" y="11502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 flipH="1" rot="20733600">
              <a:off x="4690440" y="5328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591840" y="3556800"/>
            <a:ext cx="7674480" cy="2742120"/>
            <a:chOff x="591840" y="3556800"/>
            <a:chExt cx="7674480" cy="2742120"/>
          </a:xfrm>
        </p:grpSpPr>
        <p:sp>
          <p:nvSpPr>
            <p:cNvPr id="104" name="Freeform 12"/>
            <p:cNvSpPr/>
            <p:nvPr/>
          </p:nvSpPr>
          <p:spPr>
            <a:xfrm flipV="1" rot="17171400">
              <a:off x="289440" y="43041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 flipV="1" rot="17118000">
              <a:off x="1503000" y="43023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 flipV="1" rot="20679000">
              <a:off x="2853720" y="36766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flipH="1" flipV="1" rot="4428000">
              <a:off x="6078960" y="43110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flipH="1" flipV="1" rot="4544400">
              <a:off x="4782240" y="43066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7"/>
            <p:cNvSpPr/>
            <p:nvPr/>
          </p:nvSpPr>
          <p:spPr>
            <a:xfrm flipH="1" flipV="1" rot="866400">
              <a:off x="4690440" y="36720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449280" y="597240"/>
            <a:ext cx="7674120" cy="2742120"/>
            <a:chOff x="449280" y="597240"/>
            <a:chExt cx="7674120" cy="2742120"/>
          </a:xfrm>
        </p:grpSpPr>
        <p:sp>
          <p:nvSpPr>
            <p:cNvPr id="111" name="Freeform 3"/>
            <p:cNvSpPr/>
            <p:nvPr/>
          </p:nvSpPr>
          <p:spPr>
            <a:xfrm rot="4428600">
              <a:off x="146520" y="135180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 rot="4482000">
              <a:off x="1360080" y="135468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 rot="921000">
              <a:off x="2710800" y="72828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 flipH="1" rot="17172000">
              <a:off x="5936040" y="134532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 flipH="1" rot="17055600">
              <a:off x="4639320" y="135036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 flipH="1" rot="20733600">
              <a:off x="4547520" y="73296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848520" y="3384720"/>
            <a:ext cx="7674120" cy="2742480"/>
            <a:chOff x="848520" y="3384720"/>
            <a:chExt cx="7674120" cy="2742480"/>
          </a:xfrm>
        </p:grpSpPr>
        <p:sp>
          <p:nvSpPr>
            <p:cNvPr id="118" name="Freeform 10"/>
            <p:cNvSpPr/>
            <p:nvPr/>
          </p:nvSpPr>
          <p:spPr>
            <a:xfrm flipV="1" rot="17171400">
              <a:off x="546120" y="4132800"/>
              <a:ext cx="248904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V="1" rot="17118000">
              <a:off x="1760040" y="412992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V="1" rot="20679000">
              <a:off x="3111120" y="3504960"/>
              <a:ext cx="123300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 flipV="1" rot="4428000">
              <a:off x="6335280" y="413928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 flipV="1" rot="4544400">
              <a:off x="5038920" y="41342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 flipV="1" rot="866400">
              <a:off x="4948200" y="3499560"/>
              <a:ext cx="123300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63600" y="883080"/>
            <a:ext cx="7674120" cy="2742120"/>
            <a:chOff x="363600" y="883080"/>
            <a:chExt cx="7674120" cy="2742120"/>
          </a:xfrm>
        </p:grpSpPr>
        <p:sp>
          <p:nvSpPr>
            <p:cNvPr id="125" name="Freeform 3"/>
            <p:cNvSpPr/>
            <p:nvPr/>
          </p:nvSpPr>
          <p:spPr>
            <a:xfrm rot="4428600">
              <a:off x="60840" y="163764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rot="4482000">
              <a:off x="1274400" y="164052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 rot="921000">
              <a:off x="2625120" y="101412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flipH="1" rot="17172000">
              <a:off x="5850360" y="163116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 flipH="1" rot="17055600">
              <a:off x="4553640" y="163620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 flipH="1" rot="20733600">
              <a:off x="4461840" y="10188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963360" y="3099600"/>
            <a:ext cx="7674480" cy="2742120"/>
            <a:chOff x="963360" y="3099600"/>
            <a:chExt cx="7674480" cy="2742120"/>
          </a:xfrm>
        </p:grpSpPr>
        <p:sp>
          <p:nvSpPr>
            <p:cNvPr id="132" name="Freeform 10"/>
            <p:cNvSpPr/>
            <p:nvPr/>
          </p:nvSpPr>
          <p:spPr>
            <a:xfrm flipV="1" rot="17171400">
              <a:off x="660960" y="38469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 flipV="1" rot="17118000">
              <a:off x="1874520" y="38451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 flipV="1" rot="20679000">
              <a:off x="3225240" y="32194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3"/>
            <p:cNvSpPr/>
            <p:nvPr/>
          </p:nvSpPr>
          <p:spPr>
            <a:xfrm flipH="1" flipV="1" rot="4428000">
              <a:off x="6450480" y="38538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 flipH="1" flipV="1" rot="4544400">
              <a:off x="5153760" y="38494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 flipH="1" flipV="1" rot="866400">
              <a:off x="5061960" y="32148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63600" y="1168920"/>
            <a:ext cx="7674120" cy="2742120"/>
            <a:chOff x="363600" y="1168920"/>
            <a:chExt cx="7674120" cy="2742120"/>
          </a:xfrm>
        </p:grpSpPr>
        <p:sp>
          <p:nvSpPr>
            <p:cNvPr id="139" name="Freeform 3"/>
            <p:cNvSpPr/>
            <p:nvPr/>
          </p:nvSpPr>
          <p:spPr>
            <a:xfrm rot="4428600">
              <a:off x="60840" y="192348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 rot="4482000">
              <a:off x="1274400" y="19263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 rot="921000">
              <a:off x="2625120" y="129996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 flipH="1" rot="17172000">
              <a:off x="5850360" y="19170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 flipH="1" rot="17055600">
              <a:off x="4553640" y="192204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 flipH="1" rot="20733600">
              <a:off x="4461840" y="130464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934920" y="2842200"/>
            <a:ext cx="7674480" cy="2742120"/>
            <a:chOff x="934920" y="2842200"/>
            <a:chExt cx="7674480" cy="2742120"/>
          </a:xfrm>
        </p:grpSpPr>
        <p:sp>
          <p:nvSpPr>
            <p:cNvPr id="146" name="Freeform 10"/>
            <p:cNvSpPr/>
            <p:nvPr/>
          </p:nvSpPr>
          <p:spPr>
            <a:xfrm flipV="1" rot="17171400">
              <a:off x="632520" y="35895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flipV="1" rot="17118000">
              <a:off x="1846080" y="35877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 flipV="1" rot="20679000">
              <a:off x="3196800" y="29620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 flipH="1" flipV="1" rot="4428000">
              <a:off x="6422040" y="35964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 flipH="1" flipV="1" rot="4544400">
              <a:off x="5125320" y="35920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 flipH="1" flipV="1" rot="866400">
              <a:off x="5033520" y="29574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3:38:12Z</dcterms:created>
  <dc:creator/>
  <dc:description/>
  <cp:keywords>幻灯片之家 http:/www.eeppt.com</cp:keywords>
  <dc:language>en-US</dc:language>
  <cp:lastModifiedBy/>
  <dcterms:modified xsi:type="dcterms:W3CDTF">2015-07-20T05:22:31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