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4C0-D3AE-457C-888B-2418495A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BD1-8B7A-4491-B18E-AB31959A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080-6C57-44B6-A6EF-FE84AC43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174-155F-489D-A11E-8C6B7E2C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D38-085E-4AD4-A2CE-73135F63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D72-8167-425A-92BC-A5A62E9C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FCA-27A5-4F46-98C9-94BE1467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6BC-77AC-4434-927C-2A1CBBA2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947-DB2F-45E2-BC2A-1143C2A7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37F-6A47-4B09-BEED-661BADCB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6B4-5164-4E9D-BC74-3B9094D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7AE-FAB3-4092-8027-CBE7B3C3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0854-7A88-4739-98CB-5F7A06637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6084720" y="426708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---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老舍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75440" y="1486080"/>
            <a:ext cx="187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《养花》课件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PT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676520" y="60948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忧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，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笑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泪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375000" y="754200"/>
            <a:ext cx="2949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200400" y="609480"/>
            <a:ext cx="2759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676520" y="22096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花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，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香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色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676520" y="37339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既须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劳动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，又长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见识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 flipH="1" flipV="1">
            <a:off x="9470880" y="350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676520" y="52578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这就是养花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乐趣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90920" y="1447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华文细黑"/>
              </a:rPr>
              <a:t>（对花的感情）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590920" y="3048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华文细黑"/>
              </a:rPr>
              <a:t>（劳动的成果）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590920" y="46483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华文细黑"/>
              </a:rPr>
              <a:t>（养花的意义）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14" name="Picture 17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2120" y="53341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67480" y="53341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2514600" y="838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中心思想</a:t>
            </a:r>
            <a:endParaRPr b="1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09480" y="25146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作者通过自己的养花实践，切身体会到养花的乐趣：有喜有忧，有笑有泪，有花有果，有香有色。既须劳动，又长见识。表达了作者对生活对劳动的赞美之情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19" name="Picture 6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85800" y="55627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:\素材库\图案\按钮背景\button103.gif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543800" y="5562720"/>
            <a:ext cx="674640" cy="674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573408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68360" y="692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经典粗圆简"/>
              </a:rPr>
              <a:t>课文分为几部分？每一部分都写了什么意思？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423720" y="1413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趣体简"/>
              </a:rPr>
              <a:t>第一部分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595680" y="1413000"/>
            <a:ext cx="55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讲“我”把养花当作一种乐趣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92040" y="2271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趣体简"/>
              </a:rPr>
              <a:t>第二部分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21040" y="2271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具体讲养花的乐趣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52440" y="314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趣体简"/>
              </a:rPr>
              <a:t>第三部分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81440" y="3146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总结养花的乐趣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328840" y="1413000"/>
            <a:ext cx="1219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328840" y="1413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144880" y="22716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--6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181240" y="31464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257560" y="314640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2257560" y="3146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8" name="Picture 17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3280" y="55627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5627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24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奇花异草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是什么意思？作者养的花草有什么特点？为什么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0" y="2362320"/>
            <a:ext cx="914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“奇花异草”就是稀有罕见的珍贵花草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0" y="3276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作者的花草都是“好种易活”、“自己会奋斗”的，因为北京的气候不容易使南方的好花存活，而看着花草生病要死“是件难过的事”，所以作者没有奇花异草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28600" y="61722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5" name="Picture 17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53341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置之不理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是什么意思？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自生自灭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又是什么意思？作者认为养花应该采取什么样的态度？作者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摸着了一些门道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，这些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门道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指什么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2819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“置之不理”就是放在一边不去管它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30481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3733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“自生自灭”是任其自然生长，自然死亡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0" y="47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养花不能对花置之不理，而要“天天照管它们，好象朋友似的关切它们”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73" name="Picture 7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5334120"/>
            <a:ext cx="674640" cy="674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453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作者为什么说他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可得感谢它们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？用课文里的话说一说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304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作者因为养花而受益：让脑力劳动和体力劳动得到适当的调节，有益身心，胜于吃药。）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79" name="Picture 4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3341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010280" y="53341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1314360" y="14270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动员全家抢救花草，十分紧张，使人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腰酸腿疼，热汗直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。作者两次使用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腰酸腿疼，热汗直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。你认为作者是在抱怨养花的劳累吗？为什么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经典楷体简"/>
              </a:rPr>
              <a:t>（作者不但没有抱怨养花的劳累，而是从中感受到了劳动的快乐，虽然很累，很紧张，但却感到“多么有意思呀”，从养花的辛苦中体会到了乐趣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85" name="Picture 4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48640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010280" y="548640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什么是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秉烛夜游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？作者在照管花的过程中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摸到了一些门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是什么意思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23623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经典楷体简"/>
              </a:rPr>
              <a:t>（“秉烛夜游”指举着灯烛在夜间游赏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经典楷体简"/>
              </a:rPr>
              <a:t>（作者养花能够得到别人的赞赏，并与朋友分享劳动果实，“心里自然特别喜欢”，这也是养花给作者带来的乐趣。摸着了一些门道是指增长了一些养花的知识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91" name="Picture 5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934320" y="5562720"/>
            <a:ext cx="674640" cy="674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920" y="6453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11430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6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为什么作者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也有伤心的时候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？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24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经典楷体简"/>
              </a:rPr>
              <a:t>（当花受到摧残时，养花的人难免忧郁和伤心。这说明作者已经对花产生了一种特殊的感情，也说明了作者酷爱养花的程度。）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98" name="Picture 12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019920" y="472428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AF4-B3D9-45F5-99ED-6E2D5F0129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5:10:38Z</dcterms:created>
  <dc:creator/>
  <dc:description/>
  <cp:keywords>幻灯片之家 http:/www.eeppt.com</cp:keywords>
  <dc:language>en-US</dc:language>
  <cp:lastModifiedBy/>
  <dcterms:modified xsi:type="dcterms:W3CDTF">2015-07-20T01:57:06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