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himes.wav" ContentType="audio/x-wav"/>
  <Override PartName="/ppt/media/camera.wav" ContentType="audio/x-wav"/>
  <Override PartName="/ppt/media/image5.wmf" ContentType="image/x-wmf"/>
  <Override PartName="/ppt/media/image7.jpeg" ContentType="image/jpeg"/>
  <Override PartName="/ppt/media/type.wav" ContentType="audio/x-wav"/>
  <Override PartName="/ppt/media/drumroll.wav" ContentType="audio/x-wav"/>
  <Override PartName="/ppt/media/image2.wmf" ContentType="image/x-wmf"/>
  <Override PartName="/ppt/media/image3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BEF-722B-4D8B-8854-0D851059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39E-450A-4F77-A41F-A1B90F3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7B1-B77C-4BA7-BFDB-26A55175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CAD-DC0A-4AA4-BE79-62C79941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5D0A-EF75-4569-836E-945D04CC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783-EFB3-4CFE-A064-FD19AAB2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7F78-C9DF-485B-A8D3-0036C505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31F1-7994-4A1F-8032-00C2408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E473-FCA8-49A6-A6A4-F6407D78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88F7-E865-4B24-A495-A5CFC8A3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E5F3-8470-4BB5-B124-19C0F15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475-EF11-45CF-997E-27E02806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15FD-1F72-4D48-9EAC-AB941C5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36F2-004F-4701-B037-74B49D9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5908-0EEC-4486-8D07-25A222CC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0572-E48C-4783-B11D-AEC972E8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308F-C5CD-4E1B-A952-5F748B23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400FD-DE34-4C75-A696-3360B91D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4075-09B3-44E2-80E4-1175FBCF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91D9-C3DC-4530-B9FB-EF3C3F94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3E30-95B8-45FB-8853-51CE611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5548-E4FF-46ED-9DF5-19052FA3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677-883C-43AE-B46C-4810E056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16B9-45D2-439B-A808-A436CA4F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D687-BD9E-4F21-AA18-D55800C8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75D5-E14C-4DCC-B505-1777438F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FE4D3-780E-4A66-8C93-E111D76F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76FE-DF38-4A70-910C-E7C8BEEC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59C3-A4E9-4D49-A8C6-CD6F88A1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8E1D-75D6-416E-934F-A3E22F0B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E61-9154-4FFD-AE54-181E7A7B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41C-04A4-41DE-878A-72C3DD53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D81-C035-4172-9C2F-A3A5AC2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7A4-AE10-4A04-B5FE-41AF1E95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918-38ED-4883-A0AA-11F9F87A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2CD-13EC-41BA-A8C6-72FA11A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矩形 18434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矩形 18435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矩形 18436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矩形 18437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矩形 18438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矩形 18439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矩形 18440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矩形 18441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矩形 18442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矩形 18443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矩形 18444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" name="组合 18445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矩形 18446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矩形 18447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A5DF-3BBA-4710-BA67-293AB4536285}" type="slidenum"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组合 18452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矩形 18453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矩形 18454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矩形 18455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矩形 18456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9A5-E082-40BD-86C4-E03A9552207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BC21-B84C-42AB-8F88-E2A5C0F78C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895480" y="4303800"/>
            <a:ext cx="3276720" cy="360"/>
            <a:chOff x="2895480" y="4303800"/>
            <a:chExt cx="3276720" cy="360"/>
          </a:xfrm>
        </p:grpSpPr>
        <p:sp>
          <p:nvSpPr>
            <p:cNvPr id="102" name="直接连接符 19457"/>
            <p:cNvSpPr/>
            <p:nvPr/>
          </p:nvSpPr>
          <p:spPr>
            <a:xfrm>
              <a:off x="2895480" y="4303800"/>
              <a:ext cx="3276720" cy="0"/>
            </a:xfrm>
            <a:prstGeom prst="line">
              <a:avLst/>
            </a:prstGeom>
            <a:ln w="381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895480" y="430380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矩形 19460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组合 19461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106" name="矩形 19462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矩形 19463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矩形 19464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矩形 19465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矩形 19466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矩形 19467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组合 19468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113" name="矩形 19469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矩形 19470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矩形 19471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矩形 19472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矩形 19473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矩形 19474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矩形 19475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矩形 19476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矩形 19477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EE30-F7A0-45F7-9422-6862321D1F3F}" type="slidenum">
              <a:rPr b="1" lang="zh-CN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XX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市英语培训市场调查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3078"/>
          <p:cNvSpPr/>
          <p:nvPr/>
        </p:nvSpPr>
        <p:spPr>
          <a:xfrm>
            <a:off x="1981080" y="4800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方正舒体"/>
              </a:rPr>
              <a:t>XX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大学英语培训市场调查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94920" y="9144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现状调查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346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的种类也多种多样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联机映像占位符 53252" descr=""/>
          <p:cNvPicPr/>
          <p:nvPr/>
        </p:nvPicPr>
        <p:blipFill>
          <a:blip r:embed="rId1"/>
          <a:stretch/>
        </p:blipFill>
        <p:spPr>
          <a:xfrm>
            <a:off x="3048120" y="3025800"/>
            <a:ext cx="6095880" cy="3832200"/>
          </a:xfrm>
          <a:prstGeom prst="rect">
            <a:avLst/>
          </a:prstGeom>
          <a:ln w="0">
            <a:noFill/>
          </a:ln>
        </p:spPr>
      </p:pic>
      <p:sp>
        <p:nvSpPr>
          <p:cNvPr id="244" name="矩形 53253"/>
          <p:cNvSpPr/>
          <p:nvPr/>
        </p:nvSpPr>
        <p:spPr>
          <a:xfrm>
            <a:off x="1295280" y="342900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选择培训机构的影响因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矩形 53254"/>
          <p:cNvSpPr/>
          <p:nvPr/>
        </p:nvSpPr>
        <p:spPr>
          <a:xfrm>
            <a:off x="1295280" y="419112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消费者还对培训机构的收费情况有所要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矩形 53255"/>
          <p:cNvSpPr/>
          <p:nvPr/>
        </p:nvSpPr>
        <p:spPr>
          <a:xfrm>
            <a:off x="1295280" y="541008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参加培训的目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矩形 53256"/>
          <p:cNvSpPr/>
          <p:nvPr/>
        </p:nvSpPr>
        <p:spPr>
          <a:xfrm>
            <a:off x="1295280" y="594360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消费者满意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对象 53257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潜力调查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英语是否可以速成（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有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人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1.4%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的消费者认为英语不能速成，而有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9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人（占样本总数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8.6%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）认为可以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矩形 58372"/>
          <p:cNvSpPr/>
          <p:nvPr/>
        </p:nvSpPr>
        <p:spPr>
          <a:xfrm>
            <a:off x="1295280" y="37339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自身英语水平的好坏（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认为自身英语水平很好的有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人，占到样本总体的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3.9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；认为好的有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28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人占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27.45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；认为一般的有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53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人占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51.96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；认为不好的有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17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人占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16.67%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矩形 58373"/>
          <p:cNvSpPr/>
          <p:nvPr/>
        </p:nvSpPr>
        <p:spPr>
          <a:xfrm>
            <a:off x="1295280" y="5410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英语市场前景（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51.0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的样本认为前景非常好；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30.4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认为好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15.7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认为一般；只有约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3.0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的样本认为不好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对象 58374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2578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第三部分    结论与建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4038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英语是衡量一个高素质人才的重要标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矩形 46084"/>
          <p:cNvSpPr/>
          <p:nvPr/>
        </p:nvSpPr>
        <p:spPr>
          <a:xfrm>
            <a:off x="1295280" y="3886200"/>
            <a:ext cx="4038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建立有序的英语培训市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矩形 46085"/>
          <p:cNvSpPr/>
          <p:nvPr/>
        </p:nvSpPr>
        <p:spPr>
          <a:xfrm>
            <a:off x="1295280" y="4724280"/>
            <a:ext cx="3467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培训师资专业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矩形 46086"/>
          <p:cNvSpPr/>
          <p:nvPr/>
        </p:nvSpPr>
        <p:spPr>
          <a:xfrm>
            <a:off x="1295280" y="5410080"/>
            <a:ext cx="3467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消费者的权利意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文本框 57353"/>
          <p:cNvSpPr/>
          <p:nvPr/>
        </p:nvSpPr>
        <p:spPr>
          <a:xfrm>
            <a:off x="1905120" y="34290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66"/>
                </a:solidFill>
                <a:latin typeface="Tahoma"/>
                <a:ea typeface="方正舒体"/>
              </a:rPr>
              <a:t>谢谢大家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1599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第一部分    调查概况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文本框 38915"/>
          <p:cNvSpPr/>
          <p:nvPr/>
        </p:nvSpPr>
        <p:spPr>
          <a:xfrm>
            <a:off x="1828800" y="2666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背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38918"/>
          <p:cNvSpPr/>
          <p:nvPr/>
        </p:nvSpPr>
        <p:spPr>
          <a:xfrm>
            <a:off x="182880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研究目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文本框 38921"/>
          <p:cNvSpPr/>
          <p:nvPr/>
        </p:nvSpPr>
        <p:spPr>
          <a:xfrm>
            <a:off x="1828800" y="4267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调查实施说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信息时代，知识爆炸，活到老学到老已成为共识。人们对知识的渴求刺激了培训市场的发展。随着北京申奥的成功和中国加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TO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，英语培训市场的发展更是火热。对英语培训市场的调查，可以给人们提供一些合理的建议和参考，减少培训的盲目性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背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矩形 41990"/>
          <p:cNvSpPr/>
          <p:nvPr/>
        </p:nvSpPr>
        <p:spPr>
          <a:xfrm>
            <a:off x="346248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矩形 41997"/>
          <p:cNvSpPr/>
          <p:nvPr/>
        </p:nvSpPr>
        <p:spPr>
          <a:xfrm>
            <a:off x="1170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235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市场的现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市场的潜力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市场存在的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市场的前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研究目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4920" y="160020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样本设计（分层随即抽样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组合 51251"/>
          <p:cNvGrpSpPr/>
          <p:nvPr/>
        </p:nvGrpSpPr>
        <p:grpSpPr>
          <a:xfrm>
            <a:off x="914400" y="3276720"/>
            <a:ext cx="7772040" cy="1228680"/>
            <a:chOff x="914400" y="3276720"/>
            <a:chExt cx="7772040" cy="1228680"/>
          </a:xfrm>
        </p:grpSpPr>
        <p:grpSp>
          <p:nvGrpSpPr>
            <p:cNvPr id="178" name="组合 51249"/>
            <p:cNvGrpSpPr/>
            <p:nvPr/>
          </p:nvGrpSpPr>
          <p:grpSpPr>
            <a:xfrm>
              <a:off x="921600" y="3279600"/>
              <a:ext cx="7756560" cy="1222200"/>
              <a:chOff x="921600" y="3279600"/>
              <a:chExt cx="7756560" cy="1222200"/>
            </a:xfrm>
          </p:grpSpPr>
          <p:grpSp>
            <p:nvGrpSpPr>
              <p:cNvPr id="179" name="组合 51220"/>
              <p:cNvGrpSpPr/>
              <p:nvPr/>
            </p:nvGrpSpPr>
            <p:grpSpPr>
              <a:xfrm>
                <a:off x="921600" y="3279600"/>
                <a:ext cx="1548000" cy="470160"/>
                <a:chOff x="921600" y="3279600"/>
                <a:chExt cx="1548000" cy="470160"/>
              </a:xfrm>
            </p:grpSpPr>
            <p:sp>
              <p:nvSpPr>
                <p:cNvPr id="180" name="矩形 51204"/>
                <p:cNvSpPr/>
                <p:nvPr/>
              </p:nvSpPr>
              <p:spPr>
                <a:xfrm>
                  <a:off x="1028160" y="3279600"/>
                  <a:ext cx="133452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矩形 51219"/>
                <p:cNvSpPr/>
                <p:nvPr/>
              </p:nvSpPr>
              <p:spPr>
                <a:xfrm>
                  <a:off x="921600" y="3279600"/>
                  <a:ext cx="154800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组合 51222"/>
              <p:cNvGrpSpPr/>
              <p:nvPr/>
            </p:nvGrpSpPr>
            <p:grpSpPr>
              <a:xfrm>
                <a:off x="2469960" y="3279600"/>
                <a:ext cx="1553040" cy="470160"/>
                <a:chOff x="2469960" y="3279600"/>
                <a:chExt cx="1553040" cy="470160"/>
              </a:xfrm>
            </p:grpSpPr>
            <p:sp>
              <p:nvSpPr>
                <p:cNvPr id="183" name="矩形 51205"/>
                <p:cNvSpPr/>
                <p:nvPr/>
              </p:nvSpPr>
              <p:spPr>
                <a:xfrm>
                  <a:off x="2576520" y="3279600"/>
                  <a:ext cx="133956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8</a:t>
                  </a:r>
                  <a:r>
                    <a:rPr b="0" lang="zh-CN" sz="2000" spc="-1" strike="noStrike">
                      <a:solidFill>
                        <a:srgbClr val="000066"/>
                      </a:solidFill>
                      <a:latin typeface="Times New Roman"/>
                    </a:rPr>
                    <a:t>岁以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矩形 51221"/>
                <p:cNvSpPr/>
                <p:nvPr/>
              </p:nvSpPr>
              <p:spPr>
                <a:xfrm>
                  <a:off x="2469960" y="3279600"/>
                  <a:ext cx="155304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组合 51224"/>
              <p:cNvGrpSpPr/>
              <p:nvPr/>
            </p:nvGrpSpPr>
            <p:grpSpPr>
              <a:xfrm>
                <a:off x="4023360" y="3279600"/>
                <a:ext cx="1550160" cy="470160"/>
                <a:chOff x="4023360" y="3279600"/>
                <a:chExt cx="1550160" cy="470160"/>
              </a:xfrm>
            </p:grpSpPr>
            <p:sp>
              <p:nvSpPr>
                <p:cNvPr id="186" name="矩形 51206"/>
                <p:cNvSpPr/>
                <p:nvPr/>
              </p:nvSpPr>
              <p:spPr>
                <a:xfrm>
                  <a:off x="4129920" y="3279600"/>
                  <a:ext cx="133740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8—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Arial"/>
                    </a:rPr>
                    <a:t>29</a:t>
                  </a:r>
                  <a:r>
                    <a:rPr b="0" lang="zh-CN" sz="2000" spc="-1" strike="noStrike">
                      <a:solidFill>
                        <a:srgbClr val="000066"/>
                      </a:solidFill>
                      <a:latin typeface="Arial"/>
                    </a:rPr>
                    <a:t>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矩形 51223"/>
                <p:cNvSpPr/>
                <p:nvPr/>
              </p:nvSpPr>
              <p:spPr>
                <a:xfrm>
                  <a:off x="4023360" y="3279600"/>
                  <a:ext cx="155016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组合 51226"/>
              <p:cNvGrpSpPr/>
              <p:nvPr/>
            </p:nvGrpSpPr>
            <p:grpSpPr>
              <a:xfrm>
                <a:off x="5573880" y="3279600"/>
                <a:ext cx="1550520" cy="470160"/>
                <a:chOff x="5573880" y="3279600"/>
                <a:chExt cx="1550520" cy="470160"/>
              </a:xfrm>
            </p:grpSpPr>
            <p:sp>
              <p:nvSpPr>
                <p:cNvPr id="189" name="矩形 51207"/>
                <p:cNvSpPr/>
                <p:nvPr/>
              </p:nvSpPr>
              <p:spPr>
                <a:xfrm>
                  <a:off x="5680440" y="3279600"/>
                  <a:ext cx="133704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30——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Arial"/>
                    </a:rPr>
                    <a:t>5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矩形 51225"/>
                <p:cNvSpPr/>
                <p:nvPr/>
              </p:nvSpPr>
              <p:spPr>
                <a:xfrm>
                  <a:off x="5573880" y="3279600"/>
                  <a:ext cx="155052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组合 51228"/>
              <p:cNvGrpSpPr/>
              <p:nvPr/>
            </p:nvGrpSpPr>
            <p:grpSpPr>
              <a:xfrm>
                <a:off x="7125120" y="3279600"/>
                <a:ext cx="1553040" cy="470160"/>
                <a:chOff x="7125120" y="3279600"/>
                <a:chExt cx="1553040" cy="470160"/>
              </a:xfrm>
            </p:grpSpPr>
            <p:sp>
              <p:nvSpPr>
                <p:cNvPr id="192" name="矩形 51208"/>
                <p:cNvSpPr/>
                <p:nvPr/>
              </p:nvSpPr>
              <p:spPr>
                <a:xfrm>
                  <a:off x="7231680" y="3279600"/>
                  <a:ext cx="133956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50</a:t>
                  </a:r>
                  <a:r>
                    <a:rPr b="0" lang="zh-CN" sz="2000" spc="-1" strike="noStrike">
                      <a:solidFill>
                        <a:srgbClr val="000066"/>
                      </a:solidFill>
                      <a:latin typeface="Times New Roman"/>
                    </a:rPr>
                    <a:t>岁以上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矩形 51227"/>
                <p:cNvSpPr/>
                <p:nvPr/>
              </p:nvSpPr>
              <p:spPr>
                <a:xfrm>
                  <a:off x="7125120" y="3279600"/>
                  <a:ext cx="155304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组合 51230"/>
              <p:cNvGrpSpPr/>
              <p:nvPr/>
            </p:nvGrpSpPr>
            <p:grpSpPr>
              <a:xfrm>
                <a:off x="921600" y="3749760"/>
                <a:ext cx="1548000" cy="375840"/>
                <a:chOff x="921600" y="3749760"/>
                <a:chExt cx="1548000" cy="375840"/>
              </a:xfrm>
            </p:grpSpPr>
            <p:sp>
              <p:nvSpPr>
                <p:cNvPr id="195" name="矩形 51209"/>
                <p:cNvSpPr/>
                <p:nvPr/>
              </p:nvSpPr>
              <p:spPr>
                <a:xfrm>
                  <a:off x="1028160" y="3749760"/>
                  <a:ext cx="133452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66"/>
                      </a:solidFill>
                      <a:latin typeface="Times New Roman"/>
                    </a:rPr>
                    <a:t>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矩形 51229"/>
                <p:cNvSpPr/>
                <p:nvPr/>
              </p:nvSpPr>
              <p:spPr>
                <a:xfrm>
                  <a:off x="921600" y="3749760"/>
                  <a:ext cx="154800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组合 51232"/>
              <p:cNvGrpSpPr/>
              <p:nvPr/>
            </p:nvGrpSpPr>
            <p:grpSpPr>
              <a:xfrm>
                <a:off x="2469960" y="3749760"/>
                <a:ext cx="1553040" cy="375840"/>
                <a:chOff x="2469960" y="3749760"/>
                <a:chExt cx="1553040" cy="375840"/>
              </a:xfrm>
            </p:grpSpPr>
            <p:sp>
              <p:nvSpPr>
                <p:cNvPr id="198" name="矩形 51210"/>
                <p:cNvSpPr/>
                <p:nvPr/>
              </p:nvSpPr>
              <p:spPr>
                <a:xfrm>
                  <a:off x="2576520" y="3749760"/>
                  <a:ext cx="133956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矩形 51231"/>
                <p:cNvSpPr/>
                <p:nvPr/>
              </p:nvSpPr>
              <p:spPr>
                <a:xfrm>
                  <a:off x="2469960" y="3749760"/>
                  <a:ext cx="155304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组合 51234"/>
              <p:cNvGrpSpPr/>
              <p:nvPr/>
            </p:nvGrpSpPr>
            <p:grpSpPr>
              <a:xfrm>
                <a:off x="4023360" y="3749760"/>
                <a:ext cx="1550160" cy="375840"/>
                <a:chOff x="4023360" y="3749760"/>
                <a:chExt cx="1550160" cy="375840"/>
              </a:xfrm>
            </p:grpSpPr>
            <p:sp>
              <p:nvSpPr>
                <p:cNvPr id="201" name="矩形 51211"/>
                <p:cNvSpPr/>
                <p:nvPr/>
              </p:nvSpPr>
              <p:spPr>
                <a:xfrm>
                  <a:off x="4129920" y="3749760"/>
                  <a:ext cx="133740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5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矩形 51233"/>
                <p:cNvSpPr/>
                <p:nvPr/>
              </p:nvSpPr>
              <p:spPr>
                <a:xfrm>
                  <a:off x="4023360" y="3749760"/>
                  <a:ext cx="155016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组合 51236"/>
              <p:cNvGrpSpPr/>
              <p:nvPr/>
            </p:nvGrpSpPr>
            <p:grpSpPr>
              <a:xfrm>
                <a:off x="5573880" y="3749760"/>
                <a:ext cx="1550520" cy="375840"/>
                <a:chOff x="5573880" y="3749760"/>
                <a:chExt cx="1550520" cy="375840"/>
              </a:xfrm>
            </p:grpSpPr>
            <p:sp>
              <p:nvSpPr>
                <p:cNvPr id="204" name="矩形 51212"/>
                <p:cNvSpPr/>
                <p:nvPr/>
              </p:nvSpPr>
              <p:spPr>
                <a:xfrm>
                  <a:off x="5680440" y="3749760"/>
                  <a:ext cx="133704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矩形 51235"/>
                <p:cNvSpPr/>
                <p:nvPr/>
              </p:nvSpPr>
              <p:spPr>
                <a:xfrm>
                  <a:off x="5573880" y="3749760"/>
                  <a:ext cx="155052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组合 51238"/>
              <p:cNvGrpSpPr/>
              <p:nvPr/>
            </p:nvGrpSpPr>
            <p:grpSpPr>
              <a:xfrm>
                <a:off x="7125120" y="3749760"/>
                <a:ext cx="1553040" cy="375840"/>
                <a:chOff x="7125120" y="3749760"/>
                <a:chExt cx="1553040" cy="375840"/>
              </a:xfrm>
            </p:grpSpPr>
            <p:sp>
              <p:nvSpPr>
                <p:cNvPr id="207" name="矩形 51213"/>
                <p:cNvSpPr/>
                <p:nvPr/>
              </p:nvSpPr>
              <p:spPr>
                <a:xfrm>
                  <a:off x="7231680" y="3749760"/>
                  <a:ext cx="133956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矩形 51237"/>
                <p:cNvSpPr/>
                <p:nvPr/>
              </p:nvSpPr>
              <p:spPr>
                <a:xfrm>
                  <a:off x="7125120" y="3749760"/>
                  <a:ext cx="155304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组合 51240"/>
              <p:cNvGrpSpPr/>
              <p:nvPr/>
            </p:nvGrpSpPr>
            <p:grpSpPr>
              <a:xfrm>
                <a:off x="921600" y="4125960"/>
                <a:ext cx="1548000" cy="375840"/>
                <a:chOff x="921600" y="4125960"/>
                <a:chExt cx="1548000" cy="375840"/>
              </a:xfrm>
            </p:grpSpPr>
            <p:sp>
              <p:nvSpPr>
                <p:cNvPr id="210" name="矩形 51214"/>
                <p:cNvSpPr/>
                <p:nvPr/>
              </p:nvSpPr>
              <p:spPr>
                <a:xfrm>
                  <a:off x="1028160" y="4125960"/>
                  <a:ext cx="133452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66"/>
                      </a:solidFill>
                      <a:latin typeface="Times New Roman"/>
                    </a:rPr>
                    <a:t>女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矩形 51239"/>
                <p:cNvSpPr/>
                <p:nvPr/>
              </p:nvSpPr>
              <p:spPr>
                <a:xfrm>
                  <a:off x="921600" y="4125960"/>
                  <a:ext cx="154800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组合 51242"/>
              <p:cNvGrpSpPr/>
              <p:nvPr/>
            </p:nvGrpSpPr>
            <p:grpSpPr>
              <a:xfrm>
                <a:off x="2469960" y="4125960"/>
                <a:ext cx="1553040" cy="375840"/>
                <a:chOff x="2469960" y="4125960"/>
                <a:chExt cx="1553040" cy="375840"/>
              </a:xfrm>
            </p:grpSpPr>
            <p:sp>
              <p:nvSpPr>
                <p:cNvPr id="213" name="矩形 51215"/>
                <p:cNvSpPr/>
                <p:nvPr/>
              </p:nvSpPr>
              <p:spPr>
                <a:xfrm>
                  <a:off x="2576520" y="4125960"/>
                  <a:ext cx="133956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矩形 51241"/>
                <p:cNvSpPr/>
                <p:nvPr/>
              </p:nvSpPr>
              <p:spPr>
                <a:xfrm>
                  <a:off x="2469960" y="4125960"/>
                  <a:ext cx="155304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组合 51244"/>
              <p:cNvGrpSpPr/>
              <p:nvPr/>
            </p:nvGrpSpPr>
            <p:grpSpPr>
              <a:xfrm>
                <a:off x="4023360" y="4125960"/>
                <a:ext cx="1550160" cy="375840"/>
                <a:chOff x="4023360" y="4125960"/>
                <a:chExt cx="1550160" cy="375840"/>
              </a:xfrm>
            </p:grpSpPr>
            <p:sp>
              <p:nvSpPr>
                <p:cNvPr id="216" name="矩形 51216"/>
                <p:cNvSpPr/>
                <p:nvPr/>
              </p:nvSpPr>
              <p:spPr>
                <a:xfrm>
                  <a:off x="4129920" y="4125960"/>
                  <a:ext cx="133740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5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矩形 51243"/>
                <p:cNvSpPr/>
                <p:nvPr/>
              </p:nvSpPr>
              <p:spPr>
                <a:xfrm>
                  <a:off x="4023360" y="4125960"/>
                  <a:ext cx="155016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组合 51246"/>
              <p:cNvGrpSpPr/>
              <p:nvPr/>
            </p:nvGrpSpPr>
            <p:grpSpPr>
              <a:xfrm>
                <a:off x="5573880" y="4125960"/>
                <a:ext cx="1550520" cy="375840"/>
                <a:chOff x="5573880" y="4125960"/>
                <a:chExt cx="1550520" cy="375840"/>
              </a:xfrm>
            </p:grpSpPr>
            <p:sp>
              <p:nvSpPr>
                <p:cNvPr id="219" name="矩形 51217"/>
                <p:cNvSpPr/>
                <p:nvPr/>
              </p:nvSpPr>
              <p:spPr>
                <a:xfrm>
                  <a:off x="5680440" y="4125960"/>
                  <a:ext cx="133704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矩形 51245"/>
                <p:cNvSpPr/>
                <p:nvPr/>
              </p:nvSpPr>
              <p:spPr>
                <a:xfrm>
                  <a:off x="5573880" y="4125960"/>
                  <a:ext cx="155052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组合 51248"/>
              <p:cNvGrpSpPr/>
              <p:nvPr/>
            </p:nvGrpSpPr>
            <p:grpSpPr>
              <a:xfrm>
                <a:off x="7125120" y="4125960"/>
                <a:ext cx="1553040" cy="375840"/>
                <a:chOff x="7125120" y="4125960"/>
                <a:chExt cx="1553040" cy="375840"/>
              </a:xfrm>
            </p:grpSpPr>
            <p:sp>
              <p:nvSpPr>
                <p:cNvPr id="222" name="矩形 51218"/>
                <p:cNvSpPr/>
                <p:nvPr/>
              </p:nvSpPr>
              <p:spPr>
                <a:xfrm>
                  <a:off x="7231680" y="4125960"/>
                  <a:ext cx="133956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矩形 51247"/>
                <p:cNvSpPr/>
                <p:nvPr/>
              </p:nvSpPr>
              <p:spPr>
                <a:xfrm>
                  <a:off x="7125120" y="4125960"/>
                  <a:ext cx="155304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" name="矩形 51250"/>
            <p:cNvSpPr/>
            <p:nvPr/>
          </p:nvSpPr>
          <p:spPr>
            <a:xfrm>
              <a:off x="914400" y="3276720"/>
              <a:ext cx="7772040" cy="122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矩形 51253"/>
          <p:cNvSpPr/>
          <p:nvPr/>
        </p:nvSpPr>
        <p:spPr>
          <a:xfrm>
            <a:off x="1295280" y="2286000"/>
            <a:ext cx="624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与英语培训市场有关的管理机构的纪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90720" y="18284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本次调查的对象是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市区有学习能力的人，鉴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大中专院校比较集中，且大学生群体是英语培训市场的主要消费群体这一客观现实。我们在样本的投放上侧重于年轻人，并且将大中专院校按照理工类、师范类、综合类进行分类，有重点的投放样本。调查总共发放了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1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问卷，其中问题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统计样本总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6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有效问卷率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97.1%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本次调查主要采用非随机的拦截法进行调查，在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交通大学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大学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工业大学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师范大学等大专院校；玉祥门广场、南门广场、新城广场等城市广场进行了调查。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 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调查实施说明（二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矩形 48134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矩形 48142"/>
          <p:cNvSpPr/>
          <p:nvPr/>
        </p:nvSpPr>
        <p:spPr>
          <a:xfrm>
            <a:off x="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组合 48146"/>
          <p:cNvGrpSpPr/>
          <p:nvPr/>
        </p:nvGrpSpPr>
        <p:grpSpPr>
          <a:xfrm>
            <a:off x="1200240" y="3108240"/>
            <a:ext cx="6743520" cy="641520"/>
            <a:chOff x="1200240" y="3108240"/>
            <a:chExt cx="6743520" cy="641520"/>
          </a:xfrm>
        </p:grpSpPr>
        <p:sp>
          <p:nvSpPr>
            <p:cNvPr id="231" name="矩形 48143"/>
            <p:cNvSpPr/>
            <p:nvPr/>
          </p:nvSpPr>
          <p:spPr>
            <a:xfrm>
              <a:off x="1200240" y="3108240"/>
              <a:ext cx="6743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矩形 48144"/>
            <p:cNvSpPr/>
            <p:nvPr/>
          </p:nvSpPr>
          <p:spPr>
            <a:xfrm>
              <a:off x="1200240" y="3108240"/>
              <a:ext cx="6743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057040"/>
            <a:ext cx="6933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问卷总计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个问题，分为被调查者的基本情况、现状调查、潜力调查、建议调查等四个部分。由于调查对象中大中专学生所占的比重比较大，而这一群体有没有实际的收入，这对调查分析差省一些不好的影响。还有，调查问卷的发放数量较少，有一些特殊消费群体（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以下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以上）没能完全反映在调查分析的结果中，这使调查结果所得数据不够准确，只能对培训市场大致现状及趋势的了解起参考作用，数据本身可信度较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 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调查实施说明（三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第二部分    主体问卷分析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第一部分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被调查者的基本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第二部分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现状调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第三部分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潜力调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第四部分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建议调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被调查者的基本情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我们所做的西安市英语培训市场调查总共选取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1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抽样，其中问题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统计样本总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6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。其中男性样本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0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女性样本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8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。年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----3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中有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32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小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1----6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。由于调查问卷数量有限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以上参加过英语培训的人群没有能覆盖到，在调查报告在主体问卷分析中暂不做分析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对象 52228" descr=""/>
          <p:cNvPicPr/>
          <p:nvPr/>
        </p:nvPicPr>
        <p:blipFill>
          <a:blip r:embed="rId1"/>
          <a:stretch/>
        </p:blipFill>
        <p:spPr>
          <a:xfrm>
            <a:off x="1447920" y="4387680"/>
            <a:ext cx="4681440" cy="2470320"/>
          </a:xfrm>
          <a:prstGeom prst="rect">
            <a:avLst/>
          </a:prstGeom>
          <a:ln w="0">
            <a:noFill/>
          </a:ln>
        </p:spPr>
      </p:pic>
      <p:pic>
        <p:nvPicPr>
          <p:cNvPr id="240" name="对象 52229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73152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9:48Z</dcterms:created>
  <dc:creator/>
  <dc:description/>
  <cp:keywords>市场调查 英语培训</cp:keywords>
  <dc:language>en-US</dc:language>
  <cp:lastModifiedBy>An</cp:lastModifiedBy>
  <dcterms:modified xsi:type="dcterms:W3CDTF">2016-05-01T00:59:4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