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64F-4FDA-4B5C-9E89-386DC56E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866-7007-4C07-B297-AECA169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EBA-F5EC-41ED-A767-923A4523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57D-8810-493F-A081-120F5AC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5BC-4AB3-40D2-A276-C24E4FBD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2032-3731-408E-889D-E86374C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E903-59E8-47CD-B201-2E6147F9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A308-9D5C-44BD-BBD3-8459187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F09-0ADE-4C68-899C-4251929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3D7-EA27-4B19-8F58-D1966C2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2DC8-6986-4689-90AD-539DA2F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7A1-5B57-40CA-8B26-5D7214D3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145C-4CAA-41F3-9056-3766CC4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51C-61C8-4263-9EA7-9B1F8F89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0DEF-B12B-4B4F-8B0F-8BF926E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724A-DE2D-4FEA-811F-9D9FC88C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BDDC-4FCE-46A4-90CD-05FA210A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EAE-DB42-4763-9ADF-6689046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8BB-4C39-49D3-81F5-27DD5C46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B99-F911-4AF5-9D2D-2DBC6A0D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D0A-43EC-4355-9166-7432FA3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6F4-D907-4E25-8515-1E3BE9C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F92-9CBF-4D27-9666-25D8E43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6B4-F7C2-4F0D-909F-595153D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8C4-5840-4D7A-AD77-7A3E4DCCDB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4C2D-EC77-41F3-9E07-449D7DF250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05C0-F8EB-49DE-B019-9853EC2F68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FC3-970E-413D-9654-EBCDD8C516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2093760" y="331920"/>
            <a:ext cx="48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汉真广标"/>
                <a:ea typeface="汉真广标"/>
              </a:rPr>
              <a:t>爱心医疗诊疗幻灯片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5F75-7A31-4D6B-8F81-C331EB28B7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2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