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443-75AD-4A34-A3DA-10BD2817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D29-A719-451B-B045-8643D0F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B23-FA83-4DFB-AF6A-0087A4A8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1C5-6507-4E1A-80F3-382E9F07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A3E-1E2B-477C-B8D2-B41E6D42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324-E00B-430D-9D33-DE4940C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7EA-4074-4CE7-BC2B-C8F407C2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0AF-D70C-4773-B1CD-06FB7BAF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96D-5094-44B6-AABD-ABBBC84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E17-88F9-48DE-9547-C52BFAF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C0C-F2FA-4311-B00E-BD77888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8A7-9AAD-4152-99CA-7E36568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8320" y="6244920"/>
            <a:ext cx="330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D807-19D6-4814-8628-CC607785B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0920" y="377640"/>
            <a:ext cx="604980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BMW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超级跑车发布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2972880" y="1844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超级跑车发布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620360" y="1557360"/>
            <a:ext cx="671508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餐饮酒店海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节海报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节贺卡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节创意海报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餐饮酒店海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节海报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节贺卡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圣诞节创意海报设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098"/>
          <p:cNvSpPr/>
          <p:nvPr/>
        </p:nvSpPr>
        <p:spPr>
          <a:xfrm>
            <a:off x="2268360" y="48690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5121" descr="图片3"/>
          <p:cNvPicPr/>
          <p:nvPr/>
        </p:nvPicPr>
        <p:blipFill>
          <a:blip r:embed="rId2"/>
          <a:stretch/>
        </p:blipFill>
        <p:spPr>
          <a:xfrm>
            <a:off x="2340000" y="1557360"/>
            <a:ext cx="56167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灯片编号占位符 1"/>
          <p:cNvSpPr/>
          <p:nvPr/>
        </p:nvSpPr>
        <p:spPr>
          <a:xfrm>
            <a:off x="7483320" y="6245280"/>
            <a:ext cx="2435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DA9-8663-4FD7-B9D5-4B529A0AB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145" descr="图片6"/>
          <p:cNvPicPr/>
          <p:nvPr/>
        </p:nvPicPr>
        <p:blipFill>
          <a:blip r:embed="rId2"/>
          <a:stretch/>
        </p:blipFill>
        <p:spPr>
          <a:xfrm>
            <a:off x="2484360" y="1700280"/>
            <a:ext cx="53992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6:06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1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