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06F-6F17-4195-B865-016D37A8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1C4-87CF-46C8-A94F-E0DA7C66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D35-F4D2-49E0-84DD-3DCE28CE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3FE-2A05-48D8-8B0C-845B4FE6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52A0-B213-4F5B-A47D-EB3CB722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0D3F-98CE-44CA-91CA-DFF8BD26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7482-B2FD-4765-891B-D2A0214F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D938-0785-4527-BD8D-24EAF947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D71E-60C8-43EA-8C7A-32AB0A9D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E690-6278-4DEF-9327-479D0FAF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6921-5795-4645-A14F-56DA3D45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B55-1208-4727-8361-5754428B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E720-0D45-43E1-A627-6277853A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7DB1-C488-4100-A53F-04680892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6B06-D139-4ED8-A56F-258FAA3C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B30E-B125-4E04-9DDF-6A54058D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1632-855F-4EF3-A0B6-B68DA2E7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E28-7A31-4866-BAD5-82DCB23E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665-6FB8-4A8A-B3F0-111FF0FF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6A0-7A79-4AD6-94AD-9B408694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223-B3F6-47DE-B2BC-0F7FD6EF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AD01-0AFB-44D1-B5BB-29CBDF48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A7C-A414-4F73-B6BD-2D0874F0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42A-E998-4C4F-93C0-9F8AE385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7ADD-FAD2-4154-967A-D55DC99FB5EF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68CD-BCB2-403C-AC4B-DEB27B4071D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10A4-80F5-453E-911F-122208B480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5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ESENTATION 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4720" y="2349000"/>
            <a:ext cx="496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881360" y="105264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微软雅黑"/>
                <a:ea typeface="微软雅黑"/>
              </a:rPr>
              <a:t>橙色简洁工作</a:t>
            </a:r>
            <a:r>
              <a:rPr b="1" lang="en-US" sz="4000" spc="-1" strike="noStrike">
                <a:solidFill>
                  <a:srgbClr val="990033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990033"/>
                </a:solidFill>
                <a:latin typeface="微软雅黑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5120" y="615600"/>
            <a:ext cx="7005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2707920"/>
            <a:ext cx="7139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43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43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43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43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43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198"/>
          <p:cNvSpPr/>
          <p:nvPr/>
        </p:nvSpPr>
        <p:spPr>
          <a:xfrm>
            <a:off x="684360" y="1125360"/>
            <a:ext cx="504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F296-8047-49BF-8D92-6836A68B40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" y="5876640"/>
            <a:ext cx="910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2007 Your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3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27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