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9A2-2043-40C2-ABDD-F8A2990D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5DA-25C3-459D-844E-D65D0C6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5C319-0828-4861-94C2-331064ED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1E8B4-1BAD-4C05-AC08-F67DF57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914A3-3B28-4720-B64D-92B16BC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AD270-1A9F-4986-9029-5CE5E63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B2810-DDBF-4FC5-ABF9-3D74AA1D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31322-685A-441A-A130-1B2A15A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17B81-BC56-42CB-A6F5-D6DABC0B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58CB2-309C-46B4-BB62-E43AAD5B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25CFC-875A-4EA0-A9F7-CBF62719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97DA0-DB59-4C05-8CFB-25392CF0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A96-810F-4FD6-B311-11EB2837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5AF70-1C1D-4294-B636-5DA965E2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D9DFB-DE81-4FBE-8B1A-F265D707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CD2D8-33FA-4F88-9941-F9FE94F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14FAC-0F4E-4293-80C4-29C89D7C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A10A2-F780-49A6-85EE-8BFEB45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A7323-4EF6-4FE9-97EA-2C68CDD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64BF1-650D-448C-9399-CF45555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51BBC-8E85-47A4-B71E-710386A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17EAF-5129-4E8C-B9A2-5A2C454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E69D1-C634-4FCF-A0BB-059C94E5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474-8089-4797-AA82-0A8E8438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DEF4A-1F9F-4239-B605-A4F30C44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5B604-EDD7-47ED-BEFB-E934681B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1564-8C19-4369-8379-759B7CE8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FF6FC-D12C-412A-A0F4-61F8D01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353C-A8F0-4B70-94F1-539A9A1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C1517-CF29-48F6-8A15-19CC2AA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640F1-185C-42D8-AB77-7E77285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F27C4-B65F-40BB-BA0B-D817375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607D7-109F-477E-B1D8-817625A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079C-2844-4323-8705-A2C67BD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EF2-6122-4E51-9E4C-1E74782B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AAAC-BF10-47EB-AEEA-34E9E0F6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A064-7366-4373-A8BA-1345E107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9734-4699-4FF5-AF63-45C5C1B0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A01DC-0600-4FDA-B3EC-CDB261E5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BA38F-1E3B-4815-A63A-C0809A8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24A4A-C691-4409-9AE1-7EEC5BB9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40140-D6AE-4E53-A4BD-16A56E5C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B7E92-1FA5-49AE-AF11-FBB7A75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500DF-EB6D-46DE-A19C-2FD925D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99D0C-1ED0-4607-8C5D-C970180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6BE9-D19E-426C-A6AB-69F2D395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0F9C0-80EF-4C51-BF35-C5A90AD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4A480-A27B-4352-8A6C-E35DF39C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5B94B-38C4-4D60-A82B-F431172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3CEA-4EFA-404E-B90C-2B2CE619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A4A67-D041-4C0D-8B2C-6EA9ED6E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F8806-85A0-4841-9E43-FE3AB65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89B4A-2895-4065-B5FC-C672611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8BD78-595C-462A-AF65-C309EBA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D5D92-F88E-413E-9635-6D3498B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080B3-F6D4-4AC1-980E-E02EB5B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9E11-FB50-4CE3-B993-FE0EDF6E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478A5-F747-4A1D-8E89-9B1E7AD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1358A-E573-4AF2-B9FF-5B4DD3C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95C5B-FFBC-4880-BDF1-1D4E54E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4C2A2-1132-4F4F-8FED-196A3A8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F79CD-1A65-49ED-9E0B-CA45E9DE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D7E3F-EEC6-4592-B29A-0CBB9611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1F30D-B260-4F23-9C80-FEA3F087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F39-3D41-49A0-90AB-045B5E8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5B16-08E5-469C-80ED-2BFD9C24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9EF-5848-4D5D-9267-EB36395A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0C88-B593-42A7-AFF6-A1D727A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B29-A247-44F1-91FD-DF0EEDC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7D62-1199-4AB9-A0FE-D486E67B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D912-C754-4796-9424-DF080E3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40A1-BD91-4D4C-A9D5-F9A7FC9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A85-F288-4E3F-8D3B-5DBBF89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F89-3189-46CB-8A74-19DAA83C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3017-9B3B-486B-8525-1692885E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EC79-BF82-4D5C-8AD3-E0874B99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A07C-C385-4C69-BE66-4703BD67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83C3-D11C-41B9-8FD0-C20C05A1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1A38-DA66-48CD-AC5C-3F475C97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BE0-69DD-4EC2-B040-E3FE8AA2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843A-0EE5-4C05-9BD5-50CAF763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4CCA-96C3-4C1E-AD2C-5AA0CAD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2FF9-1C70-4030-93C4-8564667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CE8B-6B49-41AA-A2E2-CA6C33D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AAF3-3B8C-4E14-A951-4623C97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07C0-DEDA-46FF-844C-3D73EB2E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2E4C-946E-48AB-AE53-BD089D5F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91B0D-1565-4DDD-976D-4CBF99B1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8703-5000-4FC3-AF99-2C46B1C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1D54-B464-40E6-BD91-7996003F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BCF-9C5D-41C2-AE52-17EFEB3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F0C5-38A6-4A39-BC73-76DB19F5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67A1-2FD0-425C-9DA3-9C4D98F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E77A-0608-49A2-9AA5-9E8922A3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CC9B-0523-4A9B-B4B9-0076F0D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2C14-EF00-4A43-9D04-B75C0AF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47C8-0EB1-4A98-90BC-5FA4132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5C57-D2AB-4485-A599-9131E599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35A3-0407-4C6B-A3BE-1195C6AA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AD67C-1480-45ED-BA68-97A449D6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72C6-7242-41DB-A24D-E8D6908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31F-13BC-451E-9A6E-D9A07AAC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1A6B-062D-4500-B0D6-8A0EEEF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3C553-CD95-4F4F-9961-421886F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D732C-6E0A-4A0F-8A5D-86B8F6C0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8B59-0E1A-469E-8F62-272DB79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23E8-9A92-4BFE-9A96-8BAB3F39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C6D6-DA3B-40D1-A04D-3A23CBD1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0A2F-0E14-4DC0-BD34-0DF9EE0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188E8-465A-466F-A6E4-1F1DD40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2C8B-02C9-41B1-905B-7F977522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83467-E92C-4231-9AED-26798152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5F1-C73D-4C44-9886-154D634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F13E-DD67-4921-A88E-899F9ECC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16D1-3F6E-4139-A568-9EC40E8A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7DEE-ACD7-4CDB-BDE0-E1AC3CC0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78E6-9302-42A7-8095-7F5AB49C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AAD3E-5CFB-4BB7-9CD6-84DDA0B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18CB-C686-43C3-A33C-78237EC4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4F07-44B9-43D0-8B60-395C97DD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1020-F0E1-4D6C-B1AF-5ACC1CD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2861-FA9B-4ED1-819E-CB63978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0AD2-1F2D-44F9-92B8-1E06FA5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917-E259-4547-BCA2-7493523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253D-593A-4E61-BF6C-4649D14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BAD3-0367-4260-9932-C8287569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8C1D-F497-47C4-919C-B1D653D9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060F-602C-4521-AEA2-7C745484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47B5-8C2A-460F-A033-BCE8FADD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8C99D-34EA-42D7-A457-924F63CF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0C47-DA6F-4D0A-8DBA-93118FBE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EFDB1-4800-4576-8B7F-6D597F15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4F01-859A-4F08-A686-812137D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06B1-7FE1-4B82-906E-92B2E28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1F-71A4-402E-8182-8602B07C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2B50B-3F92-4190-8089-47A6AA7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D08A-4700-46A0-990F-BE88A94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670E4-79B2-4854-BB48-6D9F047D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AB2E-B75C-481E-83AF-812F9C3F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6A94-ADEE-4540-8ECA-C40F1D7B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17AD-B079-4E07-8ED1-0CE7B49C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D05DF-8024-40D9-B13B-9784FE0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B734A-4137-4345-A043-3EC480BA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B4639-BF8B-4F08-99E6-FC460EA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3969-B025-4B29-A225-5F2498BB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4EA-D293-4E14-9143-91153F60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41E07-F763-419A-BA38-4F7A5963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BEF9-C748-4CB6-9204-28AF789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A6BBF-264D-4CDD-9867-02F0393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8ADF-D082-4EF6-AC66-6F87322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4AF55-D3A1-4C44-93BB-0EE6BC67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AA662-840D-49D1-9251-E6F40BF6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4C1E5-1C93-4FF9-B2E2-03AF541D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A059D-2115-4EEB-BE54-32A2BB38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A835F-9E37-44CC-90C2-F22508E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FB0E-F15E-456E-9E6F-5F1D39DD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9D56-62BD-4641-B920-CAF5E3C07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CF2-3A9F-44CC-B3C4-E067D1194F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80B-EFD4-40B1-8659-979F0DBF1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B12-2243-41C4-8C99-3ECD16DC02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620-C9EE-4D84-8263-FB3FF0578D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4DB0-E4F2-43FF-A92B-6A505E9058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C466-75D0-4179-88DE-094C14B1F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9BF0-6EEF-458B-A18C-D8F5DF2FC8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CA07-8C7E-4C9E-85A1-05B7EE127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441F-4821-4011-AD61-31C5352A1B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7731-A61A-4F50-8C70-00394277C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710-C769-4D8E-AAA4-E40F22B49B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046-5D87-41C3-BFAC-C2ED6E49A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B39-68CB-4EDD-BC35-1C9FFC5172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16B4-C69F-4564-AEC7-D165411385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C98-E7DE-4AE8-97A4-C10D646396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763-B8AC-41FC-A4C5-380049D341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6262-2A27-4F6C-8AA3-36D02587F8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38F9-9847-47C3-BB9A-E1E21FA2C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0F8C-E3B3-4E59-9845-393FF4B948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21FB-63CA-4091-B2C8-F21413B81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5F8-7B4A-47E3-A034-4E16655A50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F8D0-4D8A-48BC-8E49-8198D5988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29AC-B53B-4D9C-A259-58A171573E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7FA-6543-479F-A285-1513ECF3A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1403280" y="836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   从生物圈到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181080" y="1484640"/>
            <a:ext cx="878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举例说出生命活动建立在细胞的基础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举例说明生命系统的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胞→组织→器官→系统→个体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种群→群落→生态系统→生物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认同细胞是基本的生命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是构成生物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95280" y="4724280"/>
            <a:ext cx="61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重点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理解生命系统的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同细胞是基本的生命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005"/>
          <p:cNvPicPr/>
          <p:nvPr/>
        </p:nvPicPr>
        <p:blipFill>
          <a:blip r:embed="rId1"/>
          <a:stretch/>
        </p:blipFill>
        <p:spPr>
          <a:xfrm>
            <a:off x="1476360" y="-828720"/>
            <a:ext cx="6191280" cy="85154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611280" y="404640"/>
            <a:ext cx="64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1835640" y="1267200"/>
            <a:ext cx="550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关于病毒的叙述中，正确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 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属于无成形细胞核的原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是无细胞结构的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寄生于活细胞的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在高倍显微镜下才可以看到病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696680" y="36900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题解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804680" y="3940560"/>
            <a:ext cx="567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没有细胞结构，其结构甚至比原核细胞要简单得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数病毒由蛋白质外壳组成衣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遗传物质核酸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被包围在其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的病毒营寄生生活，离开宿主细胞，就难以长久生活和繁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病毒大小以纳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,10-9 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计，因而光学显微镜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难以观察到，只有借助于电子显微镜才能观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7596360" y="1341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1872000" y="691200"/>
            <a:ext cx="555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草原上的全部黄羊和一片草原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部生物，在生命系统中分别属于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和群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和生态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和种群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和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60360" y="342900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一片草原上的全部黄羊可构成一个种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片草原上的全部生物，包括着这个草原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所有植物、动物和微生物，即各个种群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和，应构成群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7597440" y="1203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1725840" y="627480"/>
            <a:ext cx="580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环境中的生物，属于种群的是（ 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公园中的花卉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牧场里的家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河里的鱼   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蜂巢里的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人体结构中，属于组织的是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脏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经元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腔上皮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1518120" y="4051800"/>
            <a:ext cx="611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浅海中，牡蛎与鱼类、节肢动物、棘皮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生物生活在一起。这些生物构成了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群落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群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态系统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7524720" y="62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7021440" y="2565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7093080" y="458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-3240" y="646920"/>
            <a:ext cx="911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组成生物体的化学成分中，蛋白质是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主要承担者，核酸是遗传信息的携带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地球上最基本的生命系统是（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核酸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的胚胎 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关于细胞与生命活动的叙述，错误的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命活动都离不开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病毒不具有细胞结构，所以它的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细胞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细胞是生物体结构和功能的基本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多细胞生物依赖高度分化的细胞密切协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能完成生命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6084720" y="1341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396720" y="292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2195640" y="177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成课后练习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SARS"/>
          <p:cNvPicPr/>
          <p:nvPr/>
        </p:nvPicPr>
        <p:blipFill>
          <a:blip r:embed="rId1"/>
          <a:stretch/>
        </p:blipFill>
        <p:spPr>
          <a:xfrm>
            <a:off x="468360" y="1781280"/>
            <a:ext cx="3843360" cy="3232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SARS图2"/>
          <p:cNvPicPr/>
          <p:nvPr/>
        </p:nvPicPr>
        <p:blipFill>
          <a:blip r:embed="rId2"/>
          <a:stretch/>
        </p:blipFill>
        <p:spPr>
          <a:xfrm>
            <a:off x="5148360" y="1739880"/>
            <a:ext cx="3744720" cy="3297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7"/>
          <p:cNvSpPr/>
          <p:nvPr/>
        </p:nvSpPr>
        <p:spPr>
          <a:xfrm>
            <a:off x="1587600" y="35640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学引领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生命活动离不开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1692360" y="5589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模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5"/>
          <p:cNvSpPr/>
          <p:nvPr/>
        </p:nvSpPr>
        <p:spPr>
          <a:xfrm>
            <a:off x="147636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没有细胞结构，它还能完成各项生命活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905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105520" cy="44960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1042920" y="486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你和父母之间，什么细胞充当遗传物质的“桥梁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3059280" y="5661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子和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761080" cy="349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900000" y="4005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一次缩手反射，需要哪些细胞的参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进行的学习活动，需要哪些细胞的参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2556000" y="450864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神经细胞和骨骼肌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2916360" y="57340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要是神经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艾滋病病毒图1"/>
          <p:cNvPicPr/>
          <p:nvPr/>
        </p:nvPicPr>
        <p:blipFill>
          <a:blip r:embed="rId1"/>
          <a:stretch/>
        </p:blipFill>
        <p:spPr>
          <a:xfrm>
            <a:off x="6659640" y="3141720"/>
            <a:ext cx="2004840" cy="1693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艾滋病病毒图2"/>
          <p:cNvPicPr/>
          <p:nvPr/>
        </p:nvPicPr>
        <p:blipFill>
          <a:blip r:embed="rId2"/>
          <a:stretch/>
        </p:blipFill>
        <p:spPr>
          <a:xfrm>
            <a:off x="0" y="260280"/>
            <a:ext cx="6350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艾滋病病毒图4"/>
          <p:cNvPicPr/>
          <p:nvPr/>
        </p:nvPicPr>
        <p:blipFill>
          <a:blip r:embed="rId1"/>
          <a:stretch/>
        </p:blipFill>
        <p:spPr>
          <a:xfrm>
            <a:off x="2627280" y="765000"/>
            <a:ext cx="3238560" cy="28832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755640" y="4437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获得性免疫缺陷综合症）是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感染淋巴细胞引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684360" y="13190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细胞是生物体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结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位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功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病毒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没有细胞结构的生物，但必须依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活细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能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单细胞生物的生命活动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基本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多细胞生物依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各种分化的细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合作，共同完成一系列的生命活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468360" y="333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1116000" y="1125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生命系统的结构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95280" y="220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找出生命系统的层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611280" y="342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 “ 思考与讨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0:54:00Z</dcterms:created>
  <dc:creator>eway--sxp</dc:creator>
  <dc:description/>
  <dc:language>en-US</dc:language>
  <cp:lastModifiedBy>a</cp:lastModifiedBy>
  <dcterms:modified xsi:type="dcterms:W3CDTF">2015-03-17T06:09:13Z</dcterms:modified>
  <cp:revision>9</cp:revision>
  <dc:subject/>
  <dc:title>幻灯片 1</dc:title>
</cp:coreProperties>
</file>