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qit00004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10.png" ContentType="image/png"/>
  <Override PartName="/ppt/media/image3.jpeg" ContentType="image/jpeg"/>
  <Override PartName="/ppt/media/type.wav" ContentType="audio/x-wav"/>
  <Override PartName="/ppt/media/laser.wav" ContentType="audio/x-wav"/>
  <Override PartName="/ppt/media/image2.png" ContentType="image/png"/>
  <Override PartName="/ppt/media/image4.jpeg" ContentType="image/jpeg"/>
  <Override PartName="/ppt/media/projctor.wav" ContentType="audio/x-wav"/>
  <Override PartName="/ppt/media/image9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7C1-8965-4469-8D09-8DD34E6D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0D3-5EF6-4D45-9D68-7A36A8EB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D4C17-9AE7-4FD8-BFC7-11329646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4CA2F-687A-443A-9DEB-44ED3CF1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55EE6-7DAB-47E7-90FE-F5E27329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C9D23-3F5F-4FF3-B622-53F8A298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925CB-9618-4F6A-9CF1-A01BE69F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89932-4AF8-41C9-BC31-5077D5E8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95DCB-7AB2-4E89-A881-FCE7A95D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16F59-C520-4E0C-B49B-C69BB12B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D3CB4-6C96-4547-BBC1-B58D4139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4966F-277A-48D0-A1B3-D32D27E6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71A-DDE1-4BCF-9099-075201EC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8517D-709A-4FF7-9F9E-7FDF022F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F1F71-15B0-4873-9841-D1CF922D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16886-3056-40F1-B071-D439485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F17F1-3A5C-444E-9BFB-AEC808FA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DE778-2753-44C0-874A-D484EC6F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13003-B0D2-439D-94A3-9705194A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F5E32-94C8-4AB0-BEA3-B5D03C0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AD66C-9D6A-4C99-BC1E-FD9E6E56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84139-87C7-41C1-9C3B-C694B4D3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7C6B7-9B77-4965-8DD6-95E00D24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71D-EEE1-468A-8324-0EE963F9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4023F-2A23-4759-9A6E-376762EF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0E39F-E9C3-494B-835C-093D99E5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4FCDD-E433-4DBB-9BC8-EBC66610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979AE-BE27-4979-8125-47A383A2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B3DD1-EE5F-44E1-AF94-BF16C7A8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E5FBE-9A10-4EF6-A75F-AA9BA461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DD20B-AE10-44CF-BA85-4C2F3BF2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68895-F1DF-44CB-9600-3BBFD5C0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0DA77-B45D-4DC1-9561-E9B164C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8BF32-F928-44F4-A34D-03C2275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776B-9A2B-484D-96A1-5BAF8FFB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5249A-F07D-44D7-9D92-53C2D160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91346-8406-4129-B45D-8A859790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FAB95-3E49-4A65-91F6-9AC2A30A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CA9B4-C0A9-4404-B058-A3C51F8E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15271-E017-460E-B540-EF9C6589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F5EC1-E208-4A8F-BFB8-6313F0ED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43FC2-0CE4-4241-AC00-27EDC612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2C164-67CC-4CBC-938A-261814F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66A0E-9E69-4F20-A853-8CD94B23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77DDE-4352-4CE2-8584-214AF674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D82D-6024-416A-AA61-84BC2FFF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BCE9B-6FFC-41CA-B031-496C519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4736A-17CE-4533-A5BB-AB5660D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58006-7537-400A-A710-1364E1E4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A27FE-4B21-4262-ABFF-49698E14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B90F8-BA83-410D-98C8-06C369F4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3577D-FC90-4961-8CE9-183DB0A5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4D3FF-D41D-471F-BBBF-FE7934D1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525E4-4CA3-41AB-B353-ED29EEE5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FC401-92A1-4B12-BAF4-D69828DF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76C21-B5AB-47A6-B467-A4C12735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01D7-3C66-4C7B-B296-434FAFCB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1E815-8728-4E5F-B23D-6E83EE68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A9AFA-4223-47F2-8254-C299467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908BF-97C1-430F-B5C0-3BE72E86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CA653-CDB9-4E60-B239-167938F9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ACBAA-DE6E-4A8B-8DD7-450361C7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6DD99-5CA0-4572-BAE0-267A1CD1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57385-A4E4-4770-9EFF-7DE486CA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E20D-E133-45D3-AE2C-EEA58519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68FF-6A0D-41D6-8716-2C769FBC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DEE9-D9C3-4EC4-86B5-63B2729E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9C25-053B-4110-8874-B16DC28F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148-E787-4079-8DBF-E56BE47C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62D9-A35E-4A1A-B248-24392BC0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09FC-5AEC-41C8-B394-F8771236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577F-93B8-4C44-A311-6CD94393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6FBD-4E19-466B-88C9-A89F465D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6912-5039-4604-BFEC-484F0B7D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27AC-24D8-4B97-A043-C789B98D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F802-C7DD-4DF7-9E83-C01FE922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1057-70C6-4C03-A779-B99D0BF2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CEBB-C4A9-4EA9-91F7-98E5F394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3D16-C7B3-436E-A3BE-BB19B88A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506-8D90-413D-ABEA-62B32BFD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FAB2-0CA3-4574-A9FE-CAB21246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F141-D976-461E-94BD-2FE4915B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CB0C-DAE9-4185-8A0C-7D110EC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35BB-BD57-4CB8-A60C-E6D8BA2E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2DC9-5627-45CF-AE24-6B92DCAB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4BAB-5FB4-4FBE-927B-B3C79F49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BA561-0434-49D9-A9EA-9F3F6B7F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8486-EDBD-4DA9-8100-2930249C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0E09-0CA9-4849-A7FA-699A299A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A826-4386-429D-AC4D-2FFEE2F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4EC-175E-4AD7-B2F9-0EB0ADBD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2333-8D76-4885-B176-0AC0D9D4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48BB-778A-4BE7-94B5-C434B300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7173-7EF9-499F-B6AC-17C7C89D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D393-CE23-4E61-A5DC-2A9499A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ADF6-C782-438C-9AB7-210F94C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E8810-EBDD-4122-9E7A-8BE74F7B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6F2C-D92E-4D88-AE0F-DEA3D6AD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A38F-A507-47CB-9ACC-CC78DBC8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A08C7-BFBF-40A3-8CF5-3D3BBC14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7D56-41B1-4311-903E-AD25B95C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FB6-75BC-4670-9E25-85663CC1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1255B-F6DB-4D3A-8522-675FFA3E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82307-310B-4164-B809-249ABA00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5160-B432-42CB-AD2A-1CD5110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CD11E-A48C-4632-B698-C4C97D4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AD6A9-0870-4AA5-A780-C11F7CF3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A70C-1143-4515-994D-8A515800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EDA3-C9D8-4C1F-A2E7-A4205A38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C798-AFF8-466B-B2EF-411D6534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3915-5AD5-40ED-9074-87C57C12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803A1-217E-4DA6-9471-74924BCC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759-45AA-4D44-8296-B1B06A5B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4CD7E-CF01-4F08-A8E9-8D9D7872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E4F3-BE74-4ED8-96A1-4CB8693D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D18C-04FB-4251-8D7F-61929010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17A6C-3A73-4B67-A919-0CE7FAA7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A93A0-E41F-4684-A473-83F65DC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059FB-A318-4B88-8D46-5D521676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EA1F3-5E02-4FA0-B547-707063D0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56C26-9CB2-4B72-A481-6787977B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672C0-6811-4FA0-8373-0BD1FB5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74AC-FB05-47A9-A554-A8AD56C8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1C7-FF3D-42CB-A523-5422C528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5C6F-CD5C-4701-AABC-B33F3BB5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3346-3467-49E4-9BCB-0B8C6D30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BC886-A4F2-4F2D-85B8-5233AF96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6EDDB-9BC4-4862-BC49-314B44DC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DDDF4-0EF4-45D4-8489-3E6CC9DB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7EF0C-0BD4-4E85-ADA5-F8525911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6F5F1-08F6-464D-86D5-8BEBE2FB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46E7-4DC4-43E7-9122-4743C6AD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674AA-6FC8-4DEF-947D-25AC501D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27BB0-63CB-4A0A-976D-6818E3B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032-8680-4E24-A03B-B69C92CC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341AD-7C60-46D9-8E5F-1B40985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ED98E-B0ED-4BF9-BFDB-9894471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F4FFB-8AB2-4B49-8864-9CC05F49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C4752-D303-471B-9358-5894D028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0CECA-BB8E-49F4-BB89-5F93B973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AB2A5-893A-4B0C-9B01-9B97D1E0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9BA4D-1324-4353-A9B6-5CD1A94F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AD27-4426-499F-B0BD-6B6CD1DC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A77A8-2C77-4B6E-B7F2-09EAAA43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23042-C72C-4C16-A57E-9CBD378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FFC-28E4-4299-9F76-5292D167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366E6-61D7-4BE7-B90A-6B01B39E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3B15A-84AF-464C-8CAE-8EEA75C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1E054-4157-4D52-91F4-92FACE5B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C3468-B5AC-4C27-AAD4-5F52FE4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7E3F6-F96B-4741-A1C3-9E770E1E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B80DD-9E3E-4B0B-80FA-202387C9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7CAE2-3FE3-403C-B6C0-A3C31622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4E40D-3040-488E-90D2-B36211FA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94BF1-45D1-4498-B2C5-63BEB22D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1FF86-9C30-4DFD-9CD7-EE42CB34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572F-6534-4F4D-941E-8BB9D23F9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B7A8-F3BA-43EF-86E7-4E931212AEE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7E86-3DCF-4E37-A776-D35F1407461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CE4A-886A-4737-978F-5FEACF59509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D1A6-3A3D-458B-ADA0-E4717472751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A33D-E7D8-4D36-88FC-67602537629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EF65-6E68-4948-8E3A-4E81BCFE867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35C3-A0CA-441D-8057-699E484D8D1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9923-1EB8-468C-BB2E-D9266A0F367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52C6-3A6E-4EC2-B269-89F10BB7790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0B8D-9730-4F88-87D9-DD34000CAF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2C91-5CED-443D-928C-A6F9C111ACD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914E-9DD0-4B4F-8F84-045E92A1560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621-64E2-47A8-A12C-28FD0FFA09C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E0A6-1390-47F1-A364-4E86BACA3D6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062-2ADA-4603-8E4D-BB0913EE5B1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E55B-4745-430E-927F-58D2BF15B3D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C96B-AFC9-40D4-A457-0103ED95B27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6A9B-4250-4454-91CA-CF249CE66B2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9BD-C147-4CB0-A4EA-FB09E36220C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0BE8-9F71-4AA1-8557-68BA2F11024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FCDE-7FF4-47A6-9851-D5C7DBE0DEB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13FD-FCDA-4D92-8D8D-5A18041CCF7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533E-704B-4204-93D5-12256273823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1FEC-3240-454C-9709-3A86F1881FD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qit00004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SUM0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xid00002.WAV" descr=""/>
          <p:cNvPicPr/>
          <p:nvPr/>
        </p:nvPicPr>
        <p:blipFill>
          <a:blip r:embed="rId2"/>
          <a:stretch/>
        </p:blipFill>
        <p:spPr>
          <a:xfrm>
            <a:off x="15228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36" name="WordArt 9"/>
          <p:cNvSpPr txBox="1"/>
          <p:nvPr/>
        </p:nvSpPr>
        <p:spPr>
          <a:xfrm rot="21576000">
            <a:off x="1828800" y="205740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24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"/>
              </a:rPr>
              <a:t>从现在开始</a:t>
            </a:r>
            <a:endParaRPr b="1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24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"/>
              <a:ea typeface="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BRL00030"/>
          <p:cNvPicPr/>
          <p:nvPr/>
        </p:nvPicPr>
        <p:blipFill>
          <a:blip r:embed="rId1"/>
          <a:stretch/>
        </p:blipFill>
        <p:spPr>
          <a:xfrm>
            <a:off x="0" y="-533520"/>
            <a:ext cx="5334120" cy="7391520"/>
          </a:xfrm>
          <a:prstGeom prst="rect">
            <a:avLst/>
          </a:prstGeom>
          <a:ln w="0">
            <a:noFill/>
          </a:ln>
        </p:spPr>
      </p:pic>
      <p:sp>
        <p:nvSpPr>
          <p:cNvPr id="580" name="Line 5"/>
          <p:cNvSpPr/>
          <p:nvPr/>
        </p:nvSpPr>
        <p:spPr>
          <a:xfrm>
            <a:off x="4343400" y="304920"/>
            <a:ext cx="0" cy="63244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4648320" y="533520"/>
            <a:ext cx="419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袋鼠虽然你落选了，可你不要灰心丧气，只要你懂得尊重别人的生活习惯，认识到自己的不足，取长补短，下次再竞选“万兽之王”时，我相信你一定能成功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5"/>
          <p:cNvSpPr/>
          <p:nvPr/>
        </p:nvSpPr>
        <p:spPr>
          <a:xfrm>
            <a:off x="5181480" y="1219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6"/>
          <p:cNvSpPr/>
          <p:nvPr/>
        </p:nvSpPr>
        <p:spPr>
          <a:xfrm>
            <a:off x="5257800" y="2590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7"/>
          <p:cNvSpPr/>
          <p:nvPr/>
        </p:nvSpPr>
        <p:spPr>
          <a:xfrm>
            <a:off x="5257800" y="3809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8"/>
          <p:cNvSpPr/>
          <p:nvPr/>
        </p:nvSpPr>
        <p:spPr>
          <a:xfrm>
            <a:off x="5029200" y="5029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9"/>
          <p:cNvSpPr/>
          <p:nvPr/>
        </p:nvSpPr>
        <p:spPr>
          <a:xfrm>
            <a:off x="5181480" y="6095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it000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 会  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现在开始，你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当‘万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王’，每个动物当一个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是猫头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现在开始，每个动物都照自己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过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狮子见了，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眯地说：“不用再往下轮了。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宣布，从现在开始，小猴子就是‘万兽之王’了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RIT00173"/>
          <p:cNvPicPr/>
          <p:nvPr/>
        </p:nvPicPr>
        <p:blipFill>
          <a:blip r:embed="rId1"/>
          <a:stretch/>
        </p:blipFill>
        <p:spPr>
          <a:xfrm>
            <a:off x="380880" y="152280"/>
            <a:ext cx="199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 会  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之      轮      期            第      任      惯    式      眯      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5" descr="RIT00024"/>
          <p:cNvPicPr/>
          <p:nvPr/>
        </p:nvPicPr>
        <p:blipFill>
          <a:blip r:embed="rId1"/>
          <a:stretch/>
        </p:blipFill>
        <p:spPr>
          <a:xfrm>
            <a:off x="457200" y="228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SUM0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BRL00007"/>
          <p:cNvPicPr/>
          <p:nvPr/>
        </p:nvPicPr>
        <p:blipFill>
          <a:blip r:embed="rId2"/>
          <a:stretch/>
        </p:blipFill>
        <p:spPr>
          <a:xfrm>
            <a:off x="228600" y="3657600"/>
            <a:ext cx="4191120" cy="26510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BRL00012"/>
          <p:cNvPicPr/>
          <p:nvPr/>
        </p:nvPicPr>
        <p:blipFill>
          <a:blip r:embed="rId3"/>
          <a:stretch/>
        </p:blipFill>
        <p:spPr>
          <a:xfrm>
            <a:off x="5334120" y="28954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BRL00062"/>
          <p:cNvPicPr/>
          <p:nvPr/>
        </p:nvPicPr>
        <p:blipFill>
          <a:blip r:embed="rId4"/>
          <a:stretch/>
        </p:blipFill>
        <p:spPr>
          <a:xfrm>
            <a:off x="-76212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BRL00215"/>
          <p:cNvPicPr/>
          <p:nvPr/>
        </p:nvPicPr>
        <p:blipFill>
          <a:blip r:embed="rId5"/>
          <a:stretch/>
        </p:blipFill>
        <p:spPr>
          <a:xfrm>
            <a:off x="2514600" y="411480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1"/>
          <p:cNvSpPr/>
          <p:nvPr/>
        </p:nvSpPr>
        <p:spPr>
          <a:xfrm>
            <a:off x="1295280" y="4114800"/>
            <a:ext cx="1143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之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162920" y="4572000"/>
            <a:ext cx="12189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第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3"/>
          <p:cNvSpPr/>
          <p:nvPr/>
        </p:nvSpPr>
        <p:spPr>
          <a:xfrm>
            <a:off x="1066680" y="1600200"/>
            <a:ext cx="9144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任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657600" y="5557680"/>
            <a:ext cx="13716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式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15" descr="NIL00026"/>
          <p:cNvPicPr/>
          <p:nvPr/>
        </p:nvPicPr>
        <p:blipFill>
          <a:blip r:embed="rId6"/>
          <a:stretch/>
        </p:blipFill>
        <p:spPr>
          <a:xfrm>
            <a:off x="4267080" y="0"/>
            <a:ext cx="4264200" cy="2286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6"/>
          <p:cNvSpPr/>
          <p:nvPr/>
        </p:nvSpPr>
        <p:spPr>
          <a:xfrm>
            <a:off x="5029200" y="762120"/>
            <a:ext cx="12193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郑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toy0223.wav" descr=""/>
          <p:cNvPicPr/>
          <p:nvPr/>
        </p:nvPicPr>
        <p:blipFill>
          <a:blip r:embed="rId7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354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RIT00043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22496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5"/>
          <p:cNvSpPr/>
          <p:nvPr/>
        </p:nvSpPr>
        <p:spPr>
          <a:xfrm>
            <a:off x="3048120" y="83808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我  会 写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990720" y="3200400"/>
            <a:ext cx="70866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9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      轮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2133720" y="3048120"/>
            <a:ext cx="1752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2057400" y="3581280"/>
            <a:ext cx="1676520" cy="13716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209680" y="304812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2209680" y="380988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2971800" y="312408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5410080" y="304812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5334120" y="38862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6172200" y="304812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6" descr="RIT00137"/>
          <p:cNvPicPr/>
          <p:nvPr/>
        </p:nvPicPr>
        <p:blipFill>
          <a:blip r:embed="rId1"/>
          <a:stretch/>
        </p:blipFill>
        <p:spPr>
          <a:xfrm>
            <a:off x="304920" y="0"/>
            <a:ext cx="2209680" cy="19051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个上任的是猫头鹰。它想到自己成为了“万兽之王”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神气极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立刻下令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“从现在开始，你们都要跟我一样，白天休息，夜里做事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个星期，轮到袋鼠上任了。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激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说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“从现在开始，你们都要跳着走路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大家听了议论纷纷，可是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不得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从命令，只好天天熬夜。一个星期下来，动物们都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叫苦连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听了袋鼠的话，大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直摇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可是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不得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从命令，只好苦练跳的本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RIT00137"/>
          <p:cNvPicPr/>
          <p:nvPr/>
        </p:nvPicPr>
        <p:blipFill>
          <a:blip r:embed="rId1"/>
          <a:stretch/>
        </p:blipFill>
        <p:spPr>
          <a:xfrm>
            <a:off x="304920" y="0"/>
            <a:ext cx="2133360" cy="206208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5"/>
          <p:cNvSpPr/>
          <p:nvPr/>
        </p:nvSpPr>
        <p:spPr>
          <a:xfrm>
            <a:off x="2790360" y="9540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gud00002.wav" descr=""/>
          <p:cNvPicPr/>
          <p:nvPr/>
        </p:nvPicPr>
        <p:blipFill>
          <a:blip r:embed="rId2"/>
          <a:stretch/>
        </p:blipFill>
        <p:spPr>
          <a:xfrm>
            <a:off x="807732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个星期，轮到小猴子当“万兽之王”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大家都非常担心：他会不会命令我们从现在开始，都得住在树上，成天抓着藤条荡来荡去？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谁知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小猴子只说了一句话：“从现在开始，每个动物都照自己习惯的方式过日子。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话音刚落，大伙儿立刻欢呼起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4" descr="RIT00137"/>
          <p:cNvPicPr/>
          <p:nvPr/>
        </p:nvPicPr>
        <p:blipFill>
          <a:blip r:embed="rId1"/>
          <a:stretch/>
        </p:blipFill>
        <p:spPr>
          <a:xfrm>
            <a:off x="228600" y="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5"/>
          <p:cNvSpPr/>
          <p:nvPr/>
        </p:nvSpPr>
        <p:spPr>
          <a:xfrm>
            <a:off x="2714040" y="7254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狮子见了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笑眯眯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地说：“不用再往下轮了。我郑重宣布，从现在开始，小猴子就是‘万兽之王’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RIT00137"/>
          <p:cNvPicPr/>
          <p:nvPr/>
        </p:nvPicPr>
        <p:blipFill>
          <a:blip r:embed="rId1"/>
          <a:stretch/>
        </p:blipFill>
        <p:spPr>
          <a:xfrm>
            <a:off x="380880" y="380880"/>
            <a:ext cx="1905120" cy="18367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2942640" y="7254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0-09-14T01:45:35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7T05:36:45Z</dcterms:modified>
  <cp:revision>74</cp:revision>
  <dc:subject/>
  <dc:title>第一PPT模板网-WWW.1PPT.COM</dc:title>
</cp:coreProperties>
</file>