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F11-C740-42C1-902C-D28ED72A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F11-F66C-4C99-9D60-83FB8566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437-37D5-49C1-9F47-D0124C4D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5D6-0DF6-4873-ABC1-B4FA3659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88FB-75BA-44F2-9C03-492BD192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602F-F90C-449E-9C81-58C2F183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F7EC-66CD-487D-AA7D-94D49C51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87FA-09D7-4C9E-9731-95B74221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3159-6A76-4606-A1DE-0E79AB58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A58F-F8D2-403E-8873-819EA566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26A5-717E-4F0D-94D0-306FF8C4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89B-EBA3-4BDE-BBC7-3B73ECD1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705F-81FE-4B7B-8ECE-CCE90053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3CC7-3F59-45B4-9C1F-91E0D1AC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44F8-3C1B-444A-97B0-CCEBBC0C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AE30-7D1F-476F-9F62-D0B21504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AE8E-9B64-4669-859A-059BC609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C4E1-990A-4F55-8ED2-A4E2AE09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B19-7E80-45D3-AA8B-2A87486C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15EA-FFB6-4A19-A51F-BAFFC154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B0B-96AB-44BF-B91F-C3CC5FC1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05F-E559-48ED-8862-34F3775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5B5-8FED-4553-84DA-42B0842A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DE8-95AF-42EC-9FA5-FAB523B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5F43-F258-4A18-93D4-29A3CFE0A9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F9E0-C5F8-473A-BE35-64D4A137116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7793-3CF6-49AB-BBCE-655182D4AB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497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2497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640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611280" y="5518080"/>
            <a:ext cx="813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地球环球企业商务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6320-F7DF-4674-A514-713D77E8CE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8"/>
          <p:cNvSpPr/>
          <p:nvPr/>
        </p:nvSpPr>
        <p:spPr>
          <a:xfrm>
            <a:off x="862200" y="857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/>
          <p:cNvSpPr/>
          <p:nvPr/>
        </p:nvSpPr>
        <p:spPr>
          <a:xfrm>
            <a:off x="2068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2140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355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8"/>
          <p:cNvSpPr/>
          <p:nvPr/>
        </p:nvSpPr>
        <p:spPr>
          <a:xfrm>
            <a:off x="887760" y="976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39978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3926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8"/>
          <p:cNvSpPr/>
          <p:nvPr/>
        </p:nvSpPr>
        <p:spPr>
          <a:xfrm>
            <a:off x="816120" y="9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3283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5712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2783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8"/>
          <p:cNvSpPr/>
          <p:nvPr/>
        </p:nvSpPr>
        <p:spPr>
          <a:xfrm>
            <a:off x="8161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207180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6283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161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228600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4354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41407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7909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4354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6712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1568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8"/>
          <p:cNvSpPr/>
          <p:nvPr/>
        </p:nvSpPr>
        <p:spPr>
          <a:xfrm>
            <a:off x="86220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3214800" y="45007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93384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4640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1497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9"/>
          <p:cNvSpPr/>
          <p:nvPr/>
        </p:nvSpPr>
        <p:spPr>
          <a:xfrm>
            <a:off x="6640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3569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8"/>
          <p:cNvSpPr/>
          <p:nvPr/>
        </p:nvSpPr>
        <p:spPr>
          <a:xfrm>
            <a:off x="86220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9"/>
          <p:cNvSpPr/>
          <p:nvPr/>
        </p:nvSpPr>
        <p:spPr>
          <a:xfrm>
            <a:off x="3214800" y="45007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4:05Z</dcterms:modified>
  <cp:revision>4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