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A31A5-3838-4318-938A-A1DC41D0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536480"/>
            <a:ext cx="819144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4116960"/>
            <a:ext cx="819144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A14F4-6133-464E-B488-D9E35501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53648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0760" y="153648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411696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0760" y="411696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2B861-7EB0-41A4-A46B-23BBFD89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536480"/>
            <a:ext cx="263736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3000" y="1536480"/>
            <a:ext cx="263736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2840" y="1536480"/>
            <a:ext cx="263736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4116960"/>
            <a:ext cx="263736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3000" y="4116960"/>
            <a:ext cx="263736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2840" y="4116960"/>
            <a:ext cx="263736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A6DE6-3F2C-474C-9590-412A9680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364E-7D43-4B98-99B7-2B025902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536480"/>
            <a:ext cx="8191440" cy="49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EEB3-1E94-47A3-99C3-2319AC49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536480"/>
            <a:ext cx="819144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F340-B2CD-4D74-9CE7-CE45ECBC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536480"/>
            <a:ext cx="399708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536480"/>
            <a:ext cx="399708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D9A3-E6BA-431B-AEC9-C3C9BDEC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C361-CD96-4F17-B28E-30083444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320" y="533160"/>
            <a:ext cx="769644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C465-71EC-4876-BF17-5D9D0231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53648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536480"/>
            <a:ext cx="399708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411696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8E05-ADE0-4BCA-B965-43F64C3E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536480"/>
            <a:ext cx="8191440" cy="49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B80EF-F474-4324-B44D-0D219781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536480"/>
            <a:ext cx="399708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53648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411696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1D12-1253-4747-AF2F-92E13B0B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53648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53648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4116960"/>
            <a:ext cx="819144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8AFD-FA19-49A2-A1E8-A71B7EF5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536480"/>
            <a:ext cx="819144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4116960"/>
            <a:ext cx="819144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C962-A8E3-4CE1-A8A9-25C25380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53648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53648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411696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411696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E102-7068-430E-990A-1F3C9DC9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536480"/>
            <a:ext cx="263736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536480"/>
            <a:ext cx="263736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536480"/>
            <a:ext cx="263736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4116960"/>
            <a:ext cx="263736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4116960"/>
            <a:ext cx="263736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4116960"/>
            <a:ext cx="263736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4C56-0AB4-4D88-8615-1ADBEE28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27214-D8F6-4D4B-8109-1F571B5E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1536480"/>
            <a:ext cx="8191440" cy="49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0CBBF-7241-454F-9DDE-3BD1D8BC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536480"/>
            <a:ext cx="819144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3794B-A01B-4AB7-B04B-4D89E921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536480"/>
            <a:ext cx="399708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30760" y="1536480"/>
            <a:ext cx="399708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889A9-CBE4-4C08-BD11-F0824032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66765-7130-4D73-9925-078B5485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536480"/>
            <a:ext cx="819144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6A44E-FABA-47A3-8832-9AD20D39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66320" y="533160"/>
            <a:ext cx="769644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B8868-EAB4-47F0-90F6-AC92FA9C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53648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30760" y="1536480"/>
            <a:ext cx="399708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411696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06E81-61F6-4603-95EF-6FB82DE9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536480"/>
            <a:ext cx="399708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30760" y="153648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30760" y="411696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617AC-CA42-4414-BD8A-543E6EE0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53648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30760" y="153648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520" y="4116960"/>
            <a:ext cx="819144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08A67-F549-4397-B0F3-F5B3688E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536480"/>
            <a:ext cx="819144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520" y="4116960"/>
            <a:ext cx="819144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6EF97-33CD-4017-867D-37799CAD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53648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30760" y="153648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520" y="411696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30760" y="411696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71A3C-E8F6-4FA9-85B9-4596FF24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536480"/>
            <a:ext cx="263736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03000" y="1536480"/>
            <a:ext cx="263736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2840" y="1536480"/>
            <a:ext cx="263736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520" y="4116960"/>
            <a:ext cx="263736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03000" y="4116960"/>
            <a:ext cx="263736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2840" y="4116960"/>
            <a:ext cx="263736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33D79-723D-46DA-B407-57D93320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536480"/>
            <a:ext cx="399708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0760" y="1536480"/>
            <a:ext cx="399708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45E49-BC35-4717-BE9F-29572071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58630-A886-40E8-9357-93E8B27E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533160"/>
            <a:ext cx="769644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2FD29-2089-4627-948D-959727F4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53648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0760" y="1536480"/>
            <a:ext cx="399708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411696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F1B5F-E892-4EE4-A151-83734E62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536480"/>
            <a:ext cx="399708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0760" y="153648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0760" y="411696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F7D68-9634-487D-9AE8-91643BCA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48600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53648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0760" y="1536480"/>
            <a:ext cx="39970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116960"/>
            <a:ext cx="819144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59DD0-2133-4FC2-8A50-F0A54FA7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对象 1123" descr="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536480"/>
            <a:ext cx="819144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93c05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01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4191120" y="653400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1CAA-B794-4D74-B1D5-730CBF514EC5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6964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380880" y="653400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DF5E-8467-42F5-A3ED-58E83EBE72B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FFD8-52F4-4068-9ACD-33248A517CF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3085"/>
          <p:cNvSpPr/>
          <p:nvPr/>
        </p:nvSpPr>
        <p:spPr>
          <a:xfrm>
            <a:off x="304920" y="1584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104"/>
          <p:cNvSpPr/>
          <p:nvPr/>
        </p:nvSpPr>
        <p:spPr>
          <a:xfrm>
            <a:off x="200160" y="13320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6964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33520" y="1536480"/>
            <a:ext cx="819144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93c05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1142640" y="228240"/>
            <a:ext cx="3135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3505320" y="640044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AE8A-CEB7-4FA2-9403-B2A9A2C31D6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动感炫酷的科技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企业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819520" y="1599840"/>
            <a:ext cx="5790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a7ea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6964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组合 49193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360" name="燕尾形 49154"/>
            <p:cNvSpPr/>
            <p:nvPr/>
          </p:nvSpPr>
          <p:spPr>
            <a:xfrm>
              <a:off x="297684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4ea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燕尾形 49155"/>
            <p:cNvSpPr/>
            <p:nvPr/>
          </p:nvSpPr>
          <p:spPr>
            <a:xfrm>
              <a:off x="549144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椭圆 49156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椭圆 49157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 49158"/>
            <p:cNvSpPr/>
            <p:nvPr/>
          </p:nvSpPr>
          <p:spPr>
            <a:xfrm>
              <a:off x="61516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8a6e00"/>
                </a:gs>
                <a:gs pos="50000">
                  <a:srgbClr val="ffcc00"/>
                </a:gs>
                <a:gs pos="100000">
                  <a:srgbClr val="8a6e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椭圆 49159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a28200"/>
                </a:gs>
                <a:gs pos="100000">
                  <a:srgbClr val="ffcc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椭圆 49160"/>
            <p:cNvSpPr/>
            <p:nvPr/>
          </p:nvSpPr>
          <p:spPr>
            <a:xfrm>
              <a:off x="624384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椭圆 49161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e96e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椭圆 49162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8e96e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49163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4d517b"/>
                </a:gs>
                <a:gs pos="50000">
                  <a:srgbClr val="8e96e4"/>
                </a:gs>
                <a:gs pos="100000">
                  <a:srgbClr val="4d51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49164"/>
            <p:cNvSpPr/>
            <p:nvPr/>
          </p:nvSpPr>
          <p:spPr>
            <a:xfrm>
              <a:off x="112248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a5f91"/>
                </a:gs>
                <a:gs pos="100000">
                  <a:srgbClr val="8e96e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椭圆 49165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组合 49166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373" name="椭圆 49167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椭圆 49168"/>
              <p:cNvSpPr/>
              <p:nvPr/>
            </p:nvSpPr>
            <p:spPr>
              <a:xfrm>
                <a:off x="12506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椭圆 49169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椭圆 49170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椭圆 49171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ea7e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椭圆 49172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4ea7ea">
                    <a:alpha val="32156"/>
                  </a:srgbClr>
                </a:gs>
                <a:gs pos="100000">
                  <a:srgbClr val="244d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椭圆 49173"/>
            <p:cNvSpPr/>
            <p:nvPr/>
          </p:nvSpPr>
          <p:spPr>
            <a:xfrm>
              <a:off x="36370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2a5a7f"/>
                </a:gs>
                <a:gs pos="50000">
                  <a:srgbClr val="4ea7ea"/>
                </a:gs>
                <a:gs pos="100000">
                  <a:srgbClr val="2a5a7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椭圆 49174"/>
            <p:cNvSpPr/>
            <p:nvPr/>
          </p:nvSpPr>
          <p:spPr>
            <a:xfrm>
              <a:off x="363852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326a95"/>
                </a:gs>
                <a:gs pos="100000">
                  <a:srgbClr val="4ea7e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椭圆 49175"/>
            <p:cNvSpPr/>
            <p:nvPr/>
          </p:nvSpPr>
          <p:spPr>
            <a:xfrm>
              <a:off x="372276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组合 49176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383" name="椭圆 49177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椭圆 49178"/>
              <p:cNvSpPr/>
              <p:nvPr/>
            </p:nvSpPr>
            <p:spPr>
              <a:xfrm>
                <a:off x="37670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椭圆 49179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椭圆 49180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组合 49181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388" name="椭圆 49182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椭圆 49183"/>
              <p:cNvSpPr/>
              <p:nvPr/>
            </p:nvSpPr>
            <p:spPr>
              <a:xfrm>
                <a:off x="629136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椭圆 49184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椭圆 49185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圆角矩形 49186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圆角矩形 49187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圆角矩形 49188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文本框 49189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9190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文本框 49191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6964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任意多边形 50178"/>
          <p:cNvSpPr/>
          <p:nvPr/>
        </p:nvSpPr>
        <p:spPr>
          <a:xfrm>
            <a:off x="1295280" y="2201760"/>
            <a:ext cx="5504040" cy="39704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3c052"/>
              </a:gs>
              <a:gs pos="100000">
                <a:srgbClr val="4ea7e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组合 50179"/>
          <p:cNvGrpSpPr/>
          <p:nvPr/>
        </p:nvGrpSpPr>
        <p:grpSpPr>
          <a:xfrm>
            <a:off x="3139920" y="3905280"/>
            <a:ext cx="1873440" cy="2039400"/>
            <a:chOff x="3139920" y="3905280"/>
            <a:chExt cx="1873440" cy="2039400"/>
          </a:xfrm>
        </p:grpSpPr>
        <p:sp>
          <p:nvSpPr>
            <p:cNvPr id="401" name="椭圆 50180"/>
            <p:cNvSpPr/>
            <p:nvPr/>
          </p:nvSpPr>
          <p:spPr>
            <a:xfrm>
              <a:off x="3139920" y="5153040"/>
              <a:ext cx="1873440" cy="791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椭圆 50181"/>
            <p:cNvSpPr/>
            <p:nvPr/>
          </p:nvSpPr>
          <p:spPr>
            <a:xfrm>
              <a:off x="3223080" y="3905280"/>
              <a:ext cx="1706400" cy="1705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椭圆 50182"/>
            <p:cNvSpPr/>
            <p:nvPr/>
          </p:nvSpPr>
          <p:spPr>
            <a:xfrm>
              <a:off x="3245400" y="3914280"/>
              <a:ext cx="1665000" cy="16646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椭圆 50183"/>
            <p:cNvSpPr/>
            <p:nvPr/>
          </p:nvSpPr>
          <p:spPr>
            <a:xfrm>
              <a:off x="3262680" y="393084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椭圆 50184"/>
            <p:cNvSpPr/>
            <p:nvPr/>
          </p:nvSpPr>
          <p:spPr>
            <a:xfrm>
              <a:off x="3354480" y="3974760"/>
              <a:ext cx="1408680" cy="126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组合 50185"/>
          <p:cNvGrpSpPr/>
          <p:nvPr/>
        </p:nvGrpSpPr>
        <p:grpSpPr>
          <a:xfrm>
            <a:off x="1585800" y="3395520"/>
            <a:ext cx="1498680" cy="1632240"/>
            <a:chOff x="1585800" y="3395520"/>
            <a:chExt cx="1498680" cy="1632240"/>
          </a:xfrm>
        </p:grpSpPr>
        <p:sp>
          <p:nvSpPr>
            <p:cNvPr id="407" name="椭圆 50186"/>
            <p:cNvSpPr/>
            <p:nvPr/>
          </p:nvSpPr>
          <p:spPr>
            <a:xfrm>
              <a:off x="1585800" y="4394160"/>
              <a:ext cx="1498680" cy="633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椭圆 50187"/>
            <p:cNvSpPr/>
            <p:nvPr/>
          </p:nvSpPr>
          <p:spPr>
            <a:xfrm>
              <a:off x="1652400" y="3395520"/>
              <a:ext cx="1365120" cy="1365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椭圆 50188"/>
            <p:cNvSpPr/>
            <p:nvPr/>
          </p:nvSpPr>
          <p:spPr>
            <a:xfrm>
              <a:off x="1670040" y="340272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椭圆 50189"/>
            <p:cNvSpPr/>
            <p:nvPr/>
          </p:nvSpPr>
          <p:spPr>
            <a:xfrm>
              <a:off x="1684080" y="3415680"/>
              <a:ext cx="1267200" cy="12448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椭圆 50190"/>
            <p:cNvSpPr/>
            <p:nvPr/>
          </p:nvSpPr>
          <p:spPr>
            <a:xfrm>
              <a:off x="1757520" y="3450960"/>
              <a:ext cx="1126800" cy="1009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组合 50191"/>
          <p:cNvGrpSpPr/>
          <p:nvPr/>
        </p:nvGrpSpPr>
        <p:grpSpPr>
          <a:xfrm>
            <a:off x="1582560" y="2173320"/>
            <a:ext cx="1125720" cy="1224000"/>
            <a:chOff x="1582560" y="2173320"/>
            <a:chExt cx="1125720" cy="1224000"/>
          </a:xfrm>
        </p:grpSpPr>
        <p:sp>
          <p:nvSpPr>
            <p:cNvPr id="413" name="椭圆 50192"/>
            <p:cNvSpPr/>
            <p:nvPr/>
          </p:nvSpPr>
          <p:spPr>
            <a:xfrm>
              <a:off x="1582560" y="2922120"/>
              <a:ext cx="1125720" cy="4752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椭圆 50193"/>
            <p:cNvSpPr/>
            <p:nvPr/>
          </p:nvSpPr>
          <p:spPr>
            <a:xfrm>
              <a:off x="1632600" y="2173320"/>
              <a:ext cx="1025280" cy="1023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椭圆 50194"/>
            <p:cNvSpPr/>
            <p:nvPr/>
          </p:nvSpPr>
          <p:spPr>
            <a:xfrm>
              <a:off x="1645920" y="2178720"/>
              <a:ext cx="1000440" cy="999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椭圆 50195"/>
            <p:cNvSpPr/>
            <p:nvPr/>
          </p:nvSpPr>
          <p:spPr>
            <a:xfrm>
              <a:off x="1656360" y="2188440"/>
              <a:ext cx="95184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椭圆 50196"/>
            <p:cNvSpPr/>
            <p:nvPr/>
          </p:nvSpPr>
          <p:spPr>
            <a:xfrm>
              <a:off x="1711440" y="2215080"/>
              <a:ext cx="84636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组合 50197"/>
          <p:cNvGrpSpPr/>
          <p:nvPr/>
        </p:nvGrpSpPr>
        <p:grpSpPr>
          <a:xfrm>
            <a:off x="2708280" y="1739880"/>
            <a:ext cx="749160" cy="816120"/>
            <a:chOff x="2708280" y="1739880"/>
            <a:chExt cx="749160" cy="816120"/>
          </a:xfrm>
        </p:grpSpPr>
        <p:sp>
          <p:nvSpPr>
            <p:cNvPr id="419" name="椭圆 50198"/>
            <p:cNvSpPr/>
            <p:nvPr/>
          </p:nvSpPr>
          <p:spPr>
            <a:xfrm>
              <a:off x="2708280" y="2239200"/>
              <a:ext cx="749160" cy="3168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椭圆 50199"/>
            <p:cNvSpPr/>
            <p:nvPr/>
          </p:nvSpPr>
          <p:spPr>
            <a:xfrm>
              <a:off x="2741400" y="17398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椭圆 50200"/>
            <p:cNvSpPr/>
            <p:nvPr/>
          </p:nvSpPr>
          <p:spPr>
            <a:xfrm>
              <a:off x="2750400" y="1743480"/>
              <a:ext cx="666000" cy="666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椭圆 50201"/>
            <p:cNvSpPr/>
            <p:nvPr/>
          </p:nvSpPr>
          <p:spPr>
            <a:xfrm>
              <a:off x="2757240" y="1749960"/>
              <a:ext cx="63360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椭圆 50202"/>
            <p:cNvSpPr/>
            <p:nvPr/>
          </p:nvSpPr>
          <p:spPr>
            <a:xfrm>
              <a:off x="2793960" y="1767600"/>
              <a:ext cx="563400" cy="50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文本框 50203"/>
          <p:cNvSpPr/>
          <p:nvPr/>
        </p:nvSpPr>
        <p:spPr>
          <a:xfrm>
            <a:off x="2811960" y="1963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50204"/>
          <p:cNvSpPr/>
          <p:nvPr/>
        </p:nvSpPr>
        <p:spPr>
          <a:xfrm>
            <a:off x="1836720" y="2522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50205"/>
          <p:cNvSpPr/>
          <p:nvPr/>
        </p:nvSpPr>
        <p:spPr>
          <a:xfrm>
            <a:off x="1936440" y="3875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50206"/>
          <p:cNvSpPr/>
          <p:nvPr/>
        </p:nvSpPr>
        <p:spPr>
          <a:xfrm>
            <a:off x="3640320" y="45324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50207"/>
          <p:cNvSpPr/>
          <p:nvPr/>
        </p:nvSpPr>
        <p:spPr>
          <a:xfrm>
            <a:off x="5808600" y="38862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6964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右箭头 51202"/>
          <p:cNvSpPr/>
          <p:nvPr/>
        </p:nvSpPr>
        <p:spPr>
          <a:xfrm rot="17973000">
            <a:off x="4614840" y="2674800"/>
            <a:ext cx="790560" cy="288720"/>
          </a:xfrm>
          <a:prstGeom prst="rightArrow">
            <a:avLst>
              <a:gd name="adj1" fmla="val 35167"/>
              <a:gd name="adj2" fmla="val 110857"/>
            </a:avLst>
          </a:prstGeom>
          <a:gradFill rotWithShape="0">
            <a:gsLst>
              <a:gs pos="0">
                <a:srgbClr val="4595d0">
                  <a:alpha val="0"/>
                </a:srgbClr>
              </a:gs>
              <a:gs pos="100000">
                <a:srgbClr val="4ea7ea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右箭头 51203"/>
          <p:cNvSpPr/>
          <p:nvPr/>
        </p:nvSpPr>
        <p:spPr>
          <a:xfrm rot="3465600">
            <a:off x="4611600" y="4836240"/>
            <a:ext cx="792360" cy="289080"/>
          </a:xfrm>
          <a:prstGeom prst="rightArrow">
            <a:avLst>
              <a:gd name="adj1" fmla="val 35167"/>
              <a:gd name="adj2" fmla="val 110971"/>
            </a:avLst>
          </a:prstGeom>
          <a:gradFill rotWithShape="0">
            <a:gsLst>
              <a:gs pos="0">
                <a:srgbClr val="4595d0">
                  <a:alpha val="0"/>
                </a:srgbClr>
              </a:gs>
              <a:gs pos="100000">
                <a:srgbClr val="4ea7ea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右箭头 51204"/>
          <p:cNvSpPr/>
          <p:nvPr/>
        </p:nvSpPr>
        <p:spPr>
          <a:xfrm rot="14368800">
            <a:off x="3395520" y="2750760"/>
            <a:ext cx="790560" cy="289080"/>
          </a:xfrm>
          <a:prstGeom prst="rightArrow">
            <a:avLst>
              <a:gd name="adj1" fmla="val 35167"/>
              <a:gd name="adj2" fmla="val 110719"/>
            </a:avLst>
          </a:prstGeom>
          <a:gradFill rotWithShape="0">
            <a:gsLst>
              <a:gs pos="0">
                <a:srgbClr val="4595d0">
                  <a:alpha val="0"/>
                </a:srgbClr>
              </a:gs>
              <a:gs pos="100000">
                <a:srgbClr val="4ea7ea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右箭头 51205"/>
          <p:cNvSpPr/>
          <p:nvPr/>
        </p:nvSpPr>
        <p:spPr>
          <a:xfrm rot="7534800">
            <a:off x="3356640" y="4804920"/>
            <a:ext cx="790920" cy="289080"/>
          </a:xfrm>
          <a:prstGeom prst="rightArrow">
            <a:avLst>
              <a:gd name="adj1" fmla="val 35167"/>
              <a:gd name="adj2" fmla="val 110770"/>
            </a:avLst>
          </a:prstGeom>
          <a:gradFill rotWithShape="0">
            <a:gsLst>
              <a:gs pos="0">
                <a:srgbClr val="4595d0">
                  <a:alpha val="0"/>
                </a:srgbClr>
              </a:gs>
              <a:gs pos="100000">
                <a:srgbClr val="4ea7ea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右箭头 51206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59"/>
            </a:avLst>
          </a:prstGeom>
          <a:gradFill rotWithShape="0">
            <a:gsLst>
              <a:gs pos="0">
                <a:srgbClr val="4595d0">
                  <a:alpha val="0"/>
                </a:srgbClr>
              </a:gs>
              <a:gs pos="100000">
                <a:srgbClr val="4ea7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右箭头 51207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54"/>
            </a:avLst>
          </a:prstGeom>
          <a:gradFill rotWithShape="0">
            <a:gsLst>
              <a:gs pos="0">
                <a:srgbClr val="4595d0">
                  <a:alpha val="0"/>
                </a:srgbClr>
              </a:gs>
              <a:gs pos="100000">
                <a:srgbClr val="4ea7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椭圆 51208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组合 51209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438" name="椭圆 51210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beac5"/>
                </a:gs>
                <a:gs pos="100000">
                  <a:srgbClr val="93c0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椭圆 51211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beac5"/>
                </a:gs>
                <a:gs pos="100000">
                  <a:srgbClr val="93c05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51212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441" name="椭圆 51213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beac5"/>
                </a:gs>
                <a:gs pos="100000">
                  <a:srgbClr val="93c0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椭圆 51214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beac5"/>
                </a:gs>
                <a:gs pos="100000">
                  <a:srgbClr val="93c05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51215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444" name="椭圆 51216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beac5"/>
                </a:gs>
                <a:gs pos="100000">
                  <a:srgbClr val="93c0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椭圆 51217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beac5"/>
                </a:gs>
                <a:gs pos="100000">
                  <a:srgbClr val="93c05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组合 51218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447" name="椭圆 51219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beac5"/>
                </a:gs>
                <a:gs pos="100000">
                  <a:srgbClr val="93c0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椭圆 51220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beac5"/>
                </a:gs>
                <a:gs pos="100000">
                  <a:srgbClr val="93c05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组合 51221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450" name="椭圆 51222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beac5"/>
                </a:gs>
                <a:gs pos="100000">
                  <a:srgbClr val="93c0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51223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beac5"/>
                </a:gs>
                <a:gs pos="100000">
                  <a:srgbClr val="93c05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组合 51224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453" name="椭圆 51225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beac5"/>
                </a:gs>
                <a:gs pos="100000">
                  <a:srgbClr val="93c0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椭圆 51226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beac5"/>
                </a:gs>
                <a:gs pos="100000">
                  <a:srgbClr val="93c05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椭圆 51227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cc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椭圆 51228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cc00">
                  <a:alpha val="32156"/>
                </a:srgbClr>
              </a:gs>
              <a:gs pos="100000">
                <a:srgbClr val="765e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椭圆 51229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8a6e00"/>
              </a:gs>
              <a:gs pos="50000">
                <a:srgbClr val="ffcc00"/>
              </a:gs>
              <a:gs pos="100000">
                <a:srgbClr val="8a6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椭圆 51230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a28200"/>
              </a:gs>
              <a:gs pos="100000">
                <a:srgbClr val="ffcc0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椭圆 51231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椭圆 51232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椭圆 51233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椭圆 51234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椭圆 51235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51236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51237"/>
          <p:cNvSpPr/>
          <p:nvPr/>
        </p:nvSpPr>
        <p:spPr>
          <a:xfrm>
            <a:off x="555552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51238"/>
          <p:cNvSpPr/>
          <p:nvPr/>
        </p:nvSpPr>
        <p:spPr>
          <a:xfrm>
            <a:off x="175500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51239"/>
          <p:cNvSpPr/>
          <p:nvPr/>
        </p:nvSpPr>
        <p:spPr>
          <a:xfrm>
            <a:off x="646992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51240"/>
          <p:cNvSpPr/>
          <p:nvPr/>
        </p:nvSpPr>
        <p:spPr>
          <a:xfrm>
            <a:off x="5555520" y="5373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51241"/>
          <p:cNvSpPr/>
          <p:nvPr/>
        </p:nvSpPr>
        <p:spPr>
          <a:xfrm>
            <a:off x="84060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51242"/>
          <p:cNvSpPr/>
          <p:nvPr/>
        </p:nvSpPr>
        <p:spPr>
          <a:xfrm>
            <a:off x="1678680" y="53118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6964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组合 52274"/>
          <p:cNvGrpSpPr/>
          <p:nvPr/>
        </p:nvGrpSpPr>
        <p:grpSpPr>
          <a:xfrm>
            <a:off x="1371600" y="1981080"/>
            <a:ext cx="6436440" cy="3729960"/>
            <a:chOff x="1371600" y="1981080"/>
            <a:chExt cx="6436440" cy="3729960"/>
          </a:xfrm>
        </p:grpSpPr>
        <p:grpSp>
          <p:nvGrpSpPr>
            <p:cNvPr id="473" name="组合 52226"/>
            <p:cNvGrpSpPr/>
            <p:nvPr/>
          </p:nvGrpSpPr>
          <p:grpSpPr>
            <a:xfrm>
              <a:off x="1371600" y="1981080"/>
              <a:ext cx="2025720" cy="3729960"/>
              <a:chOff x="1371600" y="1981080"/>
              <a:chExt cx="2025720" cy="3729960"/>
            </a:xfrm>
          </p:grpSpPr>
          <p:grpSp>
            <p:nvGrpSpPr>
              <p:cNvPr id="474" name="组合 52227"/>
              <p:cNvGrpSpPr/>
              <p:nvPr/>
            </p:nvGrpSpPr>
            <p:grpSpPr>
              <a:xfrm>
                <a:off x="1371600" y="2265120"/>
                <a:ext cx="2025720" cy="3445920"/>
                <a:chOff x="1371600" y="2265120"/>
                <a:chExt cx="2025720" cy="3445920"/>
              </a:xfrm>
            </p:grpSpPr>
            <p:sp>
              <p:nvSpPr>
                <p:cNvPr id="475" name="圆角矩形 52228"/>
                <p:cNvSpPr/>
                <p:nvPr/>
              </p:nvSpPr>
              <p:spPr>
                <a:xfrm>
                  <a:off x="1371600" y="2265120"/>
                  <a:ext cx="2019600" cy="2641320"/>
                </a:xfrm>
                <a:custGeom>
                  <a:avLst/>
                  <a:gdLst>
                    <a:gd name="textAreaLeft" fmla="*/ 103320 w 2019600"/>
                    <a:gd name="textAreaRight" fmla="*/ 1916280 w 2019600"/>
                    <a:gd name="textAreaTop" fmla="*/ 103320 h 2641320"/>
                    <a:gd name="textAreaBottom" fmla="*/ 2538000 h 2641320"/>
                  </a:gdLst>
                  <a:ahLst/>
                  <a:rect l="textAreaLeft" t="textAreaTop" r="textAreaRight" b="textAreaBottom"/>
                  <a:pathLst>
                    <a:path w="21600" h="28248">
                      <a:moveTo>
                        <a:pt x="3782" y="0"/>
                      </a:moveTo>
                      <a:arcTo wR="3782" hR="3782" stAng="16200000" swAng="-5400000"/>
                      <a:lnTo>
                        <a:pt x="0" y="24466"/>
                      </a:lnTo>
                      <a:arcTo wR="3782" hR="3782" stAng="10800000" swAng="-5400000"/>
                      <a:lnTo>
                        <a:pt x="17818" y="28248"/>
                      </a:lnTo>
                      <a:arcTo wR="3782" hR="3782" stAng="5400000" swAng="-5400000"/>
                      <a:lnTo>
                        <a:pt x="21600" y="3782"/>
                      </a:lnTo>
                      <a:arcTo wR="3782" hR="378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4e91d4"/>
                    </a:gs>
                    <a:gs pos="100000">
                      <a:srgbClr val="3477a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圆角矩形 52229"/>
                <p:cNvSpPr/>
                <p:nvPr/>
              </p:nvSpPr>
              <p:spPr>
                <a:xfrm>
                  <a:off x="1402560" y="2272320"/>
                  <a:ext cx="1959120" cy="2591280"/>
                </a:xfrm>
                <a:custGeom>
                  <a:avLst/>
                  <a:gdLst>
                    <a:gd name="textAreaLeft" fmla="*/ 95400 w 1959120"/>
                    <a:gd name="textAreaRight" fmla="*/ 1863720 w 1959120"/>
                    <a:gd name="textAreaTop" fmla="*/ 95400 h 2591280"/>
                    <a:gd name="textAreaBottom" fmla="*/ 2495880 h 2591280"/>
                  </a:gdLst>
                  <a:ahLst/>
                  <a:rect l="textAreaLeft" t="textAreaTop" r="textAreaRight" b="textAreaBottom"/>
                  <a:pathLst>
                    <a:path w="21600" h="28569">
                      <a:moveTo>
                        <a:pt x="3600" y="0"/>
                      </a:moveTo>
                      <a:arcTo wR="3600" hR="3600" stAng="16200000" swAng="-5400000"/>
                      <a:lnTo>
                        <a:pt x="0" y="24969"/>
                      </a:lnTo>
                      <a:arcTo wR="3600" hR="3600" stAng="10800000" swAng="-5400000"/>
                      <a:lnTo>
                        <a:pt x="18000" y="285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0d4f2"/>
                    </a:gs>
                    <a:gs pos="100000">
                      <a:srgbClr val="3ca1e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圆角矩形 52230"/>
                <p:cNvSpPr/>
                <p:nvPr/>
              </p:nvSpPr>
              <p:spPr>
                <a:xfrm>
                  <a:off x="1418760" y="418068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d4f2">
                        <a:alpha val="0"/>
                      </a:srgbClr>
                    </a:gs>
                    <a:gs pos="100000">
                      <a:srgbClr val="8fd9f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圆角矩形 52231"/>
                <p:cNvSpPr/>
                <p:nvPr/>
              </p:nvSpPr>
              <p:spPr>
                <a:xfrm>
                  <a:off x="1418760" y="229284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5f1fb"/>
                    </a:gs>
                    <a:gs pos="100000">
                      <a:srgbClr val="80d4f2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圆角矩形 52232"/>
                <p:cNvSpPr/>
                <p:nvPr/>
              </p:nvSpPr>
              <p:spPr>
                <a:xfrm>
                  <a:off x="1377720" y="4906440"/>
                  <a:ext cx="2019600" cy="804600"/>
                </a:xfrm>
                <a:prstGeom prst="roundRect">
                  <a:avLst>
                    <a:gd name="adj" fmla="val 40389"/>
                  </a:avLst>
                </a:prstGeom>
                <a:gradFill rotWithShape="0">
                  <a:gsLst>
                    <a:gs pos="0">
                      <a:srgbClr val="3477a4">
                        <a:alpha val="50196"/>
                      </a:srgbClr>
                    </a:gs>
                    <a:gs pos="100000">
                      <a:srgbClr val="18374c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圆角矩形 52233"/>
                <p:cNvSpPr/>
                <p:nvPr/>
              </p:nvSpPr>
              <p:spPr>
                <a:xfrm>
                  <a:off x="1418760" y="492840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5f1fb">
                        <a:alpha val="50196"/>
                      </a:srgbClr>
                    </a:gs>
                    <a:gs pos="100000">
                      <a:srgbClr val="80d4f2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组合 52234"/>
              <p:cNvGrpSpPr/>
              <p:nvPr/>
            </p:nvGrpSpPr>
            <p:grpSpPr>
              <a:xfrm>
                <a:off x="2066040" y="1981080"/>
                <a:ext cx="600480" cy="594720"/>
                <a:chOff x="2066040" y="1981080"/>
                <a:chExt cx="600480" cy="594720"/>
              </a:xfrm>
            </p:grpSpPr>
            <p:sp>
              <p:nvSpPr>
                <p:cNvPr id="482" name="椭圆 52235"/>
                <p:cNvSpPr/>
                <p:nvPr/>
              </p:nvSpPr>
              <p:spPr>
                <a:xfrm>
                  <a:off x="2066040" y="1981080"/>
                  <a:ext cx="600480" cy="5947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椭圆 52236"/>
                <p:cNvSpPr/>
                <p:nvPr/>
              </p:nvSpPr>
              <p:spPr>
                <a:xfrm>
                  <a:off x="2072160" y="1985400"/>
                  <a:ext cx="580680" cy="57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椭圆 52237"/>
                <p:cNvSpPr/>
                <p:nvPr/>
              </p:nvSpPr>
              <p:spPr>
                <a:xfrm>
                  <a:off x="2079360" y="1989000"/>
                  <a:ext cx="567360" cy="56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椭圆 52238"/>
                <p:cNvSpPr/>
                <p:nvPr/>
              </p:nvSpPr>
              <p:spPr>
                <a:xfrm>
                  <a:off x="2085480" y="1994400"/>
                  <a:ext cx="539280" cy="52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椭圆 52239"/>
                <p:cNvSpPr/>
                <p:nvPr/>
              </p:nvSpPr>
              <p:spPr>
                <a:xfrm>
                  <a:off x="2117160" y="2008440"/>
                  <a:ext cx="479160" cy="42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7" name="文本框 52240"/>
            <p:cNvSpPr/>
            <p:nvPr/>
          </p:nvSpPr>
          <p:spPr>
            <a:xfrm>
              <a:off x="2185560" y="206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文本框 52241"/>
            <p:cNvSpPr/>
            <p:nvPr/>
          </p:nvSpPr>
          <p:spPr>
            <a:xfrm>
              <a:off x="1442520" y="2685600"/>
              <a:ext cx="1920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组合 52242"/>
            <p:cNvGrpSpPr/>
            <p:nvPr/>
          </p:nvGrpSpPr>
          <p:grpSpPr>
            <a:xfrm>
              <a:off x="3576960" y="1981080"/>
              <a:ext cx="2025720" cy="3729960"/>
              <a:chOff x="3576960" y="1981080"/>
              <a:chExt cx="2025720" cy="3729960"/>
            </a:xfrm>
          </p:grpSpPr>
          <p:grpSp>
            <p:nvGrpSpPr>
              <p:cNvPr id="490" name="组合 52243"/>
              <p:cNvGrpSpPr/>
              <p:nvPr/>
            </p:nvGrpSpPr>
            <p:grpSpPr>
              <a:xfrm>
                <a:off x="3576960" y="2265120"/>
                <a:ext cx="2025720" cy="3445920"/>
                <a:chOff x="3576960" y="2265120"/>
                <a:chExt cx="2025720" cy="3445920"/>
              </a:xfrm>
            </p:grpSpPr>
            <p:sp>
              <p:nvSpPr>
                <p:cNvPr id="491" name="圆角矩形 52244"/>
                <p:cNvSpPr/>
                <p:nvPr/>
              </p:nvSpPr>
              <p:spPr>
                <a:xfrm>
                  <a:off x="3576960" y="2265120"/>
                  <a:ext cx="2019600" cy="2641320"/>
                </a:xfrm>
                <a:custGeom>
                  <a:avLst/>
                  <a:gdLst>
                    <a:gd name="textAreaLeft" fmla="*/ 103320 w 2019600"/>
                    <a:gd name="textAreaRight" fmla="*/ 1916280 w 2019600"/>
                    <a:gd name="textAreaTop" fmla="*/ 103320 h 2641320"/>
                    <a:gd name="textAreaBottom" fmla="*/ 2538000 h 2641320"/>
                  </a:gdLst>
                  <a:ahLst/>
                  <a:rect l="textAreaLeft" t="textAreaTop" r="textAreaRight" b="textAreaBottom"/>
                  <a:pathLst>
                    <a:path w="21600" h="28248">
                      <a:moveTo>
                        <a:pt x="3782" y="0"/>
                      </a:moveTo>
                      <a:arcTo wR="3782" hR="3782" stAng="16200000" swAng="-5400000"/>
                      <a:lnTo>
                        <a:pt x="0" y="24466"/>
                      </a:lnTo>
                      <a:arcTo wR="3782" hR="3782" stAng="10800000" swAng="-5400000"/>
                      <a:lnTo>
                        <a:pt x="17818" y="28248"/>
                      </a:lnTo>
                      <a:arcTo wR="3782" hR="3782" stAng="5400000" swAng="-5400000"/>
                      <a:lnTo>
                        <a:pt x="21600" y="3782"/>
                      </a:lnTo>
                      <a:arcTo wR="3782" hR="378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34b034"/>
                    </a:gs>
                    <a:gs pos="100000">
                      <a:srgbClr val="3f8b4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圆角矩形 52245"/>
                <p:cNvSpPr/>
                <p:nvPr/>
              </p:nvSpPr>
              <p:spPr>
                <a:xfrm>
                  <a:off x="3607920" y="2272320"/>
                  <a:ext cx="1959120" cy="2591280"/>
                </a:xfrm>
                <a:custGeom>
                  <a:avLst/>
                  <a:gdLst>
                    <a:gd name="textAreaLeft" fmla="*/ 95400 w 1959120"/>
                    <a:gd name="textAreaRight" fmla="*/ 1863720 w 1959120"/>
                    <a:gd name="textAreaTop" fmla="*/ 95400 h 2591280"/>
                    <a:gd name="textAreaBottom" fmla="*/ 2495880 h 2591280"/>
                  </a:gdLst>
                  <a:ahLst/>
                  <a:rect l="textAreaLeft" t="textAreaTop" r="textAreaRight" b="textAreaBottom"/>
                  <a:pathLst>
                    <a:path w="21600" h="28569">
                      <a:moveTo>
                        <a:pt x="3600" y="0"/>
                      </a:moveTo>
                      <a:arcTo wR="3600" hR="3600" stAng="16200000" swAng="-5400000"/>
                      <a:lnTo>
                        <a:pt x="0" y="24969"/>
                      </a:lnTo>
                      <a:arcTo wR="3600" hR="3600" stAng="10800000" swAng="-5400000"/>
                      <a:lnTo>
                        <a:pt x="18000" y="285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8ea91"/>
                    </a:gs>
                    <a:gs pos="100000">
                      <a:srgbClr val="21d3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圆角矩形 52246"/>
                <p:cNvSpPr/>
                <p:nvPr/>
              </p:nvSpPr>
              <p:spPr>
                <a:xfrm>
                  <a:off x="3624120" y="418068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8ea91">
                        <a:alpha val="0"/>
                      </a:srgbClr>
                    </a:gs>
                    <a:gs pos="100000">
                      <a:srgbClr val="96ed9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圆角矩形 52247"/>
                <p:cNvSpPr/>
                <p:nvPr/>
              </p:nvSpPr>
              <p:spPr>
                <a:xfrm>
                  <a:off x="3624120" y="229284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7f8da"/>
                    </a:gs>
                    <a:gs pos="100000">
                      <a:srgbClr val="88ea91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圆角矩形 52248"/>
                <p:cNvSpPr/>
                <p:nvPr/>
              </p:nvSpPr>
              <p:spPr>
                <a:xfrm>
                  <a:off x="3583080" y="4906440"/>
                  <a:ext cx="2019600" cy="804600"/>
                </a:xfrm>
                <a:prstGeom prst="roundRect">
                  <a:avLst>
                    <a:gd name="adj" fmla="val 40389"/>
                  </a:avLst>
                </a:prstGeom>
                <a:gradFill rotWithShape="0">
                  <a:gsLst>
                    <a:gs pos="0">
                      <a:srgbClr val="3477a4">
                        <a:alpha val="50196"/>
                      </a:srgbClr>
                    </a:gs>
                    <a:gs pos="100000">
                      <a:srgbClr val="18374c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圆角矩形 52249"/>
                <p:cNvSpPr/>
                <p:nvPr/>
              </p:nvSpPr>
              <p:spPr>
                <a:xfrm>
                  <a:off x="3624120" y="492840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b5f0c2">
                        <a:alpha val="50196"/>
                      </a:srgbClr>
                    </a:gs>
                    <a:gs pos="100000">
                      <a:srgbClr val="21d347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组合 52250"/>
              <p:cNvGrpSpPr/>
              <p:nvPr/>
            </p:nvGrpSpPr>
            <p:grpSpPr>
              <a:xfrm>
                <a:off x="4271400" y="1981080"/>
                <a:ext cx="600480" cy="594720"/>
                <a:chOff x="4271400" y="1981080"/>
                <a:chExt cx="600480" cy="594720"/>
              </a:xfrm>
            </p:grpSpPr>
            <p:sp>
              <p:nvSpPr>
                <p:cNvPr id="498" name="椭圆 52251"/>
                <p:cNvSpPr/>
                <p:nvPr/>
              </p:nvSpPr>
              <p:spPr>
                <a:xfrm>
                  <a:off x="4271400" y="1981080"/>
                  <a:ext cx="600480" cy="5947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椭圆 52252"/>
                <p:cNvSpPr/>
                <p:nvPr/>
              </p:nvSpPr>
              <p:spPr>
                <a:xfrm>
                  <a:off x="4277520" y="1985400"/>
                  <a:ext cx="580680" cy="57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椭圆 52253"/>
                <p:cNvSpPr/>
                <p:nvPr/>
              </p:nvSpPr>
              <p:spPr>
                <a:xfrm>
                  <a:off x="4284720" y="1989000"/>
                  <a:ext cx="567360" cy="56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椭圆 52254"/>
                <p:cNvSpPr/>
                <p:nvPr/>
              </p:nvSpPr>
              <p:spPr>
                <a:xfrm>
                  <a:off x="4290840" y="1994400"/>
                  <a:ext cx="539280" cy="52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椭圆 52255"/>
                <p:cNvSpPr/>
                <p:nvPr/>
              </p:nvSpPr>
              <p:spPr>
                <a:xfrm>
                  <a:off x="4322520" y="2008440"/>
                  <a:ext cx="479160" cy="42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3" name="文本框 52256"/>
            <p:cNvSpPr/>
            <p:nvPr/>
          </p:nvSpPr>
          <p:spPr>
            <a:xfrm>
              <a:off x="4391280" y="206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文本框 52257"/>
            <p:cNvSpPr/>
            <p:nvPr/>
          </p:nvSpPr>
          <p:spPr>
            <a:xfrm>
              <a:off x="3647880" y="2685600"/>
              <a:ext cx="1920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组合 52258"/>
            <p:cNvGrpSpPr/>
            <p:nvPr/>
          </p:nvGrpSpPr>
          <p:grpSpPr>
            <a:xfrm>
              <a:off x="5782320" y="1981080"/>
              <a:ext cx="2025720" cy="3729960"/>
              <a:chOff x="5782320" y="1981080"/>
              <a:chExt cx="2025720" cy="3729960"/>
            </a:xfrm>
          </p:grpSpPr>
          <p:grpSp>
            <p:nvGrpSpPr>
              <p:cNvPr id="506" name="组合 52259"/>
              <p:cNvGrpSpPr/>
              <p:nvPr/>
            </p:nvGrpSpPr>
            <p:grpSpPr>
              <a:xfrm>
                <a:off x="5782320" y="2265120"/>
                <a:ext cx="2025720" cy="3445920"/>
                <a:chOff x="5782320" y="2265120"/>
                <a:chExt cx="2025720" cy="3445920"/>
              </a:xfrm>
            </p:grpSpPr>
            <p:sp>
              <p:nvSpPr>
                <p:cNvPr id="507" name="圆角矩形 52260"/>
                <p:cNvSpPr/>
                <p:nvPr/>
              </p:nvSpPr>
              <p:spPr>
                <a:xfrm>
                  <a:off x="5782320" y="2265120"/>
                  <a:ext cx="2019600" cy="2641320"/>
                </a:xfrm>
                <a:custGeom>
                  <a:avLst/>
                  <a:gdLst>
                    <a:gd name="textAreaLeft" fmla="*/ 103320 w 2019600"/>
                    <a:gd name="textAreaRight" fmla="*/ 1916280 w 2019600"/>
                    <a:gd name="textAreaTop" fmla="*/ 103320 h 2641320"/>
                    <a:gd name="textAreaBottom" fmla="*/ 2538000 h 2641320"/>
                  </a:gdLst>
                  <a:ahLst/>
                  <a:rect l="textAreaLeft" t="textAreaTop" r="textAreaRight" b="textAreaBottom"/>
                  <a:pathLst>
                    <a:path w="21600" h="28248">
                      <a:moveTo>
                        <a:pt x="3782" y="0"/>
                      </a:moveTo>
                      <a:arcTo wR="3782" hR="3782" stAng="16200000" swAng="-5400000"/>
                      <a:lnTo>
                        <a:pt x="0" y="24466"/>
                      </a:lnTo>
                      <a:arcTo wR="3782" hR="3782" stAng="10800000" swAng="-5400000"/>
                      <a:lnTo>
                        <a:pt x="17818" y="28248"/>
                      </a:lnTo>
                      <a:arcTo wR="3782" hR="3782" stAng="5400000" swAng="-5400000"/>
                      <a:lnTo>
                        <a:pt x="21600" y="3782"/>
                      </a:lnTo>
                      <a:arcTo wR="3782" hR="378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b59f43"/>
                    </a:gs>
                    <a:gs pos="100000">
                      <a:srgbClr val="8f884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圆角矩形 52261"/>
                <p:cNvSpPr/>
                <p:nvPr/>
              </p:nvSpPr>
              <p:spPr>
                <a:xfrm>
                  <a:off x="5813280" y="2272320"/>
                  <a:ext cx="1959120" cy="2591280"/>
                </a:xfrm>
                <a:custGeom>
                  <a:avLst/>
                  <a:gdLst>
                    <a:gd name="textAreaLeft" fmla="*/ 95400 w 1959120"/>
                    <a:gd name="textAreaRight" fmla="*/ 1863720 w 1959120"/>
                    <a:gd name="textAreaTop" fmla="*/ 95400 h 2591280"/>
                    <a:gd name="textAreaBottom" fmla="*/ 2495880 h 2591280"/>
                  </a:gdLst>
                  <a:ahLst/>
                  <a:rect l="textAreaLeft" t="textAreaTop" r="textAreaRight" b="textAreaBottom"/>
                  <a:pathLst>
                    <a:path w="21600" h="28569">
                      <a:moveTo>
                        <a:pt x="3600" y="0"/>
                      </a:moveTo>
                      <a:arcTo wR="3600" hR="3600" stAng="16200000" swAng="-5400000"/>
                      <a:lnTo>
                        <a:pt x="0" y="24969"/>
                      </a:lnTo>
                      <a:arcTo wR="3600" hR="3600" stAng="10800000" swAng="-5400000"/>
                      <a:lnTo>
                        <a:pt x="18000" y="285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eaec86"/>
                    </a:gs>
                    <a:gs pos="100000">
                      <a:srgbClr val="dcce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圆角矩形 52262"/>
                <p:cNvSpPr/>
                <p:nvPr/>
              </p:nvSpPr>
              <p:spPr>
                <a:xfrm>
                  <a:off x="5829480" y="418068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eaec86">
                        <a:alpha val="0"/>
                      </a:srgbClr>
                    </a:gs>
                    <a:gs pos="100000">
                      <a:srgbClr val="edee9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圆角矩形 52263"/>
                <p:cNvSpPr/>
                <p:nvPr/>
              </p:nvSpPr>
              <p:spPr>
                <a:xfrm>
                  <a:off x="5829480" y="229284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9d7"/>
                    </a:gs>
                    <a:gs pos="100000">
                      <a:srgbClr val="eaec8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圆角矩形 52264"/>
                <p:cNvSpPr/>
                <p:nvPr/>
              </p:nvSpPr>
              <p:spPr>
                <a:xfrm>
                  <a:off x="5788440" y="4906440"/>
                  <a:ext cx="2019600" cy="804600"/>
                </a:xfrm>
                <a:prstGeom prst="roundRect">
                  <a:avLst>
                    <a:gd name="adj" fmla="val 40389"/>
                  </a:avLst>
                </a:prstGeom>
                <a:gradFill rotWithShape="0">
                  <a:gsLst>
                    <a:gs pos="0">
                      <a:srgbClr val="3477a4">
                        <a:alpha val="50196"/>
                      </a:srgbClr>
                    </a:gs>
                    <a:gs pos="100000">
                      <a:srgbClr val="18374c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圆角矩形 52265"/>
                <p:cNvSpPr/>
                <p:nvPr/>
              </p:nvSpPr>
              <p:spPr>
                <a:xfrm>
                  <a:off x="5829480" y="492840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9d7">
                        <a:alpha val="50196"/>
                      </a:srgbClr>
                    </a:gs>
                    <a:gs pos="100000">
                      <a:srgbClr val="eaec8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3" name="组合 52266"/>
              <p:cNvGrpSpPr/>
              <p:nvPr/>
            </p:nvGrpSpPr>
            <p:grpSpPr>
              <a:xfrm>
                <a:off x="6476760" y="1981080"/>
                <a:ext cx="600480" cy="594720"/>
                <a:chOff x="6476760" y="1981080"/>
                <a:chExt cx="600480" cy="594720"/>
              </a:xfrm>
            </p:grpSpPr>
            <p:sp>
              <p:nvSpPr>
                <p:cNvPr id="514" name="椭圆 52267"/>
                <p:cNvSpPr/>
                <p:nvPr/>
              </p:nvSpPr>
              <p:spPr>
                <a:xfrm>
                  <a:off x="6476760" y="1981080"/>
                  <a:ext cx="600480" cy="5947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椭圆 52268"/>
                <p:cNvSpPr/>
                <p:nvPr/>
              </p:nvSpPr>
              <p:spPr>
                <a:xfrm>
                  <a:off x="6482880" y="1985400"/>
                  <a:ext cx="580680" cy="57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椭圆 52269"/>
                <p:cNvSpPr/>
                <p:nvPr/>
              </p:nvSpPr>
              <p:spPr>
                <a:xfrm>
                  <a:off x="6490080" y="1989000"/>
                  <a:ext cx="567360" cy="56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椭圆 52270"/>
                <p:cNvSpPr/>
                <p:nvPr/>
              </p:nvSpPr>
              <p:spPr>
                <a:xfrm>
                  <a:off x="6496200" y="1994400"/>
                  <a:ext cx="539280" cy="52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椭圆 52271"/>
                <p:cNvSpPr/>
                <p:nvPr/>
              </p:nvSpPr>
              <p:spPr>
                <a:xfrm>
                  <a:off x="6527880" y="2008440"/>
                  <a:ext cx="479160" cy="42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9" name="文本框 52272"/>
            <p:cNvSpPr/>
            <p:nvPr/>
          </p:nvSpPr>
          <p:spPr>
            <a:xfrm>
              <a:off x="6598440" y="206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文本框 52273"/>
            <p:cNvSpPr/>
            <p:nvPr/>
          </p:nvSpPr>
          <p:spPr>
            <a:xfrm>
              <a:off x="5852160" y="2685600"/>
              <a:ext cx="19234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6964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2" name="组合 53339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523" name="矩形 53250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53251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组合 53252"/>
          <p:cNvGrpSpPr/>
          <p:nvPr/>
        </p:nvGrpSpPr>
        <p:grpSpPr>
          <a:xfrm>
            <a:off x="4721760" y="3528000"/>
            <a:ext cx="1522080" cy="2421000"/>
            <a:chOff x="4721760" y="3528000"/>
            <a:chExt cx="1522080" cy="2421000"/>
          </a:xfrm>
        </p:grpSpPr>
        <p:grpSp>
          <p:nvGrpSpPr>
            <p:cNvPr id="526" name="组合 53253"/>
            <p:cNvGrpSpPr/>
            <p:nvPr/>
          </p:nvGrpSpPr>
          <p:grpSpPr>
            <a:xfrm>
              <a:off x="4721760" y="3685320"/>
              <a:ext cx="1417320" cy="2263680"/>
              <a:chOff x="4721760" y="3685320"/>
              <a:chExt cx="1417320" cy="2263680"/>
            </a:xfrm>
          </p:grpSpPr>
          <p:sp>
            <p:nvSpPr>
              <p:cNvPr id="527" name="任意多边形 53254"/>
              <p:cNvSpPr/>
              <p:nvPr/>
            </p:nvSpPr>
            <p:spPr>
              <a:xfrm rot="3876600">
                <a:off x="4293720" y="4572000"/>
                <a:ext cx="2273040" cy="4903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任意多边形 53255"/>
              <p:cNvSpPr/>
              <p:nvPr/>
            </p:nvSpPr>
            <p:spPr>
              <a:xfrm rot="3876600">
                <a:off x="5659560" y="5449680"/>
                <a:ext cx="357120" cy="4010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组合 53256"/>
            <p:cNvGrpSpPr/>
            <p:nvPr/>
          </p:nvGrpSpPr>
          <p:grpSpPr>
            <a:xfrm>
              <a:off x="5156280" y="3528000"/>
              <a:ext cx="1087560" cy="1737000"/>
              <a:chOff x="5156280" y="3528000"/>
              <a:chExt cx="1087560" cy="1737000"/>
            </a:xfrm>
          </p:grpSpPr>
          <p:sp>
            <p:nvSpPr>
              <p:cNvPr id="530" name="任意多边形 53257"/>
              <p:cNvSpPr/>
              <p:nvPr/>
            </p:nvSpPr>
            <p:spPr>
              <a:xfrm flipV="1" rot="3876600">
                <a:off x="4827960" y="4208040"/>
                <a:ext cx="1744200" cy="376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任意多边形 53258"/>
              <p:cNvSpPr/>
              <p:nvPr/>
            </p:nvSpPr>
            <p:spPr>
              <a:xfrm flipV="1" rot="3876600">
                <a:off x="5860440" y="4889520"/>
                <a:ext cx="273960" cy="3078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2" name="组合 53259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533" name="椭圆 53260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椭圆 53261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椭圆 53262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椭圆 53263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椭圆 53264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组合 53265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539" name="椭圆 53266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椭圆 53267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椭圆 53268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椭圆 53269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3" name="组合 53270"/>
          <p:cNvGrpSpPr/>
          <p:nvPr/>
        </p:nvGrpSpPr>
        <p:grpSpPr>
          <a:xfrm>
            <a:off x="6687360" y="3594240"/>
            <a:ext cx="1523880" cy="2422080"/>
            <a:chOff x="6687360" y="3594240"/>
            <a:chExt cx="1523880" cy="2422080"/>
          </a:xfrm>
        </p:grpSpPr>
        <p:grpSp>
          <p:nvGrpSpPr>
            <p:cNvPr id="544" name="组合 53271"/>
            <p:cNvGrpSpPr/>
            <p:nvPr/>
          </p:nvGrpSpPr>
          <p:grpSpPr>
            <a:xfrm>
              <a:off x="6687360" y="3751920"/>
              <a:ext cx="1418760" cy="2264400"/>
              <a:chOff x="6687360" y="3751920"/>
              <a:chExt cx="1418760" cy="2264400"/>
            </a:xfrm>
          </p:grpSpPr>
          <p:sp>
            <p:nvSpPr>
              <p:cNvPr id="545" name="任意多边形 53272"/>
              <p:cNvSpPr/>
              <p:nvPr/>
            </p:nvSpPr>
            <p:spPr>
              <a:xfrm rot="3876600">
                <a:off x="6259680" y="463824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任意多边形 53273"/>
              <p:cNvSpPr/>
              <p:nvPr/>
            </p:nvSpPr>
            <p:spPr>
              <a:xfrm rot="3876600">
                <a:off x="7625520" y="551664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组合 53274"/>
            <p:cNvGrpSpPr/>
            <p:nvPr/>
          </p:nvGrpSpPr>
          <p:grpSpPr>
            <a:xfrm>
              <a:off x="7122600" y="3594240"/>
              <a:ext cx="1088640" cy="1737720"/>
              <a:chOff x="7122600" y="3594240"/>
              <a:chExt cx="1088640" cy="1737720"/>
            </a:xfrm>
          </p:grpSpPr>
          <p:sp>
            <p:nvSpPr>
              <p:cNvPr id="548" name="任意多边形 53275"/>
              <p:cNvSpPr/>
              <p:nvPr/>
            </p:nvSpPr>
            <p:spPr>
              <a:xfrm flipV="1" rot="3876600">
                <a:off x="6794280" y="427428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任意多边形 53276"/>
              <p:cNvSpPr/>
              <p:nvPr/>
            </p:nvSpPr>
            <p:spPr>
              <a:xfrm flipV="1" rot="3876600">
                <a:off x="7827480" y="49546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椭圆 53277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53278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椭圆 53279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椭圆 53280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椭圆 53281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组合 53282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556" name="椭圆 53283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53284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椭圆 53285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椭圆 53286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组合 53287"/>
          <p:cNvGrpSpPr/>
          <p:nvPr/>
        </p:nvGrpSpPr>
        <p:grpSpPr>
          <a:xfrm>
            <a:off x="2915280" y="3527640"/>
            <a:ext cx="1523880" cy="2421720"/>
            <a:chOff x="2915280" y="3527640"/>
            <a:chExt cx="1523880" cy="2421720"/>
          </a:xfrm>
        </p:grpSpPr>
        <p:grpSp>
          <p:nvGrpSpPr>
            <p:cNvPr id="561" name="组合 53288"/>
            <p:cNvGrpSpPr/>
            <p:nvPr/>
          </p:nvGrpSpPr>
          <p:grpSpPr>
            <a:xfrm>
              <a:off x="2915280" y="3685320"/>
              <a:ext cx="1418400" cy="2264040"/>
              <a:chOff x="2915280" y="3685320"/>
              <a:chExt cx="1418400" cy="2264040"/>
            </a:xfrm>
          </p:grpSpPr>
          <p:sp>
            <p:nvSpPr>
              <p:cNvPr id="562" name="任意多边形 53289"/>
              <p:cNvSpPr/>
              <p:nvPr/>
            </p:nvSpPr>
            <p:spPr>
              <a:xfrm rot="3876600">
                <a:off x="2487960" y="4571640"/>
                <a:ext cx="227304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任意多边形 53290"/>
              <p:cNvSpPr/>
              <p:nvPr/>
            </p:nvSpPr>
            <p:spPr>
              <a:xfrm rot="3876600">
                <a:off x="3853440" y="54496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组合 53291"/>
            <p:cNvGrpSpPr/>
            <p:nvPr/>
          </p:nvGrpSpPr>
          <p:grpSpPr>
            <a:xfrm>
              <a:off x="3350880" y="3527640"/>
              <a:ext cx="1088280" cy="1737360"/>
              <a:chOff x="3350880" y="3527640"/>
              <a:chExt cx="1088280" cy="1737360"/>
            </a:xfrm>
          </p:grpSpPr>
          <p:sp>
            <p:nvSpPr>
              <p:cNvPr id="565" name="任意多边形 53292"/>
              <p:cNvSpPr/>
              <p:nvPr/>
            </p:nvSpPr>
            <p:spPr>
              <a:xfrm flipV="1" rot="3876600">
                <a:off x="3022920" y="4207680"/>
                <a:ext cx="174420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任意多边形 53293"/>
              <p:cNvSpPr/>
              <p:nvPr/>
            </p:nvSpPr>
            <p:spPr>
              <a:xfrm flipV="1" rot="3876600">
                <a:off x="4055400" y="48880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7" name="组合 53294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568" name="椭圆 53295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椭圆 53296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椭圆 53297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椭圆 53298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椭圆 53299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组合 53300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574" name="椭圆 53301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椭圆 53302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椭圆 53303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椭圆 53304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8" name="组合 53305"/>
          <p:cNvGrpSpPr/>
          <p:nvPr/>
        </p:nvGrpSpPr>
        <p:grpSpPr>
          <a:xfrm>
            <a:off x="1168560" y="3527640"/>
            <a:ext cx="1523880" cy="2421720"/>
            <a:chOff x="1168560" y="3527640"/>
            <a:chExt cx="1523880" cy="2421720"/>
          </a:xfrm>
        </p:grpSpPr>
        <p:grpSp>
          <p:nvGrpSpPr>
            <p:cNvPr id="579" name="组合 53306"/>
            <p:cNvGrpSpPr/>
            <p:nvPr/>
          </p:nvGrpSpPr>
          <p:grpSpPr>
            <a:xfrm>
              <a:off x="1168560" y="3685320"/>
              <a:ext cx="1418400" cy="2264040"/>
              <a:chOff x="1168560" y="3685320"/>
              <a:chExt cx="1418400" cy="2264040"/>
            </a:xfrm>
          </p:grpSpPr>
          <p:sp>
            <p:nvSpPr>
              <p:cNvPr id="580" name="任意多边形 53307"/>
              <p:cNvSpPr/>
              <p:nvPr/>
            </p:nvSpPr>
            <p:spPr>
              <a:xfrm rot="3876600">
                <a:off x="741240" y="4571640"/>
                <a:ext cx="227304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任意多边形 53308"/>
              <p:cNvSpPr/>
              <p:nvPr/>
            </p:nvSpPr>
            <p:spPr>
              <a:xfrm rot="3876600">
                <a:off x="2106720" y="545004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组合 53309"/>
            <p:cNvGrpSpPr/>
            <p:nvPr/>
          </p:nvGrpSpPr>
          <p:grpSpPr>
            <a:xfrm>
              <a:off x="1604160" y="3527640"/>
              <a:ext cx="1088280" cy="1737360"/>
              <a:chOff x="1604160" y="3527640"/>
              <a:chExt cx="1088280" cy="1737360"/>
            </a:xfrm>
          </p:grpSpPr>
          <p:sp>
            <p:nvSpPr>
              <p:cNvPr id="583" name="任意多边形 53310"/>
              <p:cNvSpPr/>
              <p:nvPr/>
            </p:nvSpPr>
            <p:spPr>
              <a:xfrm flipV="1" rot="3876600">
                <a:off x="1276200" y="4207680"/>
                <a:ext cx="174420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任意多边形 53311"/>
              <p:cNvSpPr/>
              <p:nvPr/>
            </p:nvSpPr>
            <p:spPr>
              <a:xfrm flipV="1" rot="3876600">
                <a:off x="2308680" y="488844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5" name="组合 53312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86" name="椭圆 53313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椭圆 53314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椭圆 53315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椭圆 53316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椭圆 53317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组合 53318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92" name="椭圆 53319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椭圆 53320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椭圆 53321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53322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6" name="文本框 53323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文本框 53324"/>
          <p:cNvSpPr/>
          <p:nvPr/>
        </p:nvSpPr>
        <p:spPr>
          <a:xfrm rot="3925800">
            <a:off x="1591200" y="42249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53325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53326"/>
          <p:cNvSpPr/>
          <p:nvPr/>
        </p:nvSpPr>
        <p:spPr>
          <a:xfrm rot="3925800">
            <a:off x="3331080" y="4224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53327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53328"/>
          <p:cNvSpPr/>
          <p:nvPr/>
        </p:nvSpPr>
        <p:spPr>
          <a:xfrm rot="3925800">
            <a:off x="5144040" y="4224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53329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53330"/>
          <p:cNvSpPr/>
          <p:nvPr/>
        </p:nvSpPr>
        <p:spPr>
          <a:xfrm rot="3925800">
            <a:off x="7096680" y="4367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组合 53341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605" name="文本框 53331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文本框 53332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文本框 53333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文本框 53334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9" name="直接箭头连接符 53335"/>
            <p:cNvCxnSpPr>
              <a:stCxn id="605" idx="3"/>
              <a:endCxn id="606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round/>
              <a:tailEnd len="med" type="triangle" w="med"/>
            </a:ln>
          </p:spPr>
        </p:cxnSp>
        <p:cxnSp>
          <p:nvCxnSpPr>
            <p:cNvPr id="610" name="直接箭头连接符 53336"/>
            <p:cNvCxnSpPr>
              <a:stCxn id="606" idx="3"/>
              <a:endCxn id="607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round/>
              <a:tailEnd len="med" type="triangle" w="med"/>
            </a:ln>
          </p:spPr>
        </p:cxnSp>
        <p:cxnSp>
          <p:nvCxnSpPr>
            <p:cNvPr id="611" name="直接箭头连接符 53340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round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6964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3" name="组合 54280"/>
          <p:cNvGrpSpPr/>
          <p:nvPr/>
        </p:nvGrpSpPr>
        <p:grpSpPr>
          <a:xfrm>
            <a:off x="1143000" y="2209680"/>
            <a:ext cx="6857640" cy="3428640"/>
            <a:chOff x="1143000" y="2209680"/>
            <a:chExt cx="6857640" cy="3428640"/>
          </a:xfrm>
        </p:grpSpPr>
        <p:sp>
          <p:nvSpPr>
            <p:cNvPr id="614" name="燕尾形 54274"/>
            <p:cNvSpPr/>
            <p:nvPr/>
          </p:nvSpPr>
          <p:spPr>
            <a:xfrm>
              <a:off x="5437800" y="297936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5" y="0"/>
                  </a:lnTo>
                  <a:lnTo>
                    <a:pt x="21600" y="10800"/>
                  </a:lnTo>
                  <a:lnTo>
                    <a:pt x="18045" y="21600"/>
                  </a:lnTo>
                  <a:lnTo>
                    <a:pt x="0" y="21600"/>
                  </a:lnTo>
                  <a:lnTo>
                    <a:pt x="35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3c052"/>
                </a:gs>
                <a:gs pos="100000">
                  <a:srgbClr val="b4d386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燕尾形 54275"/>
            <p:cNvSpPr/>
            <p:nvPr/>
          </p:nvSpPr>
          <p:spPr>
            <a:xfrm>
              <a:off x="3290400" y="297936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7" y="0"/>
                  </a:lnTo>
                  <a:lnTo>
                    <a:pt x="21600" y="10800"/>
                  </a:lnTo>
                  <a:lnTo>
                    <a:pt x="17847" y="21600"/>
                  </a:lnTo>
                  <a:lnTo>
                    <a:pt x="0" y="21600"/>
                  </a:lnTo>
                  <a:lnTo>
                    <a:pt x="3753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db4d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燕尾形 54276"/>
            <p:cNvSpPr/>
            <p:nvPr/>
          </p:nvSpPr>
          <p:spPr>
            <a:xfrm>
              <a:off x="1143000" y="297936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7" y="0"/>
                  </a:lnTo>
                  <a:lnTo>
                    <a:pt x="21600" y="10800"/>
                  </a:lnTo>
                  <a:lnTo>
                    <a:pt x="17847" y="21600"/>
                  </a:lnTo>
                  <a:lnTo>
                    <a:pt x="0" y="21600"/>
                  </a:lnTo>
                  <a:lnTo>
                    <a:pt x="3753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ea7ea"/>
                </a:gs>
                <a:gs pos="100000">
                  <a:srgbClr val="83c2f0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圆角矩形 54277"/>
            <p:cNvSpPr/>
            <p:nvPr/>
          </p:nvSpPr>
          <p:spPr>
            <a:xfrm>
              <a:off x="1350720" y="220968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83c2f0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圆角矩形 54278"/>
            <p:cNvSpPr/>
            <p:nvPr/>
          </p:nvSpPr>
          <p:spPr>
            <a:xfrm>
              <a:off x="3459240" y="220968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db4d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圆角矩形 54279"/>
            <p:cNvSpPr/>
            <p:nvPr/>
          </p:nvSpPr>
          <p:spPr>
            <a:xfrm>
              <a:off x="5576400" y="220968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b4d386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6964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圆角矩形 55298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圆角矩形 55299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圆角矩形 55300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圆角矩形 55301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组合 55302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626" name="矩形 55303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组合 55304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628" name="椭圆 55305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矩形 55306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椭圆 55307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椭圆 55308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2" name="矩形 55309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4ea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组合 55310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634" name="椭圆 55311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矩形 55312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椭圆 55313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椭圆 55314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矩形 55315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组合 55316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640" name="椭圆 55317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矩形 55318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椭圆 55319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椭圆 55320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4" name="矩形 55321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4ea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矩形 55322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55323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55324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55325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矩形 55326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55327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55328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55329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6964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533520" y="2438280"/>
          <a:ext cx="7848360" cy="3429000"/>
        </p:xfrm>
        <a:graphic>
          <a:graphicData uri="http://schemas.openxmlformats.org/drawingml/2006/table">
            <a:tbl>
              <a:tblPr/>
              <a:tblGrid>
                <a:gridCol w="1769760"/>
                <a:gridCol w="1235160"/>
                <a:gridCol w="1211040"/>
                <a:gridCol w="1208160"/>
                <a:gridCol w="1216080"/>
                <a:gridCol w="1208160"/>
              </a:tblGrid>
              <a:tr h="4888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05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96e4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05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96e4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052"/>
                    </a:solidFill>
                  </a:tcPr>
                </a:tc>
              </a:tr>
              <a:tr h="4906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7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052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96e4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052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96e4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052">
                        <a:alpha val="80000"/>
                      </a:srgbClr>
                    </a:solidFill>
                  </a:tcPr>
                </a:tc>
              </a:tr>
              <a:tr h="4888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7ea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052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96e4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052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96e4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052">
                        <a:alpha val="48000"/>
                      </a:srgbClr>
                    </a:solidFill>
                  </a:tcPr>
                </a:tc>
              </a:tr>
              <a:tr h="4921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7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052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96e4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052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96e4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052">
                        <a:alpha val="80000"/>
                      </a:srgbClr>
                    </a:solidFill>
                  </a:tcPr>
                </a:tc>
              </a:tr>
              <a:tr h="4888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7ea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052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96e4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052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96e4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052">
                        <a:alpha val="48000"/>
                      </a:srgbClr>
                    </a:solidFill>
                  </a:tcPr>
                </a:tc>
              </a:tr>
              <a:tr h="4906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7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052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96e4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052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96e4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052">
                        <a:alpha val="80000"/>
                      </a:srgbClr>
                    </a:solidFill>
                  </a:tcPr>
                </a:tc>
              </a:tr>
              <a:tr h="4888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7ea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052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96e4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052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96e4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05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6964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椭圆 57346"/>
          <p:cNvSpPr/>
          <p:nvPr/>
        </p:nvSpPr>
        <p:spPr>
          <a:xfrm>
            <a:off x="2111400" y="454176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100000">
                <a:srgbClr val="d2d2d2">
                  <a:alpha val="38039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椭圆 57347"/>
          <p:cNvSpPr/>
          <p:nvPr/>
        </p:nvSpPr>
        <p:spPr>
          <a:xfrm rot="20601600">
            <a:off x="1386000" y="242856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椭圆 57348"/>
          <p:cNvSpPr/>
          <p:nvPr/>
        </p:nvSpPr>
        <p:spPr>
          <a:xfrm rot="20601600">
            <a:off x="1441080" y="226692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任意多边形 57349"/>
          <p:cNvSpPr/>
          <p:nvPr/>
        </p:nvSpPr>
        <p:spPr>
          <a:xfrm rot="20601600">
            <a:off x="4314960" y="3338640"/>
            <a:ext cx="2652480" cy="1320840"/>
          </a:xfrm>
          <a:custGeom>
            <a:avLst/>
            <a:gdLst/>
            <a:ahLst/>
            <a:rect l="l" t="t" r="r" b="b"/>
            <a:pathLst>
              <a:path fill="none" w="19933" h="19523">
                <a:moveTo>
                  <a:pt x="19933" y="8320"/>
                </a:moveTo>
                <a:cubicBezTo>
                  <a:pt x="17878" y="13250"/>
                  <a:pt x="14049" y="17248"/>
                  <a:pt x="9249" y="19525"/>
                </a:cubicBezTo>
              </a:path>
              <a:path stroke="0" w="19933" h="19523">
                <a:moveTo>
                  <a:pt x="9242" y="19522"/>
                </a:moveTo>
                <a:cubicBezTo>
                  <a:pt x="9243" y="19631"/>
                  <a:pt x="9243" y="19741"/>
                  <a:pt x="9243" y="19851"/>
                </a:cubicBezTo>
                <a:cubicBezTo>
                  <a:pt x="9243" y="20093"/>
                  <a:pt x="9241" y="20333"/>
                  <a:pt x="9238" y="20566"/>
                </a:cubicBezTo>
                <a:lnTo>
                  <a:pt x="19933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任意多边形 57350"/>
          <p:cNvSpPr/>
          <p:nvPr/>
        </p:nvSpPr>
        <p:spPr>
          <a:xfrm rot="20601600">
            <a:off x="4091040" y="2344680"/>
            <a:ext cx="2849400" cy="1538280"/>
          </a:xfrm>
          <a:custGeom>
            <a:avLst/>
            <a:gdLst/>
            <a:ahLst/>
            <a:rect l="l" t="t" r="r" b="b"/>
            <a:pathLst>
              <a:path fill="none" w="21600" h="22718">
                <a:moveTo>
                  <a:pt x="16157" y="0"/>
                </a:moveTo>
                <a:cubicBezTo>
                  <a:pt x="19544" y="3813"/>
                  <a:pt x="21600" y="8834"/>
                  <a:pt x="21600" y="14335"/>
                </a:cubicBezTo>
                <a:cubicBezTo>
                  <a:pt x="21600" y="17311"/>
                  <a:pt x="20998" y="20146"/>
                  <a:pt x="19911" y="22723"/>
                </a:cubicBezTo>
              </a:path>
              <a:path stroke="0" w="21600" h="22718">
                <a:moveTo>
                  <a:pt x="19906" y="22718"/>
                </a:moveTo>
                <a:cubicBezTo>
                  <a:pt x="20398" y="18083"/>
                  <a:pt x="21213" y="15054"/>
                  <a:pt x="22135" y="15054"/>
                </a:cubicBezTo>
                <a:cubicBezTo>
                  <a:pt x="23638" y="15054"/>
                  <a:pt x="24856" y="23098"/>
                  <a:pt x="24856" y="33021"/>
                </a:cubicBezTo>
                <a:cubicBezTo>
                  <a:pt x="24856" y="33593"/>
                  <a:pt x="24852" y="34158"/>
                  <a:pt x="24844" y="34711"/>
                </a:cubicBezTo>
                <a:lnTo>
                  <a:pt x="16157" y="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任意多边形 57351"/>
          <p:cNvSpPr/>
          <p:nvPr/>
        </p:nvSpPr>
        <p:spPr>
          <a:xfrm flipH="1" rot="20602200">
            <a:off x="1522800" y="3639600"/>
            <a:ext cx="2876760" cy="163044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0"/>
                </a:moveTo>
                <a:cubicBezTo>
                  <a:pt x="21198" y="2176"/>
                  <a:pt x="21600" y="4515"/>
                  <a:pt x="21600" y="6947"/>
                </a:cubicBezTo>
                <a:cubicBezTo>
                  <a:pt x="21600" y="14141"/>
                  <a:pt x="18083" y="20514"/>
                  <a:pt x="12674" y="24440"/>
                </a:cubicBezTo>
              </a:path>
              <a:path stroke="0" w="21600" h="24439">
                <a:moveTo>
                  <a:pt x="12672" y="24438"/>
                </a:moveTo>
                <a:cubicBezTo>
                  <a:pt x="12673" y="24669"/>
                  <a:pt x="12673" y="24902"/>
                  <a:pt x="12673" y="25136"/>
                </a:cubicBezTo>
                <a:cubicBezTo>
                  <a:pt x="12673" y="25267"/>
                  <a:pt x="12673" y="25397"/>
                  <a:pt x="12673" y="25526"/>
                </a:cubicBezTo>
                <a:lnTo>
                  <a:pt x="20452" y="0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57352"/>
          <p:cNvSpPr/>
          <p:nvPr/>
        </p:nvSpPr>
        <p:spPr>
          <a:xfrm rot="20601600">
            <a:off x="3333600" y="2073240"/>
            <a:ext cx="2814840" cy="141768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8"/>
                </a:moveTo>
                <a:cubicBezTo>
                  <a:pt x="1553" y="187"/>
                  <a:pt x="3174" y="-1"/>
                  <a:pt x="4839" y="-1"/>
                </a:cubicBezTo>
                <a:cubicBezTo>
                  <a:pt x="11488" y="-1"/>
                  <a:pt x="17435" y="3003"/>
                  <a:pt x="21397" y="7728"/>
                </a:cubicBezTo>
              </a:path>
              <a:path stroke="0" w="21397" h="21600">
                <a:moveTo>
                  <a:pt x="21397" y="7729"/>
                </a:moveTo>
                <a:cubicBezTo>
                  <a:pt x="18811" y="3837"/>
                  <a:pt x="17194" y="-1710"/>
                  <a:pt x="17194" y="-7866"/>
                </a:cubicBezTo>
                <a:cubicBezTo>
                  <a:pt x="17194" y="-19644"/>
                  <a:pt x="23112" y="-29192"/>
                  <a:pt x="30413" y="-29192"/>
                </a:cubicBezTo>
                <a:cubicBezTo>
                  <a:pt x="37714" y="-29192"/>
                  <a:pt x="43632" y="-19644"/>
                  <a:pt x="43632" y="-7866"/>
                </a:cubicBezTo>
                <a:cubicBezTo>
                  <a:pt x="43632" y="-4730"/>
                  <a:pt x="43213" y="-1753"/>
                  <a:pt x="42460" y="926"/>
                </a:cubicBezTo>
                <a:lnTo>
                  <a:pt x="0" y="548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任意多边形 57353"/>
          <p:cNvSpPr/>
          <p:nvPr/>
        </p:nvSpPr>
        <p:spPr>
          <a:xfrm flipH="1" rot="20602200">
            <a:off x="1294920" y="2725200"/>
            <a:ext cx="2762280" cy="138096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0"/>
                </a:moveTo>
                <a:cubicBezTo>
                  <a:pt x="12505" y="1681"/>
                  <a:pt x="18923" y="7870"/>
                  <a:pt x="20936" y="15808"/>
                </a:cubicBezTo>
              </a:path>
              <a:path stroke="0" w="20934" h="21142">
                <a:moveTo>
                  <a:pt x="20934" y="15819"/>
                </a:moveTo>
                <a:cubicBezTo>
                  <a:pt x="20723" y="13980"/>
                  <a:pt x="20612" y="12035"/>
                  <a:pt x="20612" y="10026"/>
                </a:cubicBezTo>
                <a:cubicBezTo>
                  <a:pt x="20612" y="-1777"/>
                  <a:pt x="24457" y="-11345"/>
                  <a:pt x="29200" y="-11345"/>
                </a:cubicBezTo>
                <a:cubicBezTo>
                  <a:pt x="33943" y="-11345"/>
                  <a:pt x="37788" y="-1777"/>
                  <a:pt x="37788" y="10026"/>
                </a:cubicBezTo>
                <a:cubicBezTo>
                  <a:pt x="37788" y="11841"/>
                  <a:pt x="37697" y="13604"/>
                  <a:pt x="37526" y="15281"/>
                </a:cubicBezTo>
                <a:lnTo>
                  <a:pt x="4423" y="0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任意多边形 57354"/>
          <p:cNvSpPr/>
          <p:nvPr/>
        </p:nvSpPr>
        <p:spPr>
          <a:xfrm rot="20601600">
            <a:off x="4430880" y="358776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任意多边形 57355"/>
          <p:cNvSpPr/>
          <p:nvPr/>
        </p:nvSpPr>
        <p:spPr>
          <a:xfrm rot="20601600">
            <a:off x="4323960" y="333504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7356"/>
          <p:cNvGrpSpPr/>
          <p:nvPr/>
        </p:nvGrpSpPr>
        <p:grpSpPr>
          <a:xfrm>
            <a:off x="3912480" y="3011760"/>
            <a:ext cx="3252240" cy="2230920"/>
            <a:chOff x="3912480" y="3011760"/>
            <a:chExt cx="3252240" cy="2230920"/>
          </a:xfrm>
        </p:grpSpPr>
        <p:sp>
          <p:nvSpPr>
            <p:cNvPr id="667" name="任意多边形 57357"/>
            <p:cNvSpPr/>
            <p:nvPr/>
          </p:nvSpPr>
          <p:spPr>
            <a:xfrm rot="20712600">
              <a:off x="4025880" y="3366720"/>
              <a:ext cx="2949480" cy="127152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5" y="13336"/>
                    <a:pt x="13997" y="17273"/>
                    <a:pt x="9249" y="19525"/>
                  </a:cubicBezTo>
                </a:path>
                <a:path stroke="0" w="19866" h="19523">
                  <a:moveTo>
                    <a:pt x="9242" y="19522"/>
                  </a:moveTo>
                  <a:cubicBezTo>
                    <a:pt x="9243" y="19634"/>
                    <a:pt x="9243" y="19747"/>
                    <a:pt x="9243" y="19860"/>
                  </a:cubicBezTo>
                  <a:cubicBezTo>
                    <a:pt x="9243" y="20113"/>
                    <a:pt x="9241" y="20363"/>
                    <a:pt x="9237" y="20606"/>
                  </a:cubicBez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57358"/>
            <p:cNvSpPr/>
            <p:nvPr/>
          </p:nvSpPr>
          <p:spPr>
            <a:xfrm rot="20712600">
              <a:off x="4110120" y="3555360"/>
              <a:ext cx="137772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任意多边形 57359"/>
            <p:cNvSpPr/>
            <p:nvPr/>
          </p:nvSpPr>
          <p:spPr>
            <a:xfrm rot="20712600">
              <a:off x="5486400" y="3724200"/>
              <a:ext cx="1579320" cy="9788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57360"/>
          <p:cNvGrpSpPr/>
          <p:nvPr/>
        </p:nvGrpSpPr>
        <p:grpSpPr>
          <a:xfrm>
            <a:off x="4406040" y="2838240"/>
            <a:ext cx="3270960" cy="2463840"/>
            <a:chOff x="4406040" y="2838240"/>
            <a:chExt cx="3270960" cy="2463840"/>
          </a:xfrm>
        </p:grpSpPr>
        <p:sp>
          <p:nvSpPr>
            <p:cNvPr id="671" name="任意多边形 57361"/>
            <p:cNvSpPr/>
            <p:nvPr/>
          </p:nvSpPr>
          <p:spPr>
            <a:xfrm rot="20601600">
              <a:off x="5997240" y="362700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任意多边形 57362"/>
            <p:cNvSpPr/>
            <p:nvPr/>
          </p:nvSpPr>
          <p:spPr>
            <a:xfrm rot="20539200">
              <a:off x="4549320" y="3246120"/>
              <a:ext cx="2905200" cy="139716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5" y="13336"/>
                    <a:pt x="13997" y="17273"/>
                    <a:pt x="9249" y="19525"/>
                  </a:cubicBezTo>
                </a:path>
                <a:path stroke="0" w="19866" h="19523">
                  <a:moveTo>
                    <a:pt x="9242" y="19522"/>
                  </a:moveTo>
                  <a:cubicBezTo>
                    <a:pt x="9243" y="19634"/>
                    <a:pt x="9243" y="19747"/>
                    <a:pt x="9243" y="19860"/>
                  </a:cubicBezTo>
                  <a:cubicBezTo>
                    <a:pt x="9243" y="20113"/>
                    <a:pt x="9241" y="20363"/>
                    <a:pt x="9237" y="20606"/>
                  </a:cubicBezTo>
                  <a:lnTo>
                    <a:pt x="19866" y="847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任意多边形 57363"/>
            <p:cNvSpPr/>
            <p:nvPr/>
          </p:nvSpPr>
          <p:spPr>
            <a:xfrm rot="20601600">
              <a:off x="4681440" y="3457800"/>
              <a:ext cx="1332000" cy="168876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椭圆 57364"/>
          <p:cNvSpPr/>
          <p:nvPr/>
        </p:nvSpPr>
        <p:spPr>
          <a:xfrm rot="20601600">
            <a:off x="2903400" y="29808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椭圆 57365"/>
          <p:cNvSpPr/>
          <p:nvPr/>
        </p:nvSpPr>
        <p:spPr>
          <a:xfrm rot="20601600">
            <a:off x="2979720" y="3215880"/>
            <a:ext cx="2624040" cy="1098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文本框 57366"/>
          <p:cNvSpPr/>
          <p:nvPr/>
        </p:nvSpPr>
        <p:spPr>
          <a:xfrm>
            <a:off x="5639760" y="28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文本框 57367"/>
          <p:cNvSpPr/>
          <p:nvPr/>
        </p:nvSpPr>
        <p:spPr>
          <a:xfrm>
            <a:off x="4039560" y="2344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57368"/>
          <p:cNvSpPr/>
          <p:nvPr/>
        </p:nvSpPr>
        <p:spPr>
          <a:xfrm>
            <a:off x="2210760" y="31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57369"/>
          <p:cNvSpPr/>
          <p:nvPr/>
        </p:nvSpPr>
        <p:spPr>
          <a:xfrm>
            <a:off x="1982160" y="4402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57370"/>
          <p:cNvSpPr/>
          <p:nvPr/>
        </p:nvSpPr>
        <p:spPr>
          <a:xfrm>
            <a:off x="3735000" y="4630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57371"/>
          <p:cNvSpPr/>
          <p:nvPr/>
        </p:nvSpPr>
        <p:spPr>
          <a:xfrm>
            <a:off x="5716080" y="3792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6964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上箭头 58370"/>
          <p:cNvSpPr/>
          <p:nvPr/>
        </p:nvSpPr>
        <p:spPr>
          <a:xfrm>
            <a:off x="1981080" y="2590920"/>
            <a:ext cx="5105520" cy="2396880"/>
          </a:xfrm>
          <a:prstGeom prst="upArrow">
            <a:avLst>
              <a:gd name="adj1" fmla="val 54593"/>
              <a:gd name="adj2" fmla="val 56611"/>
            </a:avLst>
          </a:prstGeom>
          <a:gradFill rotWithShape="0">
            <a:gsLst>
              <a:gs pos="0">
                <a:srgbClr val="c0c0c0"/>
              </a:gs>
              <a:gs pos="100000">
                <a:srgbClr val="ea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组合 58371"/>
          <p:cNvGrpSpPr/>
          <p:nvPr/>
        </p:nvGrpSpPr>
        <p:grpSpPr>
          <a:xfrm>
            <a:off x="4614840" y="4356000"/>
            <a:ext cx="1513080" cy="1511280"/>
            <a:chOff x="4614840" y="4356000"/>
            <a:chExt cx="1513080" cy="1511280"/>
          </a:xfrm>
        </p:grpSpPr>
        <p:sp>
          <p:nvSpPr>
            <p:cNvPr id="685" name="椭圆 58372"/>
            <p:cNvSpPr/>
            <p:nvPr/>
          </p:nvSpPr>
          <p:spPr>
            <a:xfrm>
              <a:off x="4614840" y="43560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ea7e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椭圆 58373"/>
            <p:cNvSpPr/>
            <p:nvPr/>
          </p:nvSpPr>
          <p:spPr>
            <a:xfrm>
              <a:off x="4614840" y="43560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9acdf3"/>
                </a:gs>
                <a:gs pos="100000">
                  <a:srgbClr val="4ea7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椭圆 58374"/>
            <p:cNvSpPr/>
            <p:nvPr/>
          </p:nvSpPr>
          <p:spPr>
            <a:xfrm>
              <a:off x="4713840" y="44546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2a5a7f"/>
                </a:gs>
                <a:gs pos="50000">
                  <a:srgbClr val="4ea7ea"/>
                </a:gs>
                <a:gs pos="100000">
                  <a:srgbClr val="2a5a7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椭圆 58375"/>
            <p:cNvSpPr/>
            <p:nvPr/>
          </p:nvSpPr>
          <p:spPr>
            <a:xfrm>
              <a:off x="4713840" y="44546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4ea7ea"/>
                </a:gs>
                <a:gs pos="100000">
                  <a:srgbClr val="2651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椭圆 58376"/>
            <p:cNvSpPr/>
            <p:nvPr/>
          </p:nvSpPr>
          <p:spPr>
            <a:xfrm>
              <a:off x="4779720" y="452052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244d6c"/>
                </a:gs>
                <a:gs pos="100000">
                  <a:srgbClr val="4ea7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组合 58383"/>
          <p:cNvGrpSpPr/>
          <p:nvPr/>
        </p:nvGrpSpPr>
        <p:grpSpPr>
          <a:xfrm>
            <a:off x="6488280" y="4356000"/>
            <a:ext cx="1512720" cy="1511280"/>
            <a:chOff x="6488280" y="4356000"/>
            <a:chExt cx="1512720" cy="1511280"/>
          </a:xfrm>
        </p:grpSpPr>
        <p:sp>
          <p:nvSpPr>
            <p:cNvPr id="691" name="椭圆 58384"/>
            <p:cNvSpPr/>
            <p:nvPr/>
          </p:nvSpPr>
          <p:spPr>
            <a:xfrm>
              <a:off x="6488280" y="43560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e96e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椭圆 58385"/>
            <p:cNvSpPr/>
            <p:nvPr/>
          </p:nvSpPr>
          <p:spPr>
            <a:xfrm>
              <a:off x="6488280" y="43560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b4b9ed"/>
                </a:gs>
                <a:gs pos="100000">
                  <a:srgbClr val="8e96e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椭圆 58386"/>
            <p:cNvSpPr/>
            <p:nvPr/>
          </p:nvSpPr>
          <p:spPr>
            <a:xfrm>
              <a:off x="6587280" y="44546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4d517b"/>
                </a:gs>
                <a:gs pos="50000">
                  <a:srgbClr val="8e96e4"/>
                </a:gs>
                <a:gs pos="100000">
                  <a:srgbClr val="4d51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椭圆 58387"/>
            <p:cNvSpPr/>
            <p:nvPr/>
          </p:nvSpPr>
          <p:spPr>
            <a:xfrm>
              <a:off x="6587280" y="44546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8e96e4"/>
                </a:gs>
                <a:gs pos="100000">
                  <a:srgbClr val="4549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椭圆 58388"/>
            <p:cNvSpPr/>
            <p:nvPr/>
          </p:nvSpPr>
          <p:spPr>
            <a:xfrm>
              <a:off x="6653160" y="452052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42456a"/>
                </a:gs>
                <a:gs pos="100000">
                  <a:srgbClr val="8e96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组合 58389"/>
          <p:cNvGrpSpPr/>
          <p:nvPr/>
        </p:nvGrpSpPr>
        <p:grpSpPr>
          <a:xfrm>
            <a:off x="2816280" y="4356000"/>
            <a:ext cx="1512720" cy="1511280"/>
            <a:chOff x="2816280" y="4356000"/>
            <a:chExt cx="1512720" cy="1511280"/>
          </a:xfrm>
        </p:grpSpPr>
        <p:sp>
          <p:nvSpPr>
            <p:cNvPr id="697" name="椭圆 58390"/>
            <p:cNvSpPr/>
            <p:nvPr/>
          </p:nvSpPr>
          <p:spPr>
            <a:xfrm>
              <a:off x="2816280" y="43560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椭圆 58391"/>
            <p:cNvSpPr/>
            <p:nvPr/>
          </p:nvSpPr>
          <p:spPr>
            <a:xfrm>
              <a:off x="2816280" y="43560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fdb4d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椭圆 58392"/>
            <p:cNvSpPr/>
            <p:nvPr/>
          </p:nvSpPr>
          <p:spPr>
            <a:xfrm>
              <a:off x="2915280" y="44546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8a6e00"/>
                </a:gs>
                <a:gs pos="50000">
                  <a:srgbClr val="ffcc00"/>
                </a:gs>
                <a:gs pos="100000">
                  <a:srgbClr val="8a6e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椭圆 58393"/>
            <p:cNvSpPr/>
            <p:nvPr/>
          </p:nvSpPr>
          <p:spPr>
            <a:xfrm>
              <a:off x="2915280" y="44546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椭圆 58394"/>
            <p:cNvSpPr/>
            <p:nvPr/>
          </p:nvSpPr>
          <p:spPr>
            <a:xfrm>
              <a:off x="2981160" y="452052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圆角矩形 58395"/>
          <p:cNvSpPr/>
          <p:nvPr/>
        </p:nvSpPr>
        <p:spPr>
          <a:xfrm>
            <a:off x="2438280" y="1994040"/>
            <a:ext cx="4191120" cy="457200"/>
          </a:xfrm>
          <a:prstGeom prst="roundRect">
            <a:avLst>
              <a:gd name="adj" fmla="val 50000"/>
            </a:avLst>
          </a:prstGeom>
          <a:noFill/>
          <a:ln w="190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58397"/>
          <p:cNvSpPr/>
          <p:nvPr/>
        </p:nvSpPr>
        <p:spPr>
          <a:xfrm>
            <a:off x="5006520" y="4979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58398"/>
          <p:cNvSpPr/>
          <p:nvPr/>
        </p:nvSpPr>
        <p:spPr>
          <a:xfrm>
            <a:off x="3177720" y="4979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58399"/>
          <p:cNvSpPr/>
          <p:nvPr/>
        </p:nvSpPr>
        <p:spPr>
          <a:xfrm>
            <a:off x="6911640" y="4965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组合 58400"/>
          <p:cNvGrpSpPr/>
          <p:nvPr/>
        </p:nvGrpSpPr>
        <p:grpSpPr>
          <a:xfrm>
            <a:off x="1042920" y="4356000"/>
            <a:ext cx="1513080" cy="1511280"/>
            <a:chOff x="1042920" y="4356000"/>
            <a:chExt cx="1513080" cy="1511280"/>
          </a:xfrm>
        </p:grpSpPr>
        <p:sp>
          <p:nvSpPr>
            <p:cNvPr id="707" name="椭圆 58401"/>
            <p:cNvSpPr/>
            <p:nvPr/>
          </p:nvSpPr>
          <p:spPr>
            <a:xfrm>
              <a:off x="1042920" y="43560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3c05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椭圆 58402"/>
            <p:cNvSpPr/>
            <p:nvPr/>
          </p:nvSpPr>
          <p:spPr>
            <a:xfrm>
              <a:off x="1042920" y="43560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b4d386"/>
                </a:gs>
                <a:gs pos="100000">
                  <a:srgbClr val="93c0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椭圆 58403"/>
            <p:cNvSpPr/>
            <p:nvPr/>
          </p:nvSpPr>
          <p:spPr>
            <a:xfrm>
              <a:off x="1141920" y="44546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50682c"/>
                </a:gs>
                <a:gs pos="50000">
                  <a:srgbClr val="93c052"/>
                </a:gs>
                <a:gs pos="100000">
                  <a:srgbClr val="50682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椭圆 58404"/>
            <p:cNvSpPr/>
            <p:nvPr/>
          </p:nvSpPr>
          <p:spPr>
            <a:xfrm>
              <a:off x="1141920" y="44546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93c052"/>
                </a:gs>
                <a:gs pos="100000">
                  <a:srgbClr val="475d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椭圆 58405"/>
            <p:cNvSpPr/>
            <p:nvPr/>
          </p:nvSpPr>
          <p:spPr>
            <a:xfrm>
              <a:off x="1207800" y="452052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445926"/>
                </a:gs>
                <a:gs pos="100000">
                  <a:srgbClr val="93c0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矩形 58406"/>
          <p:cNvSpPr/>
          <p:nvPr/>
        </p:nvSpPr>
        <p:spPr>
          <a:xfrm>
            <a:off x="1404360" y="4979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6964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组合 40962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131" name="六边形 40963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六边形 40964"/>
            <p:cNvSpPr/>
            <p:nvPr/>
          </p:nvSpPr>
          <p:spPr>
            <a:xfrm>
              <a:off x="1828800" y="20239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六边形 40965"/>
            <p:cNvSpPr/>
            <p:nvPr/>
          </p:nvSpPr>
          <p:spPr>
            <a:xfrm>
              <a:off x="1873080" y="20631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40966"/>
          <p:cNvGrpSpPr/>
          <p:nvPr/>
        </p:nvGrpSpPr>
        <p:grpSpPr>
          <a:xfrm>
            <a:off x="1828800" y="2938320"/>
            <a:ext cx="761760" cy="665280"/>
            <a:chOff x="1828800" y="2938320"/>
            <a:chExt cx="761760" cy="665280"/>
          </a:xfrm>
        </p:grpSpPr>
        <p:sp>
          <p:nvSpPr>
            <p:cNvPr id="135" name="六边形 40967"/>
            <p:cNvSpPr/>
            <p:nvPr/>
          </p:nvSpPr>
          <p:spPr>
            <a:xfrm>
              <a:off x="1834920" y="2949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六边形 40968"/>
            <p:cNvSpPr/>
            <p:nvPr/>
          </p:nvSpPr>
          <p:spPr>
            <a:xfrm>
              <a:off x="1828800" y="2938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六边形 40969"/>
            <p:cNvSpPr/>
            <p:nvPr/>
          </p:nvSpPr>
          <p:spPr>
            <a:xfrm>
              <a:off x="1873080" y="29775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244d6c"/>
                </a:gs>
                <a:gs pos="100000">
                  <a:srgbClr val="4ea7e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438280" y="2633760"/>
            <a:ext cx="4800600" cy="360"/>
            <a:chOff x="2438280" y="2633760"/>
            <a:chExt cx="4800600" cy="360"/>
          </a:xfrm>
        </p:grpSpPr>
        <p:sp>
          <p:nvSpPr>
            <p:cNvPr id="139" name="直接连接符 40970"/>
            <p:cNvSpPr/>
            <p:nvPr/>
          </p:nvSpPr>
          <p:spPr>
            <a:xfrm>
              <a:off x="2438280" y="2633760"/>
              <a:ext cx="48006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2438280" y="263376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0971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40972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438280" y="3548160"/>
            <a:ext cx="4800600" cy="360"/>
            <a:chOff x="2438280" y="3548160"/>
            <a:chExt cx="4800600" cy="360"/>
          </a:xfrm>
        </p:grpSpPr>
        <p:sp>
          <p:nvSpPr>
            <p:cNvPr id="144" name="直接连接符 40973"/>
            <p:cNvSpPr/>
            <p:nvPr/>
          </p:nvSpPr>
          <p:spPr>
            <a:xfrm>
              <a:off x="2438280" y="3548160"/>
              <a:ext cx="48006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2438280" y="354816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文本框 40974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0975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40976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149" name="六边形 40977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六边形 40978"/>
            <p:cNvSpPr/>
            <p:nvPr/>
          </p:nvSpPr>
          <p:spPr>
            <a:xfrm>
              <a:off x="1828800" y="38307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六边形 40979"/>
            <p:cNvSpPr/>
            <p:nvPr/>
          </p:nvSpPr>
          <p:spPr>
            <a:xfrm>
              <a:off x="1873080" y="38700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40980"/>
          <p:cNvGrpSpPr/>
          <p:nvPr/>
        </p:nvGrpSpPr>
        <p:grpSpPr>
          <a:xfrm>
            <a:off x="1828800" y="4745160"/>
            <a:ext cx="761760" cy="664920"/>
            <a:chOff x="1828800" y="4745160"/>
            <a:chExt cx="761760" cy="664920"/>
          </a:xfrm>
        </p:grpSpPr>
        <p:sp>
          <p:nvSpPr>
            <p:cNvPr id="153" name="六边形 40981"/>
            <p:cNvSpPr/>
            <p:nvPr/>
          </p:nvSpPr>
          <p:spPr>
            <a:xfrm>
              <a:off x="1834920" y="4756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六边形 40982"/>
            <p:cNvSpPr/>
            <p:nvPr/>
          </p:nvSpPr>
          <p:spPr>
            <a:xfrm>
              <a:off x="1828800" y="4745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六边形 40983"/>
            <p:cNvSpPr/>
            <p:nvPr/>
          </p:nvSpPr>
          <p:spPr>
            <a:xfrm>
              <a:off x="1873080" y="47844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244d6c"/>
                </a:gs>
                <a:gs pos="100000">
                  <a:srgbClr val="4ea7e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438280" y="4440240"/>
            <a:ext cx="4800600" cy="360"/>
            <a:chOff x="2438280" y="4440240"/>
            <a:chExt cx="4800600" cy="360"/>
          </a:xfrm>
        </p:grpSpPr>
        <p:sp>
          <p:nvSpPr>
            <p:cNvPr id="157" name="直接连接符 40984"/>
            <p:cNvSpPr/>
            <p:nvPr/>
          </p:nvSpPr>
          <p:spPr>
            <a:xfrm>
              <a:off x="2438280" y="4440240"/>
              <a:ext cx="48006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2438280" y="444024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文本框 40985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40986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438280" y="5354640"/>
            <a:ext cx="4800600" cy="360"/>
            <a:chOff x="2438280" y="5354640"/>
            <a:chExt cx="4800600" cy="360"/>
          </a:xfrm>
        </p:grpSpPr>
        <p:sp>
          <p:nvSpPr>
            <p:cNvPr id="162" name="直接连接符 40987"/>
            <p:cNvSpPr/>
            <p:nvPr/>
          </p:nvSpPr>
          <p:spPr>
            <a:xfrm>
              <a:off x="2438280" y="5354640"/>
              <a:ext cx="48006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2438280" y="535464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文本框 40988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40989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4099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7D55-391C-4AC5-BE05-4E92803155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1980720" y="1657440"/>
            <a:ext cx="4800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a7ea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59394"/>
          <p:cNvSpPr txBox="1"/>
          <p:nvPr/>
        </p:nvSpPr>
        <p:spPr>
          <a:xfrm>
            <a:off x="1943280" y="952560"/>
            <a:ext cx="4952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6964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94800" y="1833120"/>
            <a:ext cx="7788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ow do I incorporate my logo to a slide that will apply to all the other slid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4ea7ea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4ea7ea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4ea7ea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4ea7ea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Image information in product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●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tle Image – CD: digital-globe (ImageSt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●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 to customers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u may not 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6964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圆角矩形 43010"/>
          <p:cNvSpPr/>
          <p:nvPr/>
        </p:nvSpPr>
        <p:spPr>
          <a:xfrm>
            <a:off x="5562720" y="35053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43011"/>
          <p:cNvSpPr/>
          <p:nvPr/>
        </p:nvSpPr>
        <p:spPr>
          <a:xfrm>
            <a:off x="5715000" y="3700440"/>
            <a:ext cx="2057400" cy="16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uild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one of aligned company with Microsoft Ltd, and we develop and provide the design templates for Office 97, 2000, and X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圆角矩形 43012"/>
          <p:cNvSpPr/>
          <p:nvPr/>
        </p:nvSpPr>
        <p:spPr>
          <a:xfrm>
            <a:off x="1143000" y="35053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43013"/>
          <p:cNvSpPr/>
          <p:nvPr/>
        </p:nvSpPr>
        <p:spPr>
          <a:xfrm>
            <a:off x="1238400" y="37051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任意多边形 43015"/>
          <p:cNvSpPr/>
          <p:nvPr/>
        </p:nvSpPr>
        <p:spPr>
          <a:xfrm>
            <a:off x="322272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3c052"/>
              </a:gs>
              <a:gs pos="100000">
                <a:srgbClr val="bad79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43016"/>
          <p:cNvSpPr/>
          <p:nvPr/>
        </p:nvSpPr>
        <p:spPr>
          <a:xfrm flipH="1">
            <a:off x="4869000" y="34052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任意多边形 43017"/>
          <p:cNvSpPr/>
          <p:nvPr/>
        </p:nvSpPr>
        <p:spPr>
          <a:xfrm flipH="1">
            <a:off x="487440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ef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合 43018"/>
          <p:cNvGrpSpPr/>
          <p:nvPr/>
        </p:nvGrpSpPr>
        <p:grpSpPr>
          <a:xfrm>
            <a:off x="3048120" y="1781280"/>
            <a:ext cx="2998440" cy="1600920"/>
            <a:chOff x="3048120" y="1781280"/>
            <a:chExt cx="2998440" cy="1600920"/>
          </a:xfrm>
        </p:grpSpPr>
        <p:grpSp>
          <p:nvGrpSpPr>
            <p:cNvPr id="179" name="组合 43019"/>
            <p:cNvGrpSpPr/>
            <p:nvPr/>
          </p:nvGrpSpPr>
          <p:grpSpPr>
            <a:xfrm>
              <a:off x="3048120" y="1923840"/>
              <a:ext cx="2998440" cy="1458360"/>
              <a:chOff x="3048120" y="1923840"/>
              <a:chExt cx="2998440" cy="1458360"/>
            </a:xfrm>
          </p:grpSpPr>
          <p:sp>
            <p:nvSpPr>
              <p:cNvPr id="180" name="椭圆 43020"/>
              <p:cNvSpPr/>
              <p:nvPr/>
            </p:nvSpPr>
            <p:spPr>
              <a:xfrm>
                <a:off x="3080880" y="19702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椭圆 43021"/>
              <p:cNvSpPr/>
              <p:nvPr/>
            </p:nvSpPr>
            <p:spPr>
              <a:xfrm>
                <a:off x="3048120" y="19238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ffe88e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椭圆 43022"/>
            <p:cNvSpPr/>
            <p:nvPr/>
          </p:nvSpPr>
          <p:spPr>
            <a:xfrm>
              <a:off x="3189600" y="17812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44d6c"/>
                </a:gs>
                <a:gs pos="100000">
                  <a:srgbClr val="4ea7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椭圆 43023"/>
            <p:cNvSpPr/>
            <p:nvPr/>
          </p:nvSpPr>
          <p:spPr>
            <a:xfrm>
              <a:off x="3224520" y="17888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4ea7ea">
                    <a:alpha val="0"/>
                  </a:srgbClr>
                </a:gs>
                <a:gs pos="100000">
                  <a:srgbClr val="c1e0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椭圆 43024"/>
            <p:cNvSpPr/>
            <p:nvPr/>
          </p:nvSpPr>
          <p:spPr>
            <a:xfrm>
              <a:off x="3251520" y="18018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3e84b9"/>
                </a:gs>
                <a:gs pos="100000">
                  <a:srgbClr val="4ea7e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椭圆 43025"/>
            <p:cNvSpPr/>
            <p:nvPr/>
          </p:nvSpPr>
          <p:spPr>
            <a:xfrm>
              <a:off x="3383280" y="18288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ea7e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文本框 43026"/>
          <p:cNvSpPr/>
          <p:nvPr/>
        </p:nvSpPr>
        <p:spPr>
          <a:xfrm>
            <a:off x="3882960" y="19810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6964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组合 44050"/>
          <p:cNvGrpSpPr/>
          <p:nvPr/>
        </p:nvGrpSpPr>
        <p:grpSpPr>
          <a:xfrm>
            <a:off x="762120" y="1722600"/>
            <a:ext cx="6955920" cy="4583160"/>
            <a:chOff x="762120" y="1722600"/>
            <a:chExt cx="6955920" cy="4583160"/>
          </a:xfrm>
        </p:grpSpPr>
        <p:sp>
          <p:nvSpPr>
            <p:cNvPr id="189" name="任意多边形 44034"/>
            <p:cNvSpPr/>
            <p:nvPr/>
          </p:nvSpPr>
          <p:spPr>
            <a:xfrm rot="20241600">
              <a:off x="1391760" y="2801880"/>
              <a:ext cx="609408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椭圆 44035"/>
            <p:cNvSpPr/>
            <p:nvPr/>
          </p:nvSpPr>
          <p:spPr>
            <a:xfrm>
              <a:off x="3821040" y="2057400"/>
              <a:ext cx="1142640" cy="11019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58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44036"/>
            <p:cNvSpPr/>
            <p:nvPr/>
          </p:nvSpPr>
          <p:spPr>
            <a:xfrm>
              <a:off x="1585800" y="3375000"/>
              <a:ext cx="1141200" cy="1101960"/>
            </a:xfrm>
            <a:prstGeom prst="ellipse">
              <a:avLst/>
            </a:prstGeom>
            <a:gradFill rotWithShape="0">
              <a:gsLst>
                <a:gs pos="0">
                  <a:srgbClr val="4ea7ea"/>
                </a:gs>
                <a:gs pos="100000">
                  <a:srgbClr val="1834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44037"/>
            <p:cNvSpPr/>
            <p:nvPr/>
          </p:nvSpPr>
          <p:spPr>
            <a:xfrm>
              <a:off x="236988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3c052"/>
                </a:gs>
                <a:gs pos="100000">
                  <a:srgbClr val="3445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44038"/>
            <p:cNvSpPr/>
            <p:nvPr/>
          </p:nvSpPr>
          <p:spPr>
            <a:xfrm>
              <a:off x="4838760" y="4297320"/>
              <a:ext cx="1140840" cy="11019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44039"/>
            <p:cNvSpPr/>
            <p:nvPr/>
          </p:nvSpPr>
          <p:spPr>
            <a:xfrm>
              <a:off x="646416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8e96e4"/>
                </a:gs>
                <a:gs pos="100000">
                  <a:srgbClr val="3134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44040"/>
            <p:cNvSpPr/>
            <p:nvPr/>
          </p:nvSpPr>
          <p:spPr>
            <a:xfrm>
              <a:off x="1812600" y="37702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44041"/>
            <p:cNvSpPr/>
            <p:nvPr/>
          </p:nvSpPr>
          <p:spPr>
            <a:xfrm>
              <a:off x="4116240" y="2452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44042"/>
            <p:cNvSpPr/>
            <p:nvPr/>
          </p:nvSpPr>
          <p:spPr>
            <a:xfrm>
              <a:off x="6726240" y="269244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44043"/>
            <p:cNvSpPr/>
            <p:nvPr/>
          </p:nvSpPr>
          <p:spPr>
            <a:xfrm>
              <a:off x="5133960" y="46926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44044"/>
            <p:cNvSpPr/>
            <p:nvPr/>
          </p:nvSpPr>
          <p:spPr>
            <a:xfrm>
              <a:off x="2624040" y="52308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44045"/>
            <p:cNvSpPr/>
            <p:nvPr/>
          </p:nvSpPr>
          <p:spPr>
            <a:xfrm>
              <a:off x="3429000" y="3657600"/>
              <a:ext cx="23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2601720" y="2452680"/>
              <a:ext cx="1626840" cy="1251000"/>
              <a:chOff x="2601720" y="2452680"/>
              <a:chExt cx="1626840" cy="1251000"/>
            </a:xfrm>
          </p:grpSpPr>
          <p:sp>
            <p:nvSpPr>
              <p:cNvPr id="202" name="直接连接符 44046"/>
              <p:cNvSpPr/>
              <p:nvPr/>
            </p:nvSpPr>
            <p:spPr>
              <a:xfrm>
                <a:off x="2601720" y="2452680"/>
                <a:ext cx="1626840" cy="12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 txBox="1"/>
              <p:nvPr/>
            </p:nvSpPr>
            <p:spPr>
              <a:xfrm>
                <a:off x="2601720" y="2452680"/>
                <a:ext cx="162684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04" name="直接箭头连接符 44047"/>
            <p:cNvCxnSpPr/>
            <p:nvPr/>
          </p:nvCxnSpPr>
          <p:spPr>
            <a:xfrm flipH="1">
              <a:off x="887040" y="2452320"/>
              <a:ext cx="1725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205" name="文本框 44048"/>
            <p:cNvSpPr/>
            <p:nvPr/>
          </p:nvSpPr>
          <p:spPr>
            <a:xfrm>
              <a:off x="762120" y="2057400"/>
              <a:ext cx="20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6964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组合 45076"/>
          <p:cNvGrpSpPr/>
          <p:nvPr/>
        </p:nvGrpSpPr>
        <p:grpSpPr>
          <a:xfrm>
            <a:off x="1295280" y="1905120"/>
            <a:ext cx="6476760" cy="4125600"/>
            <a:chOff x="1295280" y="1905120"/>
            <a:chExt cx="6476760" cy="4125600"/>
          </a:xfrm>
        </p:grpSpPr>
        <p:sp>
          <p:nvSpPr>
            <p:cNvPr id="208" name="圆柱形 45058"/>
            <p:cNvSpPr/>
            <p:nvPr/>
          </p:nvSpPr>
          <p:spPr>
            <a:xfrm>
              <a:off x="3759120" y="421056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456a"/>
                </a:gs>
                <a:gs pos="50000">
                  <a:srgbClr val="8e96e4"/>
                </a:gs>
                <a:gs pos="100000">
                  <a:srgbClr val="42456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圆柱形 45059"/>
            <p:cNvSpPr/>
            <p:nvPr/>
          </p:nvSpPr>
          <p:spPr>
            <a:xfrm>
              <a:off x="3759120" y="370404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456a"/>
                </a:gs>
                <a:gs pos="50000">
                  <a:srgbClr val="8e96e4"/>
                </a:gs>
                <a:gs pos="100000">
                  <a:srgbClr val="42456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圆柱形 45060"/>
            <p:cNvSpPr/>
            <p:nvPr/>
          </p:nvSpPr>
          <p:spPr>
            <a:xfrm>
              <a:off x="3759120" y="319716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456a"/>
                </a:gs>
                <a:gs pos="50000">
                  <a:srgbClr val="8e96e4"/>
                </a:gs>
                <a:gs pos="100000">
                  <a:srgbClr val="42456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45061"/>
            <p:cNvSpPr/>
            <p:nvPr/>
          </p:nvSpPr>
          <p:spPr>
            <a:xfrm>
              <a:off x="4234680" y="34160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文本框 45062"/>
            <p:cNvSpPr/>
            <p:nvPr/>
          </p:nvSpPr>
          <p:spPr>
            <a:xfrm>
              <a:off x="4234680" y="392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45063"/>
            <p:cNvSpPr/>
            <p:nvPr/>
          </p:nvSpPr>
          <p:spPr>
            <a:xfrm>
              <a:off x="4234680" y="442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左箭头 45064"/>
            <p:cNvSpPr/>
            <p:nvPr/>
          </p:nvSpPr>
          <p:spPr>
            <a:xfrm>
              <a:off x="3125520" y="2980080"/>
              <a:ext cx="492840" cy="1954080"/>
            </a:xfrm>
            <a:prstGeom prst="leftArrow">
              <a:avLst>
                <a:gd name="adj1" fmla="val 65583"/>
                <a:gd name="adj2" fmla="val 6517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圆角矩形 45065"/>
            <p:cNvSpPr/>
            <p:nvPr/>
          </p:nvSpPr>
          <p:spPr>
            <a:xfrm>
              <a:off x="1295280" y="2473560"/>
              <a:ext cx="1689480" cy="296712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120"/>
                <a:gd name="textAreaBottom" fmla="*/ 2884680 h 2967120"/>
              </a:gdLst>
              <a:ahLst/>
              <a:rect l="textAreaLeft" t="textAreaTop" r="textAreaRight" b="textAreaBottom"/>
              <a:pathLst>
                <a:path w="21600" h="37931">
                  <a:moveTo>
                    <a:pt x="3600" y="0"/>
                  </a:moveTo>
                  <a:arcTo wR="3600" hR="3600" stAng="16200000" swAng="-5400000"/>
                  <a:lnTo>
                    <a:pt x="0" y="34331"/>
                  </a:lnTo>
                  <a:arcTo wR="3600" hR="3600" stAng="10800000" swAng="-5400000"/>
                  <a:lnTo>
                    <a:pt x="18000" y="37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文本框 45066"/>
            <p:cNvSpPr/>
            <p:nvPr/>
          </p:nvSpPr>
          <p:spPr>
            <a:xfrm>
              <a:off x="1365120" y="2690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圆角矩形 45067"/>
            <p:cNvSpPr/>
            <p:nvPr/>
          </p:nvSpPr>
          <p:spPr>
            <a:xfrm>
              <a:off x="6082560" y="2473560"/>
              <a:ext cx="1689480" cy="296712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120"/>
                <a:gd name="textAreaBottom" fmla="*/ 2884680 h 2967120"/>
              </a:gdLst>
              <a:ahLst/>
              <a:rect l="textAreaLeft" t="textAreaTop" r="textAreaRight" b="textAreaBottom"/>
              <a:pathLst>
                <a:path w="21600" h="37931">
                  <a:moveTo>
                    <a:pt x="3600" y="0"/>
                  </a:moveTo>
                  <a:arcTo wR="3600" hR="3600" stAng="16200000" swAng="-5400000"/>
                  <a:lnTo>
                    <a:pt x="0" y="34331"/>
                  </a:lnTo>
                  <a:arcTo wR="3600" hR="3600" stAng="10800000" swAng="-5400000"/>
                  <a:lnTo>
                    <a:pt x="18000" y="37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文本框 45068"/>
            <p:cNvSpPr/>
            <p:nvPr/>
          </p:nvSpPr>
          <p:spPr>
            <a:xfrm>
              <a:off x="6153120" y="2690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右箭头 45069"/>
            <p:cNvSpPr/>
            <p:nvPr/>
          </p:nvSpPr>
          <p:spPr>
            <a:xfrm>
              <a:off x="5451840" y="2980080"/>
              <a:ext cx="489600" cy="1954080"/>
            </a:xfrm>
            <a:prstGeom prst="rightArrow">
              <a:avLst>
                <a:gd name="adj1" fmla="val 67750"/>
                <a:gd name="adj2" fmla="val 6615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圆柱形 45070"/>
            <p:cNvSpPr/>
            <p:nvPr/>
          </p:nvSpPr>
          <p:spPr>
            <a:xfrm>
              <a:off x="3054960" y="190512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45926"/>
                </a:gs>
                <a:gs pos="50000">
                  <a:srgbClr val="93c052"/>
                </a:gs>
                <a:gs pos="100000">
                  <a:srgbClr val="4459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上箭头 45071"/>
            <p:cNvSpPr/>
            <p:nvPr/>
          </p:nvSpPr>
          <p:spPr>
            <a:xfrm>
              <a:off x="3728160" y="2618280"/>
              <a:ext cx="1619280" cy="506520"/>
            </a:xfrm>
            <a:prstGeom prst="upArrow">
              <a:avLst>
                <a:gd name="adj1" fmla="val 68380"/>
                <a:gd name="adj2" fmla="val 70824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文本框 45072"/>
            <p:cNvSpPr/>
            <p:nvPr/>
          </p:nvSpPr>
          <p:spPr>
            <a:xfrm>
              <a:off x="4212720" y="2116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圆柱形 45073"/>
            <p:cNvSpPr/>
            <p:nvPr/>
          </p:nvSpPr>
          <p:spPr>
            <a:xfrm>
              <a:off x="3125520" y="544104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文本框 45074"/>
            <p:cNvSpPr/>
            <p:nvPr/>
          </p:nvSpPr>
          <p:spPr>
            <a:xfrm>
              <a:off x="4212720" y="5662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下箭头 45075"/>
            <p:cNvSpPr/>
            <p:nvPr/>
          </p:nvSpPr>
          <p:spPr>
            <a:xfrm>
              <a:off x="3708000" y="4862160"/>
              <a:ext cx="1622160" cy="498600"/>
            </a:xfrm>
            <a:prstGeom prst="downArrow">
              <a:avLst>
                <a:gd name="adj1" fmla="val 67093"/>
                <a:gd name="adj2" fmla="val 64042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6964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组合 46106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28" name="组合 46082"/>
            <p:cNvGrpSpPr/>
            <p:nvPr/>
          </p:nvGrpSpPr>
          <p:grpSpPr>
            <a:xfrm>
              <a:off x="3009240" y="2209680"/>
              <a:ext cx="2899800" cy="2705400"/>
              <a:chOff x="3009240" y="2209680"/>
              <a:chExt cx="2899800" cy="2705400"/>
            </a:xfrm>
          </p:grpSpPr>
          <p:sp>
            <p:nvSpPr>
              <p:cNvPr id="229" name="上箭头 46083"/>
              <p:cNvSpPr/>
              <p:nvPr/>
            </p:nvSpPr>
            <p:spPr>
              <a:xfrm flipH="1" rot="16200000">
                <a:off x="2928240" y="325656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3366"/>
                  </a:gs>
                  <a:gs pos="100000">
                    <a:srgbClr val="9baf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上箭头 46084"/>
              <p:cNvSpPr/>
              <p:nvPr/>
            </p:nvSpPr>
            <p:spPr>
              <a:xfrm flipH="1" rot="5400000">
                <a:off x="5531040" y="320616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3366"/>
                  </a:gs>
                  <a:gs pos="100000">
                    <a:srgbClr val="9baf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上箭头 46085"/>
              <p:cNvSpPr/>
              <p:nvPr/>
            </p:nvSpPr>
            <p:spPr>
              <a:xfrm flipH="1" rot="10800000">
                <a:off x="42404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3366"/>
                  </a:gs>
                  <a:gs pos="100000">
                    <a:srgbClr val="9baf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椭圆 46086"/>
              <p:cNvSpPr/>
              <p:nvPr/>
            </p:nvSpPr>
            <p:spPr>
              <a:xfrm>
                <a:off x="330840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椭圆 46087"/>
              <p:cNvSpPr/>
              <p:nvPr/>
            </p:nvSpPr>
            <p:spPr>
              <a:xfrm>
                <a:off x="344124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椭圆 46088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椭圆 46089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椭圆 46090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8a6e00"/>
                  </a:gs>
                  <a:gs pos="50000">
                    <a:srgbClr val="ffcc00"/>
                  </a:gs>
                  <a:gs pos="100000">
                    <a:srgbClr val="8a6e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椭圆 46091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圆柱形 46092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456a"/>
                </a:gs>
                <a:gs pos="50000">
                  <a:srgbClr val="8e96e4"/>
                </a:gs>
                <a:gs pos="100000">
                  <a:srgbClr val="42456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圆柱形 46093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456a"/>
                </a:gs>
                <a:gs pos="50000">
                  <a:srgbClr val="8e96e4"/>
                </a:gs>
                <a:gs pos="100000">
                  <a:srgbClr val="42456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圆柱形 46094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456a"/>
                </a:gs>
                <a:gs pos="50000">
                  <a:srgbClr val="8e96e4"/>
                </a:gs>
                <a:gs pos="100000">
                  <a:srgbClr val="42456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圆柱形 46095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44d6c"/>
                </a:gs>
                <a:gs pos="50000">
                  <a:srgbClr val="4ea7ea"/>
                </a:gs>
                <a:gs pos="100000">
                  <a:srgbClr val="24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圆柱形 46096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44d6c"/>
                </a:gs>
                <a:gs pos="50000">
                  <a:srgbClr val="4ea7ea"/>
                </a:gs>
                <a:gs pos="100000">
                  <a:srgbClr val="24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圆柱形 46097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44d6c"/>
                </a:gs>
                <a:gs pos="50000">
                  <a:srgbClr val="4ea7ea"/>
                </a:gs>
                <a:gs pos="100000">
                  <a:srgbClr val="24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46098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圆角矩形 46099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46100"/>
            <p:cNvSpPr/>
            <p:nvPr/>
          </p:nvSpPr>
          <p:spPr>
            <a:xfrm>
              <a:off x="15998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46101"/>
            <p:cNvSpPr/>
            <p:nvPr/>
          </p:nvSpPr>
          <p:spPr>
            <a:xfrm>
              <a:off x="15998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46102"/>
            <p:cNvSpPr/>
            <p:nvPr/>
          </p:nvSpPr>
          <p:spPr>
            <a:xfrm>
              <a:off x="15998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46103"/>
            <p:cNvSpPr/>
            <p:nvPr/>
          </p:nvSpPr>
          <p:spPr>
            <a:xfrm>
              <a:off x="66974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46104"/>
            <p:cNvSpPr/>
            <p:nvPr/>
          </p:nvSpPr>
          <p:spPr>
            <a:xfrm>
              <a:off x="66974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46105"/>
            <p:cNvSpPr/>
            <p:nvPr/>
          </p:nvSpPr>
          <p:spPr>
            <a:xfrm>
              <a:off x="66974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页脚占位符 1"/>
          <p:cNvSpPr/>
          <p:nvPr/>
        </p:nvSpPr>
        <p:spPr>
          <a:xfrm>
            <a:off x="228600" y="60480"/>
            <a:ext cx="213372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6964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873000" y="5621400"/>
            <a:ext cx="1657440" cy="1440"/>
            <a:chOff x="873000" y="5621400"/>
            <a:chExt cx="1657440" cy="1440"/>
          </a:xfrm>
        </p:grpSpPr>
        <p:sp>
          <p:nvSpPr>
            <p:cNvPr id="255" name="直接连接符 47114"/>
            <p:cNvSpPr/>
            <p:nvPr/>
          </p:nvSpPr>
          <p:spPr>
            <a:xfrm flipH="1">
              <a:off x="873000" y="562140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873000" y="5621400"/>
              <a:ext cx="1657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873000" y="4782960"/>
            <a:ext cx="2438640" cy="360"/>
            <a:chOff x="873000" y="4782960"/>
            <a:chExt cx="2438640" cy="360"/>
          </a:xfrm>
        </p:grpSpPr>
        <p:sp>
          <p:nvSpPr>
            <p:cNvPr id="258" name="直接连接符 47115"/>
            <p:cNvSpPr/>
            <p:nvPr/>
          </p:nvSpPr>
          <p:spPr>
            <a:xfrm flipH="1">
              <a:off x="873000" y="478296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873000" y="4782960"/>
              <a:ext cx="2438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873000" y="3952800"/>
            <a:ext cx="3353040" cy="360"/>
            <a:chOff x="873000" y="3952800"/>
            <a:chExt cx="3353040" cy="360"/>
          </a:xfrm>
        </p:grpSpPr>
        <p:sp>
          <p:nvSpPr>
            <p:cNvPr id="261" name="直接连接符 47116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873000" y="3952800"/>
              <a:ext cx="3353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872640" y="3124080"/>
            <a:ext cx="4165920" cy="360"/>
            <a:chOff x="872640" y="3124080"/>
            <a:chExt cx="4165920" cy="360"/>
          </a:xfrm>
        </p:grpSpPr>
        <p:sp>
          <p:nvSpPr>
            <p:cNvPr id="264" name="直接连接符 47117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873000" y="3124080"/>
              <a:ext cx="4165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873000" y="2282400"/>
            <a:ext cx="5034240" cy="360"/>
            <a:chOff x="873000" y="2282400"/>
            <a:chExt cx="5034240" cy="360"/>
          </a:xfrm>
        </p:grpSpPr>
        <p:sp>
          <p:nvSpPr>
            <p:cNvPr id="267" name="直接连接符 47118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 rot="10800000">
              <a:off x="873000" y="2282040"/>
              <a:ext cx="503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025640" y="2276640"/>
            <a:ext cx="360" cy="871200"/>
            <a:chOff x="1025640" y="2276640"/>
            <a:chExt cx="360" cy="871200"/>
          </a:xfrm>
        </p:grpSpPr>
        <p:sp>
          <p:nvSpPr>
            <p:cNvPr id="270" name="直接连接符 47119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1025640" y="2276640"/>
              <a:ext cx="360" cy="87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025640" y="3147840"/>
            <a:ext cx="360" cy="817560"/>
            <a:chOff x="1025640" y="3147840"/>
            <a:chExt cx="360" cy="817560"/>
          </a:xfrm>
        </p:grpSpPr>
        <p:sp>
          <p:nvSpPr>
            <p:cNvPr id="273" name="直接连接符 47120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1025640" y="3147840"/>
              <a:ext cx="36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025640" y="3965400"/>
            <a:ext cx="360" cy="816120"/>
            <a:chOff x="1025640" y="3965400"/>
            <a:chExt cx="360" cy="816120"/>
          </a:xfrm>
        </p:grpSpPr>
        <p:sp>
          <p:nvSpPr>
            <p:cNvPr id="276" name="直接连接符 47121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1025640" y="3965400"/>
              <a:ext cx="360" cy="81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25640" y="4782960"/>
            <a:ext cx="360" cy="816120"/>
            <a:chOff x="1025640" y="4782960"/>
            <a:chExt cx="360" cy="816120"/>
          </a:xfrm>
        </p:grpSpPr>
        <p:sp>
          <p:nvSpPr>
            <p:cNvPr id="279" name="直接连接符 47122"/>
            <p:cNvSpPr/>
            <p:nvPr/>
          </p:nvSpPr>
          <p:spPr>
            <a:xfrm>
              <a:off x="1025640" y="478296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1025640" y="4782960"/>
              <a:ext cx="360" cy="81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文本框 47129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47130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47131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47132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47137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86" name="任意多边形 4710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任意多边形 4710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任意多边形 4710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任意多边形 4711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任意多边形 4711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任意多边形 4711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任意多边形 4711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任意多边形 47123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47124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47125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任意多边形 47126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矩形 47127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矩形 47128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6964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114560" y="6014880"/>
            <a:ext cx="1854000" cy="1800"/>
            <a:chOff x="1114560" y="6014880"/>
            <a:chExt cx="1854000" cy="1800"/>
          </a:xfrm>
        </p:grpSpPr>
        <p:sp>
          <p:nvSpPr>
            <p:cNvPr id="301" name="直接连接符 48137"/>
            <p:cNvSpPr/>
            <p:nvPr/>
          </p:nvSpPr>
          <p:spPr>
            <a:xfrm flipH="1">
              <a:off x="1114560" y="6014880"/>
              <a:ext cx="1854000" cy="180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1114560" y="6014880"/>
              <a:ext cx="1854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114200" y="5203800"/>
            <a:ext cx="2392560" cy="1440"/>
            <a:chOff x="1114200" y="5203800"/>
            <a:chExt cx="2392560" cy="1440"/>
          </a:xfrm>
        </p:grpSpPr>
        <p:sp>
          <p:nvSpPr>
            <p:cNvPr id="304" name="直接连接符 48138"/>
            <p:cNvSpPr/>
            <p:nvPr/>
          </p:nvSpPr>
          <p:spPr>
            <a:xfrm flipH="1">
              <a:off x="1114200" y="5203800"/>
              <a:ext cx="2392200" cy="144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1114560" y="5203800"/>
              <a:ext cx="2392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114200" y="4362480"/>
            <a:ext cx="2810160" cy="1440"/>
            <a:chOff x="1114200" y="4362480"/>
            <a:chExt cx="2810160" cy="1440"/>
          </a:xfrm>
        </p:grpSpPr>
        <p:sp>
          <p:nvSpPr>
            <p:cNvPr id="307" name="直接连接符 48139"/>
            <p:cNvSpPr/>
            <p:nvPr/>
          </p:nvSpPr>
          <p:spPr>
            <a:xfrm flipH="1">
              <a:off x="1114200" y="4362480"/>
              <a:ext cx="2809800" cy="144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1114560" y="4362480"/>
              <a:ext cx="2809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114560" y="3533760"/>
            <a:ext cx="3287520" cy="1440"/>
            <a:chOff x="1114560" y="3533760"/>
            <a:chExt cx="3287520" cy="1440"/>
          </a:xfrm>
        </p:grpSpPr>
        <p:sp>
          <p:nvSpPr>
            <p:cNvPr id="310" name="直接连接符 48140"/>
            <p:cNvSpPr/>
            <p:nvPr/>
          </p:nvSpPr>
          <p:spPr>
            <a:xfrm flipH="1">
              <a:off x="1114560" y="3533760"/>
              <a:ext cx="3287520" cy="144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1114560" y="3533760"/>
              <a:ext cx="32875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114200" y="2700360"/>
            <a:ext cx="3765600" cy="1440"/>
            <a:chOff x="1114200" y="2700360"/>
            <a:chExt cx="3765600" cy="1440"/>
          </a:xfrm>
        </p:grpSpPr>
        <p:sp>
          <p:nvSpPr>
            <p:cNvPr id="313" name="直接连接符 48141"/>
            <p:cNvSpPr/>
            <p:nvPr/>
          </p:nvSpPr>
          <p:spPr>
            <a:xfrm flipH="1">
              <a:off x="1114200" y="2700360"/>
              <a:ext cx="3765240" cy="144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1114560" y="2700360"/>
              <a:ext cx="37652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114560" y="1989000"/>
            <a:ext cx="4184640" cy="1800"/>
            <a:chOff x="1114560" y="1989000"/>
            <a:chExt cx="4184640" cy="1800"/>
          </a:xfrm>
        </p:grpSpPr>
        <p:sp>
          <p:nvSpPr>
            <p:cNvPr id="316" name="直接连接符 48142"/>
            <p:cNvSpPr/>
            <p:nvPr/>
          </p:nvSpPr>
          <p:spPr>
            <a:xfrm flipH="1">
              <a:off x="1114560" y="1989000"/>
              <a:ext cx="4184640" cy="180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1114560" y="1989000"/>
              <a:ext cx="41846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352520" y="1989000"/>
            <a:ext cx="1440" cy="711360"/>
            <a:chOff x="1352520" y="1989000"/>
            <a:chExt cx="1440" cy="711360"/>
          </a:xfrm>
        </p:grpSpPr>
        <p:sp>
          <p:nvSpPr>
            <p:cNvPr id="319" name="直接连接符 48143"/>
            <p:cNvSpPr/>
            <p:nvPr/>
          </p:nvSpPr>
          <p:spPr>
            <a:xfrm>
              <a:off x="1352520" y="1989000"/>
              <a:ext cx="1440" cy="711360"/>
            </a:xfrm>
            <a:prstGeom prst="line">
              <a:avLst/>
            </a:prstGeom>
            <a:ln w="9360">
              <a:solidFill>
                <a:srgbClr val="80808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1352520" y="1989000"/>
              <a:ext cx="1440" cy="71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352520" y="2700360"/>
            <a:ext cx="1440" cy="841320"/>
            <a:chOff x="1352520" y="2700360"/>
            <a:chExt cx="1440" cy="841320"/>
          </a:xfrm>
        </p:grpSpPr>
        <p:sp>
          <p:nvSpPr>
            <p:cNvPr id="322" name="直接连接符 48144"/>
            <p:cNvSpPr/>
            <p:nvPr/>
          </p:nvSpPr>
          <p:spPr>
            <a:xfrm>
              <a:off x="1352520" y="2700360"/>
              <a:ext cx="1440" cy="841320"/>
            </a:xfrm>
            <a:prstGeom prst="line">
              <a:avLst/>
            </a:prstGeom>
            <a:ln w="9360">
              <a:solidFill>
                <a:srgbClr val="80808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1352520" y="2700360"/>
              <a:ext cx="144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352520" y="3541680"/>
            <a:ext cx="1440" cy="841320"/>
            <a:chOff x="1352520" y="3541680"/>
            <a:chExt cx="1440" cy="841320"/>
          </a:xfrm>
        </p:grpSpPr>
        <p:sp>
          <p:nvSpPr>
            <p:cNvPr id="325" name="直接连接符 48145"/>
            <p:cNvSpPr/>
            <p:nvPr/>
          </p:nvSpPr>
          <p:spPr>
            <a:xfrm>
              <a:off x="1352520" y="3541680"/>
              <a:ext cx="1440" cy="841320"/>
            </a:xfrm>
            <a:prstGeom prst="line">
              <a:avLst/>
            </a:prstGeom>
            <a:ln w="9360">
              <a:solidFill>
                <a:srgbClr val="80808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1352520" y="3541680"/>
              <a:ext cx="144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352520" y="4383000"/>
            <a:ext cx="1440" cy="841320"/>
            <a:chOff x="1352520" y="4383000"/>
            <a:chExt cx="1440" cy="841320"/>
          </a:xfrm>
        </p:grpSpPr>
        <p:sp>
          <p:nvSpPr>
            <p:cNvPr id="328" name="直接连接符 48146"/>
            <p:cNvSpPr/>
            <p:nvPr/>
          </p:nvSpPr>
          <p:spPr>
            <a:xfrm>
              <a:off x="1352520" y="4383000"/>
              <a:ext cx="1440" cy="841320"/>
            </a:xfrm>
            <a:prstGeom prst="line">
              <a:avLst/>
            </a:prstGeom>
            <a:ln w="9360">
              <a:solidFill>
                <a:srgbClr val="80808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1352520" y="4383000"/>
              <a:ext cx="144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352520" y="5224320"/>
            <a:ext cx="1440" cy="776520"/>
            <a:chOff x="1352520" y="5224320"/>
            <a:chExt cx="1440" cy="776520"/>
          </a:xfrm>
        </p:grpSpPr>
        <p:sp>
          <p:nvSpPr>
            <p:cNvPr id="331" name="直接连接符 48147"/>
            <p:cNvSpPr/>
            <p:nvPr/>
          </p:nvSpPr>
          <p:spPr>
            <a:xfrm>
              <a:off x="1352520" y="5224320"/>
              <a:ext cx="1440" cy="776520"/>
            </a:xfrm>
            <a:prstGeom prst="line">
              <a:avLst/>
            </a:prstGeom>
            <a:ln w="9360">
              <a:solidFill>
                <a:srgbClr val="80808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1352520" y="5224320"/>
              <a:ext cx="1440" cy="7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文本框 48148"/>
          <p:cNvSpPr/>
          <p:nvPr/>
        </p:nvSpPr>
        <p:spPr>
          <a:xfrm>
            <a:off x="1405800" y="2187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48149"/>
          <p:cNvSpPr/>
          <p:nvPr/>
        </p:nvSpPr>
        <p:spPr>
          <a:xfrm>
            <a:off x="1405800" y="30099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48150"/>
          <p:cNvSpPr/>
          <p:nvPr/>
        </p:nvSpPr>
        <p:spPr>
          <a:xfrm>
            <a:off x="1405800" y="38307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48151"/>
          <p:cNvSpPr/>
          <p:nvPr/>
        </p:nvSpPr>
        <p:spPr>
          <a:xfrm>
            <a:off x="1405800" y="46530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48152"/>
          <p:cNvSpPr/>
          <p:nvPr/>
        </p:nvSpPr>
        <p:spPr>
          <a:xfrm>
            <a:off x="1405800" y="5475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48153"/>
          <p:cNvGrpSpPr/>
          <p:nvPr/>
        </p:nvGrpSpPr>
        <p:grpSpPr>
          <a:xfrm>
            <a:off x="2997360" y="1989000"/>
            <a:ext cx="5079600" cy="4030560"/>
            <a:chOff x="2997360" y="1989000"/>
            <a:chExt cx="5079600" cy="4030560"/>
          </a:xfrm>
        </p:grpSpPr>
        <p:sp>
          <p:nvSpPr>
            <p:cNvPr id="339" name="任意多边形 48154"/>
            <p:cNvSpPr/>
            <p:nvPr/>
          </p:nvSpPr>
          <p:spPr>
            <a:xfrm>
              <a:off x="7180920" y="4782960"/>
              <a:ext cx="896040" cy="123516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任意多边形 48155"/>
            <p:cNvSpPr/>
            <p:nvPr/>
          </p:nvSpPr>
          <p:spPr>
            <a:xfrm>
              <a:off x="3403440" y="4782960"/>
              <a:ext cx="4174560" cy="5263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0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任意多边形 48156"/>
            <p:cNvSpPr/>
            <p:nvPr/>
          </p:nvSpPr>
          <p:spPr>
            <a:xfrm>
              <a:off x="2997360" y="5306400"/>
              <a:ext cx="4608000" cy="7131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7799dd"/>
                </a:gs>
                <a:gs pos="100000">
                  <a:srgbClr val="3366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任意多边形 48157"/>
            <p:cNvSpPr/>
            <p:nvPr/>
          </p:nvSpPr>
          <p:spPr>
            <a:xfrm>
              <a:off x="6713280" y="4083480"/>
              <a:ext cx="791640" cy="111852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9570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任意多边形 48158"/>
            <p:cNvSpPr/>
            <p:nvPr/>
          </p:nvSpPr>
          <p:spPr>
            <a:xfrm>
              <a:off x="3877560" y="4083480"/>
              <a:ext cx="3135960" cy="39348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任意多边形 48159"/>
            <p:cNvSpPr/>
            <p:nvPr/>
          </p:nvSpPr>
          <p:spPr>
            <a:xfrm>
              <a:off x="3480840" y="4475880"/>
              <a:ext cx="3640680" cy="725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86e7cf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任意多边形 48160"/>
            <p:cNvSpPr/>
            <p:nvPr/>
          </p:nvSpPr>
          <p:spPr>
            <a:xfrm>
              <a:off x="6245280" y="3391560"/>
              <a:ext cx="693000" cy="97164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254a70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任意多边形 48161"/>
            <p:cNvSpPr/>
            <p:nvPr/>
          </p:nvSpPr>
          <p:spPr>
            <a:xfrm>
              <a:off x="4349520" y="3391560"/>
              <a:ext cx="2093760" cy="26244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1830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任意多边形 48162"/>
            <p:cNvSpPr/>
            <p:nvPr/>
          </p:nvSpPr>
          <p:spPr>
            <a:xfrm>
              <a:off x="3945960" y="3652560"/>
              <a:ext cx="2709360" cy="71028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9eb6e7"/>
                </a:gs>
                <a:gs pos="100000">
                  <a:srgbClr val="3366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任意多边形 48163"/>
            <p:cNvSpPr/>
            <p:nvPr/>
          </p:nvSpPr>
          <p:spPr>
            <a:xfrm>
              <a:off x="5772240" y="2689560"/>
              <a:ext cx="59688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00a279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48164"/>
            <p:cNvSpPr/>
            <p:nvPr/>
          </p:nvSpPr>
          <p:spPr>
            <a:xfrm>
              <a:off x="4829040" y="2689560"/>
              <a:ext cx="104472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68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任意多边形 48165"/>
            <p:cNvSpPr/>
            <p:nvPr/>
          </p:nvSpPr>
          <p:spPr>
            <a:xfrm>
              <a:off x="4417920" y="2815200"/>
              <a:ext cx="1764360" cy="72036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7fe5cc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任意多边形 48166"/>
            <p:cNvSpPr/>
            <p:nvPr/>
          </p:nvSpPr>
          <p:spPr>
            <a:xfrm>
              <a:off x="5295600" y="1989000"/>
              <a:ext cx="50436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285179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任意多边形 48167"/>
            <p:cNvSpPr/>
            <p:nvPr/>
          </p:nvSpPr>
          <p:spPr>
            <a:xfrm>
              <a:off x="4887000" y="1989000"/>
              <a:ext cx="817920" cy="716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b1c5ec"/>
                </a:gs>
                <a:gs pos="100000">
                  <a:srgbClr val="3366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文本框 48168"/>
            <p:cNvSpPr/>
            <p:nvPr/>
          </p:nvSpPr>
          <p:spPr>
            <a:xfrm>
              <a:off x="5035680" y="23698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文本框 48169"/>
            <p:cNvSpPr/>
            <p:nvPr/>
          </p:nvSpPr>
          <p:spPr>
            <a:xfrm>
              <a:off x="5035680" y="31248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48170"/>
            <p:cNvSpPr/>
            <p:nvPr/>
          </p:nvSpPr>
          <p:spPr>
            <a:xfrm>
              <a:off x="5035680" y="39452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文本框 48171"/>
            <p:cNvSpPr/>
            <p:nvPr/>
          </p:nvSpPr>
          <p:spPr>
            <a:xfrm>
              <a:off x="5035680" y="47667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文本框 48172"/>
            <p:cNvSpPr/>
            <p:nvPr/>
          </p:nvSpPr>
          <p:spPr>
            <a:xfrm>
              <a:off x="5035680" y="558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5:2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4:16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