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0601BD-24F7-49C0-9FE7-CA8A968D68E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8CAE81-553C-4834-8BA2-EFAFBCF39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481190-0531-4318-AECB-24FDEB1F86E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55B468-3755-4DF3-95D5-970828ACC38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B4A688-82E6-4C7F-85EA-8F7DC7C19B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076808-714D-4CC2-80A0-B09C471811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80DEDD-39A1-4053-8FA5-1FCB36867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34207D-DCF8-46C2-A22A-3F290E14E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417477F-3BA3-4EDA-B054-E90EE4E72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7B0B11-16DB-45BA-B8D0-A9F43E36D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8A551A-CD08-4D7E-A6F9-6B30DCCDE4CE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FEF5A01-E4B0-450B-AFE1-AC9A3464D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CB6A53-3CE3-4E84-A384-EEC3C32C4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C0A3FB6-D318-4679-9FE7-8B3B791E6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FEF58F-2FF2-4371-B0A1-7234DA2DC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9CB0A9-2C5F-4760-9ABC-72CA4A16B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97A67C-290C-45DF-A6DE-F3EA2D310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5FD8D2D-AA03-4BEB-AD4E-FF7E019A9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3303F-0438-4BD1-91EC-DBBD12AF6C6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E468B2-D973-480E-8BF4-32D99E60DED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7F6285-03DC-4E1E-A946-8A8B2AD3268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2F101-B63F-40B6-A3FB-830C2F8D304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2F614F-BEC9-46D9-B55F-B2936C7CA9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29DAFC-5C2B-430D-9675-535398ABB0E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23640" y="62654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803640" y="63100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DD29-B57A-4BA5-A268-FCEB4B0951BD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矩形 2049"/>
          <p:cNvSpPr/>
          <p:nvPr/>
        </p:nvSpPr>
        <p:spPr>
          <a:xfrm>
            <a:off x="0" y="0"/>
            <a:ext cx="9144000" cy="2997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37A61-F58D-4733-A0DC-0CC9F10A2FF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7CB2B-3B2F-4C0F-A2CB-D00FE78951B2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200" spc="-1" strike="noStrike">
              <a:solidFill>
                <a:srgbClr val="3366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buClr>
                <a:srgbClr val="00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图片 4097" descr="飞花-淡兰-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矩形 4098"/>
          <p:cNvSpPr/>
          <p:nvPr/>
        </p:nvSpPr>
        <p:spPr>
          <a:xfrm>
            <a:off x="7010280" y="652464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36FB4-3C2F-4FAC-849A-0FE5B5254F1F}" type="slidenum">
              <a:rPr b="0" lang="zh-CN" sz="1400" spc="-1" strike="noStrike">
                <a:solidFill>
                  <a:srgbClr val="0066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4099"/>
          <p:cNvSpPr/>
          <p:nvPr/>
        </p:nvSpPr>
        <p:spPr>
          <a:xfrm>
            <a:off x="0" y="6237360"/>
            <a:ext cx="250920" cy="3603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50920" y="6237360"/>
            <a:ext cx="8893080" cy="360"/>
            <a:chOff x="250920" y="6237360"/>
            <a:chExt cx="8893080" cy="360"/>
          </a:xfrm>
        </p:grpSpPr>
        <p:sp>
          <p:nvSpPr>
            <p:cNvPr id="122" name="直接连接符 4100"/>
            <p:cNvSpPr/>
            <p:nvPr/>
          </p:nvSpPr>
          <p:spPr>
            <a:xfrm>
              <a:off x="250920" y="6237360"/>
              <a:ext cx="8893080" cy="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250920" y="6237360"/>
              <a:ext cx="889308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4" name=""/>
          <p:cNvGrpSpPr/>
          <p:nvPr/>
        </p:nvGrpSpPr>
        <p:grpSpPr>
          <a:xfrm>
            <a:off x="250920" y="6597720"/>
            <a:ext cx="2952720" cy="360"/>
            <a:chOff x="250920" y="6597720"/>
            <a:chExt cx="2952720" cy="360"/>
          </a:xfrm>
        </p:grpSpPr>
        <p:sp>
          <p:nvSpPr>
            <p:cNvPr id="125" name="直接连接符 4101"/>
            <p:cNvSpPr/>
            <p:nvPr/>
          </p:nvSpPr>
          <p:spPr>
            <a:xfrm>
              <a:off x="250920" y="6597720"/>
              <a:ext cx="2952720" cy="0"/>
            </a:xfrm>
            <a:prstGeom prst="line">
              <a:avLst/>
            </a:prstGeom>
            <a:ln w="9360">
              <a:solidFill>
                <a:srgbClr val="99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250920" y="6597720"/>
              <a:ext cx="2952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文本框 4102"/>
          <p:cNvSpPr/>
          <p:nvPr/>
        </p:nvSpPr>
        <p:spPr>
          <a:xfrm>
            <a:off x="468360" y="6188040"/>
            <a:ext cx="6840360" cy="4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X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图片 4103" descr="云-顶"/>
          <p:cNvPicPr/>
          <p:nvPr/>
        </p:nvPicPr>
        <p:blipFill>
          <a:blip r:embed="rId2"/>
          <a:stretch/>
        </p:blipFill>
        <p:spPr>
          <a:xfrm>
            <a:off x="0" y="0"/>
            <a:ext cx="9144000" cy="2276640"/>
          </a:xfrm>
          <a:prstGeom prst="rect">
            <a:avLst/>
          </a:prstGeom>
          <a:ln w="0">
            <a:noFill/>
          </a:ln>
        </p:spPr>
      </p:pic>
      <p:grpSp>
        <p:nvGrpSpPr>
          <p:cNvPr id="129" name=""/>
          <p:cNvGrpSpPr/>
          <p:nvPr/>
        </p:nvGrpSpPr>
        <p:grpSpPr>
          <a:xfrm>
            <a:off x="1042920" y="2852640"/>
            <a:ext cx="3960720" cy="360"/>
            <a:chOff x="1042920" y="2852640"/>
            <a:chExt cx="3960720" cy="360"/>
          </a:xfrm>
        </p:grpSpPr>
        <p:sp>
          <p:nvSpPr>
            <p:cNvPr id="130" name="直接连接符 4104"/>
            <p:cNvSpPr/>
            <p:nvPr/>
          </p:nvSpPr>
          <p:spPr>
            <a:xfrm>
              <a:off x="1042920" y="2852640"/>
              <a:ext cx="3960720" cy="0"/>
            </a:xfrm>
            <a:prstGeom prst="line">
              <a:avLst/>
            </a:prstGeom>
            <a:ln w="9360">
              <a:solidFill>
                <a:srgbClr val="061dc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 txBox="1"/>
            <p:nvPr/>
          </p:nvSpPr>
          <p:spPr>
            <a:xfrm>
              <a:off x="1042920" y="2852640"/>
              <a:ext cx="3960720" cy="36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2" name="立方体 4105"/>
          <p:cNvSpPr/>
          <p:nvPr/>
        </p:nvSpPr>
        <p:spPr>
          <a:xfrm>
            <a:off x="6156360" y="5229360"/>
            <a:ext cx="2806560" cy="288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立方体 4106"/>
          <p:cNvSpPr/>
          <p:nvPr/>
        </p:nvSpPr>
        <p:spPr>
          <a:xfrm>
            <a:off x="6372360" y="4869000"/>
            <a:ext cx="2590560" cy="28872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立方体 4107"/>
          <p:cNvSpPr/>
          <p:nvPr/>
        </p:nvSpPr>
        <p:spPr>
          <a:xfrm>
            <a:off x="6588000" y="4510080"/>
            <a:ext cx="2376720" cy="28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立方体 4108"/>
          <p:cNvSpPr/>
          <p:nvPr/>
        </p:nvSpPr>
        <p:spPr>
          <a:xfrm>
            <a:off x="6804000" y="4149720"/>
            <a:ext cx="2160720" cy="289080"/>
          </a:xfrm>
          <a:prstGeom prst="cube">
            <a:avLst>
              <a:gd name="adj" fmla="val 25000"/>
            </a:avLst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文本框 4109"/>
          <p:cNvSpPr/>
          <p:nvPr/>
        </p:nvSpPr>
        <p:spPr>
          <a:xfrm>
            <a:off x="6443640" y="5229360"/>
            <a:ext cx="2232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4110"/>
          <p:cNvSpPr/>
          <p:nvPr/>
        </p:nvSpPr>
        <p:spPr>
          <a:xfrm>
            <a:off x="6516720" y="4869000"/>
            <a:ext cx="2232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4111"/>
          <p:cNvSpPr/>
          <p:nvPr/>
        </p:nvSpPr>
        <p:spPr>
          <a:xfrm>
            <a:off x="6732720" y="4510080"/>
            <a:ext cx="201600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4112"/>
          <p:cNvSpPr/>
          <p:nvPr/>
        </p:nvSpPr>
        <p:spPr>
          <a:xfrm>
            <a:off x="6950160" y="4149720"/>
            <a:ext cx="1871640" cy="34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99ff"/>
                </a:solidFill>
                <a:latin typeface="Lucida Sans Typewriter"/>
                <a:ea typeface="楷体_GB2312"/>
              </a:rPr>
              <a:t>XXX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4113"/>
          <p:cNvSpPr/>
          <p:nvPr/>
        </p:nvSpPr>
        <p:spPr>
          <a:xfrm>
            <a:off x="2612880" y="3240000"/>
            <a:ext cx="309600" cy="3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192240" indent="-192240">
              <a:lnSpc>
                <a:spcPct val="104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灯片编号占位符 1"/>
          <p:cNvSpPr/>
          <p:nvPr/>
        </p:nvSpPr>
        <p:spPr>
          <a:xfrm>
            <a:off x="6804000" y="6310440"/>
            <a:ext cx="2133720" cy="476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52A9-551D-4DF9-873A-8FD14B35957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4"/>
          <p:cNvSpPr/>
          <p:nvPr/>
        </p:nvSpPr>
        <p:spPr>
          <a:xfrm>
            <a:off x="1260360" y="620640"/>
            <a:ext cx="7153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淡蓝工作报告幻灯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88960-5930-4A72-8E56-278C33AAF52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6T15:30:29Z</dcterms:created>
  <dc:creator>幻灯片之家：www.eeppt.com</dc:creator>
  <dc:description>幻灯片之家：www.eeppt.com</dc:description>
  <cp:keywords>幻灯片之家：www.eeppt.com</cp:keywords>
  <dc:language>en-US</dc:language>
  <cp:lastModifiedBy>An</cp:lastModifiedBy>
  <dcterms:modified xsi:type="dcterms:W3CDTF">2016-05-13T00:02:02Z</dcterms:modified>
  <cp:revision>220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