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528-62D1-4D5F-A197-689BCBB5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E69-E493-49B6-8311-A5DFE313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2AA-765D-40EC-92C4-D4BA31E9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584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236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584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236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2A1-E562-485C-9E28-CFE48729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7651-25E5-4AC9-BCCB-B2FAB417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E911-431D-4074-A65E-C9A6CEE8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C90E-1272-4CAD-8237-6B4FF9DE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A92E-E592-405B-9924-4D52B13F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419B-D138-49EE-9E19-ACE76134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1625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97D9-77B1-42DF-A071-4B5976F5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A0ED-0CEB-4DA6-BBCA-C906F5CB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928-C9A1-4D55-9670-762C4FE0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CBD1-5EEE-4938-AC6A-C3C46EA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6EE4-514B-48CD-B6D4-DC576AB7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DFBC-B955-43B5-9711-DF06A944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06E7-05FB-42EC-AB15-9195BE6C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584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236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584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236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4A8E-BA55-4728-91B3-064FF53B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1A04-62FC-47DD-AEA9-95655C43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38768-54B2-4086-B4DF-8D0C4A7D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9B4B-F8C6-408F-8039-16153223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C811B-2298-4E2F-8B23-B48277DF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8530-1F13-40D3-A5D7-0980421A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744-D925-4E56-8C74-1688A25F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1625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AC5F-EDF8-4C08-AB07-C73F2B56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D4373-7C81-4179-8CCA-A443ACC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0C0A-4D3D-44FC-8994-F486D689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CBB3-5BE5-4D8D-B202-80ACE9F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3F0D0-1FC0-44D0-B298-D54169C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93CC-CF73-4945-9A43-6C637397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584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72360" y="83772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932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584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72360" y="3822840"/>
            <a:ext cx="2453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0850-9D20-43D4-84F0-ACBE1594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D68-EB76-41A3-802B-4CC40DB4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163-245F-45FE-9331-64A080B7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1625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67D-BA1F-45E0-8A97-D33E94D5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AD0-2FD8-4572-8F04-A9AF8137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3520" y="382284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6EF-3B26-45FC-8014-C69401A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4984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3520" y="837720"/>
            <a:ext cx="3718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822840"/>
            <a:ext cx="76197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143-907C-4D87-AE33-3568CBEB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22DF-CEE3-424C-9A84-0ADDCCCD12FF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6BC1-36F8-4EEA-B732-A451B44A328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3628-22FC-42AC-82E0-318770756C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2F9B-4F47-450A-A5DF-B44DD6768D4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 building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09480" y="6019920"/>
            <a:ext cx="7848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ubtitle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921600" y="380880"/>
            <a:ext cx="64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淡蓝色方块国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837720"/>
            <a:ext cx="7619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EC2E-A176-4DA3-9D7C-30F2904EE6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5989320"/>
            <a:ext cx="78487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08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