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4F2-5B6B-4C60-B871-64BA58F8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3DF-F329-41B0-A3F8-4AACEA15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8CA-F27B-4B90-A91D-FFD562AC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598-4F66-462F-8D61-FFA0CBE3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EEA1-C97C-4DDF-A9C0-80428D2A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20E6-6BC0-45A5-8FD0-34820033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D591-1B10-42D4-8702-F0849455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D315-283E-4081-8220-42DBB92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6C1C-E1B2-47D7-AD11-3592E46B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EF9-A896-4BDA-8DF0-0495017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F41D-5CD1-4F80-B456-5311F8C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D90-D893-4B6F-AFA2-190BFFFE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A527-03B1-4B2C-8275-E88FC454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6C55-DD5C-4F1F-B680-392A5D11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038A-7968-4F11-8F03-EE407591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FCE6-9C47-4448-8450-83D38E0A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47C8-42A0-4C10-91F2-B2BA785E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4A0-3F63-4301-B546-07085BEA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01E-67AB-4AED-9ED8-C41F4BE6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610-DCCB-454C-9746-0D174535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7CF-78E4-47B7-878A-06C54759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38E-C527-48AE-877C-102D6D1D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B25-C134-4A38-88C9-F5D4BF6F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FF7-BBC6-4F61-903A-A57C1CB4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94920" y="836280"/>
            <a:ext cx="224316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c1c1c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Verdana"/>
                <a:ea typeface="宋体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0327-AAEC-4812-BEEE-51A999995B8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268360" y="981000"/>
            <a:ext cx="6264360" cy="360"/>
            <a:chOff x="2268360" y="981000"/>
            <a:chExt cx="6264360" cy="360"/>
          </a:xfrm>
        </p:grpSpPr>
        <p:sp>
          <p:nvSpPr>
            <p:cNvPr id="8" name="Line 23"/>
            <p:cNvSpPr/>
            <p:nvPr/>
          </p:nvSpPr>
          <p:spPr>
            <a:xfrm>
              <a:off x="2268360" y="981000"/>
              <a:ext cx="6264360" cy="0"/>
            </a:xfrm>
            <a:prstGeom prst="line">
              <a:avLst/>
            </a:prstGeom>
            <a:ln w="0">
              <a:solidFill>
                <a:srgbClr val="4d4d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2268360" y="981000"/>
              <a:ext cx="62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D957-0385-48CD-8502-F139C3D1CD3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6695-EEF3-4258-9EA7-4EC8A3F410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淡蓝色工作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模板免费下载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目录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2505-48C8-4BEE-BE0B-0262C5EE4140}" type="slidenum">
              <a:rPr b="0" lang="zh-CN" sz="1400" spc="-1" strike="noStrike">
                <a:solidFill>
                  <a:srgbClr val="6666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01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