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1FD-371C-49D7-9751-0D1116B4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A88-01A2-4E0F-A7B8-339B264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03C-C038-4376-AE25-FBB0B66C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EB9-97A6-40CC-8046-E1135821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434-B47C-4532-80AD-F8DD580E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2CF-04E4-4630-B242-A1D3D4D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E69E-40A8-4C75-A493-8C6B7C3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F95-E318-4663-BE96-3075DAF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926-C55E-4725-8C6B-1DAF4C86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7BA-5110-4498-AFFE-F4D74BA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126-8750-4654-95CB-2DD845F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C5E-4B77-4A91-B7B1-7461BDA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A2DC-3A7C-4A7D-B29D-AF74B4A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8C5-9E40-4047-93F6-A700FE1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C497-20E0-4D71-8CBA-75743D84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8ACE-8A21-4387-86B2-DD1CC3DE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01B-0191-4401-A4B6-0128D1C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4377A-E309-47F9-8E39-E0E4F8E8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DE481-D6E0-4C84-9C6D-4DF3AE7E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67EC1-5DB0-4C06-B358-AB7EDA1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D415D-5E00-41E5-813E-89C50AC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3F0B3-11E3-4BB7-BA2C-0DEE2872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0CF-93E8-4A0E-B9BC-258BF2B0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049B3-13E2-479F-A40E-CB605FBD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287AE-1F1C-4C12-AACB-E608D84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0C2A-FD4C-490E-A3CC-D0D5FEE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E519E-7BB2-4A02-AA4D-39BF015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05430-C31B-4CC9-A9F0-1036A85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B06D5-F594-47DC-9A9D-9F750654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C718-FA25-4AA2-9140-159955B8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526-E81F-47EB-9EF4-654D9AC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99C-30F7-4C63-B8BA-E28D01BB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0D4-0F00-4E1E-9A82-06D8658A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7A4-A97E-4E27-B3CD-840D725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249-07F4-41B7-B8D5-55A4769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AE7-DA56-4060-8A5B-F95797A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58285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" name="任意多边形 58283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" name="等腰三角形 57924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3" name="矩形 58278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4" name="矩形 58279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矩形 5828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ADA-B186-4E31-AF5A-34D3FCFD03CD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323D-7EE5-488A-9702-AA04AED72D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E5E-8A4B-49D5-AB94-495CA1377C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2637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89" name="矩形 13367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0" name="任意多边形 52653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1" name="任意多边形 52652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2" name="菱形 53243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3" name="菱形 52655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4" name="文本框 13340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5" name="菱形 52654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6" name="矩形 61439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862-BF0F-4AC1-BB2A-84553610B209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babc"/>
                </a:solidFill>
                <a:latin typeface="Verdana"/>
                <a:ea typeface="굴림"/>
              </a:rPr>
              <a:t>PowerPoint Template</a:t>
            </a:r>
            <a:endParaRPr b="1" lang="en-US" sz="36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304920" y="647712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533520" y="54864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c32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61c32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985320" y="2057400"/>
            <a:ext cx="71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c32"/>
                </a:solidFill>
                <a:latin typeface="Arial"/>
                <a:ea typeface="Arial"/>
              </a:rPr>
              <a:t>淡蓝色韩国工作日记</a:t>
            </a:r>
            <a:r>
              <a:rPr b="0" lang="en-US" sz="4000" spc="-1" strike="noStrike">
                <a:solidFill>
                  <a:srgbClr val="161c32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61c32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8bab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F77-8DDA-4BEE-BCF2-1CA114D082CD}" type="slidenum">
              <a:rPr b="0" lang="zh-CN" sz="1400" spc="-1" strike="noStrike">
                <a:solidFill>
                  <a:srgbClr val="a8bab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50177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矩形 50178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圆角矩形 41985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3" name="圆角矩形 41986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4" name="圆角矩形 41987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5" name="圆角矩形 41988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47" name="圆角矩形 41990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8" name="圆角矩形 41991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9" name="圆角矩形 41992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0" name="圆角矩形 41993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1" name="菱形 41994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2" name="菱形 41995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3" name="菱形 41996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4" name="菱形 41997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5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58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椭圆 45057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0" name="椭圆 45058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62" name="椭圆 45060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3" name="椭圆 45061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4" name="椭圆 45062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5" name="椭圆 45063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6" name="椭圆 45064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7" name="矩形 45065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8" name="日期占位符 1"/>
          <p:cNvSpPr/>
          <p:nvPr/>
        </p:nvSpPr>
        <p:spPr>
          <a:xfrm>
            <a:off x="32688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8960"/>
                <a:gridCol w="1490760"/>
                <a:gridCol w="1490760"/>
                <a:gridCol w="1490760"/>
                <a:gridCol w="1488960"/>
              </a:tblGrid>
              <a:tr h="49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72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75" name="圆角矩形 46082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6" name="圆角矩形 46083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7" name="圆角矩形 46084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8" name="燕尾形 46085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9" name="燕尾形 46086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0" name="燕尾形 46087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1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pic>
        <p:nvPicPr>
          <p:cNvPr id="183" name="内容占位符 47106" descr=""/>
          <p:cNvPicPr/>
          <p:nvPr/>
        </p:nvPicPr>
        <p:blipFill>
          <a:blip r:embed="rId1"/>
          <a:stretch/>
        </p:blipFill>
        <p:spPr>
          <a:xfrm>
            <a:off x="1757520" y="1146240"/>
            <a:ext cx="5329080" cy="4695840"/>
          </a:xfrm>
          <a:prstGeom prst="rect">
            <a:avLst/>
          </a:prstGeom>
          <a:ln w="0">
            <a:noFill/>
          </a:ln>
        </p:spPr>
      </p:pic>
      <p:sp>
        <p:nvSpPr>
          <p:cNvPr id="184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86" name="圆角矩形 48130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7" name="圆角矩形 48131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8" name="圆角矩形 48132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9" name="圆角矩形 48133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grpSp>
        <p:nvGrpSpPr>
          <p:cNvPr id="190" name="组合 48134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91" name="矩形 48135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192" name="组合 48136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93" name="椭圆 48137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4" name="矩形 48138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5" name="椭圆 48139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6" name="椭圆 48140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197" name="矩形 48141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198" name="组合 48142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99" name="椭圆 48143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0" name="矩形 48144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1" name="椭圆 48145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2" name="椭圆 48146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203" name="矩形 48147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204" name="组合 48148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205" name="椭圆 48149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6" name="矩形 48150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7" name="椭圆 48151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8" name="椭圆 48152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209" name="矩形 48153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</p:grpSp>
      <p:sp>
        <p:nvSpPr>
          <p:cNvPr id="210" name="圆角矩形 48154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1" name="圆角矩形 48155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2" name="圆角矩形 48156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3" name="圆角矩形 48157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4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17" name="椭圆 49154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8" name="椭圆 49155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9" name="椭圆 49156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0" name="任意多边形 49157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1" name="任意多边形 49158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2" name="任意多边形 49159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3" name="任意多边形 49160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4" name="任意多边形 49161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5" name="任意多边形 49162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6" name="任意多边形 49163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grpSp>
        <p:nvGrpSpPr>
          <p:cNvPr id="227" name="组合 49164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228" name="任意多边形 49165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sp>
          <p:nvSpPr>
            <p:cNvPr id="229" name="任意多边形 49166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sp>
          <p:nvSpPr>
            <p:cNvPr id="230" name="任意多边形 49167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</p:grpSp>
      <p:sp>
        <p:nvSpPr>
          <p:cNvPr id="231" name="任意多边形 49168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2" name="任意多边形 49169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3" name="任意多边形 49170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4" name="椭圆 49171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5" name="椭圆 49172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6" name="圆角矩形 49173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7" name="圆角矩形 49174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8" name="圆角矩形 49175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9" name="圆角矩形 49176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0" name="圆角矩形 49177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1" name="圆角矩形 49178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2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