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AF0-1E48-4BBD-8EC5-08F2870D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0CD-8A2A-4FF6-9556-AF00E00F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9F2-314A-47F1-B9BE-3A22C2CD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CFD-785E-4BA5-83FE-2F8290AA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B2EA-B356-4931-BAE6-3C525401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A8F5-DAEE-4DA4-A46E-C19512EB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B552-7636-4519-A605-E52626AD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2CAD-6354-431C-8B99-40420A1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54F2-BF2A-4C1C-9966-9C4FCD1D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344F-FB10-478D-9247-889F76A7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9A3B-D1EE-4600-8AB3-0D9D141E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E93-A590-47FC-8091-FE5DF23B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5501-0A5E-4DA5-B65E-D02DB02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210-C456-4109-800D-A408582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0A33-0335-49BF-923A-191758F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5E1E-AD14-42B4-8739-C46C4266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700C-4C6B-4DE9-A79F-E65F02D8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DFF2E-81F4-4E83-B8CF-4B59BA7C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7496-12E7-4BE2-B134-4C88972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BBB5-EAC8-4A11-BBD2-C3A08D2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536B-594B-4182-8C99-B8940E16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EC93-05DF-4958-A86A-4527105F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385-8B06-4A50-B424-022BCC2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38E2-FB1B-424A-B80B-C1F9F583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8D48-CE1E-4D85-8DC5-051FDB2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B285-E5B7-40B3-9D14-FD809311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BF91-36BA-4F01-A349-E4084A28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0560-81CD-4183-9AE0-080EC3ED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8405-F242-4C15-8769-13FDA4B9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7242-67F9-4789-BBCD-ECC66226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45B-5FF7-471D-A5EB-B37ED2F4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5FB-BDF3-44D9-8AC2-421DDB01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2CA-72A2-43D7-AD7A-FD6841F2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A3D-B4CA-4646-AD10-F0DDE55D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F64-64D2-4E87-84D1-2D14B986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43A-ED30-4307-8A1F-EBD767D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2A30-A27A-4174-AE5A-A0957C941F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3B96-D369-4903-99F1-1685606C36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F8A-8C2F-4C33-AEDF-2DA9DB6B514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E42F-705A-4D67-A54F-A4C3011BC3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BFE-6393-45B7-A834-3704968077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73D-4132-4CD3-95E7-EAC4287897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球保护自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/>
          <p:cNvSpPr/>
          <p:nvPr/>
        </p:nvSpPr>
        <p:spPr>
          <a:xfrm>
            <a:off x="1698480" y="251928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698480" y="332100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698480" y="4098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698480" y="4878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698480" y="1746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460600" y="1773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787400" y="3246840"/>
            <a:ext cx="638640" cy="604080"/>
            <a:chOff x="1787400" y="3246840"/>
            <a:chExt cx="638640" cy="604080"/>
          </a:xfrm>
        </p:grpSpPr>
        <p:sp>
          <p:nvSpPr>
            <p:cNvPr id="132" name="Oval 5"/>
            <p:cNvSpPr/>
            <p:nvPr/>
          </p:nvSpPr>
          <p:spPr>
            <a:xfrm>
              <a:off x="1821960" y="3263760"/>
              <a:ext cx="556920" cy="5637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0"/>
            <p:cNvGrpSpPr/>
            <p:nvPr/>
          </p:nvGrpSpPr>
          <p:grpSpPr>
            <a:xfrm>
              <a:off x="1787400" y="3543480"/>
              <a:ext cx="474840" cy="307440"/>
              <a:chOff x="1787400" y="3543480"/>
              <a:chExt cx="474840" cy="307440"/>
            </a:xfrm>
          </p:grpSpPr>
          <p:grpSp>
            <p:nvGrpSpPr>
              <p:cNvPr id="134" name="Group 11"/>
              <p:cNvGrpSpPr/>
              <p:nvPr/>
            </p:nvGrpSpPr>
            <p:grpSpPr>
              <a:xfrm>
                <a:off x="1787400" y="3543480"/>
                <a:ext cx="474840" cy="307440"/>
                <a:chOff x="1787400" y="3543480"/>
                <a:chExt cx="474840" cy="307440"/>
              </a:xfrm>
            </p:grpSpPr>
            <p:grpSp>
              <p:nvGrpSpPr>
                <p:cNvPr id="135" name="Group 12"/>
                <p:cNvGrpSpPr/>
                <p:nvPr/>
              </p:nvGrpSpPr>
              <p:grpSpPr>
                <a:xfrm>
                  <a:off x="1841760" y="3630240"/>
                  <a:ext cx="420480" cy="210600"/>
                  <a:chOff x="1841760" y="3630240"/>
                  <a:chExt cx="42048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067840" y="360432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17800" y="36018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1989000" y="35938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56240" y="35823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7"/>
                <p:cNvGrpSpPr/>
                <p:nvPr/>
              </p:nvGrpSpPr>
              <p:grpSpPr>
                <a:xfrm>
                  <a:off x="1787400" y="3543480"/>
                  <a:ext cx="383400" cy="307440"/>
                  <a:chOff x="1787400" y="3543480"/>
                  <a:chExt cx="383400" cy="30744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1973160" y="35960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26720" y="35748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03680" y="35568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876680" y="35326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22"/>
              <p:cNvGrpSpPr/>
              <p:nvPr/>
            </p:nvGrpSpPr>
            <p:grpSpPr>
              <a:xfrm>
                <a:off x="1828800" y="3575160"/>
                <a:ext cx="390240" cy="251640"/>
                <a:chOff x="1828800" y="3575160"/>
                <a:chExt cx="390240" cy="251640"/>
              </a:xfrm>
            </p:grpSpPr>
            <p:grpSp>
              <p:nvGrpSpPr>
                <p:cNvPr id="146" name="Group 23"/>
                <p:cNvGrpSpPr/>
                <p:nvPr/>
              </p:nvGrpSpPr>
              <p:grpSpPr>
                <a:xfrm>
                  <a:off x="1873080" y="3646440"/>
                  <a:ext cx="345960" cy="172440"/>
                  <a:chOff x="1873080" y="3646440"/>
                  <a:chExt cx="34596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60280" y="36244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17800" y="36234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1994400" y="36165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1967040" y="360612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8"/>
                <p:cNvGrpSpPr/>
                <p:nvPr/>
              </p:nvGrpSpPr>
              <p:grpSpPr>
                <a:xfrm>
                  <a:off x="1828800" y="3575160"/>
                  <a:ext cx="314280" cy="251640"/>
                  <a:chOff x="1828800" y="3575160"/>
                  <a:chExt cx="314280" cy="25164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1981080" y="3618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42920" y="360072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24200" y="3584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02240" y="35661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33"/>
            <p:cNvGrpSpPr/>
            <p:nvPr/>
          </p:nvGrpSpPr>
          <p:grpSpPr>
            <a:xfrm>
              <a:off x="1986840" y="3246840"/>
              <a:ext cx="439200" cy="355320"/>
              <a:chOff x="1986840" y="3246840"/>
              <a:chExt cx="439200" cy="355320"/>
            </a:xfrm>
          </p:grpSpPr>
          <p:grpSp>
            <p:nvGrpSpPr>
              <p:cNvPr id="157" name="Group 34"/>
              <p:cNvGrpSpPr/>
              <p:nvPr/>
            </p:nvGrpSpPr>
            <p:grpSpPr>
              <a:xfrm>
                <a:off x="1986840" y="3246840"/>
                <a:ext cx="439200" cy="355320"/>
                <a:chOff x="1986840" y="3246840"/>
                <a:chExt cx="439200" cy="355320"/>
              </a:xfrm>
            </p:grpSpPr>
            <p:grpSp>
              <p:nvGrpSpPr>
                <p:cNvPr id="158" name="Group 35"/>
                <p:cNvGrpSpPr/>
                <p:nvPr/>
              </p:nvGrpSpPr>
              <p:grpSpPr>
                <a:xfrm>
                  <a:off x="1986840" y="3248640"/>
                  <a:ext cx="408240" cy="262080"/>
                  <a:chOff x="1986840" y="3248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04200" y="3183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53160" y="3196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179440" y="3210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09680" y="3229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40"/>
                <p:cNvGrpSpPr/>
                <p:nvPr/>
              </p:nvGrpSpPr>
              <p:grpSpPr>
                <a:xfrm>
                  <a:off x="2086920" y="3246840"/>
                  <a:ext cx="339120" cy="355320"/>
                  <a:chOff x="2086920" y="3246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196360" y="3212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37040" y="3242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56480" y="3265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277000" y="3294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5"/>
              <p:cNvGrpSpPr/>
              <p:nvPr/>
            </p:nvGrpSpPr>
            <p:grpSpPr>
              <a:xfrm>
                <a:off x="2029680" y="3274200"/>
                <a:ext cx="360360" cy="290880"/>
                <a:chOff x="2029680" y="3274200"/>
                <a:chExt cx="360360" cy="290880"/>
              </a:xfrm>
            </p:grpSpPr>
            <p:grpSp>
              <p:nvGrpSpPr>
                <p:cNvPr id="169" name="Group 46"/>
                <p:cNvGrpSpPr/>
                <p:nvPr/>
              </p:nvGrpSpPr>
              <p:grpSpPr>
                <a:xfrm>
                  <a:off x="2029680" y="3276000"/>
                  <a:ext cx="335160" cy="214200"/>
                  <a:chOff x="2029680" y="3276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26160" y="3222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167200" y="3232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188080" y="3244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12920" y="3259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51"/>
                <p:cNvGrpSpPr/>
                <p:nvPr/>
              </p:nvGrpSpPr>
              <p:grpSpPr>
                <a:xfrm>
                  <a:off x="2112480" y="3274200"/>
                  <a:ext cx="277560" cy="290880"/>
                  <a:chOff x="2112480" y="3274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01760" y="3245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35600" y="3270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50720" y="3289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268000" y="3312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6"/>
          <p:cNvGrpSpPr/>
          <p:nvPr/>
        </p:nvGrpSpPr>
        <p:grpSpPr>
          <a:xfrm>
            <a:off x="1790640" y="2435400"/>
            <a:ext cx="613080" cy="599040"/>
            <a:chOff x="1790640" y="2435400"/>
            <a:chExt cx="613080" cy="599040"/>
          </a:xfrm>
        </p:grpSpPr>
        <p:sp>
          <p:nvSpPr>
            <p:cNvPr id="180" name="Oval 53"/>
            <p:cNvSpPr/>
            <p:nvPr/>
          </p:nvSpPr>
          <p:spPr>
            <a:xfrm>
              <a:off x="1815480" y="2455920"/>
              <a:ext cx="551520" cy="554040"/>
            </a:xfrm>
            <a:prstGeom prst="ellipse">
              <a:avLst/>
            </a:prstGeom>
            <a:solidFill>
              <a:srgbClr val="006666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8"/>
            <p:cNvGrpSpPr/>
            <p:nvPr/>
          </p:nvGrpSpPr>
          <p:grpSpPr>
            <a:xfrm>
              <a:off x="1790640" y="2731680"/>
              <a:ext cx="469080" cy="302760"/>
              <a:chOff x="1790640" y="2731680"/>
              <a:chExt cx="469080" cy="302760"/>
            </a:xfrm>
          </p:grpSpPr>
          <p:grpSp>
            <p:nvGrpSpPr>
              <p:cNvPr id="182" name="Group 59"/>
              <p:cNvGrpSpPr/>
              <p:nvPr/>
            </p:nvGrpSpPr>
            <p:grpSpPr>
              <a:xfrm>
                <a:off x="1790640" y="2731680"/>
                <a:ext cx="469080" cy="302760"/>
                <a:chOff x="1790640" y="2731680"/>
                <a:chExt cx="469080" cy="302760"/>
              </a:xfrm>
            </p:grpSpPr>
            <p:grpSp>
              <p:nvGrpSpPr>
                <p:cNvPr id="183" name="Group 60"/>
                <p:cNvGrpSpPr/>
                <p:nvPr/>
              </p:nvGrpSpPr>
              <p:grpSpPr>
                <a:xfrm>
                  <a:off x="1844280" y="2818080"/>
                  <a:ext cx="415440" cy="207000"/>
                  <a:chOff x="1844280" y="2818080"/>
                  <a:chExt cx="41544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068560" y="2791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18520" y="2790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1989720" y="2781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56600" y="2769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5"/>
                <p:cNvGrpSpPr/>
                <p:nvPr/>
              </p:nvGrpSpPr>
              <p:grpSpPr>
                <a:xfrm>
                  <a:off x="1790640" y="2731680"/>
                  <a:ext cx="377640" cy="302760"/>
                  <a:chOff x="1790640" y="2731680"/>
                  <a:chExt cx="377640" cy="30276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1973880" y="2784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28520" y="2762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05480" y="2743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879200" y="2720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70"/>
              <p:cNvGrpSpPr/>
              <p:nvPr/>
            </p:nvGrpSpPr>
            <p:grpSpPr>
              <a:xfrm>
                <a:off x="1832040" y="2763360"/>
                <a:ext cx="384120" cy="247680"/>
                <a:chOff x="1832040" y="2763360"/>
                <a:chExt cx="384120" cy="247680"/>
              </a:xfrm>
            </p:grpSpPr>
            <p:grpSp>
              <p:nvGrpSpPr>
                <p:cNvPr id="194" name="Group 71"/>
                <p:cNvGrpSpPr/>
                <p:nvPr/>
              </p:nvGrpSpPr>
              <p:grpSpPr>
                <a:xfrm>
                  <a:off x="1875600" y="2833560"/>
                  <a:ext cx="340560" cy="169560"/>
                  <a:chOff x="1875600" y="2833560"/>
                  <a:chExt cx="34056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59560" y="2811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17800" y="2810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1995480" y="2803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1968480" y="2793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6"/>
                <p:cNvGrpSpPr/>
                <p:nvPr/>
              </p:nvGrpSpPr>
              <p:grpSpPr>
                <a:xfrm>
                  <a:off x="1832040" y="2763360"/>
                  <a:ext cx="309240" cy="247680"/>
                  <a:chOff x="1832040" y="2763360"/>
                  <a:chExt cx="30924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1982160" y="2805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44720" y="2788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26720" y="2773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04400" y="2754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81"/>
            <p:cNvGrpSpPr/>
            <p:nvPr/>
          </p:nvGrpSpPr>
          <p:grpSpPr>
            <a:xfrm>
              <a:off x="1993320" y="2435400"/>
              <a:ext cx="410400" cy="374760"/>
              <a:chOff x="1993320" y="2435400"/>
              <a:chExt cx="410400" cy="374760"/>
            </a:xfrm>
          </p:grpSpPr>
          <p:grpSp>
            <p:nvGrpSpPr>
              <p:cNvPr id="205" name="Group 82"/>
              <p:cNvGrpSpPr/>
              <p:nvPr/>
            </p:nvGrpSpPr>
            <p:grpSpPr>
              <a:xfrm>
                <a:off x="1993320" y="2435400"/>
                <a:ext cx="410400" cy="374760"/>
                <a:chOff x="1993320" y="2435400"/>
                <a:chExt cx="410400" cy="374760"/>
              </a:xfrm>
            </p:grpSpPr>
            <p:grpSp>
              <p:nvGrpSpPr>
                <p:cNvPr id="206" name="Group 83"/>
                <p:cNvGrpSpPr/>
                <p:nvPr/>
              </p:nvGrpSpPr>
              <p:grpSpPr>
                <a:xfrm>
                  <a:off x="1993320" y="2435400"/>
                  <a:ext cx="390960" cy="283320"/>
                  <a:chOff x="1993320" y="2435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09960" y="2377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57840" y="2395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181240" y="2412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08600" y="2432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8"/>
                <p:cNvGrpSpPr/>
                <p:nvPr/>
              </p:nvGrpSpPr>
              <p:grpSpPr>
                <a:xfrm>
                  <a:off x="2095200" y="2438640"/>
                  <a:ext cx="308520" cy="371520"/>
                  <a:chOff x="2095200" y="2438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197440" y="2413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34160" y="2448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50360" y="2472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268000" y="2503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93"/>
              <p:cNvGrpSpPr/>
              <p:nvPr/>
            </p:nvGrpSpPr>
            <p:grpSpPr>
              <a:xfrm>
                <a:off x="2034720" y="2464200"/>
                <a:ext cx="335880" cy="306720"/>
                <a:chOff x="2034720" y="2464200"/>
                <a:chExt cx="335880" cy="306720"/>
              </a:xfrm>
            </p:grpSpPr>
            <p:grpSp>
              <p:nvGrpSpPr>
                <p:cNvPr id="217" name="Group 94"/>
                <p:cNvGrpSpPr/>
                <p:nvPr/>
              </p:nvGrpSpPr>
              <p:grpSpPr>
                <a:xfrm>
                  <a:off x="2034720" y="2464200"/>
                  <a:ext cx="320400" cy="232560"/>
                  <a:chOff x="2034720" y="2464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30480" y="2417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169360" y="2431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189160" y="2444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11120" y="2462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9"/>
                <p:cNvGrpSpPr/>
                <p:nvPr/>
              </p:nvGrpSpPr>
              <p:grpSpPr>
                <a:xfrm>
                  <a:off x="2118600" y="2467440"/>
                  <a:ext cx="252000" cy="303480"/>
                  <a:chOff x="2118600" y="2467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01760" y="2447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32360" y="2474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44960" y="2494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60080" y="2519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4"/>
          <p:cNvGrpSpPr/>
          <p:nvPr/>
        </p:nvGrpSpPr>
        <p:grpSpPr>
          <a:xfrm>
            <a:off x="1790640" y="3978000"/>
            <a:ext cx="616320" cy="630000"/>
            <a:chOff x="1790640" y="3978000"/>
            <a:chExt cx="616320" cy="630000"/>
          </a:xfrm>
        </p:grpSpPr>
        <p:sp>
          <p:nvSpPr>
            <p:cNvPr id="228" name="Oval 101"/>
            <p:cNvSpPr/>
            <p:nvPr/>
          </p:nvSpPr>
          <p:spPr>
            <a:xfrm>
              <a:off x="1823040" y="4029120"/>
              <a:ext cx="556200" cy="55404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6"/>
            <p:cNvGrpSpPr/>
            <p:nvPr/>
          </p:nvGrpSpPr>
          <p:grpSpPr>
            <a:xfrm>
              <a:off x="1790640" y="4302000"/>
              <a:ext cx="474480" cy="306000"/>
              <a:chOff x="1790640" y="4302000"/>
              <a:chExt cx="474480" cy="306000"/>
            </a:xfrm>
          </p:grpSpPr>
          <p:grpSp>
            <p:nvGrpSpPr>
              <p:cNvPr id="230" name="Group 107"/>
              <p:cNvGrpSpPr/>
              <p:nvPr/>
            </p:nvGrpSpPr>
            <p:grpSpPr>
              <a:xfrm>
                <a:off x="1790640" y="4302000"/>
                <a:ext cx="474480" cy="306000"/>
                <a:chOff x="1790640" y="4302000"/>
                <a:chExt cx="474480" cy="306000"/>
              </a:xfrm>
            </p:grpSpPr>
            <p:grpSp>
              <p:nvGrpSpPr>
                <p:cNvPr id="231" name="Group 108"/>
                <p:cNvGrpSpPr/>
                <p:nvPr/>
              </p:nvGrpSpPr>
              <p:grpSpPr>
                <a:xfrm>
                  <a:off x="1844280" y="4388760"/>
                  <a:ext cx="420840" cy="209160"/>
                  <a:chOff x="1844280" y="4388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071440" y="4361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21040" y="4359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1991880" y="4350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59120" y="4340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13"/>
                <p:cNvGrpSpPr/>
                <p:nvPr/>
              </p:nvGrpSpPr>
              <p:grpSpPr>
                <a:xfrm>
                  <a:off x="1790640" y="4302000"/>
                  <a:ext cx="382320" cy="306000"/>
                  <a:chOff x="1790640" y="4302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1976400" y="4353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29960" y="4332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06560" y="4314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880640" y="4290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8"/>
              <p:cNvGrpSpPr/>
              <p:nvPr/>
            </p:nvGrpSpPr>
            <p:grpSpPr>
              <a:xfrm>
                <a:off x="1832400" y="4333680"/>
                <a:ext cx="388800" cy="249840"/>
                <a:chOff x="1832400" y="4333680"/>
                <a:chExt cx="388800" cy="249840"/>
              </a:xfrm>
            </p:grpSpPr>
            <p:grpSp>
              <p:nvGrpSpPr>
                <p:cNvPr id="242" name="Group 119"/>
                <p:cNvGrpSpPr/>
                <p:nvPr/>
              </p:nvGrpSpPr>
              <p:grpSpPr>
                <a:xfrm>
                  <a:off x="1876680" y="4404960"/>
                  <a:ext cx="344520" cy="171000"/>
                  <a:chOff x="1876680" y="4404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063520" y="4381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21040" y="4379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1998360" y="437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1970280" y="4364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4"/>
                <p:cNvGrpSpPr/>
                <p:nvPr/>
              </p:nvGrpSpPr>
              <p:grpSpPr>
                <a:xfrm>
                  <a:off x="1832400" y="4333680"/>
                  <a:ext cx="312480" cy="249840"/>
                  <a:chOff x="1832400" y="4333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1984680" y="4375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46520" y="4358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28520" y="4343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06200" y="4324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9"/>
            <p:cNvGrpSpPr/>
            <p:nvPr/>
          </p:nvGrpSpPr>
          <p:grpSpPr>
            <a:xfrm>
              <a:off x="1973160" y="3978000"/>
              <a:ext cx="433800" cy="382320"/>
              <a:chOff x="1973160" y="3978000"/>
              <a:chExt cx="433800" cy="382320"/>
            </a:xfrm>
          </p:grpSpPr>
          <p:grpSp>
            <p:nvGrpSpPr>
              <p:cNvPr id="253" name="Group 130"/>
              <p:cNvGrpSpPr/>
              <p:nvPr/>
            </p:nvGrpSpPr>
            <p:grpSpPr>
              <a:xfrm>
                <a:off x="1973160" y="3978000"/>
                <a:ext cx="417240" cy="371160"/>
                <a:chOff x="1973160" y="3978000"/>
                <a:chExt cx="417240" cy="371160"/>
              </a:xfrm>
            </p:grpSpPr>
            <p:grpSp>
              <p:nvGrpSpPr>
                <p:cNvPr id="254" name="Group 131"/>
                <p:cNvGrpSpPr/>
                <p:nvPr/>
              </p:nvGrpSpPr>
              <p:grpSpPr>
                <a:xfrm>
                  <a:off x="1973160" y="3978000"/>
                  <a:ext cx="417240" cy="371160"/>
                  <a:chOff x="1973160" y="3978000"/>
                  <a:chExt cx="417240" cy="371160"/>
                </a:xfrm>
              </p:grpSpPr>
              <p:grpSp>
                <p:nvGrpSpPr>
                  <p:cNvPr id="255" name="Group 132"/>
                  <p:cNvGrpSpPr/>
                  <p:nvPr/>
                </p:nvGrpSpPr>
                <p:grpSpPr>
                  <a:xfrm>
                    <a:off x="1973160" y="3978000"/>
                    <a:ext cx="396000" cy="280080"/>
                    <a:chOff x="1973160" y="3978000"/>
                    <a:chExt cx="396000" cy="28008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091960" y="39182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40200" y="3934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164320" y="3950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192760" y="39715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7"/>
                  <p:cNvGrpSpPr/>
                  <p:nvPr/>
                </p:nvGrpSpPr>
                <p:grpSpPr>
                  <a:xfrm>
                    <a:off x="2076480" y="3980160"/>
                    <a:ext cx="313920" cy="369000"/>
                    <a:chOff x="2076480" y="3980160"/>
                    <a:chExt cx="313920" cy="36900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180880" y="3953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19400" y="3985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36320" y="401040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54320" y="4040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42"/>
                <p:cNvGrpSpPr/>
                <p:nvPr/>
              </p:nvGrpSpPr>
              <p:grpSpPr>
                <a:xfrm>
                  <a:off x="2014920" y="4006800"/>
                  <a:ext cx="342000" cy="303480"/>
                  <a:chOff x="2014920" y="4006800"/>
                  <a:chExt cx="342000" cy="303480"/>
                </a:xfrm>
              </p:grpSpPr>
              <p:grpSp>
                <p:nvGrpSpPr>
                  <p:cNvPr id="266" name="Group 143"/>
                  <p:cNvGrpSpPr/>
                  <p:nvPr/>
                </p:nvGrpSpPr>
                <p:grpSpPr>
                  <a:xfrm>
                    <a:off x="2014920" y="4006800"/>
                    <a:ext cx="324720" cy="228600"/>
                    <a:chOff x="2014920" y="4006800"/>
                    <a:chExt cx="32472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12120" y="395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51720" y="3970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171160" y="3984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195640" y="4000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8"/>
                  <p:cNvGrpSpPr/>
                  <p:nvPr/>
                </p:nvGrpSpPr>
                <p:grpSpPr>
                  <a:xfrm>
                    <a:off x="2099520" y="4007880"/>
                    <a:ext cx="257400" cy="302400"/>
                    <a:chOff x="2099520" y="4007880"/>
                    <a:chExt cx="257400" cy="30240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185200" y="3985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15800" y="4012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30560" y="4032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45680" y="4057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53"/>
              <p:cNvGrpSpPr/>
              <p:nvPr/>
            </p:nvGrpSpPr>
            <p:grpSpPr>
              <a:xfrm>
                <a:off x="1989360" y="3989160"/>
                <a:ext cx="417600" cy="371160"/>
                <a:chOff x="1989360" y="3989160"/>
                <a:chExt cx="417600" cy="371160"/>
              </a:xfrm>
            </p:grpSpPr>
            <p:grpSp>
              <p:nvGrpSpPr>
                <p:cNvPr id="277" name="Group 154"/>
                <p:cNvGrpSpPr/>
                <p:nvPr/>
              </p:nvGrpSpPr>
              <p:grpSpPr>
                <a:xfrm>
                  <a:off x="1989360" y="3989160"/>
                  <a:ext cx="417600" cy="371160"/>
                  <a:chOff x="1989360" y="3989160"/>
                  <a:chExt cx="417600" cy="371160"/>
                </a:xfrm>
              </p:grpSpPr>
              <p:grpSp>
                <p:nvGrpSpPr>
                  <p:cNvPr id="278" name="Group 155"/>
                  <p:cNvGrpSpPr/>
                  <p:nvPr/>
                </p:nvGrpSpPr>
                <p:grpSpPr>
                  <a:xfrm>
                    <a:off x="1989360" y="3989160"/>
                    <a:ext cx="396360" cy="280080"/>
                    <a:chOff x="1989360" y="3989160"/>
                    <a:chExt cx="396360" cy="28008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08160" y="39294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56400" y="3945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180880" y="3961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09320" y="39826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60"/>
                  <p:cNvGrpSpPr/>
                  <p:nvPr/>
                </p:nvGrpSpPr>
                <p:grpSpPr>
                  <a:xfrm>
                    <a:off x="2092680" y="3991320"/>
                    <a:ext cx="314280" cy="369000"/>
                    <a:chOff x="2092680" y="3991320"/>
                    <a:chExt cx="314280" cy="36900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197080" y="3964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35600" y="3996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52520" y="40215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270880" y="4051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5"/>
                <p:cNvGrpSpPr/>
                <p:nvPr/>
              </p:nvGrpSpPr>
              <p:grpSpPr>
                <a:xfrm>
                  <a:off x="2031480" y="4017960"/>
                  <a:ext cx="341640" cy="303480"/>
                  <a:chOff x="2031480" y="4017960"/>
                  <a:chExt cx="341640" cy="303480"/>
                </a:xfrm>
              </p:grpSpPr>
              <p:grpSp>
                <p:nvGrpSpPr>
                  <p:cNvPr id="289" name="Group 166"/>
                  <p:cNvGrpSpPr/>
                  <p:nvPr/>
                </p:nvGrpSpPr>
                <p:grpSpPr>
                  <a:xfrm>
                    <a:off x="2031480" y="4017960"/>
                    <a:ext cx="324360" cy="228600"/>
                    <a:chOff x="2031480" y="4017960"/>
                    <a:chExt cx="32436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28680" y="396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167920" y="3981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187720" y="3996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11840" y="4011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71"/>
                  <p:cNvGrpSpPr/>
                  <p:nvPr/>
                </p:nvGrpSpPr>
                <p:grpSpPr>
                  <a:xfrm>
                    <a:off x="2115720" y="4019040"/>
                    <a:ext cx="257400" cy="302400"/>
                    <a:chOff x="2115720" y="4019040"/>
                    <a:chExt cx="257400" cy="30240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01400" y="3996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32360" y="40237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46760" y="4043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261880" y="4068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6"/>
          <p:cNvGrpSpPr/>
          <p:nvPr/>
        </p:nvGrpSpPr>
        <p:grpSpPr>
          <a:xfrm>
            <a:off x="1780560" y="1608480"/>
            <a:ext cx="636120" cy="648360"/>
            <a:chOff x="1780560" y="1608480"/>
            <a:chExt cx="636120" cy="648360"/>
          </a:xfrm>
        </p:grpSpPr>
        <p:sp>
          <p:nvSpPr>
            <p:cNvPr id="300" name="Oval 173"/>
            <p:cNvSpPr/>
            <p:nvPr/>
          </p:nvSpPr>
          <p:spPr>
            <a:xfrm>
              <a:off x="1813320" y="1660680"/>
              <a:ext cx="573480" cy="57132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8"/>
            <p:cNvGrpSpPr/>
            <p:nvPr/>
          </p:nvGrpSpPr>
          <p:grpSpPr>
            <a:xfrm>
              <a:off x="1780560" y="1942200"/>
              <a:ext cx="489240" cy="314640"/>
              <a:chOff x="1780560" y="1942200"/>
              <a:chExt cx="489240" cy="314640"/>
            </a:xfrm>
          </p:grpSpPr>
          <p:grpSp>
            <p:nvGrpSpPr>
              <p:cNvPr id="302" name="Group 179"/>
              <p:cNvGrpSpPr/>
              <p:nvPr/>
            </p:nvGrpSpPr>
            <p:grpSpPr>
              <a:xfrm>
                <a:off x="1780560" y="1942200"/>
                <a:ext cx="489240" cy="314640"/>
                <a:chOff x="1780560" y="1942200"/>
                <a:chExt cx="489240" cy="314640"/>
              </a:xfrm>
            </p:grpSpPr>
            <p:grpSp>
              <p:nvGrpSpPr>
                <p:cNvPr id="303" name="Group 180"/>
                <p:cNvGrpSpPr/>
                <p:nvPr/>
              </p:nvGrpSpPr>
              <p:grpSpPr>
                <a:xfrm>
                  <a:off x="1836000" y="2031840"/>
                  <a:ext cx="433800" cy="215640"/>
                  <a:chOff x="1836000" y="2031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070360" y="2002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17440" y="2001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1989360" y="1992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54080" y="1981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5"/>
                <p:cNvGrpSpPr/>
                <p:nvPr/>
              </p:nvGrpSpPr>
              <p:grpSpPr>
                <a:xfrm>
                  <a:off x="1780560" y="1942200"/>
                  <a:ext cx="393840" cy="314640"/>
                  <a:chOff x="1780560" y="1942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1971720" y="1995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24560" y="1973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01160" y="1954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872720" y="1930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90"/>
              <p:cNvGrpSpPr/>
              <p:nvPr/>
            </p:nvGrpSpPr>
            <p:grpSpPr>
              <a:xfrm>
                <a:off x="1823760" y="1974600"/>
                <a:ext cx="399600" cy="257400"/>
                <a:chOff x="1823760" y="1974600"/>
                <a:chExt cx="399600" cy="257400"/>
              </a:xfrm>
            </p:grpSpPr>
            <p:grpSp>
              <p:nvGrpSpPr>
                <p:cNvPr id="314" name="Group 191"/>
                <p:cNvGrpSpPr/>
                <p:nvPr/>
              </p:nvGrpSpPr>
              <p:grpSpPr>
                <a:xfrm>
                  <a:off x="1869120" y="2048040"/>
                  <a:ext cx="354240" cy="176040"/>
                  <a:chOff x="1869120" y="2048040"/>
                  <a:chExt cx="35424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061000" y="2025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18160" y="2023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1994400" y="2016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1965960" y="2006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6"/>
                <p:cNvGrpSpPr/>
                <p:nvPr/>
              </p:nvGrpSpPr>
              <p:grpSpPr>
                <a:xfrm>
                  <a:off x="1823760" y="1974600"/>
                  <a:ext cx="321840" cy="257400"/>
                  <a:chOff x="1823760" y="1974600"/>
                  <a:chExt cx="321840" cy="25740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1980000" y="2018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40760" y="1999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21320" y="1984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899360" y="1964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201"/>
            <p:cNvGrpSpPr/>
            <p:nvPr/>
          </p:nvGrpSpPr>
          <p:grpSpPr>
            <a:xfrm>
              <a:off x="1968120" y="1608480"/>
              <a:ext cx="448560" cy="393480"/>
              <a:chOff x="1968120" y="1608480"/>
              <a:chExt cx="448560" cy="393480"/>
            </a:xfrm>
          </p:grpSpPr>
          <p:grpSp>
            <p:nvGrpSpPr>
              <p:cNvPr id="325" name="Group 202"/>
              <p:cNvGrpSpPr/>
              <p:nvPr/>
            </p:nvGrpSpPr>
            <p:grpSpPr>
              <a:xfrm>
                <a:off x="1968120" y="1608480"/>
                <a:ext cx="431280" cy="382320"/>
                <a:chOff x="1968120" y="1608480"/>
                <a:chExt cx="431280" cy="382320"/>
              </a:xfrm>
            </p:grpSpPr>
            <p:grpSp>
              <p:nvGrpSpPr>
                <p:cNvPr id="326" name="Group 203"/>
                <p:cNvGrpSpPr/>
                <p:nvPr/>
              </p:nvGrpSpPr>
              <p:grpSpPr>
                <a:xfrm>
                  <a:off x="1968120" y="1608480"/>
                  <a:ext cx="431280" cy="382320"/>
                  <a:chOff x="1968120" y="1608480"/>
                  <a:chExt cx="431280" cy="382320"/>
                </a:xfrm>
              </p:grpSpPr>
              <p:grpSp>
                <p:nvGrpSpPr>
                  <p:cNvPr id="327" name="Group 204"/>
                  <p:cNvGrpSpPr/>
                  <p:nvPr/>
                </p:nvGrpSpPr>
                <p:grpSpPr>
                  <a:xfrm>
                    <a:off x="1968120" y="1608480"/>
                    <a:ext cx="408960" cy="287280"/>
                    <a:chOff x="1968120" y="1608480"/>
                    <a:chExt cx="408960" cy="28728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090160" y="15469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40560" y="15631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165400" y="15800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195640" y="1600560"/>
                      <a:ext cx="7956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9"/>
                  <p:cNvGrpSpPr/>
                  <p:nvPr/>
                </p:nvGrpSpPr>
                <p:grpSpPr>
                  <a:xfrm>
                    <a:off x="2075040" y="1611000"/>
                    <a:ext cx="324360" cy="379800"/>
                    <a:chOff x="2075040" y="1611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182680" y="1582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22280" y="16164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39200" y="1641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59000" y="1671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4"/>
                <p:cNvGrpSpPr/>
                <p:nvPr/>
              </p:nvGrpSpPr>
              <p:grpSpPr>
                <a:xfrm>
                  <a:off x="2011680" y="1637280"/>
                  <a:ext cx="352800" cy="312480"/>
                  <a:chOff x="2011680" y="1637280"/>
                  <a:chExt cx="352800" cy="312480"/>
                </a:xfrm>
              </p:grpSpPr>
              <p:grpSp>
                <p:nvGrpSpPr>
                  <p:cNvPr id="338" name="Group 215"/>
                  <p:cNvGrpSpPr/>
                  <p:nvPr/>
                </p:nvGrpSpPr>
                <p:grpSpPr>
                  <a:xfrm>
                    <a:off x="2011680" y="1637280"/>
                    <a:ext cx="334440" cy="235440"/>
                    <a:chOff x="2011680" y="1637280"/>
                    <a:chExt cx="334440" cy="23544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11760" y="1587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52440" y="1600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173680" y="1614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197440" y="1630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20"/>
                  <p:cNvGrpSpPr/>
                  <p:nvPr/>
                </p:nvGrpSpPr>
                <p:grpSpPr>
                  <a:xfrm>
                    <a:off x="2098440" y="1638720"/>
                    <a:ext cx="266040" cy="311040"/>
                    <a:chOff x="2098440" y="1638720"/>
                    <a:chExt cx="266040" cy="31104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186640" y="1616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20120" y="1644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33440" y="1664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49640" y="1689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5"/>
              <p:cNvGrpSpPr/>
              <p:nvPr/>
            </p:nvGrpSpPr>
            <p:grpSpPr>
              <a:xfrm>
                <a:off x="1985400" y="1620000"/>
                <a:ext cx="431280" cy="381960"/>
                <a:chOff x="1985400" y="1620000"/>
                <a:chExt cx="431280" cy="381960"/>
              </a:xfrm>
            </p:grpSpPr>
            <p:grpSp>
              <p:nvGrpSpPr>
                <p:cNvPr id="349" name="Group 226"/>
                <p:cNvGrpSpPr/>
                <p:nvPr/>
              </p:nvGrpSpPr>
              <p:grpSpPr>
                <a:xfrm>
                  <a:off x="1985400" y="1620000"/>
                  <a:ext cx="431280" cy="381960"/>
                  <a:chOff x="1985400" y="1620000"/>
                  <a:chExt cx="431280" cy="381960"/>
                </a:xfrm>
              </p:grpSpPr>
              <p:grpSp>
                <p:nvGrpSpPr>
                  <p:cNvPr id="350" name="Group 227"/>
                  <p:cNvGrpSpPr/>
                  <p:nvPr/>
                </p:nvGrpSpPr>
                <p:grpSpPr>
                  <a:xfrm>
                    <a:off x="1985400" y="1620000"/>
                    <a:ext cx="408600" cy="287280"/>
                    <a:chOff x="1985400" y="1620000"/>
                    <a:chExt cx="408600" cy="28728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07440" y="15584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57480" y="15746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182680" y="15915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12560" y="1612080"/>
                      <a:ext cx="7956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32"/>
                  <p:cNvGrpSpPr/>
                  <p:nvPr/>
                </p:nvGrpSpPr>
                <p:grpSpPr>
                  <a:xfrm>
                    <a:off x="2091960" y="1622520"/>
                    <a:ext cx="324720" cy="379440"/>
                    <a:chOff x="2091960" y="1622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199600" y="1593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39200" y="16279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56480" y="1652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276280" y="1683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7"/>
                <p:cNvGrpSpPr/>
                <p:nvPr/>
              </p:nvGrpSpPr>
              <p:grpSpPr>
                <a:xfrm>
                  <a:off x="2028600" y="1648800"/>
                  <a:ext cx="352800" cy="312480"/>
                  <a:chOff x="2028600" y="1648800"/>
                  <a:chExt cx="352800" cy="312480"/>
                </a:xfrm>
              </p:grpSpPr>
              <p:grpSp>
                <p:nvGrpSpPr>
                  <p:cNvPr id="361" name="Group 238"/>
                  <p:cNvGrpSpPr/>
                  <p:nvPr/>
                </p:nvGrpSpPr>
                <p:grpSpPr>
                  <a:xfrm>
                    <a:off x="2028600" y="1648800"/>
                    <a:ext cx="334440" cy="235440"/>
                    <a:chOff x="2028600" y="1648800"/>
                    <a:chExt cx="334440" cy="23544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28680" y="1598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169360" y="1611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190600" y="1625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14360" y="1642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43"/>
                  <p:cNvGrpSpPr/>
                  <p:nvPr/>
                </p:nvGrpSpPr>
                <p:grpSpPr>
                  <a:xfrm>
                    <a:off x="2115720" y="1649880"/>
                    <a:ext cx="265680" cy="311400"/>
                    <a:chOff x="2115720" y="1649880"/>
                    <a:chExt cx="265680" cy="31140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03920" y="1627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37040" y="165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50720" y="1676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266560" y="1701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460600" y="254304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460600" y="33321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460600" y="4125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51"/>
          <p:cNvGrpSpPr/>
          <p:nvPr/>
        </p:nvGrpSpPr>
        <p:grpSpPr>
          <a:xfrm>
            <a:off x="1791000" y="4767480"/>
            <a:ext cx="615600" cy="628920"/>
            <a:chOff x="1791000" y="4767480"/>
            <a:chExt cx="615600" cy="628920"/>
          </a:xfrm>
        </p:grpSpPr>
        <p:sp>
          <p:nvSpPr>
            <p:cNvPr id="375" name="Oval 101"/>
            <p:cNvSpPr/>
            <p:nvPr/>
          </p:nvSpPr>
          <p:spPr>
            <a:xfrm>
              <a:off x="1823760" y="4818240"/>
              <a:ext cx="557280" cy="55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253"/>
            <p:cNvGrpSpPr/>
            <p:nvPr/>
          </p:nvGrpSpPr>
          <p:grpSpPr>
            <a:xfrm>
              <a:off x="1791000" y="5090760"/>
              <a:ext cx="474840" cy="305640"/>
              <a:chOff x="1791000" y="5090760"/>
              <a:chExt cx="474840" cy="305640"/>
            </a:xfrm>
          </p:grpSpPr>
          <p:grpSp>
            <p:nvGrpSpPr>
              <p:cNvPr id="377" name="Group 254"/>
              <p:cNvGrpSpPr/>
              <p:nvPr/>
            </p:nvGrpSpPr>
            <p:grpSpPr>
              <a:xfrm>
                <a:off x="1791000" y="5090760"/>
                <a:ext cx="474840" cy="305640"/>
                <a:chOff x="1791000" y="5090760"/>
                <a:chExt cx="474840" cy="305640"/>
              </a:xfrm>
            </p:grpSpPr>
            <p:grpSp>
              <p:nvGrpSpPr>
                <p:cNvPr id="378" name="Group 255"/>
                <p:cNvGrpSpPr/>
                <p:nvPr/>
              </p:nvGrpSpPr>
              <p:grpSpPr>
                <a:xfrm>
                  <a:off x="1845000" y="5177880"/>
                  <a:ext cx="420840" cy="209160"/>
                  <a:chOff x="1845000" y="5177880"/>
                  <a:chExt cx="42084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072520" y="5150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22120" y="5148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1994040" y="5140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59840" y="5128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260"/>
                <p:cNvGrpSpPr/>
                <p:nvPr/>
              </p:nvGrpSpPr>
              <p:grpSpPr>
                <a:xfrm>
                  <a:off x="1791000" y="5090760"/>
                  <a:ext cx="382680" cy="305640"/>
                  <a:chOff x="1791000" y="5090760"/>
                  <a:chExt cx="382680" cy="30564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1977120" y="5142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30320" y="5121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07280" y="510300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880640" y="5079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265"/>
              <p:cNvGrpSpPr/>
              <p:nvPr/>
            </p:nvGrpSpPr>
            <p:grpSpPr>
              <a:xfrm>
                <a:off x="1832400" y="5122440"/>
                <a:ext cx="389520" cy="250200"/>
                <a:chOff x="1832400" y="5122440"/>
                <a:chExt cx="389520" cy="250200"/>
              </a:xfrm>
            </p:grpSpPr>
            <p:grpSp>
              <p:nvGrpSpPr>
                <p:cNvPr id="389" name="Group 266"/>
                <p:cNvGrpSpPr/>
                <p:nvPr/>
              </p:nvGrpSpPr>
              <p:grpSpPr>
                <a:xfrm>
                  <a:off x="1877400" y="5193720"/>
                  <a:ext cx="344520" cy="171000"/>
                  <a:chOff x="1877400" y="5193720"/>
                  <a:chExt cx="344520" cy="17100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064240" y="517104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22120" y="51696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1998720" y="51627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1971360" y="515304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271"/>
                <p:cNvGrpSpPr/>
                <p:nvPr/>
              </p:nvGrpSpPr>
              <p:grpSpPr>
                <a:xfrm>
                  <a:off x="1832400" y="5122440"/>
                  <a:ext cx="313560" cy="250200"/>
                  <a:chOff x="1832400" y="5122440"/>
                  <a:chExt cx="313560" cy="25020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1985400" y="51649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46880" y="51469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28520" y="51325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05840" y="51127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276"/>
            <p:cNvGrpSpPr/>
            <p:nvPr/>
          </p:nvGrpSpPr>
          <p:grpSpPr>
            <a:xfrm>
              <a:off x="1971360" y="4767480"/>
              <a:ext cx="435240" cy="383040"/>
              <a:chOff x="1971360" y="4767480"/>
              <a:chExt cx="435240" cy="383040"/>
            </a:xfrm>
          </p:grpSpPr>
          <p:grpSp>
            <p:nvGrpSpPr>
              <p:cNvPr id="400" name="Group 277"/>
              <p:cNvGrpSpPr/>
              <p:nvPr/>
            </p:nvGrpSpPr>
            <p:grpSpPr>
              <a:xfrm>
                <a:off x="1971360" y="4767480"/>
                <a:ext cx="418680" cy="371880"/>
                <a:chOff x="1971360" y="4767480"/>
                <a:chExt cx="418680" cy="371880"/>
              </a:xfrm>
            </p:grpSpPr>
            <p:grpSp>
              <p:nvGrpSpPr>
                <p:cNvPr id="401" name="Group 278"/>
                <p:cNvGrpSpPr/>
                <p:nvPr/>
              </p:nvGrpSpPr>
              <p:grpSpPr>
                <a:xfrm>
                  <a:off x="1971360" y="4767480"/>
                  <a:ext cx="418680" cy="371880"/>
                  <a:chOff x="1971360" y="4767480"/>
                  <a:chExt cx="418680" cy="371880"/>
                </a:xfrm>
              </p:grpSpPr>
              <p:grpSp>
                <p:nvGrpSpPr>
                  <p:cNvPr id="402" name="Group 279"/>
                  <p:cNvGrpSpPr/>
                  <p:nvPr/>
                </p:nvGrpSpPr>
                <p:grpSpPr>
                  <a:xfrm>
                    <a:off x="1971360" y="4767480"/>
                    <a:ext cx="396720" cy="280080"/>
                    <a:chOff x="1971360" y="4767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090160" y="4707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38400" y="4723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163240" y="4740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190960" y="4760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284"/>
                  <p:cNvGrpSpPr/>
                  <p:nvPr/>
                </p:nvGrpSpPr>
                <p:grpSpPr>
                  <a:xfrm>
                    <a:off x="2075400" y="4769640"/>
                    <a:ext cx="314640" cy="369720"/>
                    <a:chOff x="2075400" y="4769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180160" y="474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17960" y="4775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34880" y="4799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53240" y="4830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289"/>
                <p:cNvGrpSpPr/>
                <p:nvPr/>
              </p:nvGrpSpPr>
              <p:grpSpPr>
                <a:xfrm>
                  <a:off x="2013480" y="4796280"/>
                  <a:ext cx="343800" cy="304200"/>
                  <a:chOff x="2013480" y="4796280"/>
                  <a:chExt cx="343800" cy="304200"/>
                </a:xfrm>
              </p:grpSpPr>
              <p:grpSp>
                <p:nvGrpSpPr>
                  <p:cNvPr id="413" name="Group 290"/>
                  <p:cNvGrpSpPr/>
                  <p:nvPr/>
                </p:nvGrpSpPr>
                <p:grpSpPr>
                  <a:xfrm>
                    <a:off x="2013480" y="4796280"/>
                    <a:ext cx="325800" cy="228960"/>
                    <a:chOff x="2013480" y="4796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11040" y="4746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51360" y="4760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170440" y="4773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194920" y="4789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295"/>
                  <p:cNvGrpSpPr/>
                  <p:nvPr/>
                </p:nvGrpSpPr>
                <p:grpSpPr>
                  <a:xfrm>
                    <a:off x="2098800" y="4797720"/>
                    <a:ext cx="258480" cy="302760"/>
                    <a:chOff x="2098800" y="4797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184840" y="4774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16160" y="4802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29120" y="4822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45320" y="4845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300"/>
              <p:cNvGrpSpPr/>
              <p:nvPr/>
            </p:nvGrpSpPr>
            <p:grpSpPr>
              <a:xfrm>
                <a:off x="1987560" y="4778640"/>
                <a:ext cx="419040" cy="371880"/>
                <a:chOff x="1987560" y="4778640"/>
                <a:chExt cx="419040" cy="371880"/>
              </a:xfrm>
            </p:grpSpPr>
            <p:grpSp>
              <p:nvGrpSpPr>
                <p:cNvPr id="424" name="Group 301"/>
                <p:cNvGrpSpPr/>
                <p:nvPr/>
              </p:nvGrpSpPr>
              <p:grpSpPr>
                <a:xfrm>
                  <a:off x="1987560" y="4778640"/>
                  <a:ext cx="419040" cy="371880"/>
                  <a:chOff x="1987560" y="4778640"/>
                  <a:chExt cx="419040" cy="371880"/>
                </a:xfrm>
              </p:grpSpPr>
              <p:grpSp>
                <p:nvGrpSpPr>
                  <p:cNvPr id="425" name="Group 302"/>
                  <p:cNvGrpSpPr/>
                  <p:nvPr/>
                </p:nvGrpSpPr>
                <p:grpSpPr>
                  <a:xfrm>
                    <a:off x="1987560" y="4778640"/>
                    <a:ext cx="397080" cy="280080"/>
                    <a:chOff x="1987560" y="4778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06360" y="471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54600" y="473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179800" y="475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07520" y="477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307"/>
                  <p:cNvGrpSpPr/>
                  <p:nvPr/>
                </p:nvGrpSpPr>
                <p:grpSpPr>
                  <a:xfrm>
                    <a:off x="2091600" y="4780800"/>
                    <a:ext cx="315000" cy="369720"/>
                    <a:chOff x="2091600" y="4780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196360" y="475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34160" y="478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51080" y="481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269800" y="484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312"/>
                <p:cNvGrpSpPr/>
                <p:nvPr/>
              </p:nvGrpSpPr>
              <p:grpSpPr>
                <a:xfrm>
                  <a:off x="2030040" y="4807440"/>
                  <a:ext cx="343440" cy="304560"/>
                  <a:chOff x="2030040" y="4807440"/>
                  <a:chExt cx="343440" cy="304560"/>
                </a:xfrm>
              </p:grpSpPr>
              <p:grpSp>
                <p:nvGrpSpPr>
                  <p:cNvPr id="436" name="Group 313"/>
                  <p:cNvGrpSpPr/>
                  <p:nvPr/>
                </p:nvGrpSpPr>
                <p:grpSpPr>
                  <a:xfrm>
                    <a:off x="2030040" y="4807440"/>
                    <a:ext cx="325440" cy="228960"/>
                    <a:chOff x="2030040" y="4807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27600" y="4757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167560" y="4771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187000" y="4784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11120" y="4800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318"/>
                  <p:cNvGrpSpPr/>
                  <p:nvPr/>
                </p:nvGrpSpPr>
                <p:grpSpPr>
                  <a:xfrm>
                    <a:off x="2115360" y="4808880"/>
                    <a:ext cx="258120" cy="303120"/>
                    <a:chOff x="2115360" y="4808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01400" y="4785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32360" y="4813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45320" y="4833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261520" y="4857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460600" y="4915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14480" y="1703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11240" y="247824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16280" y="3308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01880" y="40719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00080" y="486900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右箭头 3"/>
          <p:cNvSpPr/>
          <p:nvPr/>
        </p:nvSpPr>
        <p:spPr>
          <a:xfrm>
            <a:off x="376200" y="3367080"/>
            <a:ext cx="8315280" cy="500040"/>
          </a:xfrm>
          <a:prstGeom prst="rightArrow">
            <a:avLst>
              <a:gd name="adj1" fmla="val 50000"/>
              <a:gd name="adj2" fmla="val 49811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579680" y="4168800"/>
            <a:ext cx="360" cy="334800"/>
            <a:chOff x="1579680" y="4168800"/>
            <a:chExt cx="360" cy="334800"/>
          </a:xfrm>
        </p:grpSpPr>
        <p:sp>
          <p:nvSpPr>
            <p:cNvPr id="454" name="Line 58"/>
            <p:cNvSpPr/>
            <p:nvPr/>
          </p:nvSpPr>
          <p:spPr>
            <a:xfrm>
              <a:off x="1579680" y="416880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1579680" y="416880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824040" y="4513320"/>
            <a:ext cx="1495440" cy="360"/>
            <a:chOff x="824040" y="4513320"/>
            <a:chExt cx="1495440" cy="360"/>
          </a:xfrm>
        </p:grpSpPr>
        <p:sp>
          <p:nvSpPr>
            <p:cNvPr id="457" name="Line 59"/>
            <p:cNvSpPr/>
            <p:nvPr/>
          </p:nvSpPr>
          <p:spPr>
            <a:xfrm flipH="1">
              <a:off x="824040" y="451332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824040" y="451332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427880" y="2647800"/>
            <a:ext cx="360" cy="335160"/>
            <a:chOff x="7427880" y="2647800"/>
            <a:chExt cx="360" cy="335160"/>
          </a:xfrm>
        </p:grpSpPr>
        <p:sp>
          <p:nvSpPr>
            <p:cNvPr id="460" name="Line 65"/>
            <p:cNvSpPr/>
            <p:nvPr/>
          </p:nvSpPr>
          <p:spPr>
            <a:xfrm>
              <a:off x="7427880" y="264780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7427880" y="264780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532200" y="2633760"/>
            <a:ext cx="1632240" cy="360"/>
            <a:chOff x="6532200" y="2633760"/>
            <a:chExt cx="1632240" cy="360"/>
          </a:xfrm>
        </p:grpSpPr>
        <p:sp>
          <p:nvSpPr>
            <p:cNvPr id="463" name="Line 66"/>
            <p:cNvSpPr/>
            <p:nvPr/>
          </p:nvSpPr>
          <p:spPr>
            <a:xfrm flipH="1">
              <a:off x="6532200" y="263376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6532560" y="263376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548160" y="2651040"/>
            <a:ext cx="360" cy="335160"/>
            <a:chOff x="3548160" y="2651040"/>
            <a:chExt cx="360" cy="335160"/>
          </a:xfrm>
        </p:grpSpPr>
        <p:sp>
          <p:nvSpPr>
            <p:cNvPr id="466" name="Line 68"/>
            <p:cNvSpPr/>
            <p:nvPr/>
          </p:nvSpPr>
          <p:spPr>
            <a:xfrm>
              <a:off x="3548160" y="265104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548160" y="265104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624040" y="2633760"/>
            <a:ext cx="1771920" cy="360"/>
            <a:chOff x="2624040" y="2633760"/>
            <a:chExt cx="1771920" cy="360"/>
          </a:xfrm>
        </p:grpSpPr>
        <p:sp>
          <p:nvSpPr>
            <p:cNvPr id="469" name="Line 69"/>
            <p:cNvSpPr/>
            <p:nvPr/>
          </p:nvSpPr>
          <p:spPr>
            <a:xfrm flipH="1">
              <a:off x="2624040" y="2633760"/>
              <a:ext cx="1771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2624040" y="2633760"/>
              <a:ext cx="1771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497560" y="4135320"/>
            <a:ext cx="360" cy="335160"/>
            <a:chOff x="5497560" y="4135320"/>
            <a:chExt cx="360" cy="335160"/>
          </a:xfrm>
        </p:grpSpPr>
        <p:sp>
          <p:nvSpPr>
            <p:cNvPr id="472" name="Line 71"/>
            <p:cNvSpPr/>
            <p:nvPr/>
          </p:nvSpPr>
          <p:spPr>
            <a:xfrm>
              <a:off x="5497560" y="41353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5497560" y="41353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686120" y="4470480"/>
            <a:ext cx="1587600" cy="360"/>
            <a:chOff x="4686120" y="4470480"/>
            <a:chExt cx="1587600" cy="360"/>
          </a:xfrm>
        </p:grpSpPr>
        <p:sp>
          <p:nvSpPr>
            <p:cNvPr id="475" name="Line 72"/>
            <p:cNvSpPr/>
            <p:nvPr/>
          </p:nvSpPr>
          <p:spPr>
            <a:xfrm flipH="1">
              <a:off x="4686120" y="4470480"/>
              <a:ext cx="1587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686480" y="4470480"/>
              <a:ext cx="158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1"/>
          <p:cNvGrpSpPr/>
          <p:nvPr/>
        </p:nvGrpSpPr>
        <p:grpSpPr>
          <a:xfrm>
            <a:off x="998640" y="2948040"/>
            <a:ext cx="1155600" cy="1180800"/>
            <a:chOff x="998640" y="2948040"/>
            <a:chExt cx="1155600" cy="1180800"/>
          </a:xfrm>
        </p:grpSpPr>
        <p:sp>
          <p:nvSpPr>
            <p:cNvPr id="478" name="Oval 11"/>
            <p:cNvSpPr/>
            <p:nvPr/>
          </p:nvSpPr>
          <p:spPr>
            <a:xfrm>
              <a:off x="998640" y="2987640"/>
              <a:ext cx="1155600" cy="1141200"/>
            </a:xfrm>
            <a:prstGeom prst="ellipse">
              <a:avLst/>
            </a:prstGeom>
            <a:solidFill>
              <a:srgbClr val="008080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09656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14"/>
          <p:cNvGrpSpPr/>
          <p:nvPr/>
        </p:nvGrpSpPr>
        <p:grpSpPr>
          <a:xfrm>
            <a:off x="2978280" y="2948040"/>
            <a:ext cx="1155600" cy="1180800"/>
            <a:chOff x="2978280" y="2948040"/>
            <a:chExt cx="1155600" cy="1180800"/>
          </a:xfrm>
        </p:grpSpPr>
        <p:sp>
          <p:nvSpPr>
            <p:cNvPr id="481" name="Oval 16"/>
            <p:cNvSpPr/>
            <p:nvPr/>
          </p:nvSpPr>
          <p:spPr>
            <a:xfrm>
              <a:off x="2978280" y="2987640"/>
              <a:ext cx="1155600" cy="1141200"/>
            </a:xfrm>
            <a:prstGeom prst="ellipse">
              <a:avLst/>
            </a:prstGeom>
            <a:solidFill>
              <a:srgbClr val="006666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07620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17"/>
          <p:cNvGrpSpPr/>
          <p:nvPr/>
        </p:nvGrpSpPr>
        <p:grpSpPr>
          <a:xfrm>
            <a:off x="4911840" y="2948040"/>
            <a:ext cx="1154160" cy="1180800"/>
            <a:chOff x="4911840" y="2948040"/>
            <a:chExt cx="1154160" cy="1180800"/>
          </a:xfrm>
        </p:grpSpPr>
        <p:sp>
          <p:nvSpPr>
            <p:cNvPr id="484" name="Oval 21"/>
            <p:cNvSpPr/>
            <p:nvPr/>
          </p:nvSpPr>
          <p:spPr>
            <a:xfrm>
              <a:off x="4911840" y="2987640"/>
              <a:ext cx="1154160" cy="114120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09760" y="294804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20"/>
          <p:cNvGrpSpPr/>
          <p:nvPr/>
        </p:nvGrpSpPr>
        <p:grpSpPr>
          <a:xfrm>
            <a:off x="6885000" y="2948040"/>
            <a:ext cx="1155600" cy="1180800"/>
            <a:chOff x="6885000" y="2948040"/>
            <a:chExt cx="1155600" cy="1180800"/>
          </a:xfrm>
        </p:grpSpPr>
        <p:sp>
          <p:nvSpPr>
            <p:cNvPr id="487" name="Oval 11"/>
            <p:cNvSpPr/>
            <p:nvPr/>
          </p:nvSpPr>
          <p:spPr>
            <a:xfrm>
              <a:off x="6885000" y="2987640"/>
              <a:ext cx="1155600" cy="1141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698292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TextBox 35"/>
          <p:cNvSpPr/>
          <p:nvPr/>
        </p:nvSpPr>
        <p:spPr>
          <a:xfrm>
            <a:off x="395280" y="45878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9"/>
          <p:cNvSpPr/>
          <p:nvPr/>
        </p:nvSpPr>
        <p:spPr>
          <a:xfrm>
            <a:off x="108900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304956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9"/>
          <p:cNvSpPr/>
          <p:nvPr/>
        </p:nvSpPr>
        <p:spPr>
          <a:xfrm>
            <a:off x="496728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9"/>
          <p:cNvSpPr/>
          <p:nvPr/>
        </p:nvSpPr>
        <p:spPr>
          <a:xfrm>
            <a:off x="696924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4"/>
          <p:cNvSpPr/>
          <p:nvPr/>
        </p:nvSpPr>
        <p:spPr>
          <a:xfrm>
            <a:off x="4352760" y="4521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5"/>
          <p:cNvSpPr/>
          <p:nvPr/>
        </p:nvSpPr>
        <p:spPr>
          <a:xfrm>
            <a:off x="6253200" y="18432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6"/>
          <p:cNvSpPr/>
          <p:nvPr/>
        </p:nvSpPr>
        <p:spPr>
          <a:xfrm>
            <a:off x="2324160" y="18432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8200"/>
          <p:cNvSpPr/>
          <p:nvPr/>
        </p:nvSpPr>
        <p:spPr>
          <a:xfrm>
            <a:off x="826920" y="1052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A6A4-2C67-41FD-8444-69CCDA3C93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4"/>
          <p:cNvSpPr txBox="1"/>
          <p:nvPr/>
        </p:nvSpPr>
        <p:spPr>
          <a:xfrm>
            <a:off x="1042920" y="242100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3" name="WordArt 5"/>
          <p:cNvSpPr txBox="1"/>
          <p:nvPr/>
        </p:nvSpPr>
        <p:spPr>
          <a:xfrm>
            <a:off x="1521000" y="313524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00Z</dcterms:modified>
  <cp:revision>3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