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84" descr=""/>
          <p:cNvPicPr/>
          <p:nvPr/>
        </p:nvPicPr>
        <p:blipFill>
          <a:blip r:embed="rId2"/>
          <a:srcRect l="414" t="4698" r="398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83" descr=""/>
          <p:cNvPicPr/>
          <p:nvPr/>
        </p:nvPicPr>
        <p:blipFill>
          <a:blip r:embed="rId3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组合 1027"/>
          <p:cNvGrpSpPr/>
          <p:nvPr/>
        </p:nvGrpSpPr>
        <p:grpSpPr>
          <a:xfrm>
            <a:off x="1444680" y="147600"/>
            <a:ext cx="576360" cy="576360"/>
            <a:chOff x="1444680" y="147600"/>
            <a:chExt cx="576360" cy="576360"/>
          </a:xfrm>
        </p:grpSpPr>
        <p:sp>
          <p:nvSpPr>
            <p:cNvPr id="3" name="AutoShape 1930"/>
            <p:cNvSpPr/>
            <p:nvPr/>
          </p:nvSpPr>
          <p:spPr>
            <a:xfrm>
              <a:off x="1512360" y="215280"/>
              <a:ext cx="439560" cy="43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1931"/>
            <p:cNvSpPr/>
            <p:nvPr/>
          </p:nvSpPr>
          <p:spPr>
            <a:xfrm>
              <a:off x="1444680" y="1476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组合 1030"/>
          <p:cNvGrpSpPr/>
          <p:nvPr/>
        </p:nvGrpSpPr>
        <p:grpSpPr>
          <a:xfrm>
            <a:off x="1160640" y="172800"/>
            <a:ext cx="559440" cy="676800"/>
            <a:chOff x="1160640" y="172800"/>
            <a:chExt cx="559440" cy="676800"/>
          </a:xfrm>
        </p:grpSpPr>
        <p:grpSp>
          <p:nvGrpSpPr>
            <p:cNvPr id="6" name="组合 1031"/>
            <p:cNvGrpSpPr/>
            <p:nvPr/>
          </p:nvGrpSpPr>
          <p:grpSpPr>
            <a:xfrm>
              <a:off x="1280520" y="465480"/>
              <a:ext cx="313560" cy="356400"/>
              <a:chOff x="1280520" y="465480"/>
              <a:chExt cx="313560" cy="356400"/>
            </a:xfrm>
          </p:grpSpPr>
          <p:sp>
            <p:nvSpPr>
              <p:cNvPr id="7" name="Freeform 1487"/>
              <p:cNvSpPr/>
              <p:nvPr/>
            </p:nvSpPr>
            <p:spPr>
              <a:xfrm rot="3869400">
                <a:off x="1292400" y="541440"/>
                <a:ext cx="28944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488"/>
              <p:cNvSpPr/>
              <p:nvPr/>
            </p:nvSpPr>
            <p:spPr>
              <a:xfrm rot="5914200">
                <a:off x="1285920" y="63396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489"/>
              <p:cNvSpPr/>
              <p:nvPr/>
            </p:nvSpPr>
            <p:spPr>
              <a:xfrm rot="6212400">
                <a:off x="1318320" y="579240"/>
                <a:ext cx="24804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490"/>
              <p:cNvSpPr/>
              <p:nvPr/>
            </p:nvSpPr>
            <p:spPr>
              <a:xfrm rot="6212400">
                <a:off x="1295280" y="600840"/>
                <a:ext cx="24804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组合 1036"/>
            <p:cNvGrpSpPr/>
            <p:nvPr/>
          </p:nvGrpSpPr>
          <p:grpSpPr>
            <a:xfrm>
              <a:off x="1224360" y="414360"/>
              <a:ext cx="270000" cy="290160"/>
              <a:chOff x="1224360" y="414360"/>
              <a:chExt cx="270000" cy="290160"/>
            </a:xfrm>
          </p:grpSpPr>
          <p:sp>
            <p:nvSpPr>
              <p:cNvPr id="12" name="Freeform 1492"/>
              <p:cNvSpPr/>
              <p:nvPr/>
            </p:nvSpPr>
            <p:spPr>
              <a:xfrm rot="5910600">
                <a:off x="1229760" y="442080"/>
                <a:ext cx="25848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493"/>
              <p:cNvSpPr/>
              <p:nvPr/>
            </p:nvSpPr>
            <p:spPr>
              <a:xfrm rot="7955400">
                <a:off x="1223640" y="556560"/>
                <a:ext cx="29520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494"/>
              <p:cNvSpPr/>
              <p:nvPr/>
            </p:nvSpPr>
            <p:spPr>
              <a:xfrm rot="8253600">
                <a:off x="1280520" y="506520"/>
                <a:ext cx="22032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495"/>
              <p:cNvSpPr/>
              <p:nvPr/>
            </p:nvSpPr>
            <p:spPr>
              <a:xfrm rot="8253600">
                <a:off x="1250280" y="511200"/>
                <a:ext cx="220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组合 1041"/>
            <p:cNvGrpSpPr/>
            <p:nvPr/>
          </p:nvGrpSpPr>
          <p:grpSpPr>
            <a:xfrm>
              <a:off x="1160640" y="327240"/>
              <a:ext cx="343440" cy="348120"/>
              <a:chOff x="1160640" y="327240"/>
              <a:chExt cx="343440" cy="348120"/>
            </a:xfrm>
          </p:grpSpPr>
          <p:sp>
            <p:nvSpPr>
              <p:cNvPr id="17" name="Freeform 1497"/>
              <p:cNvSpPr/>
              <p:nvPr/>
            </p:nvSpPr>
            <p:spPr>
              <a:xfrm rot="7644000">
                <a:off x="1202760" y="384120"/>
                <a:ext cx="25920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1498"/>
              <p:cNvSpPr/>
              <p:nvPr/>
            </p:nvSpPr>
            <p:spPr>
              <a:xfrm rot="9688800">
                <a:off x="1190880" y="50184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499"/>
              <p:cNvSpPr/>
              <p:nvPr/>
            </p:nvSpPr>
            <p:spPr>
              <a:xfrm rot="9987000">
                <a:off x="1270800" y="472320"/>
                <a:ext cx="22140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500"/>
              <p:cNvSpPr/>
              <p:nvPr/>
            </p:nvSpPr>
            <p:spPr>
              <a:xfrm rot="9987000">
                <a:off x="1244160" y="457200"/>
                <a:ext cx="221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组合 1046"/>
            <p:cNvGrpSpPr/>
            <p:nvPr/>
          </p:nvGrpSpPr>
          <p:grpSpPr>
            <a:xfrm>
              <a:off x="1172880" y="247680"/>
              <a:ext cx="320040" cy="304560"/>
              <a:chOff x="1172880" y="247680"/>
              <a:chExt cx="320040" cy="304560"/>
            </a:xfrm>
          </p:grpSpPr>
          <p:sp>
            <p:nvSpPr>
              <p:cNvPr id="22" name="Freeform 1502"/>
              <p:cNvSpPr/>
              <p:nvPr/>
            </p:nvSpPr>
            <p:spPr>
              <a:xfrm rot="9694200">
                <a:off x="1203120" y="282600"/>
                <a:ext cx="25920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503"/>
              <p:cNvSpPr/>
              <p:nvPr/>
            </p:nvSpPr>
            <p:spPr>
              <a:xfrm rot="11739000">
                <a:off x="1182240" y="401760"/>
                <a:ext cx="29628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504"/>
              <p:cNvSpPr/>
              <p:nvPr/>
            </p:nvSpPr>
            <p:spPr>
              <a:xfrm rot="12037200">
                <a:off x="1274760" y="398520"/>
                <a:ext cx="22140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505"/>
              <p:cNvSpPr/>
              <p:nvPr/>
            </p:nvSpPr>
            <p:spPr>
              <a:xfrm rot="12037200">
                <a:off x="1260360" y="375840"/>
                <a:ext cx="22140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组合 1051"/>
            <p:cNvGrpSpPr/>
            <p:nvPr/>
          </p:nvGrpSpPr>
          <p:grpSpPr>
            <a:xfrm>
              <a:off x="1216080" y="212760"/>
              <a:ext cx="336240" cy="290520"/>
              <a:chOff x="1216080" y="212760"/>
              <a:chExt cx="336240" cy="290520"/>
            </a:xfrm>
          </p:grpSpPr>
          <p:sp>
            <p:nvSpPr>
              <p:cNvPr id="27" name="Freeform 1507"/>
              <p:cNvSpPr/>
              <p:nvPr/>
            </p:nvSpPr>
            <p:spPr>
              <a:xfrm rot="11763000">
                <a:off x="1239480" y="248760"/>
                <a:ext cx="2894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1508"/>
              <p:cNvSpPr/>
              <p:nvPr/>
            </p:nvSpPr>
            <p:spPr>
              <a:xfrm rot="13807800">
                <a:off x="1208880" y="34992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1509"/>
              <p:cNvSpPr/>
              <p:nvPr/>
            </p:nvSpPr>
            <p:spPr>
              <a:xfrm rot="14106000">
                <a:off x="1299240" y="388080"/>
                <a:ext cx="248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1510"/>
              <p:cNvSpPr/>
              <p:nvPr/>
            </p:nvSpPr>
            <p:spPr>
              <a:xfrm rot="14106000">
                <a:off x="1303560" y="359640"/>
                <a:ext cx="24804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组合 1056"/>
            <p:cNvGrpSpPr/>
            <p:nvPr/>
          </p:nvGrpSpPr>
          <p:grpSpPr>
            <a:xfrm>
              <a:off x="1279080" y="172800"/>
              <a:ext cx="344880" cy="360720"/>
              <a:chOff x="1279080" y="172800"/>
              <a:chExt cx="344880" cy="360720"/>
            </a:xfrm>
          </p:grpSpPr>
          <p:sp>
            <p:nvSpPr>
              <p:cNvPr id="32" name="Freeform 1512"/>
              <p:cNvSpPr/>
              <p:nvPr/>
            </p:nvSpPr>
            <p:spPr>
              <a:xfrm rot="13857000">
                <a:off x="1306440" y="246240"/>
                <a:ext cx="28944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1513"/>
              <p:cNvSpPr/>
              <p:nvPr/>
            </p:nvSpPr>
            <p:spPr>
              <a:xfrm rot="15901800">
                <a:off x="1271160" y="34128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1514"/>
              <p:cNvSpPr/>
              <p:nvPr/>
            </p:nvSpPr>
            <p:spPr>
              <a:xfrm rot="16200000">
                <a:off x="1334160" y="400680"/>
                <a:ext cx="24804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1515"/>
              <p:cNvSpPr/>
              <p:nvPr/>
            </p:nvSpPr>
            <p:spPr>
              <a:xfrm rot="16200000">
                <a:off x="1354320" y="379800"/>
                <a:ext cx="248040" cy="12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组合 1061"/>
            <p:cNvGrpSpPr/>
            <p:nvPr/>
          </p:nvGrpSpPr>
          <p:grpSpPr>
            <a:xfrm>
              <a:off x="1348200" y="462240"/>
              <a:ext cx="342360" cy="303120"/>
              <a:chOff x="1348200" y="462240"/>
              <a:chExt cx="342360" cy="303120"/>
            </a:xfrm>
          </p:grpSpPr>
          <p:sp>
            <p:nvSpPr>
              <p:cNvPr id="37" name="Freeform 1517"/>
              <p:cNvSpPr/>
              <p:nvPr/>
            </p:nvSpPr>
            <p:spPr>
              <a:xfrm rot="1156800">
                <a:off x="1374480" y="514080"/>
                <a:ext cx="2894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1518"/>
              <p:cNvSpPr/>
              <p:nvPr/>
            </p:nvSpPr>
            <p:spPr>
              <a:xfrm rot="3201600">
                <a:off x="1362600" y="59436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1519"/>
              <p:cNvSpPr/>
              <p:nvPr/>
            </p:nvSpPr>
            <p:spPr>
              <a:xfrm rot="3500400">
                <a:off x="1356120" y="563760"/>
                <a:ext cx="248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1520"/>
              <p:cNvSpPr/>
              <p:nvPr/>
            </p:nvSpPr>
            <p:spPr>
              <a:xfrm rot="3500400">
                <a:off x="1353600" y="596520"/>
                <a:ext cx="248040" cy="12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组合 1066"/>
            <p:cNvGrpSpPr/>
            <p:nvPr/>
          </p:nvGrpSpPr>
          <p:grpSpPr>
            <a:xfrm>
              <a:off x="1371240" y="325440"/>
              <a:ext cx="348840" cy="346680"/>
              <a:chOff x="1371240" y="325440"/>
              <a:chExt cx="348840" cy="346680"/>
            </a:xfrm>
          </p:grpSpPr>
          <p:sp>
            <p:nvSpPr>
              <p:cNvPr id="42" name="Freeform 1522"/>
              <p:cNvSpPr/>
              <p:nvPr/>
            </p:nvSpPr>
            <p:spPr>
              <a:xfrm rot="19110000">
                <a:off x="1416240" y="381600"/>
                <a:ext cx="25884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1523"/>
              <p:cNvSpPr/>
              <p:nvPr/>
            </p:nvSpPr>
            <p:spPr>
              <a:xfrm rot="21154800">
                <a:off x="1395360" y="46944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524"/>
              <p:cNvSpPr/>
              <p:nvPr/>
            </p:nvSpPr>
            <p:spPr>
              <a:xfrm rot="21453600">
                <a:off x="1384200" y="500760"/>
                <a:ext cx="22068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1525"/>
              <p:cNvSpPr/>
              <p:nvPr/>
            </p:nvSpPr>
            <p:spPr>
              <a:xfrm rot="21453600">
                <a:off x="1406880" y="523440"/>
                <a:ext cx="221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组合 1071"/>
            <p:cNvGrpSpPr/>
            <p:nvPr/>
          </p:nvGrpSpPr>
          <p:grpSpPr>
            <a:xfrm>
              <a:off x="1394640" y="251640"/>
              <a:ext cx="304200" cy="319680"/>
              <a:chOff x="1394640" y="251640"/>
              <a:chExt cx="304200" cy="319680"/>
            </a:xfrm>
          </p:grpSpPr>
          <p:sp>
            <p:nvSpPr>
              <p:cNvPr id="47" name="Freeform 1527"/>
              <p:cNvSpPr/>
              <p:nvPr/>
            </p:nvSpPr>
            <p:spPr>
              <a:xfrm rot="17306400">
                <a:off x="1417320" y="294120"/>
                <a:ext cx="25884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528"/>
              <p:cNvSpPr/>
              <p:nvPr/>
            </p:nvSpPr>
            <p:spPr>
              <a:xfrm rot="19351200">
                <a:off x="1386720" y="38664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529"/>
              <p:cNvSpPr/>
              <p:nvPr/>
            </p:nvSpPr>
            <p:spPr>
              <a:xfrm rot="19650000">
                <a:off x="1395000" y="437400"/>
                <a:ext cx="22068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530"/>
              <p:cNvSpPr/>
              <p:nvPr/>
            </p:nvSpPr>
            <p:spPr>
              <a:xfrm rot="19650000">
                <a:off x="1427040" y="447480"/>
                <a:ext cx="220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1076"/>
            <p:cNvGrpSpPr/>
            <p:nvPr/>
          </p:nvGrpSpPr>
          <p:grpSpPr>
            <a:xfrm>
              <a:off x="1325880" y="211680"/>
              <a:ext cx="283680" cy="342360"/>
              <a:chOff x="1325880" y="211680"/>
              <a:chExt cx="283680" cy="342360"/>
            </a:xfrm>
          </p:grpSpPr>
          <p:sp>
            <p:nvSpPr>
              <p:cNvPr id="52" name="Freeform 1532"/>
              <p:cNvSpPr/>
              <p:nvPr/>
            </p:nvSpPr>
            <p:spPr>
              <a:xfrm rot="15187200">
                <a:off x="1323720" y="274680"/>
                <a:ext cx="2876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533"/>
              <p:cNvSpPr/>
              <p:nvPr/>
            </p:nvSpPr>
            <p:spPr>
              <a:xfrm rot="17232000">
                <a:off x="1288800" y="363960"/>
                <a:ext cx="32904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34"/>
              <p:cNvSpPr/>
              <p:nvPr/>
            </p:nvSpPr>
            <p:spPr>
              <a:xfrm rot="17530800">
                <a:off x="1327680" y="427680"/>
                <a:ext cx="24660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535"/>
              <p:cNvSpPr/>
              <p:nvPr/>
            </p:nvSpPr>
            <p:spPr>
              <a:xfrm rot="17530800">
                <a:off x="1355400" y="416160"/>
                <a:ext cx="24660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1081"/>
            <p:cNvGrpSpPr/>
            <p:nvPr/>
          </p:nvGrpSpPr>
          <p:grpSpPr>
            <a:xfrm>
              <a:off x="1402200" y="448920"/>
              <a:ext cx="285120" cy="248400"/>
              <a:chOff x="1402200" y="448920"/>
              <a:chExt cx="285120" cy="248400"/>
            </a:xfrm>
          </p:grpSpPr>
          <p:sp>
            <p:nvSpPr>
              <p:cNvPr id="57" name="Freeform 1537"/>
              <p:cNvSpPr/>
              <p:nvPr/>
            </p:nvSpPr>
            <p:spPr>
              <a:xfrm rot="21405000">
                <a:off x="1414800" y="456120"/>
                <a:ext cx="25848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38"/>
              <p:cNvSpPr/>
              <p:nvPr/>
            </p:nvSpPr>
            <p:spPr>
              <a:xfrm rot="1849200">
                <a:off x="1406160" y="544320"/>
                <a:ext cx="29520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539"/>
              <p:cNvSpPr/>
              <p:nvPr/>
            </p:nvSpPr>
            <p:spPr>
              <a:xfrm rot="2147400">
                <a:off x="1387080" y="539640"/>
                <a:ext cx="220320" cy="20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40"/>
              <p:cNvSpPr/>
              <p:nvPr/>
            </p:nvSpPr>
            <p:spPr>
              <a:xfrm rot="2147400">
                <a:off x="1392840" y="572400"/>
                <a:ext cx="220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组合 1086"/>
            <p:cNvGrpSpPr/>
            <p:nvPr/>
          </p:nvGrpSpPr>
          <p:grpSpPr>
            <a:xfrm>
              <a:off x="1236960" y="412200"/>
              <a:ext cx="298800" cy="351720"/>
              <a:chOff x="1236960" y="412200"/>
              <a:chExt cx="298800" cy="351720"/>
            </a:xfrm>
          </p:grpSpPr>
          <p:sp>
            <p:nvSpPr>
              <p:cNvPr id="62" name="Freeform 1542"/>
              <p:cNvSpPr/>
              <p:nvPr/>
            </p:nvSpPr>
            <p:spPr>
              <a:xfrm rot="4137000">
                <a:off x="1241640" y="48708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543"/>
              <p:cNvSpPr/>
              <p:nvPr/>
            </p:nvSpPr>
            <p:spPr>
              <a:xfrm rot="6181800">
                <a:off x="1235160" y="580320"/>
                <a:ext cx="33012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4"/>
              <p:cNvSpPr/>
              <p:nvPr/>
            </p:nvSpPr>
            <p:spPr>
              <a:xfrm rot="6480000">
                <a:off x="1271160" y="524160"/>
                <a:ext cx="247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5"/>
              <p:cNvSpPr/>
              <p:nvPr/>
            </p:nvSpPr>
            <p:spPr>
              <a:xfrm rot="6480000">
                <a:off x="1246320" y="543240"/>
                <a:ext cx="247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1091"/>
            <p:cNvGrpSpPr/>
            <p:nvPr/>
          </p:nvGrpSpPr>
          <p:grpSpPr>
            <a:xfrm>
              <a:off x="1314360" y="491760"/>
              <a:ext cx="349920" cy="357840"/>
              <a:chOff x="1314360" y="491760"/>
              <a:chExt cx="349920" cy="357840"/>
            </a:xfrm>
          </p:grpSpPr>
          <p:sp>
            <p:nvSpPr>
              <p:cNvPr id="67" name="Freeform 1547"/>
              <p:cNvSpPr/>
              <p:nvPr/>
            </p:nvSpPr>
            <p:spPr>
              <a:xfrm rot="2797200">
                <a:off x="1344960" y="568440"/>
                <a:ext cx="28836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48"/>
              <p:cNvSpPr/>
              <p:nvPr/>
            </p:nvSpPr>
            <p:spPr>
              <a:xfrm rot="4842000">
                <a:off x="1338840" y="658080"/>
                <a:ext cx="32976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49"/>
              <p:cNvSpPr/>
              <p:nvPr/>
            </p:nvSpPr>
            <p:spPr>
              <a:xfrm rot="5140200">
                <a:off x="1352160" y="606960"/>
                <a:ext cx="24732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0"/>
              <p:cNvSpPr/>
              <p:nvPr/>
            </p:nvSpPr>
            <p:spPr>
              <a:xfrm rot="5140200">
                <a:off x="1335240" y="635040"/>
                <a:ext cx="247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096"/>
            <p:cNvGrpSpPr/>
            <p:nvPr/>
          </p:nvGrpSpPr>
          <p:grpSpPr>
            <a:xfrm>
              <a:off x="1334520" y="396360"/>
              <a:ext cx="221400" cy="247680"/>
              <a:chOff x="1334520" y="396360"/>
              <a:chExt cx="221400" cy="247680"/>
            </a:xfrm>
          </p:grpSpPr>
          <p:sp>
            <p:nvSpPr>
              <p:cNvPr id="72" name="AutoShape 1552"/>
              <p:cNvSpPr/>
              <p:nvPr/>
            </p:nvSpPr>
            <p:spPr>
              <a:xfrm rot="16200000">
                <a:off x="1321200" y="409320"/>
                <a:ext cx="247680" cy="221400"/>
              </a:xfrm>
              <a:custGeom>
                <a:avLst/>
                <a:gdLst>
                  <a:gd name="textAreaLeft" fmla="*/ 57960 w 247680"/>
                  <a:gd name="textAreaRight" fmla="*/ 189720 w 247680"/>
                  <a:gd name="textAreaTop" fmla="*/ 51840 h 221400"/>
                  <a:gd name="textAreaBottom" fmla="*/ 169560 h 22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553"/>
              <p:cNvSpPr/>
              <p:nvPr/>
            </p:nvSpPr>
            <p:spPr>
              <a:xfrm rot="16200000">
                <a:off x="1357920" y="444600"/>
                <a:ext cx="164880" cy="1479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1099"/>
          <p:cNvGrpSpPr/>
          <p:nvPr/>
        </p:nvGrpSpPr>
        <p:grpSpPr>
          <a:xfrm>
            <a:off x="615960" y="65880"/>
            <a:ext cx="799920" cy="820440"/>
            <a:chOff x="615960" y="65880"/>
            <a:chExt cx="799920" cy="820440"/>
          </a:xfrm>
        </p:grpSpPr>
        <p:grpSp>
          <p:nvGrpSpPr>
            <p:cNvPr id="75" name="组合 1100"/>
            <p:cNvGrpSpPr/>
            <p:nvPr/>
          </p:nvGrpSpPr>
          <p:grpSpPr>
            <a:xfrm>
              <a:off x="807120" y="373680"/>
              <a:ext cx="299880" cy="388440"/>
              <a:chOff x="807120" y="373680"/>
              <a:chExt cx="299880" cy="388440"/>
            </a:xfrm>
          </p:grpSpPr>
          <p:sp>
            <p:nvSpPr>
              <p:cNvPr id="76" name="Freeform 1556"/>
              <p:cNvSpPr/>
              <p:nvPr/>
            </p:nvSpPr>
            <p:spPr>
              <a:xfrm rot="15870600">
                <a:off x="779760" y="432360"/>
                <a:ext cx="35388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57"/>
              <p:cNvSpPr/>
              <p:nvPr/>
            </p:nvSpPr>
            <p:spPr>
              <a:xfrm rot="17915400">
                <a:off x="737640" y="543240"/>
                <a:ext cx="404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558"/>
              <p:cNvSpPr/>
              <p:nvPr/>
            </p:nvSpPr>
            <p:spPr>
              <a:xfrm rot="18213600">
                <a:off x="773280" y="618840"/>
                <a:ext cx="3024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59"/>
              <p:cNvSpPr/>
              <p:nvPr/>
            </p:nvSpPr>
            <p:spPr>
              <a:xfrm rot="18213600">
                <a:off x="811440" y="611640"/>
                <a:ext cx="30240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组合 1105"/>
            <p:cNvGrpSpPr/>
            <p:nvPr/>
          </p:nvGrpSpPr>
          <p:grpSpPr>
            <a:xfrm>
              <a:off x="615960" y="221760"/>
              <a:ext cx="441000" cy="399960"/>
              <a:chOff x="615960" y="221760"/>
              <a:chExt cx="441000" cy="399960"/>
            </a:xfrm>
          </p:grpSpPr>
          <p:sp>
            <p:nvSpPr>
              <p:cNvPr id="81" name="Freeform 1561"/>
              <p:cNvSpPr/>
              <p:nvPr/>
            </p:nvSpPr>
            <p:spPr>
              <a:xfrm rot="19950000">
                <a:off x="661320" y="288000"/>
                <a:ext cx="35352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2"/>
              <p:cNvSpPr/>
              <p:nvPr/>
            </p:nvSpPr>
            <p:spPr>
              <a:xfrm rot="394200">
                <a:off x="636840" y="388080"/>
                <a:ext cx="4039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3"/>
              <p:cNvSpPr/>
              <p:nvPr/>
            </p:nvSpPr>
            <p:spPr>
              <a:xfrm rot="692400">
                <a:off x="614880" y="405360"/>
                <a:ext cx="3024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4"/>
              <p:cNvSpPr/>
              <p:nvPr/>
            </p:nvSpPr>
            <p:spPr>
              <a:xfrm rot="692400">
                <a:off x="639360" y="439200"/>
                <a:ext cx="30204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1110"/>
            <p:cNvGrpSpPr/>
            <p:nvPr/>
          </p:nvGrpSpPr>
          <p:grpSpPr>
            <a:xfrm>
              <a:off x="832680" y="415440"/>
              <a:ext cx="426600" cy="435240"/>
              <a:chOff x="832680" y="415440"/>
              <a:chExt cx="426600" cy="435240"/>
            </a:xfrm>
          </p:grpSpPr>
          <p:sp>
            <p:nvSpPr>
              <p:cNvPr id="86" name="Freeform 1566"/>
              <p:cNvSpPr/>
              <p:nvPr/>
            </p:nvSpPr>
            <p:spPr>
              <a:xfrm rot="13997400">
                <a:off x="881280" y="48960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67"/>
              <p:cNvSpPr/>
              <p:nvPr/>
            </p:nvSpPr>
            <p:spPr>
              <a:xfrm rot="16042200">
                <a:off x="837000" y="617400"/>
                <a:ext cx="37728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68"/>
              <p:cNvSpPr/>
              <p:nvPr/>
            </p:nvSpPr>
            <p:spPr>
              <a:xfrm rot="16340400">
                <a:off x="911880" y="687240"/>
                <a:ext cx="28152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569"/>
              <p:cNvSpPr/>
              <p:nvPr/>
            </p:nvSpPr>
            <p:spPr>
              <a:xfrm rot="16340400">
                <a:off x="939600" y="665280"/>
                <a:ext cx="28296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1115"/>
            <p:cNvGrpSpPr/>
            <p:nvPr/>
          </p:nvGrpSpPr>
          <p:grpSpPr>
            <a:xfrm>
              <a:off x="851400" y="68760"/>
              <a:ext cx="415080" cy="429480"/>
              <a:chOff x="851400" y="68760"/>
              <a:chExt cx="415080" cy="429480"/>
            </a:xfrm>
          </p:grpSpPr>
          <p:sp>
            <p:nvSpPr>
              <p:cNvPr id="91" name="Freeform 1571"/>
              <p:cNvSpPr/>
              <p:nvPr/>
            </p:nvSpPr>
            <p:spPr>
              <a:xfrm rot="3545400">
                <a:off x="894240" y="14004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572"/>
              <p:cNvSpPr/>
              <p:nvPr/>
            </p:nvSpPr>
            <p:spPr>
              <a:xfrm rot="5590200">
                <a:off x="892800" y="268200"/>
                <a:ext cx="376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573"/>
              <p:cNvSpPr/>
              <p:nvPr/>
            </p:nvSpPr>
            <p:spPr>
              <a:xfrm rot="5888400">
                <a:off x="919440" y="20448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574"/>
              <p:cNvSpPr/>
              <p:nvPr/>
            </p:nvSpPr>
            <p:spPr>
              <a:xfrm rot="5888400">
                <a:off x="885960" y="23184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120"/>
            <p:cNvGrpSpPr/>
            <p:nvPr/>
          </p:nvGrpSpPr>
          <p:grpSpPr>
            <a:xfrm>
              <a:off x="1001880" y="341280"/>
              <a:ext cx="414000" cy="343440"/>
              <a:chOff x="1001880" y="341280"/>
              <a:chExt cx="414000" cy="343440"/>
            </a:xfrm>
          </p:grpSpPr>
          <p:sp>
            <p:nvSpPr>
              <p:cNvPr id="96" name="Freeform 1576"/>
              <p:cNvSpPr/>
              <p:nvPr/>
            </p:nvSpPr>
            <p:spPr>
              <a:xfrm rot="9972600">
                <a:off x="1028520" y="379440"/>
                <a:ext cx="3524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577"/>
              <p:cNvSpPr/>
              <p:nvPr/>
            </p:nvSpPr>
            <p:spPr>
              <a:xfrm rot="12017400">
                <a:off x="999360" y="515160"/>
                <a:ext cx="4024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578"/>
              <p:cNvSpPr/>
              <p:nvPr/>
            </p:nvSpPr>
            <p:spPr>
              <a:xfrm rot="12315600">
                <a:off x="1124280" y="524520"/>
                <a:ext cx="3013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579"/>
              <p:cNvSpPr/>
              <p:nvPr/>
            </p:nvSpPr>
            <p:spPr>
              <a:xfrm rot="12315600">
                <a:off x="1107000" y="491400"/>
                <a:ext cx="3013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1125"/>
            <p:cNvGrpSpPr/>
            <p:nvPr/>
          </p:nvGrpSpPr>
          <p:grpSpPr>
            <a:xfrm>
              <a:off x="706320" y="65880"/>
              <a:ext cx="423360" cy="403560"/>
              <a:chOff x="706320" y="65880"/>
              <a:chExt cx="423360" cy="403560"/>
            </a:xfrm>
          </p:grpSpPr>
          <p:sp>
            <p:nvSpPr>
              <p:cNvPr id="101" name="Freeform 1581"/>
              <p:cNvSpPr/>
              <p:nvPr/>
            </p:nvSpPr>
            <p:spPr>
              <a:xfrm rot="1583400">
                <a:off x="752760" y="124200"/>
                <a:ext cx="33048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582"/>
              <p:cNvSpPr/>
              <p:nvPr/>
            </p:nvSpPr>
            <p:spPr>
              <a:xfrm rot="3628800">
                <a:off x="744120" y="239400"/>
                <a:ext cx="3780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583"/>
              <p:cNvSpPr/>
              <p:nvPr/>
            </p:nvSpPr>
            <p:spPr>
              <a:xfrm rot="3926400">
                <a:off x="739800" y="199800"/>
                <a:ext cx="282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584"/>
              <p:cNvSpPr/>
              <p:nvPr/>
            </p:nvSpPr>
            <p:spPr>
              <a:xfrm rot="3926400">
                <a:off x="727920" y="240120"/>
                <a:ext cx="28476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1130"/>
            <p:cNvGrpSpPr/>
            <p:nvPr/>
          </p:nvGrpSpPr>
          <p:grpSpPr>
            <a:xfrm>
              <a:off x="955080" y="155160"/>
              <a:ext cx="404640" cy="437760"/>
              <a:chOff x="955080" y="155160"/>
              <a:chExt cx="404640" cy="437760"/>
            </a:xfrm>
          </p:grpSpPr>
          <p:sp>
            <p:nvSpPr>
              <p:cNvPr id="106" name="Freeform 1586"/>
              <p:cNvSpPr/>
              <p:nvPr/>
            </p:nvSpPr>
            <p:spPr>
              <a:xfrm rot="7062600">
                <a:off x="978120" y="240480"/>
                <a:ext cx="3542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587"/>
              <p:cNvSpPr/>
              <p:nvPr/>
            </p:nvSpPr>
            <p:spPr>
              <a:xfrm rot="9108000">
                <a:off x="961920" y="373320"/>
                <a:ext cx="404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588"/>
              <p:cNvSpPr/>
              <p:nvPr/>
            </p:nvSpPr>
            <p:spPr>
              <a:xfrm rot="9405600">
                <a:off x="1064520" y="325800"/>
                <a:ext cx="3031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89"/>
              <p:cNvSpPr/>
              <p:nvPr/>
            </p:nvSpPr>
            <p:spPr>
              <a:xfrm rot="9405600">
                <a:off x="1027440" y="317520"/>
                <a:ext cx="3031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135"/>
            <p:cNvGrpSpPr/>
            <p:nvPr/>
          </p:nvGrpSpPr>
          <p:grpSpPr>
            <a:xfrm>
              <a:off x="652320" y="343080"/>
              <a:ext cx="393840" cy="430560"/>
              <a:chOff x="652320" y="343080"/>
              <a:chExt cx="393840" cy="430560"/>
            </a:xfrm>
          </p:grpSpPr>
          <p:sp>
            <p:nvSpPr>
              <p:cNvPr id="111" name="Freeform 1591"/>
              <p:cNvSpPr/>
              <p:nvPr/>
            </p:nvSpPr>
            <p:spPr>
              <a:xfrm rot="17626800">
                <a:off x="676440" y="424800"/>
                <a:ext cx="3528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2"/>
              <p:cNvSpPr/>
              <p:nvPr/>
            </p:nvSpPr>
            <p:spPr>
              <a:xfrm rot="19671600">
                <a:off x="639360" y="529200"/>
                <a:ext cx="40356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3"/>
              <p:cNvSpPr/>
              <p:nvPr/>
            </p:nvSpPr>
            <p:spPr>
              <a:xfrm rot="19969800">
                <a:off x="640440" y="589320"/>
                <a:ext cx="3020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4"/>
              <p:cNvSpPr/>
              <p:nvPr/>
            </p:nvSpPr>
            <p:spPr>
              <a:xfrm rot="19969800">
                <a:off x="679680" y="600120"/>
                <a:ext cx="302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140"/>
            <p:cNvGrpSpPr/>
            <p:nvPr/>
          </p:nvGrpSpPr>
          <p:grpSpPr>
            <a:xfrm>
              <a:off x="704880" y="217440"/>
              <a:ext cx="364320" cy="311760"/>
              <a:chOff x="704880" y="217440"/>
              <a:chExt cx="364320" cy="311760"/>
            </a:xfrm>
          </p:grpSpPr>
          <p:sp>
            <p:nvSpPr>
              <p:cNvPr id="116" name="Freeform 1596"/>
              <p:cNvSpPr/>
              <p:nvPr/>
            </p:nvSpPr>
            <p:spPr>
              <a:xfrm rot="21327000">
                <a:off x="722880" y="23004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97"/>
              <p:cNvSpPr/>
              <p:nvPr/>
            </p:nvSpPr>
            <p:spPr>
              <a:xfrm rot="1771800">
                <a:off x="708480" y="34056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98"/>
              <p:cNvSpPr/>
              <p:nvPr/>
            </p:nvSpPr>
            <p:spPr>
              <a:xfrm rot="2070000">
                <a:off x="686880" y="33264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99"/>
              <p:cNvSpPr/>
              <p:nvPr/>
            </p:nvSpPr>
            <p:spPr>
              <a:xfrm rot="2070000">
                <a:off x="691920" y="374400"/>
                <a:ext cx="284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1145"/>
            <p:cNvGrpSpPr/>
            <p:nvPr/>
          </p:nvGrpSpPr>
          <p:grpSpPr>
            <a:xfrm>
              <a:off x="1014120" y="474840"/>
              <a:ext cx="376560" cy="342720"/>
              <a:chOff x="1014120" y="474840"/>
              <a:chExt cx="376560" cy="342720"/>
            </a:xfrm>
          </p:grpSpPr>
          <p:sp>
            <p:nvSpPr>
              <p:cNvPr id="121" name="Freeform 1601"/>
              <p:cNvSpPr/>
              <p:nvPr/>
            </p:nvSpPr>
            <p:spPr>
              <a:xfrm rot="11440800">
                <a:off x="1037520" y="50292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02"/>
              <p:cNvSpPr/>
              <p:nvPr/>
            </p:nvSpPr>
            <p:spPr>
              <a:xfrm rot="13485600">
                <a:off x="1000800" y="642960"/>
                <a:ext cx="376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03"/>
              <p:cNvSpPr/>
              <p:nvPr/>
            </p:nvSpPr>
            <p:spPr>
              <a:xfrm rot="13783800">
                <a:off x="1110960" y="678240"/>
                <a:ext cx="2815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04"/>
              <p:cNvSpPr/>
              <p:nvPr/>
            </p:nvSpPr>
            <p:spPr>
              <a:xfrm rot="13783800">
                <a:off x="1112400" y="642600"/>
                <a:ext cx="28332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1150"/>
            <p:cNvGrpSpPr/>
            <p:nvPr/>
          </p:nvGrpSpPr>
          <p:grpSpPr>
            <a:xfrm>
              <a:off x="953280" y="217800"/>
              <a:ext cx="444600" cy="421200"/>
              <a:chOff x="953280" y="217800"/>
              <a:chExt cx="444600" cy="421200"/>
            </a:xfrm>
          </p:grpSpPr>
          <p:sp>
            <p:nvSpPr>
              <p:cNvPr id="126" name="Freeform 1606"/>
              <p:cNvSpPr/>
              <p:nvPr/>
            </p:nvSpPr>
            <p:spPr>
              <a:xfrm rot="8720400">
                <a:off x="997560" y="294480"/>
                <a:ext cx="3542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07"/>
              <p:cNvSpPr/>
              <p:nvPr/>
            </p:nvSpPr>
            <p:spPr>
              <a:xfrm rot="10765200">
                <a:off x="973800" y="429840"/>
                <a:ext cx="40500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08"/>
              <p:cNvSpPr/>
              <p:nvPr/>
            </p:nvSpPr>
            <p:spPr>
              <a:xfrm rot="11063400">
                <a:off x="1094040" y="412560"/>
                <a:ext cx="3031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09"/>
              <p:cNvSpPr/>
              <p:nvPr/>
            </p:nvSpPr>
            <p:spPr>
              <a:xfrm rot="11063400">
                <a:off x="1065960" y="388440"/>
                <a:ext cx="3031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1155"/>
            <p:cNvGrpSpPr/>
            <p:nvPr/>
          </p:nvGrpSpPr>
          <p:grpSpPr>
            <a:xfrm>
              <a:off x="990000" y="106200"/>
              <a:ext cx="281880" cy="366120"/>
              <a:chOff x="990000" y="106200"/>
              <a:chExt cx="281880" cy="366120"/>
            </a:xfrm>
          </p:grpSpPr>
          <p:sp>
            <p:nvSpPr>
              <p:cNvPr id="131" name="Freeform 1611"/>
              <p:cNvSpPr/>
              <p:nvPr/>
            </p:nvSpPr>
            <p:spPr>
              <a:xfrm rot="5460600">
                <a:off x="949680" y="15696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12"/>
              <p:cNvSpPr/>
              <p:nvPr/>
            </p:nvSpPr>
            <p:spPr>
              <a:xfrm rot="7505400">
                <a:off x="939600" y="283320"/>
                <a:ext cx="4035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13"/>
              <p:cNvSpPr/>
              <p:nvPr/>
            </p:nvSpPr>
            <p:spPr>
              <a:xfrm rot="7803600">
                <a:off x="1015200" y="217440"/>
                <a:ext cx="3020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14"/>
              <p:cNvSpPr/>
              <p:nvPr/>
            </p:nvSpPr>
            <p:spPr>
              <a:xfrm rot="7803600">
                <a:off x="975240" y="229680"/>
                <a:ext cx="30204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160"/>
            <p:cNvGrpSpPr/>
            <p:nvPr/>
          </p:nvGrpSpPr>
          <p:grpSpPr>
            <a:xfrm>
              <a:off x="774360" y="122760"/>
              <a:ext cx="435240" cy="435960"/>
              <a:chOff x="774360" y="122760"/>
              <a:chExt cx="435240" cy="435960"/>
            </a:xfrm>
          </p:grpSpPr>
          <p:sp>
            <p:nvSpPr>
              <p:cNvPr id="136" name="Freeform 1616"/>
              <p:cNvSpPr/>
              <p:nvPr/>
            </p:nvSpPr>
            <p:spPr>
              <a:xfrm rot="2734200">
                <a:off x="826920" y="197280"/>
                <a:ext cx="32976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17"/>
              <p:cNvSpPr/>
              <p:nvPr/>
            </p:nvSpPr>
            <p:spPr>
              <a:xfrm rot="4779000">
                <a:off x="824400" y="31932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18"/>
              <p:cNvSpPr/>
              <p:nvPr/>
            </p:nvSpPr>
            <p:spPr>
              <a:xfrm rot="5077200">
                <a:off x="835920" y="26280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19"/>
              <p:cNvSpPr/>
              <p:nvPr/>
            </p:nvSpPr>
            <p:spPr>
              <a:xfrm rot="5077200">
                <a:off x="810360" y="297720"/>
                <a:ext cx="284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1165"/>
            <p:cNvGrpSpPr/>
            <p:nvPr/>
          </p:nvGrpSpPr>
          <p:grpSpPr>
            <a:xfrm>
              <a:off x="789480" y="426240"/>
              <a:ext cx="371880" cy="400320"/>
              <a:chOff x="789480" y="426240"/>
              <a:chExt cx="371880" cy="400320"/>
            </a:xfrm>
          </p:grpSpPr>
          <p:sp>
            <p:nvSpPr>
              <p:cNvPr id="141" name="Freeform 1621"/>
              <p:cNvSpPr/>
              <p:nvPr/>
            </p:nvSpPr>
            <p:spPr>
              <a:xfrm rot="15159000">
                <a:off x="810360" y="48276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22"/>
              <p:cNvSpPr/>
              <p:nvPr/>
            </p:nvSpPr>
            <p:spPr>
              <a:xfrm rot="17203800">
                <a:off x="766800" y="604800"/>
                <a:ext cx="376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23"/>
              <p:cNvSpPr/>
              <p:nvPr/>
            </p:nvSpPr>
            <p:spPr>
              <a:xfrm rot="17502000">
                <a:off x="819720" y="678240"/>
                <a:ext cx="28152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24"/>
              <p:cNvSpPr/>
              <p:nvPr/>
            </p:nvSpPr>
            <p:spPr>
              <a:xfrm rot="17502000">
                <a:off x="854640" y="66528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170"/>
            <p:cNvGrpSpPr/>
            <p:nvPr/>
          </p:nvGrpSpPr>
          <p:grpSpPr>
            <a:xfrm>
              <a:off x="908640" y="456120"/>
              <a:ext cx="436680" cy="430200"/>
              <a:chOff x="908640" y="456120"/>
              <a:chExt cx="436680" cy="430200"/>
            </a:xfrm>
          </p:grpSpPr>
          <p:sp>
            <p:nvSpPr>
              <p:cNvPr id="146" name="Freeform 1626"/>
              <p:cNvSpPr/>
              <p:nvPr/>
            </p:nvSpPr>
            <p:spPr>
              <a:xfrm rot="13134600">
                <a:off x="961920" y="527760"/>
                <a:ext cx="32976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27"/>
              <p:cNvSpPr/>
              <p:nvPr/>
            </p:nvSpPr>
            <p:spPr>
              <a:xfrm rot="15179400">
                <a:off x="919800" y="660960"/>
                <a:ext cx="3772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28"/>
              <p:cNvSpPr/>
              <p:nvPr/>
            </p:nvSpPr>
            <p:spPr>
              <a:xfrm rot="15477600">
                <a:off x="1010520" y="720720"/>
                <a:ext cx="2818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29"/>
              <p:cNvSpPr/>
              <p:nvPr/>
            </p:nvSpPr>
            <p:spPr>
              <a:xfrm rot="15477600">
                <a:off x="1028880" y="69048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1175"/>
            <p:cNvGrpSpPr/>
            <p:nvPr/>
          </p:nvGrpSpPr>
          <p:grpSpPr>
            <a:xfrm>
              <a:off x="843120" y="291600"/>
              <a:ext cx="378000" cy="365040"/>
              <a:chOff x="843120" y="291600"/>
              <a:chExt cx="378000" cy="365040"/>
            </a:xfrm>
          </p:grpSpPr>
          <p:sp>
            <p:nvSpPr>
              <p:cNvPr id="151" name="AutoShape 1631"/>
              <p:cNvSpPr/>
              <p:nvPr/>
            </p:nvSpPr>
            <p:spPr>
              <a:xfrm rot="15064800">
                <a:off x="890640" y="322560"/>
                <a:ext cx="282240" cy="30276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632"/>
              <p:cNvSpPr/>
              <p:nvPr/>
            </p:nvSpPr>
            <p:spPr>
              <a:xfrm rot="15064800">
                <a:off x="929880" y="370080"/>
                <a:ext cx="188640" cy="201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组合 1178"/>
          <p:cNvGrpSpPr/>
          <p:nvPr/>
        </p:nvGrpSpPr>
        <p:grpSpPr>
          <a:xfrm>
            <a:off x="-13680" y="-32040"/>
            <a:ext cx="915120" cy="988200"/>
            <a:chOff x="-13680" y="-32040"/>
            <a:chExt cx="915120" cy="988200"/>
          </a:xfrm>
        </p:grpSpPr>
        <p:grpSp>
          <p:nvGrpSpPr>
            <p:cNvPr id="154" name="组合 1179"/>
            <p:cNvGrpSpPr/>
            <p:nvPr/>
          </p:nvGrpSpPr>
          <p:grpSpPr>
            <a:xfrm>
              <a:off x="393840" y="169560"/>
              <a:ext cx="498240" cy="500040"/>
              <a:chOff x="393840" y="169560"/>
              <a:chExt cx="498240" cy="500040"/>
            </a:xfrm>
          </p:grpSpPr>
          <p:sp>
            <p:nvSpPr>
              <p:cNvPr id="155" name="Freeform 1934"/>
              <p:cNvSpPr/>
              <p:nvPr/>
            </p:nvSpPr>
            <p:spPr>
              <a:xfrm rot="18826800">
                <a:off x="450720" y="258480"/>
                <a:ext cx="38376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935"/>
              <p:cNvSpPr/>
              <p:nvPr/>
            </p:nvSpPr>
            <p:spPr>
              <a:xfrm rot="20871600">
                <a:off x="417960" y="378360"/>
                <a:ext cx="4395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936"/>
              <p:cNvSpPr/>
              <p:nvPr/>
            </p:nvSpPr>
            <p:spPr>
              <a:xfrm rot="21169800">
                <a:off x="403920" y="426240"/>
                <a:ext cx="3304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937"/>
              <p:cNvSpPr/>
              <p:nvPr/>
            </p:nvSpPr>
            <p:spPr>
              <a:xfrm rot="21169800">
                <a:off x="438480" y="456480"/>
                <a:ext cx="3304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1184"/>
            <p:cNvGrpSpPr/>
            <p:nvPr/>
          </p:nvGrpSpPr>
          <p:grpSpPr>
            <a:xfrm>
              <a:off x="402840" y="78840"/>
              <a:ext cx="404640" cy="450000"/>
              <a:chOff x="402840" y="78840"/>
              <a:chExt cx="404640" cy="450000"/>
            </a:xfrm>
          </p:grpSpPr>
          <p:sp>
            <p:nvSpPr>
              <p:cNvPr id="160" name="Freeform 1939"/>
              <p:cNvSpPr/>
              <p:nvPr/>
            </p:nvSpPr>
            <p:spPr>
              <a:xfrm rot="17034600">
                <a:off x="413280" y="142920"/>
                <a:ext cx="38376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940"/>
              <p:cNvSpPr/>
              <p:nvPr/>
            </p:nvSpPr>
            <p:spPr>
              <a:xfrm rot="19078800">
                <a:off x="369360" y="26856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941"/>
              <p:cNvSpPr/>
              <p:nvPr/>
            </p:nvSpPr>
            <p:spPr>
              <a:xfrm rot="19377600">
                <a:off x="385560" y="34416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942"/>
              <p:cNvSpPr/>
              <p:nvPr/>
            </p:nvSpPr>
            <p:spPr>
              <a:xfrm rot="19377600">
                <a:off x="428400" y="354240"/>
                <a:ext cx="3301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189"/>
            <p:cNvGrpSpPr/>
            <p:nvPr/>
          </p:nvGrpSpPr>
          <p:grpSpPr>
            <a:xfrm>
              <a:off x="165600" y="-32040"/>
              <a:ext cx="495720" cy="500400"/>
              <a:chOff x="165600" y="-32040"/>
              <a:chExt cx="495720" cy="500400"/>
            </a:xfrm>
          </p:grpSpPr>
          <p:sp>
            <p:nvSpPr>
              <p:cNvPr id="165" name="Freeform 1944"/>
              <p:cNvSpPr/>
              <p:nvPr/>
            </p:nvSpPr>
            <p:spPr>
              <a:xfrm rot="13688400">
                <a:off x="221760" y="56880"/>
                <a:ext cx="383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945"/>
              <p:cNvSpPr/>
              <p:nvPr/>
            </p:nvSpPr>
            <p:spPr>
              <a:xfrm rot="15733200">
                <a:off x="172080" y="201600"/>
                <a:ext cx="4384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46"/>
              <p:cNvSpPr/>
              <p:nvPr/>
            </p:nvSpPr>
            <p:spPr>
              <a:xfrm rot="16031400">
                <a:off x="263520" y="280080"/>
                <a:ext cx="32904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947"/>
              <p:cNvSpPr/>
              <p:nvPr/>
            </p:nvSpPr>
            <p:spPr>
              <a:xfrm rot="16031400">
                <a:off x="291240" y="250920"/>
                <a:ext cx="329040" cy="19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组合 1194"/>
            <p:cNvGrpSpPr/>
            <p:nvPr/>
          </p:nvGrpSpPr>
          <p:grpSpPr>
            <a:xfrm>
              <a:off x="-5760" y="104760"/>
              <a:ext cx="451800" cy="401040"/>
              <a:chOff x="-5760" y="104760"/>
              <a:chExt cx="451800" cy="401040"/>
            </a:xfrm>
          </p:grpSpPr>
          <p:sp>
            <p:nvSpPr>
              <p:cNvPr id="170" name="Freeform 1949"/>
              <p:cNvSpPr/>
              <p:nvPr/>
            </p:nvSpPr>
            <p:spPr>
              <a:xfrm rot="10003800">
                <a:off x="25920" y="144360"/>
                <a:ext cx="38304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950"/>
              <p:cNvSpPr/>
              <p:nvPr/>
            </p:nvSpPr>
            <p:spPr>
              <a:xfrm rot="12048600">
                <a:off x="-8280" y="307800"/>
                <a:ext cx="4388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951"/>
              <p:cNvSpPr/>
              <p:nvPr/>
            </p:nvSpPr>
            <p:spPr>
              <a:xfrm rot="12346800">
                <a:off x="126000" y="31644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952"/>
              <p:cNvSpPr/>
              <p:nvPr/>
            </p:nvSpPr>
            <p:spPr>
              <a:xfrm rot="12346800">
                <a:off x="113040" y="279360"/>
                <a:ext cx="3297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1199"/>
            <p:cNvGrpSpPr/>
            <p:nvPr/>
          </p:nvGrpSpPr>
          <p:grpSpPr>
            <a:xfrm>
              <a:off x="246240" y="412200"/>
              <a:ext cx="498960" cy="499680"/>
              <a:chOff x="246240" y="412200"/>
              <a:chExt cx="498960" cy="499680"/>
            </a:xfrm>
          </p:grpSpPr>
          <p:sp>
            <p:nvSpPr>
              <p:cNvPr id="175" name="Freeform 1954"/>
              <p:cNvSpPr/>
              <p:nvPr/>
            </p:nvSpPr>
            <p:spPr>
              <a:xfrm rot="2727600">
                <a:off x="303480" y="500760"/>
                <a:ext cx="38376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955"/>
              <p:cNvSpPr/>
              <p:nvPr/>
            </p:nvSpPr>
            <p:spPr>
              <a:xfrm rot="4772400">
                <a:off x="298080" y="63900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56"/>
              <p:cNvSpPr/>
              <p:nvPr/>
            </p:nvSpPr>
            <p:spPr>
              <a:xfrm rot="5070600">
                <a:off x="315000" y="572040"/>
                <a:ext cx="32940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957"/>
              <p:cNvSpPr/>
              <p:nvPr/>
            </p:nvSpPr>
            <p:spPr>
              <a:xfrm rot="5070600">
                <a:off x="286560" y="612360"/>
                <a:ext cx="3297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1204"/>
            <p:cNvGrpSpPr/>
            <p:nvPr/>
          </p:nvGrpSpPr>
          <p:grpSpPr>
            <a:xfrm>
              <a:off x="84600" y="439560"/>
              <a:ext cx="347040" cy="404640"/>
              <a:chOff x="84600" y="439560"/>
              <a:chExt cx="347040" cy="404640"/>
            </a:xfrm>
          </p:grpSpPr>
          <p:sp>
            <p:nvSpPr>
              <p:cNvPr id="180" name="Freeform 1959"/>
              <p:cNvSpPr/>
              <p:nvPr/>
            </p:nvSpPr>
            <p:spPr>
              <a:xfrm rot="5628000">
                <a:off x="65880" y="4806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960"/>
              <p:cNvSpPr/>
              <p:nvPr/>
            </p:nvSpPr>
            <p:spPr>
              <a:xfrm rot="7672800">
                <a:off x="57960" y="636120"/>
                <a:ext cx="439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961"/>
              <p:cNvSpPr/>
              <p:nvPr/>
            </p:nvSpPr>
            <p:spPr>
              <a:xfrm rot="7971000">
                <a:off x="138960" y="56412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962"/>
              <p:cNvSpPr/>
              <p:nvPr/>
            </p:nvSpPr>
            <p:spPr>
              <a:xfrm rot="7971000">
                <a:off x="95040" y="570600"/>
                <a:ext cx="3301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1209"/>
            <p:cNvGrpSpPr/>
            <p:nvPr/>
          </p:nvGrpSpPr>
          <p:grpSpPr>
            <a:xfrm>
              <a:off x="-10440" y="293760"/>
              <a:ext cx="455400" cy="484920"/>
              <a:chOff x="-10440" y="293760"/>
              <a:chExt cx="455400" cy="484920"/>
            </a:xfrm>
          </p:grpSpPr>
          <p:sp>
            <p:nvSpPr>
              <p:cNvPr id="185" name="Freeform 1964"/>
              <p:cNvSpPr/>
              <p:nvPr/>
            </p:nvSpPr>
            <p:spPr>
              <a:xfrm rot="6925800">
                <a:off x="25200" y="375120"/>
                <a:ext cx="38376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65"/>
              <p:cNvSpPr/>
              <p:nvPr/>
            </p:nvSpPr>
            <p:spPr>
              <a:xfrm rot="8970600">
                <a:off x="10080" y="53604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966"/>
              <p:cNvSpPr/>
              <p:nvPr/>
            </p:nvSpPr>
            <p:spPr>
              <a:xfrm rot="9268800">
                <a:off x="117000" y="479520"/>
                <a:ext cx="3304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967"/>
              <p:cNvSpPr/>
              <p:nvPr/>
            </p:nvSpPr>
            <p:spPr>
              <a:xfrm rot="9268800">
                <a:off x="75960" y="469080"/>
                <a:ext cx="3304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1214"/>
            <p:cNvGrpSpPr/>
            <p:nvPr/>
          </p:nvGrpSpPr>
          <p:grpSpPr>
            <a:xfrm>
              <a:off x="438480" y="328320"/>
              <a:ext cx="462960" cy="415440"/>
              <a:chOff x="438480" y="328320"/>
              <a:chExt cx="462960" cy="415440"/>
            </a:xfrm>
          </p:grpSpPr>
          <p:sp>
            <p:nvSpPr>
              <p:cNvPr id="190" name="Freeform 1969"/>
              <p:cNvSpPr/>
              <p:nvPr/>
            </p:nvSpPr>
            <p:spPr>
              <a:xfrm rot="20636400">
                <a:off x="479520" y="37476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970"/>
              <p:cNvSpPr/>
              <p:nvPr/>
            </p:nvSpPr>
            <p:spPr>
              <a:xfrm rot="1081200">
                <a:off x="456120" y="495000"/>
                <a:ext cx="440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71"/>
              <p:cNvSpPr/>
              <p:nvPr/>
            </p:nvSpPr>
            <p:spPr>
              <a:xfrm rot="1379400">
                <a:off x="430560" y="501840"/>
                <a:ext cx="3308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972"/>
              <p:cNvSpPr/>
              <p:nvPr/>
            </p:nvSpPr>
            <p:spPr>
              <a:xfrm rot="1379400">
                <a:off x="447480" y="546120"/>
                <a:ext cx="3308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组合 1219"/>
            <p:cNvGrpSpPr/>
            <p:nvPr/>
          </p:nvGrpSpPr>
          <p:grpSpPr>
            <a:xfrm>
              <a:off x="341640" y="425880"/>
              <a:ext cx="448200" cy="393120"/>
              <a:chOff x="341640" y="425880"/>
              <a:chExt cx="448200" cy="393120"/>
            </a:xfrm>
          </p:grpSpPr>
          <p:sp>
            <p:nvSpPr>
              <p:cNvPr id="195" name="Freeform 1974"/>
              <p:cNvSpPr/>
              <p:nvPr/>
            </p:nvSpPr>
            <p:spPr>
              <a:xfrm rot="805800">
                <a:off x="372240" y="466200"/>
                <a:ext cx="38628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975"/>
              <p:cNvSpPr/>
              <p:nvPr/>
            </p:nvSpPr>
            <p:spPr>
              <a:xfrm rot="2850600">
                <a:off x="358560" y="588600"/>
                <a:ext cx="440640" cy="36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976"/>
              <p:cNvSpPr/>
              <p:nvPr/>
            </p:nvSpPr>
            <p:spPr>
              <a:xfrm rot="3148800">
                <a:off x="346320" y="554760"/>
                <a:ext cx="3304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977"/>
              <p:cNvSpPr/>
              <p:nvPr/>
            </p:nvSpPr>
            <p:spPr>
              <a:xfrm rot="3148800">
                <a:off x="342000" y="601560"/>
                <a:ext cx="33048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224"/>
            <p:cNvGrpSpPr/>
            <p:nvPr/>
          </p:nvGrpSpPr>
          <p:grpSpPr>
            <a:xfrm>
              <a:off x="-13680" y="195480"/>
              <a:ext cx="528480" cy="493560"/>
              <a:chOff x="-13680" y="195480"/>
              <a:chExt cx="528480" cy="493560"/>
            </a:xfrm>
          </p:grpSpPr>
          <p:sp>
            <p:nvSpPr>
              <p:cNvPr id="200" name="Freeform 1979"/>
              <p:cNvSpPr/>
              <p:nvPr/>
            </p:nvSpPr>
            <p:spPr>
              <a:xfrm rot="7717200">
                <a:off x="124560" y="204480"/>
                <a:ext cx="25164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980"/>
              <p:cNvSpPr/>
              <p:nvPr/>
            </p:nvSpPr>
            <p:spPr>
              <a:xfrm rot="9762000">
                <a:off x="116640" y="448200"/>
                <a:ext cx="2876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981"/>
              <p:cNvSpPr/>
              <p:nvPr/>
            </p:nvSpPr>
            <p:spPr>
              <a:xfrm rot="10060200">
                <a:off x="190800" y="394560"/>
                <a:ext cx="215280" cy="39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982"/>
              <p:cNvSpPr/>
              <p:nvPr/>
            </p:nvSpPr>
            <p:spPr>
              <a:xfrm rot="10060200">
                <a:off x="157320" y="363240"/>
                <a:ext cx="21672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229"/>
            <p:cNvGrpSpPr/>
            <p:nvPr/>
          </p:nvGrpSpPr>
          <p:grpSpPr>
            <a:xfrm>
              <a:off x="248400" y="28800"/>
              <a:ext cx="486720" cy="443880"/>
              <a:chOff x="248400" y="28800"/>
              <a:chExt cx="486720" cy="443880"/>
            </a:xfrm>
          </p:grpSpPr>
          <p:sp>
            <p:nvSpPr>
              <p:cNvPr id="205" name="Freeform 1984"/>
              <p:cNvSpPr/>
              <p:nvPr/>
            </p:nvSpPr>
            <p:spPr>
              <a:xfrm rot="13857000">
                <a:off x="398520" y="12600"/>
                <a:ext cx="18576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985"/>
              <p:cNvSpPr/>
              <p:nvPr/>
            </p:nvSpPr>
            <p:spPr>
              <a:xfrm rot="15901800">
                <a:off x="353160" y="224280"/>
                <a:ext cx="21168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86"/>
              <p:cNvSpPr/>
              <p:nvPr/>
            </p:nvSpPr>
            <p:spPr>
              <a:xfrm rot="16200000">
                <a:off x="430200" y="265680"/>
                <a:ext cx="158400" cy="41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987"/>
              <p:cNvSpPr/>
              <p:nvPr/>
            </p:nvSpPr>
            <p:spPr>
              <a:xfrm rot="16200000">
                <a:off x="473040" y="257040"/>
                <a:ext cx="1584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1234"/>
            <p:cNvGrpSpPr/>
            <p:nvPr/>
          </p:nvGrpSpPr>
          <p:grpSpPr>
            <a:xfrm>
              <a:off x="147600" y="107640"/>
              <a:ext cx="372600" cy="395640"/>
              <a:chOff x="147600" y="107640"/>
              <a:chExt cx="372600" cy="395640"/>
            </a:xfrm>
          </p:grpSpPr>
          <p:sp>
            <p:nvSpPr>
              <p:cNvPr id="210" name="Freeform 1989"/>
              <p:cNvSpPr/>
              <p:nvPr/>
            </p:nvSpPr>
            <p:spPr>
              <a:xfrm rot="11895600">
                <a:off x="190800" y="144360"/>
                <a:ext cx="2858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990"/>
              <p:cNvSpPr/>
              <p:nvPr/>
            </p:nvSpPr>
            <p:spPr>
              <a:xfrm rot="13940400">
                <a:off x="154800" y="304920"/>
                <a:ext cx="325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991"/>
              <p:cNvSpPr/>
              <p:nvPr/>
            </p:nvSpPr>
            <p:spPr>
              <a:xfrm rot="14238600">
                <a:off x="253080" y="335160"/>
                <a:ext cx="2444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92"/>
              <p:cNvSpPr/>
              <p:nvPr/>
            </p:nvSpPr>
            <p:spPr>
              <a:xfrm rot="14238600">
                <a:off x="263880" y="303480"/>
                <a:ext cx="2444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1239"/>
            <p:cNvGrpSpPr/>
            <p:nvPr/>
          </p:nvGrpSpPr>
          <p:grpSpPr>
            <a:xfrm>
              <a:off x="151920" y="478440"/>
              <a:ext cx="443520" cy="477720"/>
              <a:chOff x="151920" y="478440"/>
              <a:chExt cx="443520" cy="477720"/>
            </a:xfrm>
          </p:grpSpPr>
          <p:sp>
            <p:nvSpPr>
              <p:cNvPr id="215" name="Freeform 1994"/>
              <p:cNvSpPr/>
              <p:nvPr/>
            </p:nvSpPr>
            <p:spPr>
              <a:xfrm rot="4063800">
                <a:off x="181440" y="55584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995"/>
              <p:cNvSpPr/>
              <p:nvPr/>
            </p:nvSpPr>
            <p:spPr>
              <a:xfrm rot="6108000">
                <a:off x="174960" y="701640"/>
                <a:ext cx="4402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996"/>
              <p:cNvSpPr/>
              <p:nvPr/>
            </p:nvSpPr>
            <p:spPr>
              <a:xfrm rot="6406200">
                <a:off x="219240" y="627120"/>
                <a:ext cx="33012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97"/>
              <p:cNvSpPr/>
              <p:nvPr/>
            </p:nvSpPr>
            <p:spPr>
              <a:xfrm rot="6406200">
                <a:off x="183240" y="652680"/>
                <a:ext cx="330120" cy="19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1244"/>
            <p:cNvGrpSpPr/>
            <p:nvPr/>
          </p:nvGrpSpPr>
          <p:grpSpPr>
            <a:xfrm>
              <a:off x="255960" y="297000"/>
              <a:ext cx="329400" cy="329040"/>
              <a:chOff x="255960" y="297000"/>
              <a:chExt cx="329400" cy="329040"/>
            </a:xfrm>
          </p:grpSpPr>
          <p:sp>
            <p:nvSpPr>
              <p:cNvPr id="220" name="AutoShape 1999"/>
              <p:cNvSpPr/>
              <p:nvPr/>
            </p:nvSpPr>
            <p:spPr>
              <a:xfrm>
                <a:off x="255960" y="29700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000"/>
              <p:cNvSpPr/>
              <p:nvPr/>
            </p:nvSpPr>
            <p:spPr>
              <a:xfrm>
                <a:off x="312840" y="345960"/>
                <a:ext cx="219960" cy="2178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Rectangle 2209"/>
          <p:cNvSpPr/>
          <p:nvPr/>
        </p:nvSpPr>
        <p:spPr>
          <a:xfrm>
            <a:off x="1068480" y="789120"/>
            <a:ext cx="7920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24"/>
          <p:cNvSpPr/>
          <p:nvPr/>
        </p:nvSpPr>
        <p:spPr>
          <a:xfrm>
            <a:off x="3059280" y="3716280"/>
            <a:ext cx="6145200" cy="1984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"/>
          <p:cNvSpPr/>
          <p:nvPr/>
        </p:nvSpPr>
        <p:spPr>
          <a:xfrm flipH="1" rot="21165600">
            <a:off x="106920" y="3645000"/>
            <a:ext cx="7056360" cy="2416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 flipH="1" rot="35400">
            <a:off x="11160" y="3987360"/>
            <a:ext cx="4751280" cy="144144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 flipH="1" rot="21165600">
            <a:off x="102600" y="3760920"/>
            <a:ext cx="6835680" cy="23479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8"/>
          <p:cNvSpPr/>
          <p:nvPr/>
        </p:nvSpPr>
        <p:spPr>
          <a:xfrm>
            <a:off x="2556000" y="4005360"/>
            <a:ext cx="6648480" cy="22320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9"/>
          <p:cNvSpPr/>
          <p:nvPr/>
        </p:nvSpPr>
        <p:spPr>
          <a:xfrm rot="20833200">
            <a:off x="4287960" y="4170240"/>
            <a:ext cx="5038560" cy="10083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>
                  <a:alpha val="68235"/>
                </a:srgbClr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0"/>
          <p:cNvSpPr/>
          <p:nvPr/>
        </p:nvSpPr>
        <p:spPr>
          <a:xfrm flipH="1" rot="133200">
            <a:off x="-33840" y="4722480"/>
            <a:ext cx="5757840" cy="15318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1"/>
          <p:cNvSpPr/>
          <p:nvPr/>
        </p:nvSpPr>
        <p:spPr>
          <a:xfrm>
            <a:off x="2516040" y="3949560"/>
            <a:ext cx="6648480" cy="22161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2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3" descr=""/>
          <p:cNvPicPr/>
          <p:nvPr/>
        </p:nvPicPr>
        <p:blipFill>
          <a:blip r:embed="rId3"/>
          <a:srcRect l="414" t="4698" r="398" b="4717"/>
          <a:stretch/>
        </p:blipFill>
        <p:spPr>
          <a:xfrm>
            <a:off x="-33480" y="-23760"/>
            <a:ext cx="9141120" cy="68547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059"/>
          <p:cNvGrpSpPr/>
          <p:nvPr/>
        </p:nvGrpSpPr>
        <p:grpSpPr>
          <a:xfrm>
            <a:off x="2898000" y="2248200"/>
            <a:ext cx="736200" cy="846360"/>
            <a:chOff x="2898000" y="2248200"/>
            <a:chExt cx="736200" cy="846360"/>
          </a:xfrm>
        </p:grpSpPr>
        <p:grpSp>
          <p:nvGrpSpPr>
            <p:cNvPr id="270" name="组合 2060"/>
            <p:cNvGrpSpPr/>
            <p:nvPr/>
          </p:nvGrpSpPr>
          <p:grpSpPr>
            <a:xfrm>
              <a:off x="3056040" y="2613600"/>
              <a:ext cx="409320" cy="441720"/>
              <a:chOff x="3056040" y="2613600"/>
              <a:chExt cx="409320" cy="441720"/>
            </a:xfrm>
          </p:grpSpPr>
          <p:sp>
            <p:nvSpPr>
              <p:cNvPr id="271" name="Freeform 36"/>
              <p:cNvSpPr/>
              <p:nvPr/>
            </p:nvSpPr>
            <p:spPr>
              <a:xfrm rot="3869400">
                <a:off x="3084120" y="269208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7"/>
              <p:cNvSpPr/>
              <p:nvPr/>
            </p:nvSpPr>
            <p:spPr>
              <a:xfrm rot="5914200">
                <a:off x="3076920" y="281988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 rot="6212400">
                <a:off x="3113280" y="27511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6212400">
                <a:off x="3081960" y="2778840"/>
                <a:ext cx="30204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065"/>
            <p:cNvGrpSpPr/>
            <p:nvPr/>
          </p:nvGrpSpPr>
          <p:grpSpPr>
            <a:xfrm>
              <a:off x="2982600" y="2538360"/>
              <a:ext cx="335520" cy="390240"/>
              <a:chOff x="2982600" y="2538360"/>
              <a:chExt cx="335520" cy="390240"/>
            </a:xfrm>
          </p:grpSpPr>
          <p:sp>
            <p:nvSpPr>
              <p:cNvPr id="276" name="Freeform 41"/>
              <p:cNvSpPr/>
              <p:nvPr/>
            </p:nvSpPr>
            <p:spPr>
              <a:xfrm rot="5910600">
                <a:off x="2974320" y="2590200"/>
                <a:ext cx="3517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2"/>
              <p:cNvSpPr/>
              <p:nvPr/>
            </p:nvSpPr>
            <p:spPr>
              <a:xfrm rot="7955400">
                <a:off x="2966400" y="273060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"/>
              <p:cNvSpPr/>
              <p:nvPr/>
            </p:nvSpPr>
            <p:spPr>
              <a:xfrm rot="8253600">
                <a:off x="3045600" y="266544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4"/>
              <p:cNvSpPr/>
              <p:nvPr/>
            </p:nvSpPr>
            <p:spPr>
              <a:xfrm rot="8253600">
                <a:off x="3006000" y="267012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070"/>
            <p:cNvGrpSpPr/>
            <p:nvPr/>
          </p:nvGrpSpPr>
          <p:grpSpPr>
            <a:xfrm>
              <a:off x="2898000" y="2436480"/>
              <a:ext cx="440280" cy="452880"/>
              <a:chOff x="2898000" y="2436480"/>
              <a:chExt cx="440280" cy="452880"/>
            </a:xfrm>
          </p:grpSpPr>
          <p:sp>
            <p:nvSpPr>
              <p:cNvPr id="281" name="Freeform 46"/>
              <p:cNvSpPr/>
              <p:nvPr/>
            </p:nvSpPr>
            <p:spPr>
              <a:xfrm rot="7644000">
                <a:off x="2941920" y="2520000"/>
                <a:ext cx="35208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7"/>
              <p:cNvSpPr/>
              <p:nvPr/>
            </p:nvSpPr>
            <p:spPr>
              <a:xfrm rot="9688800">
                <a:off x="2922480" y="2663640"/>
                <a:ext cx="403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8"/>
              <p:cNvSpPr/>
              <p:nvPr/>
            </p:nvSpPr>
            <p:spPr>
              <a:xfrm rot="9987000">
                <a:off x="3033720" y="2624040"/>
                <a:ext cx="3016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"/>
              <p:cNvSpPr/>
              <p:nvPr/>
            </p:nvSpPr>
            <p:spPr>
              <a:xfrm rot="9987000">
                <a:off x="2998440" y="2611800"/>
                <a:ext cx="30168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组合 2075"/>
            <p:cNvGrpSpPr/>
            <p:nvPr/>
          </p:nvGrpSpPr>
          <p:grpSpPr>
            <a:xfrm>
              <a:off x="2903400" y="2343960"/>
              <a:ext cx="427320" cy="383040"/>
              <a:chOff x="2903400" y="2343960"/>
              <a:chExt cx="427320" cy="383040"/>
            </a:xfrm>
          </p:grpSpPr>
          <p:sp>
            <p:nvSpPr>
              <p:cNvPr id="286" name="Freeform 51"/>
              <p:cNvSpPr/>
              <p:nvPr/>
            </p:nvSpPr>
            <p:spPr>
              <a:xfrm rot="9694200">
                <a:off x="2939400" y="2392200"/>
                <a:ext cx="35208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2"/>
              <p:cNvSpPr/>
              <p:nvPr/>
            </p:nvSpPr>
            <p:spPr>
              <a:xfrm rot="11739000">
                <a:off x="2908800" y="254124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3"/>
              <p:cNvSpPr/>
              <p:nvPr/>
            </p:nvSpPr>
            <p:spPr>
              <a:xfrm rot="12037200">
                <a:off x="3034080" y="253944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4"/>
              <p:cNvSpPr/>
              <p:nvPr/>
            </p:nvSpPr>
            <p:spPr>
              <a:xfrm rot="12037200">
                <a:off x="3015360" y="250848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2080"/>
            <p:cNvGrpSpPr/>
            <p:nvPr/>
          </p:nvGrpSpPr>
          <p:grpSpPr>
            <a:xfrm>
              <a:off x="2978280" y="2293560"/>
              <a:ext cx="418320" cy="371520"/>
              <a:chOff x="2978280" y="2293560"/>
              <a:chExt cx="418320" cy="371520"/>
            </a:xfrm>
          </p:grpSpPr>
          <p:sp>
            <p:nvSpPr>
              <p:cNvPr id="291" name="Freeform 56"/>
              <p:cNvSpPr/>
              <p:nvPr/>
            </p:nvSpPr>
            <p:spPr>
              <a:xfrm rot="11763000">
                <a:off x="3010680" y="233640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57"/>
              <p:cNvSpPr/>
              <p:nvPr/>
            </p:nvSpPr>
            <p:spPr>
              <a:xfrm rot="13807800">
                <a:off x="2970720" y="247428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8"/>
              <p:cNvSpPr/>
              <p:nvPr/>
            </p:nvSpPr>
            <p:spPr>
              <a:xfrm rot="14106000">
                <a:off x="3085920" y="25189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9"/>
              <p:cNvSpPr/>
              <p:nvPr/>
            </p:nvSpPr>
            <p:spPr>
              <a:xfrm rot="14106000">
                <a:off x="3090600" y="248292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2085"/>
            <p:cNvGrpSpPr/>
            <p:nvPr/>
          </p:nvGrpSpPr>
          <p:grpSpPr>
            <a:xfrm>
              <a:off x="3056760" y="2248200"/>
              <a:ext cx="445320" cy="455040"/>
              <a:chOff x="3056760" y="2248200"/>
              <a:chExt cx="445320" cy="455040"/>
            </a:xfrm>
          </p:grpSpPr>
          <p:sp>
            <p:nvSpPr>
              <p:cNvPr id="296" name="Freeform 61"/>
              <p:cNvSpPr/>
              <p:nvPr/>
            </p:nvSpPr>
            <p:spPr>
              <a:xfrm rot="13857000">
                <a:off x="3102480" y="2332080"/>
                <a:ext cx="3535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2"/>
              <p:cNvSpPr/>
              <p:nvPr/>
            </p:nvSpPr>
            <p:spPr>
              <a:xfrm rot="15901800">
                <a:off x="3057840" y="2462760"/>
                <a:ext cx="403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3"/>
              <p:cNvSpPr/>
              <p:nvPr/>
            </p:nvSpPr>
            <p:spPr>
              <a:xfrm rot="16200000">
                <a:off x="3138480" y="2534400"/>
                <a:ext cx="30240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4"/>
              <p:cNvSpPr/>
              <p:nvPr/>
            </p:nvSpPr>
            <p:spPr>
              <a:xfrm rot="16200000">
                <a:off x="3164400" y="2508120"/>
                <a:ext cx="30240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2090"/>
            <p:cNvGrpSpPr/>
            <p:nvPr/>
          </p:nvGrpSpPr>
          <p:grpSpPr>
            <a:xfrm>
              <a:off x="3156480" y="2609280"/>
              <a:ext cx="428040" cy="385920"/>
              <a:chOff x="3156480" y="2609280"/>
              <a:chExt cx="428040" cy="385920"/>
            </a:xfrm>
          </p:grpSpPr>
          <p:sp>
            <p:nvSpPr>
              <p:cNvPr id="301" name="Freeform 66"/>
              <p:cNvSpPr/>
              <p:nvPr/>
            </p:nvSpPr>
            <p:spPr>
              <a:xfrm rot="1156800">
                <a:off x="3193560" y="2659320"/>
                <a:ext cx="3535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7"/>
              <p:cNvSpPr/>
              <p:nvPr/>
            </p:nvSpPr>
            <p:spPr>
              <a:xfrm rot="3201600">
                <a:off x="3182760" y="277272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68"/>
              <p:cNvSpPr/>
              <p:nvPr/>
            </p:nvSpPr>
            <p:spPr>
              <a:xfrm rot="3500400">
                <a:off x="3171960" y="273564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69"/>
              <p:cNvSpPr/>
              <p:nvPr/>
            </p:nvSpPr>
            <p:spPr>
              <a:xfrm rot="3500400">
                <a:off x="3166560" y="277776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组合 2095"/>
            <p:cNvGrpSpPr/>
            <p:nvPr/>
          </p:nvGrpSpPr>
          <p:grpSpPr>
            <a:xfrm>
              <a:off x="3181680" y="2435040"/>
              <a:ext cx="452520" cy="446400"/>
              <a:chOff x="3181680" y="2435040"/>
              <a:chExt cx="452520" cy="446400"/>
            </a:xfrm>
          </p:grpSpPr>
          <p:sp>
            <p:nvSpPr>
              <p:cNvPr id="306" name="Freeform 71"/>
              <p:cNvSpPr/>
              <p:nvPr/>
            </p:nvSpPr>
            <p:spPr>
              <a:xfrm rot="19110000">
                <a:off x="3231720" y="251532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72"/>
              <p:cNvSpPr/>
              <p:nvPr/>
            </p:nvSpPr>
            <p:spPr>
              <a:xfrm rot="21154800">
                <a:off x="3202560" y="2621520"/>
                <a:ext cx="40284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73"/>
              <p:cNvSpPr/>
              <p:nvPr/>
            </p:nvSpPr>
            <p:spPr>
              <a:xfrm rot="21453600">
                <a:off x="3187080" y="265968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74"/>
              <p:cNvSpPr/>
              <p:nvPr/>
            </p:nvSpPr>
            <p:spPr>
              <a:xfrm rot="21453600">
                <a:off x="3216960" y="2688120"/>
                <a:ext cx="30132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组合 2100"/>
            <p:cNvGrpSpPr/>
            <p:nvPr/>
          </p:nvGrpSpPr>
          <p:grpSpPr>
            <a:xfrm>
              <a:off x="3213720" y="2339640"/>
              <a:ext cx="381600" cy="424080"/>
              <a:chOff x="3213720" y="2339640"/>
              <a:chExt cx="381600" cy="424080"/>
            </a:xfrm>
          </p:grpSpPr>
          <p:sp>
            <p:nvSpPr>
              <p:cNvPr id="311" name="Freeform 76"/>
              <p:cNvSpPr/>
              <p:nvPr/>
            </p:nvSpPr>
            <p:spPr>
              <a:xfrm rot="17306400">
                <a:off x="3228480" y="240876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77"/>
              <p:cNvSpPr/>
              <p:nvPr/>
            </p:nvSpPr>
            <p:spPr>
              <a:xfrm rot="19351200">
                <a:off x="3189960" y="2519640"/>
                <a:ext cx="40284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8"/>
              <p:cNvSpPr/>
              <p:nvPr/>
            </p:nvSpPr>
            <p:spPr>
              <a:xfrm rot="19650000">
                <a:off x="3199680" y="258624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9"/>
              <p:cNvSpPr/>
              <p:nvPr/>
            </p:nvSpPr>
            <p:spPr>
              <a:xfrm rot="19650000">
                <a:off x="3239280" y="2595960"/>
                <a:ext cx="30132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组合 2105"/>
            <p:cNvGrpSpPr/>
            <p:nvPr/>
          </p:nvGrpSpPr>
          <p:grpSpPr>
            <a:xfrm>
              <a:off x="3112200" y="2301480"/>
              <a:ext cx="375120" cy="423000"/>
              <a:chOff x="3112200" y="2301480"/>
              <a:chExt cx="375120" cy="423000"/>
            </a:xfrm>
          </p:grpSpPr>
          <p:sp>
            <p:nvSpPr>
              <p:cNvPr id="316" name="Freeform 81"/>
              <p:cNvSpPr/>
              <p:nvPr/>
            </p:nvSpPr>
            <p:spPr>
              <a:xfrm rot="15187200">
                <a:off x="3123720" y="2368800"/>
                <a:ext cx="35208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82"/>
              <p:cNvSpPr/>
              <p:nvPr/>
            </p:nvSpPr>
            <p:spPr>
              <a:xfrm rot="17232000">
                <a:off x="3077280" y="2489760"/>
                <a:ext cx="4024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83"/>
              <p:cNvSpPr/>
              <p:nvPr/>
            </p:nvSpPr>
            <p:spPr>
              <a:xfrm rot="17530800">
                <a:off x="3132000" y="2568960"/>
                <a:ext cx="300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84"/>
              <p:cNvSpPr/>
              <p:nvPr/>
            </p:nvSpPr>
            <p:spPr>
              <a:xfrm rot="17530800">
                <a:off x="3167280" y="2556000"/>
                <a:ext cx="3006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组合 2110"/>
            <p:cNvGrpSpPr/>
            <p:nvPr/>
          </p:nvGrpSpPr>
          <p:grpSpPr>
            <a:xfrm>
              <a:off x="3211200" y="2596680"/>
              <a:ext cx="383400" cy="306360"/>
              <a:chOff x="3211200" y="2596680"/>
              <a:chExt cx="383400" cy="306360"/>
            </a:xfrm>
          </p:grpSpPr>
          <p:sp>
            <p:nvSpPr>
              <p:cNvPr id="321" name="Freeform 86"/>
              <p:cNvSpPr/>
              <p:nvPr/>
            </p:nvSpPr>
            <p:spPr>
              <a:xfrm rot="21405000">
                <a:off x="3227760" y="2606400"/>
                <a:ext cx="3517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87"/>
              <p:cNvSpPr/>
              <p:nvPr/>
            </p:nvSpPr>
            <p:spPr>
              <a:xfrm rot="1849200">
                <a:off x="3211560" y="271548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8"/>
              <p:cNvSpPr/>
              <p:nvPr/>
            </p:nvSpPr>
            <p:spPr>
              <a:xfrm rot="2147400">
                <a:off x="3189600" y="270288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9"/>
              <p:cNvSpPr/>
              <p:nvPr/>
            </p:nvSpPr>
            <p:spPr>
              <a:xfrm rot="2147400">
                <a:off x="3199680" y="274608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2115"/>
            <p:cNvGrpSpPr/>
            <p:nvPr/>
          </p:nvGrpSpPr>
          <p:grpSpPr>
            <a:xfrm>
              <a:off x="2995920" y="2548800"/>
              <a:ext cx="392400" cy="433440"/>
              <a:chOff x="2995920" y="2548800"/>
              <a:chExt cx="392400" cy="433440"/>
            </a:xfrm>
          </p:grpSpPr>
          <p:sp>
            <p:nvSpPr>
              <p:cNvPr id="326" name="Freeform 91"/>
              <p:cNvSpPr/>
              <p:nvPr/>
            </p:nvSpPr>
            <p:spPr>
              <a:xfrm rot="4137000">
                <a:off x="3016080" y="262440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92"/>
              <p:cNvSpPr/>
              <p:nvPr/>
            </p:nvSpPr>
            <p:spPr>
              <a:xfrm rot="6181800">
                <a:off x="3009240" y="2753280"/>
                <a:ext cx="4024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93"/>
              <p:cNvSpPr/>
              <p:nvPr/>
            </p:nvSpPr>
            <p:spPr>
              <a:xfrm rot="6480000">
                <a:off x="3053880" y="2683440"/>
                <a:ext cx="300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4"/>
              <p:cNvSpPr/>
              <p:nvPr/>
            </p:nvSpPr>
            <p:spPr>
              <a:xfrm rot="6480000">
                <a:off x="3021480" y="2707920"/>
                <a:ext cx="30096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组合 2120"/>
            <p:cNvGrpSpPr/>
            <p:nvPr/>
          </p:nvGrpSpPr>
          <p:grpSpPr>
            <a:xfrm>
              <a:off x="3106800" y="2642040"/>
              <a:ext cx="450000" cy="452520"/>
              <a:chOff x="3106800" y="2642040"/>
              <a:chExt cx="450000" cy="452520"/>
            </a:xfrm>
          </p:grpSpPr>
          <p:sp>
            <p:nvSpPr>
              <p:cNvPr id="331" name="Freeform 96"/>
              <p:cNvSpPr/>
              <p:nvPr/>
            </p:nvSpPr>
            <p:spPr>
              <a:xfrm rot="2797200">
                <a:off x="3155040" y="272556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7"/>
              <p:cNvSpPr/>
              <p:nvPr/>
            </p:nvSpPr>
            <p:spPr>
              <a:xfrm rot="4842000">
                <a:off x="3147840" y="284904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98"/>
              <p:cNvSpPr/>
              <p:nvPr/>
            </p:nvSpPr>
            <p:spPr>
              <a:xfrm rot="5140200">
                <a:off x="3164040" y="27871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9"/>
              <p:cNvSpPr/>
              <p:nvPr/>
            </p:nvSpPr>
            <p:spPr>
              <a:xfrm rot="5140200">
                <a:off x="3141000" y="282204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2125"/>
            <p:cNvGrpSpPr/>
            <p:nvPr/>
          </p:nvGrpSpPr>
          <p:grpSpPr>
            <a:xfrm>
              <a:off x="3120840" y="2530800"/>
              <a:ext cx="303120" cy="302400"/>
              <a:chOff x="3120840" y="2530800"/>
              <a:chExt cx="303120" cy="302400"/>
            </a:xfrm>
          </p:grpSpPr>
          <p:sp>
            <p:nvSpPr>
              <p:cNvPr id="336" name="AutoShape 101"/>
              <p:cNvSpPr/>
              <p:nvPr/>
            </p:nvSpPr>
            <p:spPr>
              <a:xfrm rot="16200000">
                <a:off x="3121200" y="2530440"/>
                <a:ext cx="302400" cy="303120"/>
              </a:xfrm>
              <a:custGeom>
                <a:avLst/>
                <a:gdLst>
                  <a:gd name="textAreaLeft" fmla="*/ 70920 w 302400"/>
                  <a:gd name="textAreaRight" fmla="*/ 231480 w 302400"/>
                  <a:gd name="textAreaTop" fmla="*/ 70920 h 303120"/>
                  <a:gd name="textAreaBottom" fmla="*/ 232200 h 30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02"/>
              <p:cNvSpPr/>
              <p:nvPr/>
            </p:nvSpPr>
            <p:spPr>
              <a:xfrm rot="16200000">
                <a:off x="3164040" y="2579760"/>
                <a:ext cx="203040" cy="2012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2128"/>
          <p:cNvGrpSpPr/>
          <p:nvPr/>
        </p:nvGrpSpPr>
        <p:grpSpPr>
          <a:xfrm>
            <a:off x="2435040" y="2459880"/>
            <a:ext cx="769320" cy="779400"/>
            <a:chOff x="2435040" y="2459880"/>
            <a:chExt cx="769320" cy="779400"/>
          </a:xfrm>
        </p:grpSpPr>
        <p:grpSp>
          <p:nvGrpSpPr>
            <p:cNvPr id="339" name="组合 2129"/>
            <p:cNvGrpSpPr/>
            <p:nvPr/>
          </p:nvGrpSpPr>
          <p:grpSpPr>
            <a:xfrm>
              <a:off x="2745000" y="2706840"/>
              <a:ext cx="399240" cy="355680"/>
              <a:chOff x="2745000" y="2706840"/>
              <a:chExt cx="399240" cy="355680"/>
            </a:xfrm>
          </p:grpSpPr>
          <p:sp>
            <p:nvSpPr>
              <p:cNvPr id="340" name="Freeform 105"/>
              <p:cNvSpPr/>
              <p:nvPr/>
            </p:nvSpPr>
            <p:spPr>
              <a:xfrm rot="9707400">
                <a:off x="2778120" y="275148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6"/>
              <p:cNvSpPr/>
              <p:nvPr/>
            </p:nvSpPr>
            <p:spPr>
              <a:xfrm rot="11752200">
                <a:off x="2751480" y="288684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7"/>
              <p:cNvSpPr/>
              <p:nvPr/>
            </p:nvSpPr>
            <p:spPr>
              <a:xfrm rot="12051000">
                <a:off x="2867400" y="288756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8"/>
              <p:cNvSpPr/>
              <p:nvPr/>
            </p:nvSpPr>
            <p:spPr>
              <a:xfrm rot="12051000">
                <a:off x="2847960" y="2858400"/>
                <a:ext cx="28368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2134"/>
            <p:cNvGrpSpPr/>
            <p:nvPr/>
          </p:nvGrpSpPr>
          <p:grpSpPr>
            <a:xfrm>
              <a:off x="2617200" y="2815920"/>
              <a:ext cx="415800" cy="423360"/>
              <a:chOff x="2617200" y="2815920"/>
              <a:chExt cx="415800" cy="423360"/>
            </a:xfrm>
          </p:grpSpPr>
          <p:sp>
            <p:nvSpPr>
              <p:cNvPr id="345" name="Freeform 110"/>
              <p:cNvSpPr/>
              <p:nvPr/>
            </p:nvSpPr>
            <p:spPr>
              <a:xfrm rot="13786800">
                <a:off x="2660400" y="289440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11"/>
              <p:cNvSpPr/>
              <p:nvPr/>
            </p:nvSpPr>
            <p:spPr>
              <a:xfrm rot="15831600">
                <a:off x="2617920" y="301572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12"/>
              <p:cNvSpPr/>
              <p:nvPr/>
            </p:nvSpPr>
            <p:spPr>
              <a:xfrm rot="16129800">
                <a:off x="2694960" y="308160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3"/>
              <p:cNvSpPr/>
              <p:nvPr/>
            </p:nvSpPr>
            <p:spPr>
              <a:xfrm rot="16129800">
                <a:off x="2718360" y="305640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2139"/>
            <p:cNvGrpSpPr/>
            <p:nvPr/>
          </p:nvGrpSpPr>
          <p:grpSpPr>
            <a:xfrm>
              <a:off x="2779200" y="2574720"/>
              <a:ext cx="415080" cy="421920"/>
              <a:chOff x="2779200" y="2574720"/>
              <a:chExt cx="415080" cy="421920"/>
            </a:xfrm>
          </p:grpSpPr>
          <p:sp>
            <p:nvSpPr>
              <p:cNvPr id="350" name="Freeform 115"/>
              <p:cNvSpPr/>
              <p:nvPr/>
            </p:nvSpPr>
            <p:spPr>
              <a:xfrm rot="7834200">
                <a:off x="2822400" y="2652840"/>
                <a:ext cx="3279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6"/>
              <p:cNvSpPr/>
              <p:nvPr/>
            </p:nvSpPr>
            <p:spPr>
              <a:xfrm rot="9879000">
                <a:off x="2803680" y="2786400"/>
                <a:ext cx="3758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7"/>
              <p:cNvSpPr/>
              <p:nvPr/>
            </p:nvSpPr>
            <p:spPr>
              <a:xfrm rot="10177200">
                <a:off x="2908800" y="2753280"/>
                <a:ext cx="2804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8"/>
              <p:cNvSpPr/>
              <p:nvPr/>
            </p:nvSpPr>
            <p:spPr>
              <a:xfrm rot="10177200">
                <a:off x="2876400" y="2737080"/>
                <a:ext cx="28188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2144"/>
            <p:cNvGrpSpPr/>
            <p:nvPr/>
          </p:nvGrpSpPr>
          <p:grpSpPr>
            <a:xfrm>
              <a:off x="2435040" y="2648160"/>
              <a:ext cx="422280" cy="420480"/>
              <a:chOff x="2435040" y="2648160"/>
              <a:chExt cx="422280" cy="420480"/>
            </a:xfrm>
          </p:grpSpPr>
          <p:sp>
            <p:nvSpPr>
              <p:cNvPr id="355" name="Freeform 120"/>
              <p:cNvSpPr/>
              <p:nvPr/>
            </p:nvSpPr>
            <p:spPr>
              <a:xfrm rot="18982200">
                <a:off x="2481840" y="2724120"/>
                <a:ext cx="32832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21"/>
              <p:cNvSpPr/>
              <p:nvPr/>
            </p:nvSpPr>
            <p:spPr>
              <a:xfrm rot="21027600">
                <a:off x="2454480" y="2823840"/>
                <a:ext cx="376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22"/>
              <p:cNvSpPr/>
              <p:nvPr/>
            </p:nvSpPr>
            <p:spPr>
              <a:xfrm rot="21325800">
                <a:off x="2440800" y="2860200"/>
                <a:ext cx="28080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23"/>
              <p:cNvSpPr/>
              <p:nvPr/>
            </p:nvSpPr>
            <p:spPr>
              <a:xfrm rot="21325800">
                <a:off x="2469240" y="2887560"/>
                <a:ext cx="28188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2149"/>
            <p:cNvGrpSpPr/>
            <p:nvPr/>
          </p:nvGrpSpPr>
          <p:grpSpPr>
            <a:xfrm>
              <a:off x="2650680" y="2459880"/>
              <a:ext cx="384480" cy="412560"/>
              <a:chOff x="2650680" y="2459880"/>
              <a:chExt cx="384480" cy="412560"/>
            </a:xfrm>
          </p:grpSpPr>
          <p:sp>
            <p:nvSpPr>
              <p:cNvPr id="360" name="Freeform 125"/>
              <p:cNvSpPr/>
              <p:nvPr/>
            </p:nvSpPr>
            <p:spPr>
              <a:xfrm rot="3809400">
                <a:off x="2678400" y="2532960"/>
                <a:ext cx="32832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6"/>
              <p:cNvSpPr/>
              <p:nvPr/>
            </p:nvSpPr>
            <p:spPr>
              <a:xfrm rot="5854200">
                <a:off x="2671560" y="2652840"/>
                <a:ext cx="3758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27"/>
              <p:cNvSpPr/>
              <p:nvPr/>
            </p:nvSpPr>
            <p:spPr>
              <a:xfrm rot="6153000">
                <a:off x="2707200" y="2588760"/>
                <a:ext cx="2804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8"/>
              <p:cNvSpPr/>
              <p:nvPr/>
            </p:nvSpPr>
            <p:spPr>
              <a:xfrm rot="6153000">
                <a:off x="2675520" y="2613240"/>
                <a:ext cx="281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组合 2154"/>
            <p:cNvGrpSpPr/>
            <p:nvPr/>
          </p:nvGrpSpPr>
          <p:grpSpPr>
            <a:xfrm>
              <a:off x="2490840" y="2797920"/>
              <a:ext cx="336240" cy="383400"/>
              <a:chOff x="2490840" y="2797920"/>
              <a:chExt cx="336240" cy="383400"/>
            </a:xfrm>
          </p:grpSpPr>
          <p:sp>
            <p:nvSpPr>
              <p:cNvPr id="365" name="Freeform 130"/>
              <p:cNvSpPr/>
              <p:nvPr/>
            </p:nvSpPr>
            <p:spPr>
              <a:xfrm rot="17020800">
                <a:off x="2493720" y="2856600"/>
                <a:ext cx="33012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31"/>
              <p:cNvSpPr/>
              <p:nvPr/>
            </p:nvSpPr>
            <p:spPr>
              <a:xfrm rot="19065000">
                <a:off x="2457000" y="296316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2"/>
              <p:cNvSpPr/>
              <p:nvPr/>
            </p:nvSpPr>
            <p:spPr>
              <a:xfrm rot="19363800">
                <a:off x="2470320" y="3026160"/>
                <a:ext cx="282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33"/>
              <p:cNvSpPr/>
              <p:nvPr/>
            </p:nvSpPr>
            <p:spPr>
              <a:xfrm rot="19363800">
                <a:off x="2507040" y="3032280"/>
                <a:ext cx="2844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2159"/>
            <p:cNvGrpSpPr/>
            <p:nvPr/>
          </p:nvGrpSpPr>
          <p:grpSpPr>
            <a:xfrm>
              <a:off x="2529360" y="2578320"/>
              <a:ext cx="387000" cy="342360"/>
              <a:chOff x="2529360" y="2578320"/>
              <a:chExt cx="387000" cy="342360"/>
            </a:xfrm>
          </p:grpSpPr>
          <p:sp>
            <p:nvSpPr>
              <p:cNvPr id="370" name="Freeform 135"/>
              <p:cNvSpPr/>
              <p:nvPr/>
            </p:nvSpPr>
            <p:spPr>
              <a:xfrm rot="899400">
                <a:off x="2557800" y="261612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36"/>
              <p:cNvSpPr/>
              <p:nvPr/>
            </p:nvSpPr>
            <p:spPr>
              <a:xfrm rot="2944800">
                <a:off x="2544480" y="2721600"/>
                <a:ext cx="3769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37"/>
              <p:cNvSpPr/>
              <p:nvPr/>
            </p:nvSpPr>
            <p:spPr>
              <a:xfrm rot="3243000">
                <a:off x="2534040" y="2689920"/>
                <a:ext cx="2815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8"/>
              <p:cNvSpPr/>
              <p:nvPr/>
            </p:nvSpPr>
            <p:spPr>
              <a:xfrm rot="3243000">
                <a:off x="2528640" y="273132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2164"/>
            <p:cNvGrpSpPr/>
            <p:nvPr/>
          </p:nvGrpSpPr>
          <p:grpSpPr>
            <a:xfrm>
              <a:off x="2765880" y="2818080"/>
              <a:ext cx="375120" cy="326520"/>
              <a:chOff x="2765880" y="2818080"/>
              <a:chExt cx="375120" cy="326520"/>
            </a:xfrm>
          </p:grpSpPr>
          <p:sp>
            <p:nvSpPr>
              <p:cNvPr id="375" name="Freeform 140"/>
              <p:cNvSpPr/>
              <p:nvPr/>
            </p:nvSpPr>
            <p:spPr>
              <a:xfrm rot="11463600">
                <a:off x="2788200" y="2847240"/>
                <a:ext cx="329760" cy="268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1"/>
              <p:cNvSpPr/>
              <p:nvPr/>
            </p:nvSpPr>
            <p:spPr>
              <a:xfrm rot="13508400">
                <a:off x="2752200" y="298080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2"/>
              <p:cNvSpPr/>
              <p:nvPr/>
            </p:nvSpPr>
            <p:spPr>
              <a:xfrm rot="13807200">
                <a:off x="2862360" y="30160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43"/>
              <p:cNvSpPr/>
              <p:nvPr/>
            </p:nvSpPr>
            <p:spPr>
              <a:xfrm rot="13807200">
                <a:off x="2862360" y="2981520"/>
                <a:ext cx="28368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2169"/>
            <p:cNvGrpSpPr/>
            <p:nvPr/>
          </p:nvGrpSpPr>
          <p:grpSpPr>
            <a:xfrm>
              <a:off x="2586240" y="2793960"/>
              <a:ext cx="353520" cy="397080"/>
              <a:chOff x="2586240" y="2793960"/>
              <a:chExt cx="353520" cy="397080"/>
            </a:xfrm>
          </p:grpSpPr>
          <p:sp>
            <p:nvSpPr>
              <p:cNvPr id="380" name="Freeform 145"/>
              <p:cNvSpPr/>
              <p:nvPr/>
            </p:nvSpPr>
            <p:spPr>
              <a:xfrm rot="15164400">
                <a:off x="2598120" y="2856960"/>
                <a:ext cx="32940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46"/>
              <p:cNvSpPr/>
              <p:nvPr/>
            </p:nvSpPr>
            <p:spPr>
              <a:xfrm rot="17208600">
                <a:off x="2556360" y="297036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47"/>
              <p:cNvSpPr/>
              <p:nvPr/>
            </p:nvSpPr>
            <p:spPr>
              <a:xfrm rot="17506800">
                <a:off x="2606400" y="3043800"/>
                <a:ext cx="28188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48"/>
              <p:cNvSpPr/>
              <p:nvPr/>
            </p:nvSpPr>
            <p:spPr>
              <a:xfrm rot="17506800">
                <a:off x="2639520" y="302940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2174"/>
            <p:cNvGrpSpPr/>
            <p:nvPr/>
          </p:nvGrpSpPr>
          <p:grpSpPr>
            <a:xfrm>
              <a:off x="2832840" y="2463480"/>
              <a:ext cx="277560" cy="353880"/>
              <a:chOff x="2832840" y="2463480"/>
              <a:chExt cx="277560" cy="353880"/>
            </a:xfrm>
          </p:grpSpPr>
          <p:sp>
            <p:nvSpPr>
              <p:cNvPr id="385" name="Freeform 150"/>
              <p:cNvSpPr/>
              <p:nvPr/>
            </p:nvSpPr>
            <p:spPr>
              <a:xfrm rot="5278200">
                <a:off x="2806560" y="250848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51"/>
              <p:cNvSpPr/>
              <p:nvPr/>
            </p:nvSpPr>
            <p:spPr>
              <a:xfrm rot="7323000">
                <a:off x="2797560" y="263448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52"/>
              <p:cNvSpPr/>
              <p:nvPr/>
            </p:nvSpPr>
            <p:spPr>
              <a:xfrm rot="7621200">
                <a:off x="2863440" y="257148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53"/>
              <p:cNvSpPr/>
              <p:nvPr/>
            </p:nvSpPr>
            <p:spPr>
              <a:xfrm rot="7621200">
                <a:off x="2823480" y="258264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2179"/>
            <p:cNvGrpSpPr/>
            <p:nvPr/>
          </p:nvGrpSpPr>
          <p:grpSpPr>
            <a:xfrm>
              <a:off x="2555280" y="2505240"/>
              <a:ext cx="423720" cy="420480"/>
              <a:chOff x="2555280" y="2505240"/>
              <a:chExt cx="423720" cy="420480"/>
            </a:xfrm>
          </p:grpSpPr>
          <p:sp>
            <p:nvSpPr>
              <p:cNvPr id="390" name="Freeform 155"/>
              <p:cNvSpPr/>
              <p:nvPr/>
            </p:nvSpPr>
            <p:spPr>
              <a:xfrm rot="2557200">
                <a:off x="2602080" y="2581200"/>
                <a:ext cx="329400" cy="268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56"/>
              <p:cNvSpPr/>
              <p:nvPr/>
            </p:nvSpPr>
            <p:spPr>
              <a:xfrm rot="4602600">
                <a:off x="2596320" y="269568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57"/>
              <p:cNvSpPr/>
              <p:nvPr/>
            </p:nvSpPr>
            <p:spPr>
              <a:xfrm rot="4900200">
                <a:off x="2604600" y="264024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58"/>
              <p:cNvSpPr/>
              <p:nvPr/>
            </p:nvSpPr>
            <p:spPr>
              <a:xfrm rot="4900200">
                <a:off x="2585160" y="267588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2184"/>
            <p:cNvGrpSpPr/>
            <p:nvPr/>
          </p:nvGrpSpPr>
          <p:grpSpPr>
            <a:xfrm>
              <a:off x="2452680" y="2631240"/>
              <a:ext cx="381960" cy="327600"/>
              <a:chOff x="2452680" y="2631240"/>
              <a:chExt cx="381960" cy="327600"/>
            </a:xfrm>
          </p:grpSpPr>
          <p:sp>
            <p:nvSpPr>
              <p:cNvPr id="395" name="Freeform 160"/>
              <p:cNvSpPr/>
              <p:nvPr/>
            </p:nvSpPr>
            <p:spPr>
              <a:xfrm rot="20898000">
                <a:off x="2481120" y="2661840"/>
                <a:ext cx="32976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61"/>
              <p:cNvSpPr/>
              <p:nvPr/>
            </p:nvSpPr>
            <p:spPr>
              <a:xfrm rot="1342200">
                <a:off x="2461680" y="276120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2"/>
              <p:cNvSpPr/>
              <p:nvPr/>
            </p:nvSpPr>
            <p:spPr>
              <a:xfrm rot="1640400">
                <a:off x="2441880" y="276120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63"/>
              <p:cNvSpPr/>
              <p:nvPr/>
            </p:nvSpPr>
            <p:spPr>
              <a:xfrm rot="1640400">
                <a:off x="2452320" y="279936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2189"/>
            <p:cNvGrpSpPr/>
            <p:nvPr/>
          </p:nvGrpSpPr>
          <p:grpSpPr>
            <a:xfrm>
              <a:off x="2514600" y="2694600"/>
              <a:ext cx="402120" cy="421200"/>
              <a:chOff x="2514600" y="2694600"/>
              <a:chExt cx="402120" cy="421200"/>
            </a:xfrm>
          </p:grpSpPr>
          <p:sp>
            <p:nvSpPr>
              <p:cNvPr id="400" name="Freeform 165"/>
              <p:cNvSpPr/>
              <p:nvPr/>
            </p:nvSpPr>
            <p:spPr>
              <a:xfrm rot="18171600">
                <a:off x="2550600" y="277236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66"/>
              <p:cNvSpPr/>
              <p:nvPr/>
            </p:nvSpPr>
            <p:spPr>
              <a:xfrm rot="20216400">
                <a:off x="2519280" y="287352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67"/>
              <p:cNvSpPr/>
              <p:nvPr/>
            </p:nvSpPr>
            <p:spPr>
              <a:xfrm rot="20514000">
                <a:off x="2514600" y="292356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68"/>
              <p:cNvSpPr/>
              <p:nvPr/>
            </p:nvSpPr>
            <p:spPr>
              <a:xfrm rot="20514000">
                <a:off x="2547360" y="294264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2194"/>
            <p:cNvGrpSpPr/>
            <p:nvPr/>
          </p:nvGrpSpPr>
          <p:grpSpPr>
            <a:xfrm>
              <a:off x="2784600" y="2651760"/>
              <a:ext cx="419760" cy="397080"/>
              <a:chOff x="2784600" y="2651760"/>
              <a:chExt cx="419760" cy="397080"/>
            </a:xfrm>
          </p:grpSpPr>
          <p:sp>
            <p:nvSpPr>
              <p:cNvPr id="405" name="Freeform 170"/>
              <p:cNvSpPr/>
              <p:nvPr/>
            </p:nvSpPr>
            <p:spPr>
              <a:xfrm rot="8996400">
                <a:off x="2829600" y="2716200"/>
                <a:ext cx="32976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71"/>
              <p:cNvSpPr/>
              <p:nvPr/>
            </p:nvSpPr>
            <p:spPr>
              <a:xfrm rot="11040600">
                <a:off x="2805120" y="2855880"/>
                <a:ext cx="37764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72"/>
              <p:cNvSpPr/>
              <p:nvPr/>
            </p:nvSpPr>
            <p:spPr>
              <a:xfrm rot="11338800">
                <a:off x="2919960" y="2840040"/>
                <a:ext cx="28188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73"/>
              <p:cNvSpPr/>
              <p:nvPr/>
            </p:nvSpPr>
            <p:spPr>
              <a:xfrm rot="11338800">
                <a:off x="2894040" y="2815920"/>
                <a:ext cx="28440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组合 2199"/>
            <p:cNvGrpSpPr/>
            <p:nvPr/>
          </p:nvGrpSpPr>
          <p:grpSpPr>
            <a:xfrm>
              <a:off x="2814840" y="2495880"/>
              <a:ext cx="384120" cy="413280"/>
              <a:chOff x="2814840" y="2495880"/>
              <a:chExt cx="384120" cy="413280"/>
            </a:xfrm>
          </p:grpSpPr>
          <p:sp>
            <p:nvSpPr>
              <p:cNvPr id="410" name="Freeform 175"/>
              <p:cNvSpPr/>
              <p:nvPr/>
            </p:nvSpPr>
            <p:spPr>
              <a:xfrm rot="6971400">
                <a:off x="2841840" y="256968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76"/>
              <p:cNvSpPr/>
              <p:nvPr/>
            </p:nvSpPr>
            <p:spPr>
              <a:xfrm rot="9016200">
                <a:off x="2829240" y="270252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77"/>
              <p:cNvSpPr/>
              <p:nvPr/>
            </p:nvSpPr>
            <p:spPr>
              <a:xfrm rot="9314400">
                <a:off x="2923200" y="2655000"/>
                <a:ext cx="282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78"/>
              <p:cNvSpPr/>
              <p:nvPr/>
            </p:nvSpPr>
            <p:spPr>
              <a:xfrm rot="9314400">
                <a:off x="2884680" y="264708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组合 2204"/>
            <p:cNvGrpSpPr/>
            <p:nvPr/>
          </p:nvGrpSpPr>
          <p:grpSpPr>
            <a:xfrm>
              <a:off x="2643840" y="2645280"/>
              <a:ext cx="387720" cy="387720"/>
              <a:chOff x="2643840" y="2645280"/>
              <a:chExt cx="387720" cy="387720"/>
            </a:xfrm>
          </p:grpSpPr>
          <p:sp>
            <p:nvSpPr>
              <p:cNvPr id="415" name="AutoShape 180"/>
              <p:cNvSpPr/>
              <p:nvPr/>
            </p:nvSpPr>
            <p:spPr>
              <a:xfrm rot="8901600">
                <a:off x="2696760" y="2698200"/>
                <a:ext cx="281880" cy="281520"/>
              </a:xfrm>
              <a:custGeom>
                <a:avLst/>
                <a:gdLst>
                  <a:gd name="textAreaLeft" fmla="*/ 66240 w 281880"/>
                  <a:gd name="textAreaRight" fmla="*/ 215640 w 281880"/>
                  <a:gd name="textAreaTop" fmla="*/ 65880 h 281520"/>
                  <a:gd name="textAreaBottom" fmla="*/ 2156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81"/>
              <p:cNvSpPr/>
              <p:nvPr/>
            </p:nvSpPr>
            <p:spPr>
              <a:xfrm rot="8901600">
                <a:off x="2740680" y="2748600"/>
                <a:ext cx="188640" cy="1882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组合 2207"/>
          <p:cNvGrpSpPr/>
          <p:nvPr/>
        </p:nvGrpSpPr>
        <p:grpSpPr>
          <a:xfrm>
            <a:off x="1613520" y="2346840"/>
            <a:ext cx="1273320" cy="1085760"/>
            <a:chOff x="1613520" y="2346840"/>
            <a:chExt cx="1273320" cy="1085760"/>
          </a:xfrm>
        </p:grpSpPr>
        <p:grpSp>
          <p:nvGrpSpPr>
            <p:cNvPr id="418" name="组合 2208"/>
            <p:cNvGrpSpPr/>
            <p:nvPr/>
          </p:nvGrpSpPr>
          <p:grpSpPr>
            <a:xfrm>
              <a:off x="1862640" y="2539440"/>
              <a:ext cx="558360" cy="491760"/>
              <a:chOff x="1862640" y="2539440"/>
              <a:chExt cx="558360" cy="491760"/>
            </a:xfrm>
          </p:grpSpPr>
          <p:sp>
            <p:nvSpPr>
              <p:cNvPr id="419" name="Freeform 184"/>
              <p:cNvSpPr/>
              <p:nvPr/>
            </p:nvSpPr>
            <p:spPr>
              <a:xfrm rot="805800">
                <a:off x="1901160" y="2589840"/>
                <a:ext cx="48096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85"/>
              <p:cNvSpPr/>
              <p:nvPr/>
            </p:nvSpPr>
            <p:spPr>
              <a:xfrm rot="2850600">
                <a:off x="1886040" y="2743200"/>
                <a:ext cx="54972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86"/>
              <p:cNvSpPr/>
              <p:nvPr/>
            </p:nvSpPr>
            <p:spPr>
              <a:xfrm rot="3148800">
                <a:off x="1864800" y="2701440"/>
                <a:ext cx="4111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87"/>
              <p:cNvSpPr/>
              <p:nvPr/>
            </p:nvSpPr>
            <p:spPr>
              <a:xfrm rot="3148800">
                <a:off x="1860480" y="275832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组合 2213"/>
            <p:cNvGrpSpPr/>
            <p:nvPr/>
          </p:nvGrpSpPr>
          <p:grpSpPr>
            <a:xfrm>
              <a:off x="2166840" y="2418480"/>
              <a:ext cx="457920" cy="544320"/>
              <a:chOff x="2166840" y="2418480"/>
              <a:chExt cx="457920" cy="544320"/>
            </a:xfrm>
          </p:grpSpPr>
          <p:sp>
            <p:nvSpPr>
              <p:cNvPr id="424" name="Freeform 189"/>
              <p:cNvSpPr/>
              <p:nvPr/>
            </p:nvSpPr>
            <p:spPr>
              <a:xfrm rot="4885200">
                <a:off x="2155320" y="2498760"/>
                <a:ext cx="48096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90"/>
              <p:cNvSpPr/>
              <p:nvPr/>
            </p:nvSpPr>
            <p:spPr>
              <a:xfrm rot="6929400">
                <a:off x="2148120" y="268344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91"/>
              <p:cNvSpPr/>
              <p:nvPr/>
            </p:nvSpPr>
            <p:spPr>
              <a:xfrm rot="7227600">
                <a:off x="2227320" y="258732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2"/>
              <p:cNvSpPr/>
              <p:nvPr/>
            </p:nvSpPr>
            <p:spPr>
              <a:xfrm rot="7227600">
                <a:off x="2174400" y="2609640"/>
                <a:ext cx="4132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2218"/>
            <p:cNvGrpSpPr/>
            <p:nvPr/>
          </p:nvGrpSpPr>
          <p:grpSpPr>
            <a:xfrm>
              <a:off x="1720080" y="2615040"/>
              <a:ext cx="581040" cy="519120"/>
              <a:chOff x="1720080" y="2615040"/>
              <a:chExt cx="581040" cy="519120"/>
            </a:xfrm>
          </p:grpSpPr>
          <p:sp>
            <p:nvSpPr>
              <p:cNvPr id="429" name="Freeform 194"/>
              <p:cNvSpPr/>
              <p:nvPr/>
            </p:nvSpPr>
            <p:spPr>
              <a:xfrm rot="20532600">
                <a:off x="1771920" y="26791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5"/>
              <p:cNvSpPr/>
              <p:nvPr/>
            </p:nvSpPr>
            <p:spPr>
              <a:xfrm rot="977400">
                <a:off x="1743120" y="282528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 rot="1275600">
                <a:off x="1711800" y="283392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7"/>
              <p:cNvSpPr/>
              <p:nvPr/>
            </p:nvSpPr>
            <p:spPr>
              <a:xfrm rot="1275600">
                <a:off x="1735560" y="288864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组合 2223"/>
            <p:cNvGrpSpPr/>
            <p:nvPr/>
          </p:nvGrpSpPr>
          <p:grpSpPr>
            <a:xfrm>
              <a:off x="2213640" y="2802960"/>
              <a:ext cx="557640" cy="479880"/>
              <a:chOff x="2213640" y="2802960"/>
              <a:chExt cx="557640" cy="479880"/>
            </a:xfrm>
          </p:grpSpPr>
          <p:sp>
            <p:nvSpPr>
              <p:cNvPr id="434" name="Freeform 199"/>
              <p:cNvSpPr/>
              <p:nvPr/>
            </p:nvSpPr>
            <p:spPr>
              <a:xfrm rot="10080600">
                <a:off x="2248560" y="2848320"/>
                <a:ext cx="480240" cy="388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00"/>
              <p:cNvSpPr/>
              <p:nvPr/>
            </p:nvSpPr>
            <p:spPr>
              <a:xfrm rot="12125400">
                <a:off x="2207160" y="3045600"/>
                <a:ext cx="549000" cy="45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01"/>
              <p:cNvSpPr/>
              <p:nvPr/>
            </p:nvSpPr>
            <p:spPr>
              <a:xfrm rot="12423600">
                <a:off x="2375280" y="30582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02"/>
              <p:cNvSpPr/>
              <p:nvPr/>
            </p:nvSpPr>
            <p:spPr>
              <a:xfrm rot="12423600">
                <a:off x="2355840" y="301500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组合 2228"/>
            <p:cNvGrpSpPr/>
            <p:nvPr/>
          </p:nvGrpSpPr>
          <p:grpSpPr>
            <a:xfrm>
              <a:off x="1882440" y="2871720"/>
              <a:ext cx="432360" cy="513720"/>
              <a:chOff x="1882440" y="2871720"/>
              <a:chExt cx="432360" cy="513720"/>
            </a:xfrm>
          </p:grpSpPr>
          <p:sp>
            <p:nvSpPr>
              <p:cNvPr id="439" name="Freeform 204"/>
              <p:cNvSpPr/>
              <p:nvPr/>
            </p:nvSpPr>
            <p:spPr>
              <a:xfrm rot="16507800">
                <a:off x="1858320" y="29329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05"/>
              <p:cNvSpPr/>
              <p:nvPr/>
            </p:nvSpPr>
            <p:spPr>
              <a:xfrm rot="18552600">
                <a:off x="1801800" y="3089880"/>
                <a:ext cx="55044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06"/>
              <p:cNvSpPr/>
              <p:nvPr/>
            </p:nvSpPr>
            <p:spPr>
              <a:xfrm rot="18850800">
                <a:off x="1833480" y="3191760"/>
                <a:ext cx="41328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07"/>
              <p:cNvSpPr/>
              <p:nvPr/>
            </p:nvSpPr>
            <p:spPr>
              <a:xfrm rot="18850800">
                <a:off x="1887840" y="3192840"/>
                <a:ext cx="4140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2233"/>
            <p:cNvGrpSpPr/>
            <p:nvPr/>
          </p:nvGrpSpPr>
          <p:grpSpPr>
            <a:xfrm>
              <a:off x="2270520" y="2561400"/>
              <a:ext cx="616320" cy="615600"/>
              <a:chOff x="2270520" y="2561400"/>
              <a:chExt cx="616320" cy="615600"/>
            </a:xfrm>
          </p:grpSpPr>
          <p:sp>
            <p:nvSpPr>
              <p:cNvPr id="444" name="Freeform 209"/>
              <p:cNvSpPr/>
              <p:nvPr/>
            </p:nvSpPr>
            <p:spPr>
              <a:xfrm rot="8118600">
                <a:off x="2338200" y="26737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10"/>
              <p:cNvSpPr/>
              <p:nvPr/>
            </p:nvSpPr>
            <p:spPr>
              <a:xfrm rot="10163400">
                <a:off x="2310840" y="287424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11"/>
              <p:cNvSpPr/>
              <p:nvPr/>
            </p:nvSpPr>
            <p:spPr>
              <a:xfrm rot="10461600">
                <a:off x="2466720" y="282924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12"/>
              <p:cNvSpPr/>
              <p:nvPr/>
            </p:nvSpPr>
            <p:spPr>
              <a:xfrm rot="10461600">
                <a:off x="2423160" y="280116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2238"/>
            <p:cNvGrpSpPr/>
            <p:nvPr/>
          </p:nvGrpSpPr>
          <p:grpSpPr>
            <a:xfrm>
              <a:off x="2005200" y="2814480"/>
              <a:ext cx="614520" cy="618120"/>
              <a:chOff x="2005200" y="2814480"/>
              <a:chExt cx="614520" cy="618120"/>
            </a:xfrm>
          </p:grpSpPr>
          <p:sp>
            <p:nvSpPr>
              <p:cNvPr id="449" name="Freeform 214"/>
              <p:cNvSpPr/>
              <p:nvPr/>
            </p:nvSpPr>
            <p:spPr>
              <a:xfrm rot="13597800">
                <a:off x="2071800" y="2927880"/>
                <a:ext cx="48096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15"/>
              <p:cNvSpPr/>
              <p:nvPr/>
            </p:nvSpPr>
            <p:spPr>
              <a:xfrm rot="15642600">
                <a:off x="2008800" y="310752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16"/>
              <p:cNvSpPr/>
              <p:nvPr/>
            </p:nvSpPr>
            <p:spPr>
              <a:xfrm rot="15940800">
                <a:off x="2126160" y="320220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17"/>
              <p:cNvSpPr/>
              <p:nvPr/>
            </p:nvSpPr>
            <p:spPr>
              <a:xfrm rot="15940800">
                <a:off x="2157840" y="3164040"/>
                <a:ext cx="413280" cy="23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2243"/>
            <p:cNvGrpSpPr/>
            <p:nvPr/>
          </p:nvGrpSpPr>
          <p:grpSpPr>
            <a:xfrm>
              <a:off x="1891080" y="2346840"/>
              <a:ext cx="618480" cy="613440"/>
              <a:chOff x="1891080" y="2346840"/>
              <a:chExt cx="618480" cy="613440"/>
            </a:xfrm>
          </p:grpSpPr>
          <p:sp>
            <p:nvSpPr>
              <p:cNvPr id="454" name="Freeform 219"/>
              <p:cNvSpPr/>
              <p:nvPr/>
            </p:nvSpPr>
            <p:spPr>
              <a:xfrm rot="2562000">
                <a:off x="1959840" y="24577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20"/>
              <p:cNvSpPr/>
              <p:nvPr/>
            </p:nvSpPr>
            <p:spPr>
              <a:xfrm rot="4606800">
                <a:off x="1951920" y="262476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21"/>
              <p:cNvSpPr/>
              <p:nvPr/>
            </p:nvSpPr>
            <p:spPr>
              <a:xfrm rot="4905000">
                <a:off x="1966320" y="25426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22"/>
              <p:cNvSpPr/>
              <p:nvPr/>
            </p:nvSpPr>
            <p:spPr>
              <a:xfrm rot="4905000">
                <a:off x="1935720" y="259344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2248"/>
            <p:cNvGrpSpPr/>
            <p:nvPr/>
          </p:nvGrpSpPr>
          <p:grpSpPr>
            <a:xfrm>
              <a:off x="2192760" y="2502000"/>
              <a:ext cx="498240" cy="562680"/>
              <a:chOff x="2192760" y="2502000"/>
              <a:chExt cx="498240" cy="562680"/>
            </a:xfrm>
          </p:grpSpPr>
          <p:sp>
            <p:nvSpPr>
              <p:cNvPr id="459" name="Freeform 224"/>
              <p:cNvSpPr/>
              <p:nvPr/>
            </p:nvSpPr>
            <p:spPr>
              <a:xfrm rot="6262200">
                <a:off x="2201400" y="258768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25"/>
              <p:cNvSpPr/>
              <p:nvPr/>
            </p:nvSpPr>
            <p:spPr>
              <a:xfrm rot="8307000">
                <a:off x="2187720" y="278244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26"/>
              <p:cNvSpPr/>
              <p:nvPr/>
            </p:nvSpPr>
            <p:spPr>
              <a:xfrm rot="8605200">
                <a:off x="2304720" y="269892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27"/>
              <p:cNvSpPr/>
              <p:nvPr/>
            </p:nvSpPr>
            <p:spPr>
              <a:xfrm rot="8605200">
                <a:off x="2251440" y="2697480"/>
                <a:ext cx="4132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组合 2253"/>
            <p:cNvGrpSpPr/>
            <p:nvPr/>
          </p:nvGrpSpPr>
          <p:grpSpPr>
            <a:xfrm>
              <a:off x="1632960" y="2759760"/>
              <a:ext cx="577080" cy="610920"/>
              <a:chOff x="1632960" y="2759760"/>
              <a:chExt cx="577080" cy="610920"/>
            </a:xfrm>
          </p:grpSpPr>
          <p:sp>
            <p:nvSpPr>
              <p:cNvPr id="464" name="Freeform 229"/>
              <p:cNvSpPr/>
              <p:nvPr/>
            </p:nvSpPr>
            <p:spPr>
              <a:xfrm rot="17976000">
                <a:off x="1680840" y="28699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30"/>
              <p:cNvSpPr/>
              <p:nvPr/>
            </p:nvSpPr>
            <p:spPr>
              <a:xfrm rot="20020800">
                <a:off x="1632240" y="302004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31"/>
              <p:cNvSpPr/>
              <p:nvPr/>
            </p:nvSpPr>
            <p:spPr>
              <a:xfrm rot="20319000">
                <a:off x="1630080" y="30960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32"/>
              <p:cNvSpPr/>
              <p:nvPr/>
            </p:nvSpPr>
            <p:spPr>
              <a:xfrm rot="20319000">
                <a:off x="1680120" y="312048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组合 2258"/>
            <p:cNvGrpSpPr/>
            <p:nvPr/>
          </p:nvGrpSpPr>
          <p:grpSpPr>
            <a:xfrm>
              <a:off x="1973880" y="2840760"/>
              <a:ext cx="506520" cy="574560"/>
              <a:chOff x="1973880" y="2840760"/>
              <a:chExt cx="506520" cy="574560"/>
            </a:xfrm>
          </p:grpSpPr>
          <p:sp>
            <p:nvSpPr>
              <p:cNvPr id="469" name="Freeform 234"/>
              <p:cNvSpPr/>
              <p:nvPr/>
            </p:nvSpPr>
            <p:spPr>
              <a:xfrm rot="15255600">
                <a:off x="1986480" y="2929320"/>
                <a:ext cx="48096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35"/>
              <p:cNvSpPr/>
              <p:nvPr/>
            </p:nvSpPr>
            <p:spPr>
              <a:xfrm rot="17300400">
                <a:off x="1926000" y="309708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36"/>
              <p:cNvSpPr/>
              <p:nvPr/>
            </p:nvSpPr>
            <p:spPr>
              <a:xfrm rot="17598600">
                <a:off x="1996200" y="32032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37"/>
              <p:cNvSpPr/>
              <p:nvPr/>
            </p:nvSpPr>
            <p:spPr>
              <a:xfrm rot="17598600">
                <a:off x="2044800" y="318708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组合 2263"/>
            <p:cNvGrpSpPr/>
            <p:nvPr/>
          </p:nvGrpSpPr>
          <p:grpSpPr>
            <a:xfrm>
              <a:off x="2151360" y="2857320"/>
              <a:ext cx="585000" cy="531360"/>
              <a:chOff x="2151360" y="2857320"/>
              <a:chExt cx="585000" cy="531360"/>
            </a:xfrm>
          </p:grpSpPr>
          <p:sp>
            <p:nvSpPr>
              <p:cNvPr id="474" name="Freeform 239"/>
              <p:cNvSpPr/>
              <p:nvPr/>
            </p:nvSpPr>
            <p:spPr>
              <a:xfrm rot="11995800">
                <a:off x="2203560" y="292716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40"/>
              <p:cNvSpPr/>
              <p:nvPr/>
            </p:nvSpPr>
            <p:spPr>
              <a:xfrm rot="14040600">
                <a:off x="2148840" y="311868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41"/>
              <p:cNvSpPr/>
              <p:nvPr/>
            </p:nvSpPr>
            <p:spPr>
              <a:xfrm rot="14338800">
                <a:off x="2299320" y="31816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42"/>
              <p:cNvSpPr/>
              <p:nvPr/>
            </p:nvSpPr>
            <p:spPr>
              <a:xfrm rot="14338800">
                <a:off x="2309760" y="313416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组合 2268"/>
            <p:cNvGrpSpPr/>
            <p:nvPr/>
          </p:nvGrpSpPr>
          <p:grpSpPr>
            <a:xfrm>
              <a:off x="2139120" y="2649240"/>
              <a:ext cx="601920" cy="559440"/>
              <a:chOff x="2139120" y="2649240"/>
              <a:chExt cx="601920" cy="559440"/>
            </a:xfrm>
          </p:grpSpPr>
          <p:sp>
            <p:nvSpPr>
              <p:cNvPr id="479" name="Freeform 244"/>
              <p:cNvSpPr/>
              <p:nvPr/>
            </p:nvSpPr>
            <p:spPr>
              <a:xfrm rot="9269400">
                <a:off x="2199600" y="273348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45"/>
              <p:cNvSpPr/>
              <p:nvPr/>
            </p:nvSpPr>
            <p:spPr>
              <a:xfrm rot="11314200">
                <a:off x="2165040" y="2934720"/>
                <a:ext cx="54900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46"/>
              <p:cNvSpPr/>
              <p:nvPr/>
            </p:nvSpPr>
            <p:spPr>
              <a:xfrm rot="11612400">
                <a:off x="2331720" y="29214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47"/>
              <p:cNvSpPr/>
              <p:nvPr/>
            </p:nvSpPr>
            <p:spPr>
              <a:xfrm rot="11612400">
                <a:off x="2301840" y="2880000"/>
                <a:ext cx="41256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2273"/>
            <p:cNvGrpSpPr/>
            <p:nvPr/>
          </p:nvGrpSpPr>
          <p:grpSpPr>
            <a:xfrm>
              <a:off x="1807200" y="2580480"/>
              <a:ext cx="500760" cy="403560"/>
              <a:chOff x="1807200" y="2580480"/>
              <a:chExt cx="500760" cy="403560"/>
            </a:xfrm>
          </p:grpSpPr>
          <p:sp>
            <p:nvSpPr>
              <p:cNvPr id="484" name="Freeform 249"/>
              <p:cNvSpPr/>
              <p:nvPr/>
            </p:nvSpPr>
            <p:spPr>
              <a:xfrm rot="94200">
                <a:off x="1815480" y="2588760"/>
                <a:ext cx="480600" cy="388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50"/>
              <p:cNvSpPr/>
              <p:nvPr/>
            </p:nvSpPr>
            <p:spPr>
              <a:xfrm rot="2139000">
                <a:off x="1797120" y="2736000"/>
                <a:ext cx="549000" cy="45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51"/>
              <p:cNvSpPr/>
              <p:nvPr/>
            </p:nvSpPr>
            <p:spPr>
              <a:xfrm rot="2437200">
                <a:off x="1768320" y="271332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52"/>
              <p:cNvSpPr/>
              <p:nvPr/>
            </p:nvSpPr>
            <p:spPr>
              <a:xfrm rot="2437200">
                <a:off x="1775520" y="27716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组合 2278"/>
            <p:cNvGrpSpPr/>
            <p:nvPr/>
          </p:nvGrpSpPr>
          <p:grpSpPr>
            <a:xfrm>
              <a:off x="1613520" y="2670120"/>
              <a:ext cx="614880" cy="586800"/>
              <a:chOff x="1613520" y="2670120"/>
              <a:chExt cx="614880" cy="586800"/>
            </a:xfrm>
          </p:grpSpPr>
          <p:sp>
            <p:nvSpPr>
              <p:cNvPr id="489" name="Freeform 254"/>
              <p:cNvSpPr/>
              <p:nvPr/>
            </p:nvSpPr>
            <p:spPr>
              <a:xfrm rot="19669800">
                <a:off x="1680480" y="276804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55"/>
              <p:cNvSpPr/>
              <p:nvPr/>
            </p:nvSpPr>
            <p:spPr>
              <a:xfrm rot="114600">
                <a:off x="1645560" y="291312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56"/>
              <p:cNvSpPr/>
              <p:nvPr/>
            </p:nvSpPr>
            <p:spPr>
              <a:xfrm rot="412800">
                <a:off x="1618200" y="294804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57"/>
              <p:cNvSpPr/>
              <p:nvPr/>
            </p:nvSpPr>
            <p:spPr>
              <a:xfrm rot="412800">
                <a:off x="1653840" y="2993400"/>
                <a:ext cx="412920" cy="23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2283"/>
            <p:cNvGrpSpPr/>
            <p:nvPr/>
          </p:nvGrpSpPr>
          <p:grpSpPr>
            <a:xfrm>
              <a:off x="2033280" y="2718720"/>
              <a:ext cx="410760" cy="412920"/>
              <a:chOff x="2033280" y="2718720"/>
              <a:chExt cx="410760" cy="412920"/>
            </a:xfrm>
          </p:grpSpPr>
          <p:sp>
            <p:nvSpPr>
              <p:cNvPr id="494" name="AutoShape 259"/>
              <p:cNvSpPr/>
              <p:nvPr/>
            </p:nvSpPr>
            <p:spPr>
              <a:xfrm>
                <a:off x="2033280" y="2718720"/>
                <a:ext cx="410760" cy="412920"/>
              </a:xfrm>
              <a:custGeom>
                <a:avLst/>
                <a:gdLst>
                  <a:gd name="textAreaLeft" fmla="*/ 96480 w 410760"/>
                  <a:gd name="textAreaRight" fmla="*/ 314280 w 410760"/>
                  <a:gd name="textAreaTop" fmla="*/ 96840 h 412920"/>
                  <a:gd name="textAreaBottom" fmla="*/ 316080 h 41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260"/>
              <p:cNvSpPr/>
              <p:nvPr/>
            </p:nvSpPr>
            <p:spPr>
              <a:xfrm>
                <a:off x="2103840" y="2779200"/>
                <a:ext cx="274320" cy="2754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组合 2286"/>
          <p:cNvGrpSpPr/>
          <p:nvPr/>
        </p:nvGrpSpPr>
        <p:grpSpPr>
          <a:xfrm>
            <a:off x="936720" y="2714760"/>
            <a:ext cx="1803240" cy="1947240"/>
            <a:chOff x="936720" y="2714760"/>
            <a:chExt cx="1803240" cy="1947240"/>
          </a:xfrm>
        </p:grpSpPr>
        <p:grpSp>
          <p:nvGrpSpPr>
            <p:cNvPr id="497" name="组合 2287"/>
            <p:cNvGrpSpPr/>
            <p:nvPr/>
          </p:nvGrpSpPr>
          <p:grpSpPr>
            <a:xfrm>
              <a:off x="1745640" y="3108600"/>
              <a:ext cx="981360" cy="984960"/>
              <a:chOff x="1745640" y="3108600"/>
              <a:chExt cx="981360" cy="984960"/>
            </a:xfrm>
          </p:grpSpPr>
          <p:sp>
            <p:nvSpPr>
              <p:cNvPr id="498" name="Freeform 263"/>
              <p:cNvSpPr/>
              <p:nvPr/>
            </p:nvSpPr>
            <p:spPr>
              <a:xfrm rot="18826800">
                <a:off x="1857240" y="3284280"/>
                <a:ext cx="7574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64"/>
              <p:cNvSpPr/>
              <p:nvPr/>
            </p:nvSpPr>
            <p:spPr>
              <a:xfrm rot="20871600">
                <a:off x="1793160" y="3520440"/>
                <a:ext cx="8654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65"/>
              <p:cNvSpPr/>
              <p:nvPr/>
            </p:nvSpPr>
            <p:spPr>
              <a:xfrm rot="21169800">
                <a:off x="1764360" y="3614040"/>
                <a:ext cx="6490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6"/>
              <p:cNvSpPr/>
              <p:nvPr/>
            </p:nvSpPr>
            <p:spPr>
              <a:xfrm rot="21169800">
                <a:off x="1833120" y="3673080"/>
                <a:ext cx="6490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2292"/>
            <p:cNvGrpSpPr/>
            <p:nvPr/>
          </p:nvGrpSpPr>
          <p:grpSpPr>
            <a:xfrm>
              <a:off x="1760040" y="2929320"/>
              <a:ext cx="796680" cy="887400"/>
              <a:chOff x="1760040" y="2929320"/>
              <a:chExt cx="796680" cy="887400"/>
            </a:xfrm>
          </p:grpSpPr>
          <p:sp>
            <p:nvSpPr>
              <p:cNvPr id="503" name="Freeform 268"/>
              <p:cNvSpPr/>
              <p:nvPr/>
            </p:nvSpPr>
            <p:spPr>
              <a:xfrm rot="17034600">
                <a:off x="1779480" y="3056040"/>
                <a:ext cx="7574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69"/>
              <p:cNvSpPr/>
              <p:nvPr/>
            </p:nvSpPr>
            <p:spPr>
              <a:xfrm rot="19078800">
                <a:off x="1694160" y="3305160"/>
                <a:ext cx="86544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70"/>
              <p:cNvSpPr/>
              <p:nvPr/>
            </p:nvSpPr>
            <p:spPr>
              <a:xfrm rot="19377600">
                <a:off x="1725840" y="3456000"/>
                <a:ext cx="6490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71"/>
              <p:cNvSpPr/>
              <p:nvPr/>
            </p:nvSpPr>
            <p:spPr>
              <a:xfrm rot="19377600">
                <a:off x="1812600" y="3471840"/>
                <a:ext cx="6490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2297"/>
            <p:cNvGrpSpPr/>
            <p:nvPr/>
          </p:nvGrpSpPr>
          <p:grpSpPr>
            <a:xfrm>
              <a:off x="1292760" y="2714760"/>
              <a:ext cx="976680" cy="985680"/>
              <a:chOff x="1292760" y="2714760"/>
              <a:chExt cx="976680" cy="985680"/>
            </a:xfrm>
          </p:grpSpPr>
          <p:sp>
            <p:nvSpPr>
              <p:cNvPr id="508" name="Freeform 273"/>
              <p:cNvSpPr/>
              <p:nvPr/>
            </p:nvSpPr>
            <p:spPr>
              <a:xfrm rot="13688400">
                <a:off x="1403280" y="2890080"/>
                <a:ext cx="75528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4"/>
              <p:cNvSpPr/>
              <p:nvPr/>
            </p:nvSpPr>
            <p:spPr>
              <a:xfrm rot="15733200">
                <a:off x="1305720" y="31784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5"/>
              <p:cNvSpPr/>
              <p:nvPr/>
            </p:nvSpPr>
            <p:spPr>
              <a:xfrm rot="16031400">
                <a:off x="1487160" y="33307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76"/>
              <p:cNvSpPr/>
              <p:nvPr/>
            </p:nvSpPr>
            <p:spPr>
              <a:xfrm rot="16031400">
                <a:off x="1542240" y="327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组合 2302"/>
            <p:cNvGrpSpPr/>
            <p:nvPr/>
          </p:nvGrpSpPr>
          <p:grpSpPr>
            <a:xfrm>
              <a:off x="959400" y="2986200"/>
              <a:ext cx="893160" cy="789840"/>
              <a:chOff x="959400" y="2986200"/>
              <a:chExt cx="893160" cy="789840"/>
            </a:xfrm>
          </p:grpSpPr>
          <p:sp>
            <p:nvSpPr>
              <p:cNvPr id="513" name="Freeform 278"/>
              <p:cNvSpPr/>
              <p:nvPr/>
            </p:nvSpPr>
            <p:spPr>
              <a:xfrm rot="10003800">
                <a:off x="1021680" y="3064320"/>
                <a:ext cx="7574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79"/>
              <p:cNvSpPr/>
              <p:nvPr/>
            </p:nvSpPr>
            <p:spPr>
              <a:xfrm rot="12048600">
                <a:off x="955800" y="3387600"/>
                <a:ext cx="8654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80"/>
              <p:cNvSpPr/>
              <p:nvPr/>
            </p:nvSpPr>
            <p:spPr>
              <a:xfrm rot="12346800">
                <a:off x="1224000" y="3402360"/>
                <a:ext cx="6490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81"/>
              <p:cNvSpPr/>
              <p:nvPr/>
            </p:nvSpPr>
            <p:spPr>
              <a:xfrm rot="12346800">
                <a:off x="1192320" y="3329640"/>
                <a:ext cx="649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组合 2307"/>
            <p:cNvGrpSpPr/>
            <p:nvPr/>
          </p:nvGrpSpPr>
          <p:grpSpPr>
            <a:xfrm>
              <a:off x="1454040" y="3590640"/>
              <a:ext cx="982080" cy="983520"/>
              <a:chOff x="1454040" y="3590640"/>
              <a:chExt cx="982080" cy="983520"/>
            </a:xfrm>
          </p:grpSpPr>
          <p:sp>
            <p:nvSpPr>
              <p:cNvPr id="518" name="Freeform 283"/>
              <p:cNvSpPr/>
              <p:nvPr/>
            </p:nvSpPr>
            <p:spPr>
              <a:xfrm rot="2727600">
                <a:off x="1567440" y="3764880"/>
                <a:ext cx="755280" cy="634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84"/>
              <p:cNvSpPr/>
              <p:nvPr/>
            </p:nvSpPr>
            <p:spPr>
              <a:xfrm rot="4772400">
                <a:off x="1558440" y="4036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85"/>
              <p:cNvSpPr/>
              <p:nvPr/>
            </p:nvSpPr>
            <p:spPr>
              <a:xfrm rot="5070600">
                <a:off x="1585800" y="39074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86"/>
              <p:cNvSpPr/>
              <p:nvPr/>
            </p:nvSpPr>
            <p:spPr>
              <a:xfrm rot="5070600">
                <a:off x="1532520" y="3984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2312"/>
            <p:cNvGrpSpPr/>
            <p:nvPr/>
          </p:nvGrpSpPr>
          <p:grpSpPr>
            <a:xfrm>
              <a:off x="1135440" y="3642480"/>
              <a:ext cx="683280" cy="795600"/>
              <a:chOff x="1135440" y="3642480"/>
              <a:chExt cx="683280" cy="795600"/>
            </a:xfrm>
          </p:grpSpPr>
          <p:sp>
            <p:nvSpPr>
              <p:cNvPr id="523" name="Freeform 288"/>
              <p:cNvSpPr/>
              <p:nvPr/>
            </p:nvSpPr>
            <p:spPr>
              <a:xfrm rot="5628000">
                <a:off x="1099440" y="3723120"/>
                <a:ext cx="75528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89"/>
              <p:cNvSpPr/>
              <p:nvPr/>
            </p:nvSpPr>
            <p:spPr>
              <a:xfrm rot="7672800">
                <a:off x="1082880" y="4030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90"/>
              <p:cNvSpPr/>
              <p:nvPr/>
            </p:nvSpPr>
            <p:spPr>
              <a:xfrm rot="7971000">
                <a:off x="1240920" y="38876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91"/>
              <p:cNvSpPr/>
              <p:nvPr/>
            </p:nvSpPr>
            <p:spPr>
              <a:xfrm rot="7971000">
                <a:off x="1153080" y="390312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2317"/>
            <p:cNvGrpSpPr/>
            <p:nvPr/>
          </p:nvGrpSpPr>
          <p:grpSpPr>
            <a:xfrm>
              <a:off x="950760" y="3357000"/>
              <a:ext cx="896760" cy="955800"/>
              <a:chOff x="950760" y="3357000"/>
              <a:chExt cx="896760" cy="955800"/>
            </a:xfrm>
          </p:grpSpPr>
          <p:sp>
            <p:nvSpPr>
              <p:cNvPr id="528" name="Freeform 293"/>
              <p:cNvSpPr/>
              <p:nvPr/>
            </p:nvSpPr>
            <p:spPr>
              <a:xfrm rot="6925800">
                <a:off x="1020240" y="3518280"/>
                <a:ext cx="7574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94"/>
              <p:cNvSpPr/>
              <p:nvPr/>
            </p:nvSpPr>
            <p:spPr>
              <a:xfrm rot="8970600">
                <a:off x="992880" y="3835800"/>
                <a:ext cx="8654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95"/>
              <p:cNvSpPr/>
              <p:nvPr/>
            </p:nvSpPr>
            <p:spPr>
              <a:xfrm rot="9268800">
                <a:off x="1204200" y="3722400"/>
                <a:ext cx="6490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96"/>
              <p:cNvSpPr/>
              <p:nvPr/>
            </p:nvSpPr>
            <p:spPr>
              <a:xfrm rot="9268800">
                <a:off x="1121400" y="3704760"/>
                <a:ext cx="649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2322"/>
            <p:cNvGrpSpPr/>
            <p:nvPr/>
          </p:nvGrpSpPr>
          <p:grpSpPr>
            <a:xfrm>
              <a:off x="1830240" y="3421080"/>
              <a:ext cx="909720" cy="817200"/>
              <a:chOff x="1830240" y="3421080"/>
              <a:chExt cx="909720" cy="817200"/>
            </a:xfrm>
          </p:grpSpPr>
          <p:sp>
            <p:nvSpPr>
              <p:cNvPr id="533" name="Freeform 298"/>
              <p:cNvSpPr/>
              <p:nvPr/>
            </p:nvSpPr>
            <p:spPr>
              <a:xfrm rot="20636400">
                <a:off x="1910160" y="3513240"/>
                <a:ext cx="7570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99"/>
              <p:cNvSpPr/>
              <p:nvPr/>
            </p:nvSpPr>
            <p:spPr>
              <a:xfrm rot="1081200">
                <a:off x="1867320" y="3750120"/>
                <a:ext cx="8650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00"/>
              <p:cNvSpPr/>
              <p:nvPr/>
            </p:nvSpPr>
            <p:spPr>
              <a:xfrm rot="1379400">
                <a:off x="1814760" y="3764160"/>
                <a:ext cx="6487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01"/>
              <p:cNvSpPr/>
              <p:nvPr/>
            </p:nvSpPr>
            <p:spPr>
              <a:xfrm rot="1379400">
                <a:off x="1851840" y="3851640"/>
                <a:ext cx="6487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2327"/>
            <p:cNvGrpSpPr/>
            <p:nvPr/>
          </p:nvGrpSpPr>
          <p:grpSpPr>
            <a:xfrm>
              <a:off x="1639440" y="3611520"/>
              <a:ext cx="878040" cy="772920"/>
              <a:chOff x="1639440" y="3611520"/>
              <a:chExt cx="878040" cy="772920"/>
            </a:xfrm>
          </p:grpSpPr>
          <p:sp>
            <p:nvSpPr>
              <p:cNvPr id="538" name="Freeform 303"/>
              <p:cNvSpPr/>
              <p:nvPr/>
            </p:nvSpPr>
            <p:spPr>
              <a:xfrm rot="805800">
                <a:off x="1700280" y="3690720"/>
                <a:ext cx="755640" cy="614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04"/>
              <p:cNvSpPr/>
              <p:nvPr/>
            </p:nvSpPr>
            <p:spPr>
              <a:xfrm rot="2850600">
                <a:off x="1674000" y="3932280"/>
                <a:ext cx="8636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05"/>
              <p:cNvSpPr/>
              <p:nvPr/>
            </p:nvSpPr>
            <p:spPr>
              <a:xfrm rot="3148800">
                <a:off x="1644120" y="3866760"/>
                <a:ext cx="6476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06"/>
              <p:cNvSpPr/>
              <p:nvPr/>
            </p:nvSpPr>
            <p:spPr>
              <a:xfrm rot="3148800">
                <a:off x="1637640" y="395784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2332"/>
            <p:cNvGrpSpPr/>
            <p:nvPr/>
          </p:nvGrpSpPr>
          <p:grpSpPr>
            <a:xfrm>
              <a:off x="936720" y="3168720"/>
              <a:ext cx="1040760" cy="972360"/>
              <a:chOff x="936720" y="3168720"/>
              <a:chExt cx="1040760" cy="972360"/>
            </a:xfrm>
          </p:grpSpPr>
          <p:sp>
            <p:nvSpPr>
              <p:cNvPr id="543" name="Freeform 308"/>
              <p:cNvSpPr/>
              <p:nvPr/>
            </p:nvSpPr>
            <p:spPr>
              <a:xfrm rot="7717200">
                <a:off x="1207800" y="3187440"/>
                <a:ext cx="49788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09"/>
              <p:cNvSpPr/>
              <p:nvPr/>
            </p:nvSpPr>
            <p:spPr>
              <a:xfrm rot="9762000">
                <a:off x="1189080" y="3663360"/>
                <a:ext cx="57024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10"/>
              <p:cNvSpPr/>
              <p:nvPr/>
            </p:nvSpPr>
            <p:spPr>
              <a:xfrm rot="10060200">
                <a:off x="1332360" y="3560400"/>
                <a:ext cx="42876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11"/>
              <p:cNvSpPr/>
              <p:nvPr/>
            </p:nvSpPr>
            <p:spPr>
              <a:xfrm rot="10060200">
                <a:off x="1273320" y="3498840"/>
                <a:ext cx="4287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337"/>
            <p:cNvGrpSpPr/>
            <p:nvPr/>
          </p:nvGrpSpPr>
          <p:grpSpPr>
            <a:xfrm>
              <a:off x="1460880" y="2828880"/>
              <a:ext cx="956880" cy="872280"/>
              <a:chOff x="1460880" y="2828880"/>
              <a:chExt cx="956880" cy="872280"/>
            </a:xfrm>
          </p:grpSpPr>
          <p:sp>
            <p:nvSpPr>
              <p:cNvPr id="548" name="Freeform 313"/>
              <p:cNvSpPr/>
              <p:nvPr/>
            </p:nvSpPr>
            <p:spPr>
              <a:xfrm rot="13857000">
                <a:off x="1757520" y="2796120"/>
                <a:ext cx="363240" cy="937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14"/>
              <p:cNvSpPr/>
              <p:nvPr/>
            </p:nvSpPr>
            <p:spPr>
              <a:xfrm rot="15901800">
                <a:off x="1667520" y="3213360"/>
                <a:ext cx="414360" cy="108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15"/>
              <p:cNvSpPr/>
              <p:nvPr/>
            </p:nvSpPr>
            <p:spPr>
              <a:xfrm rot="16200000">
                <a:off x="1818360" y="3299760"/>
                <a:ext cx="311040" cy="79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16"/>
              <p:cNvSpPr/>
              <p:nvPr/>
            </p:nvSpPr>
            <p:spPr>
              <a:xfrm rot="16200000">
                <a:off x="1903680" y="3283200"/>
                <a:ext cx="311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组合 2342"/>
            <p:cNvGrpSpPr/>
            <p:nvPr/>
          </p:nvGrpSpPr>
          <p:grpSpPr>
            <a:xfrm>
              <a:off x="1272600" y="3008520"/>
              <a:ext cx="726480" cy="776520"/>
              <a:chOff x="1272600" y="3008520"/>
              <a:chExt cx="726480" cy="776520"/>
            </a:xfrm>
          </p:grpSpPr>
          <p:sp>
            <p:nvSpPr>
              <p:cNvPr id="553" name="Freeform 318"/>
              <p:cNvSpPr/>
              <p:nvPr/>
            </p:nvSpPr>
            <p:spPr>
              <a:xfrm rot="11895600">
                <a:off x="1357920" y="3079440"/>
                <a:ext cx="55584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19"/>
              <p:cNvSpPr/>
              <p:nvPr/>
            </p:nvSpPr>
            <p:spPr>
              <a:xfrm rot="13940400">
                <a:off x="1283040" y="3389400"/>
                <a:ext cx="6354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20"/>
              <p:cNvSpPr/>
              <p:nvPr/>
            </p:nvSpPr>
            <p:spPr>
              <a:xfrm rot="14238600">
                <a:off x="1477080" y="3453840"/>
                <a:ext cx="476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21"/>
              <p:cNvSpPr/>
              <p:nvPr/>
            </p:nvSpPr>
            <p:spPr>
              <a:xfrm rot="14238600">
                <a:off x="1501560" y="3388680"/>
                <a:ext cx="4752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组合 2347"/>
            <p:cNvGrpSpPr/>
            <p:nvPr/>
          </p:nvGrpSpPr>
          <p:grpSpPr>
            <a:xfrm>
              <a:off x="1262160" y="3722400"/>
              <a:ext cx="873360" cy="939600"/>
              <a:chOff x="1262160" y="3722400"/>
              <a:chExt cx="873360" cy="939600"/>
            </a:xfrm>
          </p:grpSpPr>
          <p:sp>
            <p:nvSpPr>
              <p:cNvPr id="558" name="Freeform 323"/>
              <p:cNvSpPr/>
              <p:nvPr/>
            </p:nvSpPr>
            <p:spPr>
              <a:xfrm rot="4063800">
                <a:off x="1320840" y="3874680"/>
                <a:ext cx="755280" cy="634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24"/>
              <p:cNvSpPr/>
              <p:nvPr/>
            </p:nvSpPr>
            <p:spPr>
              <a:xfrm rot="6108000">
                <a:off x="1312560" y="416340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25"/>
              <p:cNvSpPr/>
              <p:nvPr/>
            </p:nvSpPr>
            <p:spPr>
              <a:xfrm rot="6406200">
                <a:off x="1398600" y="40136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26"/>
              <p:cNvSpPr/>
              <p:nvPr/>
            </p:nvSpPr>
            <p:spPr>
              <a:xfrm rot="6406200">
                <a:off x="1323000" y="4065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组合 2352"/>
            <p:cNvGrpSpPr/>
            <p:nvPr/>
          </p:nvGrpSpPr>
          <p:grpSpPr>
            <a:xfrm>
              <a:off x="1472760" y="3365280"/>
              <a:ext cx="648720" cy="647280"/>
              <a:chOff x="1472760" y="3365280"/>
              <a:chExt cx="648720" cy="647280"/>
            </a:xfrm>
          </p:grpSpPr>
          <p:sp>
            <p:nvSpPr>
              <p:cNvPr id="563" name="AutoShape 328"/>
              <p:cNvSpPr/>
              <p:nvPr/>
            </p:nvSpPr>
            <p:spPr>
              <a:xfrm>
                <a:off x="1472760" y="3365280"/>
                <a:ext cx="648720" cy="647280"/>
              </a:xfrm>
              <a:custGeom>
                <a:avLst/>
                <a:gdLst>
                  <a:gd name="textAreaLeft" fmla="*/ 152280 w 648720"/>
                  <a:gd name="textAreaRight" fmla="*/ 496440 w 64872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329"/>
              <p:cNvSpPr/>
              <p:nvPr/>
            </p:nvSpPr>
            <p:spPr>
              <a:xfrm>
                <a:off x="1585440" y="3460320"/>
                <a:ext cx="432720" cy="431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2355"/>
          <p:cNvGrpSpPr/>
          <p:nvPr/>
        </p:nvGrpSpPr>
        <p:grpSpPr>
          <a:xfrm>
            <a:off x="50040" y="2480400"/>
            <a:ext cx="2005920" cy="1781280"/>
            <a:chOff x="50040" y="2480400"/>
            <a:chExt cx="2005920" cy="1781280"/>
          </a:xfrm>
        </p:grpSpPr>
        <p:grpSp>
          <p:nvGrpSpPr>
            <p:cNvPr id="566" name="组合 2356"/>
            <p:cNvGrpSpPr/>
            <p:nvPr/>
          </p:nvGrpSpPr>
          <p:grpSpPr>
            <a:xfrm>
              <a:off x="576360" y="3168720"/>
              <a:ext cx="971280" cy="951120"/>
              <a:chOff x="576360" y="3168720"/>
              <a:chExt cx="971280" cy="951120"/>
            </a:xfrm>
          </p:grpSpPr>
          <p:sp>
            <p:nvSpPr>
              <p:cNvPr id="567" name="Freeform 332"/>
              <p:cNvSpPr/>
              <p:nvPr/>
            </p:nvSpPr>
            <p:spPr>
              <a:xfrm rot="13149000">
                <a:off x="685080" y="333756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33"/>
              <p:cNvSpPr/>
              <p:nvPr/>
            </p:nvSpPr>
            <p:spPr>
              <a:xfrm rot="15194400">
                <a:off x="592200" y="362268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34"/>
              <p:cNvSpPr/>
              <p:nvPr/>
            </p:nvSpPr>
            <p:spPr>
              <a:xfrm rot="15492600">
                <a:off x="793440" y="3762720"/>
                <a:ext cx="64548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35"/>
              <p:cNvSpPr/>
              <p:nvPr/>
            </p:nvSpPr>
            <p:spPr>
              <a:xfrm rot="15492600">
                <a:off x="834120" y="369756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361"/>
            <p:cNvGrpSpPr/>
            <p:nvPr/>
          </p:nvGrpSpPr>
          <p:grpSpPr>
            <a:xfrm>
              <a:off x="237240" y="3155760"/>
              <a:ext cx="807840" cy="900720"/>
              <a:chOff x="237240" y="3155760"/>
              <a:chExt cx="807840" cy="900720"/>
            </a:xfrm>
          </p:grpSpPr>
          <p:sp>
            <p:nvSpPr>
              <p:cNvPr id="572" name="Freeform 337"/>
              <p:cNvSpPr/>
              <p:nvPr/>
            </p:nvSpPr>
            <p:spPr>
              <a:xfrm rot="17227800">
                <a:off x="264240" y="329940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38"/>
              <p:cNvSpPr/>
              <p:nvPr/>
            </p:nvSpPr>
            <p:spPr>
              <a:xfrm rot="19273200">
                <a:off x="182880" y="3538440"/>
                <a:ext cx="86148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39"/>
              <p:cNvSpPr/>
              <p:nvPr/>
            </p:nvSpPr>
            <p:spPr>
              <a:xfrm rot="19571400">
                <a:off x="204840" y="3684240"/>
                <a:ext cx="6458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40"/>
              <p:cNvSpPr/>
              <p:nvPr/>
            </p:nvSpPr>
            <p:spPr>
              <a:xfrm rot="19571400">
                <a:off x="288360" y="370080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组合 2366"/>
            <p:cNvGrpSpPr/>
            <p:nvPr/>
          </p:nvGrpSpPr>
          <p:grpSpPr>
            <a:xfrm>
              <a:off x="896040" y="3259440"/>
              <a:ext cx="832680" cy="709200"/>
              <a:chOff x="896040" y="3259440"/>
              <a:chExt cx="832680" cy="709200"/>
            </a:xfrm>
          </p:grpSpPr>
          <p:sp>
            <p:nvSpPr>
              <p:cNvPr id="577" name="Freeform 342"/>
              <p:cNvSpPr/>
              <p:nvPr/>
            </p:nvSpPr>
            <p:spPr>
              <a:xfrm rot="11275800">
                <a:off x="934560" y="33084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43"/>
              <p:cNvSpPr/>
              <p:nvPr/>
            </p:nvSpPr>
            <p:spPr>
              <a:xfrm rot="13320600">
                <a:off x="854640" y="36082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44"/>
              <p:cNvSpPr/>
              <p:nvPr/>
            </p:nvSpPr>
            <p:spPr>
              <a:xfrm rot="13619400">
                <a:off x="1108440" y="368316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45"/>
              <p:cNvSpPr/>
              <p:nvPr/>
            </p:nvSpPr>
            <p:spPr>
              <a:xfrm rot="13619400">
                <a:off x="1106280" y="360792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组合 2371"/>
            <p:cNvGrpSpPr/>
            <p:nvPr/>
          </p:nvGrpSpPr>
          <p:grpSpPr>
            <a:xfrm>
              <a:off x="312840" y="2667960"/>
              <a:ext cx="879120" cy="772920"/>
              <a:chOff x="312840" y="2667960"/>
              <a:chExt cx="879120" cy="772920"/>
            </a:xfrm>
          </p:grpSpPr>
          <p:sp>
            <p:nvSpPr>
              <p:cNvPr id="582" name="Freeform 347"/>
              <p:cNvSpPr/>
              <p:nvPr/>
            </p:nvSpPr>
            <p:spPr>
              <a:xfrm rot="823800">
                <a:off x="374400" y="27486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48"/>
              <p:cNvSpPr/>
              <p:nvPr/>
            </p:nvSpPr>
            <p:spPr>
              <a:xfrm rot="2868600">
                <a:off x="347400" y="29872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49"/>
              <p:cNvSpPr/>
              <p:nvPr/>
            </p:nvSpPr>
            <p:spPr>
              <a:xfrm rot="3166800">
                <a:off x="318960" y="29203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50"/>
              <p:cNvSpPr/>
              <p:nvPr/>
            </p:nvSpPr>
            <p:spPr>
              <a:xfrm rot="3166800">
                <a:off x="312120" y="30132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2376"/>
            <p:cNvGrpSpPr/>
            <p:nvPr/>
          </p:nvGrpSpPr>
          <p:grpSpPr>
            <a:xfrm>
              <a:off x="905040" y="2706840"/>
              <a:ext cx="912600" cy="960840"/>
              <a:chOff x="905040" y="2706840"/>
              <a:chExt cx="912600" cy="960840"/>
            </a:xfrm>
          </p:grpSpPr>
          <p:sp>
            <p:nvSpPr>
              <p:cNvPr id="587" name="Freeform 352"/>
              <p:cNvSpPr/>
              <p:nvPr/>
            </p:nvSpPr>
            <p:spPr>
              <a:xfrm rot="7251000">
                <a:off x="984600" y="2880360"/>
                <a:ext cx="75312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53"/>
              <p:cNvSpPr/>
              <p:nvPr/>
            </p:nvSpPr>
            <p:spPr>
              <a:xfrm rot="9295800">
                <a:off x="952560" y="3186360"/>
                <a:ext cx="860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54"/>
              <p:cNvSpPr/>
              <p:nvPr/>
            </p:nvSpPr>
            <p:spPr>
              <a:xfrm rot="9594000">
                <a:off x="1175400" y="308916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55"/>
              <p:cNvSpPr/>
              <p:nvPr/>
            </p:nvSpPr>
            <p:spPr>
              <a:xfrm rot="9594000">
                <a:off x="1095480" y="3067200"/>
                <a:ext cx="6454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组合 2381"/>
            <p:cNvGrpSpPr/>
            <p:nvPr/>
          </p:nvGrpSpPr>
          <p:grpSpPr>
            <a:xfrm>
              <a:off x="50040" y="2820600"/>
              <a:ext cx="920520" cy="823320"/>
              <a:chOff x="50040" y="2820600"/>
              <a:chExt cx="920520" cy="823320"/>
            </a:xfrm>
          </p:grpSpPr>
          <p:sp>
            <p:nvSpPr>
              <p:cNvPr id="592" name="Freeform 357"/>
              <p:cNvSpPr/>
              <p:nvPr/>
            </p:nvSpPr>
            <p:spPr>
              <a:xfrm rot="20461800">
                <a:off x="135720" y="292644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58"/>
              <p:cNvSpPr/>
              <p:nvPr/>
            </p:nvSpPr>
            <p:spPr>
              <a:xfrm rot="906600">
                <a:off x="88920" y="315468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59"/>
              <p:cNvSpPr/>
              <p:nvPr/>
            </p:nvSpPr>
            <p:spPr>
              <a:xfrm rot="1205400">
                <a:off x="38880" y="317628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60"/>
              <p:cNvSpPr/>
              <p:nvPr/>
            </p:nvSpPr>
            <p:spPr>
              <a:xfrm rot="1205400">
                <a:off x="77760" y="3258000"/>
                <a:ext cx="6476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2386"/>
            <p:cNvGrpSpPr/>
            <p:nvPr/>
          </p:nvGrpSpPr>
          <p:grpSpPr>
            <a:xfrm>
              <a:off x="646920" y="2593080"/>
              <a:ext cx="812880" cy="909360"/>
              <a:chOff x="646920" y="2593080"/>
              <a:chExt cx="812880" cy="909360"/>
            </a:xfrm>
          </p:grpSpPr>
          <p:sp>
            <p:nvSpPr>
              <p:cNvPr id="597" name="Freeform 362"/>
              <p:cNvSpPr/>
              <p:nvPr/>
            </p:nvSpPr>
            <p:spPr>
              <a:xfrm rot="4341600">
                <a:off x="676440" y="274356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63"/>
              <p:cNvSpPr/>
              <p:nvPr/>
            </p:nvSpPr>
            <p:spPr>
              <a:xfrm rot="6385800">
                <a:off x="660240" y="302400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64"/>
              <p:cNvSpPr/>
              <p:nvPr/>
            </p:nvSpPr>
            <p:spPr>
              <a:xfrm rot="6684000">
                <a:off x="765360" y="287748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65"/>
              <p:cNvSpPr/>
              <p:nvPr/>
            </p:nvSpPr>
            <p:spPr>
              <a:xfrm rot="6684000">
                <a:off x="687960" y="2922480"/>
                <a:ext cx="6458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2391"/>
            <p:cNvGrpSpPr/>
            <p:nvPr/>
          </p:nvGrpSpPr>
          <p:grpSpPr>
            <a:xfrm>
              <a:off x="470160" y="3331080"/>
              <a:ext cx="847440" cy="930600"/>
              <a:chOff x="470160" y="3331080"/>
              <a:chExt cx="847440" cy="930600"/>
            </a:xfrm>
          </p:grpSpPr>
          <p:sp>
            <p:nvSpPr>
              <p:cNvPr id="602" name="Freeform 367"/>
              <p:cNvSpPr/>
              <p:nvPr/>
            </p:nvSpPr>
            <p:spPr>
              <a:xfrm rot="14905200">
                <a:off x="516960" y="348768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68"/>
              <p:cNvSpPr/>
              <p:nvPr/>
            </p:nvSpPr>
            <p:spPr>
              <a:xfrm rot="16950000">
                <a:off x="421560" y="375192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69"/>
              <p:cNvSpPr/>
              <p:nvPr/>
            </p:nvSpPr>
            <p:spPr>
              <a:xfrm rot="17248800">
                <a:off x="547200" y="3920760"/>
                <a:ext cx="64548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70"/>
              <p:cNvSpPr/>
              <p:nvPr/>
            </p:nvSpPr>
            <p:spPr>
              <a:xfrm rot="17248800">
                <a:off x="618480" y="388512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2396"/>
            <p:cNvGrpSpPr/>
            <p:nvPr/>
          </p:nvGrpSpPr>
          <p:grpSpPr>
            <a:xfrm>
              <a:off x="167040" y="2957400"/>
              <a:ext cx="954000" cy="971640"/>
              <a:chOff x="167040" y="2957400"/>
              <a:chExt cx="954000" cy="971640"/>
            </a:xfrm>
          </p:grpSpPr>
          <p:sp>
            <p:nvSpPr>
              <p:cNvPr id="607" name="Freeform 372"/>
              <p:cNvSpPr/>
              <p:nvPr/>
            </p:nvSpPr>
            <p:spPr>
              <a:xfrm rot="18606000">
                <a:off x="266040" y="313776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73"/>
              <p:cNvSpPr/>
              <p:nvPr/>
            </p:nvSpPr>
            <p:spPr>
              <a:xfrm rot="20650200">
                <a:off x="197640" y="33688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74"/>
              <p:cNvSpPr/>
              <p:nvPr/>
            </p:nvSpPr>
            <p:spPr>
              <a:xfrm rot="20948400">
                <a:off x="176400" y="346896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5"/>
              <p:cNvSpPr/>
              <p:nvPr/>
            </p:nvSpPr>
            <p:spPr>
              <a:xfrm rot="20948400">
                <a:off x="247680" y="3520440"/>
                <a:ext cx="6476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2401"/>
            <p:cNvGrpSpPr/>
            <p:nvPr/>
          </p:nvGrpSpPr>
          <p:grpSpPr>
            <a:xfrm>
              <a:off x="1086840" y="2942640"/>
              <a:ext cx="969120" cy="932400"/>
              <a:chOff x="1086840" y="2942640"/>
              <a:chExt cx="969120" cy="932400"/>
            </a:xfrm>
          </p:grpSpPr>
          <p:sp>
            <p:nvSpPr>
              <p:cNvPr id="612" name="Freeform 377"/>
              <p:cNvSpPr/>
              <p:nvPr/>
            </p:nvSpPr>
            <p:spPr>
              <a:xfrm rot="8719200">
                <a:off x="1193400" y="31032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78"/>
              <p:cNvSpPr/>
              <p:nvPr/>
            </p:nvSpPr>
            <p:spPr>
              <a:xfrm rot="10764000">
                <a:off x="1143000" y="341532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79"/>
              <p:cNvSpPr/>
              <p:nvPr/>
            </p:nvSpPr>
            <p:spPr>
              <a:xfrm rot="11062200">
                <a:off x="1399680" y="33739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80"/>
              <p:cNvSpPr/>
              <p:nvPr/>
            </p:nvSpPr>
            <p:spPr>
              <a:xfrm rot="11062200">
                <a:off x="1340640" y="33213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2406"/>
            <p:cNvGrpSpPr/>
            <p:nvPr/>
          </p:nvGrpSpPr>
          <p:grpSpPr>
            <a:xfrm>
              <a:off x="807840" y="2693520"/>
              <a:ext cx="734400" cy="848160"/>
              <a:chOff x="807840" y="2693520"/>
              <a:chExt cx="734400" cy="848160"/>
            </a:xfrm>
          </p:grpSpPr>
          <p:sp>
            <p:nvSpPr>
              <p:cNvPr id="617" name="Freeform 382"/>
              <p:cNvSpPr/>
              <p:nvPr/>
            </p:nvSpPr>
            <p:spPr>
              <a:xfrm rot="5998800">
                <a:off x="798120" y="281088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83"/>
              <p:cNvSpPr/>
              <p:nvPr/>
            </p:nvSpPr>
            <p:spPr>
              <a:xfrm rot="8043600">
                <a:off x="776160" y="3107160"/>
                <a:ext cx="86112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84"/>
              <p:cNvSpPr/>
              <p:nvPr/>
            </p:nvSpPr>
            <p:spPr>
              <a:xfrm rot="8341800">
                <a:off x="954000" y="297468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85"/>
              <p:cNvSpPr/>
              <p:nvPr/>
            </p:nvSpPr>
            <p:spPr>
              <a:xfrm rot="8341800">
                <a:off x="869760" y="298260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组合 2411"/>
            <p:cNvGrpSpPr/>
            <p:nvPr/>
          </p:nvGrpSpPr>
          <p:grpSpPr>
            <a:xfrm>
              <a:off x="384840" y="2480400"/>
              <a:ext cx="965160" cy="967320"/>
              <a:chOff x="384840" y="2480400"/>
              <a:chExt cx="965160" cy="967320"/>
            </a:xfrm>
          </p:grpSpPr>
          <p:sp>
            <p:nvSpPr>
              <p:cNvPr id="622" name="Freeform 387"/>
              <p:cNvSpPr/>
              <p:nvPr/>
            </p:nvSpPr>
            <p:spPr>
              <a:xfrm rot="2739000">
                <a:off x="490680" y="265752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88"/>
              <p:cNvSpPr/>
              <p:nvPr/>
            </p:nvSpPr>
            <p:spPr>
              <a:xfrm rot="4783800">
                <a:off x="475920" y="2917800"/>
                <a:ext cx="86112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89"/>
              <p:cNvSpPr/>
              <p:nvPr/>
            </p:nvSpPr>
            <p:spPr>
              <a:xfrm rot="5082000">
                <a:off x="509040" y="278892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90"/>
              <p:cNvSpPr/>
              <p:nvPr/>
            </p:nvSpPr>
            <p:spPr>
              <a:xfrm rot="5082000">
                <a:off x="459360" y="286524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组合 2416"/>
            <p:cNvGrpSpPr/>
            <p:nvPr/>
          </p:nvGrpSpPr>
          <p:grpSpPr>
            <a:xfrm>
              <a:off x="347400" y="2931120"/>
              <a:ext cx="795600" cy="617040"/>
              <a:chOff x="347400" y="2931120"/>
              <a:chExt cx="795600" cy="617040"/>
            </a:xfrm>
          </p:grpSpPr>
          <p:sp>
            <p:nvSpPr>
              <p:cNvPr id="627" name="Freeform 392"/>
              <p:cNvSpPr/>
              <p:nvPr/>
            </p:nvSpPr>
            <p:spPr>
              <a:xfrm rot="12600">
                <a:off x="367560" y="293544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393"/>
              <p:cNvSpPr/>
              <p:nvPr/>
            </p:nvSpPr>
            <p:spPr>
              <a:xfrm rot="2057400">
                <a:off x="334080" y="316800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394"/>
              <p:cNvSpPr/>
              <p:nvPr/>
            </p:nvSpPr>
            <p:spPr>
              <a:xfrm rot="2355600">
                <a:off x="289800" y="31363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95"/>
              <p:cNvSpPr/>
              <p:nvPr/>
            </p:nvSpPr>
            <p:spPr>
              <a:xfrm rot="2355600">
                <a:off x="304200" y="32270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组合 2421"/>
            <p:cNvGrpSpPr/>
            <p:nvPr/>
          </p:nvGrpSpPr>
          <p:grpSpPr>
            <a:xfrm>
              <a:off x="714960" y="3267720"/>
              <a:ext cx="951480" cy="889200"/>
              <a:chOff x="714960" y="3267720"/>
              <a:chExt cx="951480" cy="889200"/>
            </a:xfrm>
          </p:grpSpPr>
          <p:sp>
            <p:nvSpPr>
              <p:cNvPr id="632" name="Freeform 397"/>
              <p:cNvSpPr/>
              <p:nvPr/>
            </p:nvSpPr>
            <p:spPr>
              <a:xfrm rot="12437400">
                <a:off x="812520" y="340668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98"/>
              <p:cNvSpPr/>
              <p:nvPr/>
            </p:nvSpPr>
            <p:spPr>
              <a:xfrm rot="14482200">
                <a:off x="723240" y="369900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99"/>
              <p:cNvSpPr/>
              <p:nvPr/>
            </p:nvSpPr>
            <p:spPr>
              <a:xfrm rot="14781000">
                <a:off x="946800" y="381636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00"/>
              <p:cNvSpPr/>
              <p:nvPr/>
            </p:nvSpPr>
            <p:spPr>
              <a:xfrm rot="14781000">
                <a:off x="973080" y="37436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组合 2426"/>
            <p:cNvGrpSpPr/>
            <p:nvPr/>
          </p:nvGrpSpPr>
          <p:grpSpPr>
            <a:xfrm>
              <a:off x="1084680" y="3205440"/>
              <a:ext cx="843480" cy="691920"/>
              <a:chOff x="1084680" y="3205440"/>
              <a:chExt cx="843480" cy="691920"/>
            </a:xfrm>
          </p:grpSpPr>
          <p:sp>
            <p:nvSpPr>
              <p:cNvPr id="637" name="Freeform 402"/>
              <p:cNvSpPr/>
              <p:nvPr/>
            </p:nvSpPr>
            <p:spPr>
              <a:xfrm rot="10413000">
                <a:off x="1123560" y="3245760"/>
                <a:ext cx="75600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03"/>
              <p:cNvSpPr/>
              <p:nvPr/>
            </p:nvSpPr>
            <p:spPr>
              <a:xfrm rot="12457800">
                <a:off x="1051920" y="3551400"/>
                <a:ext cx="86400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04"/>
              <p:cNvSpPr/>
              <p:nvPr/>
            </p:nvSpPr>
            <p:spPr>
              <a:xfrm rot="12756600">
                <a:off x="1317600" y="3590280"/>
                <a:ext cx="64800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05"/>
              <p:cNvSpPr/>
              <p:nvPr/>
            </p:nvSpPr>
            <p:spPr>
              <a:xfrm rot="12756600">
                <a:off x="1294200" y="3515760"/>
                <a:ext cx="64836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2431"/>
            <p:cNvGrpSpPr/>
            <p:nvPr/>
          </p:nvGrpSpPr>
          <p:grpSpPr>
            <a:xfrm>
              <a:off x="597600" y="2961000"/>
              <a:ext cx="864000" cy="862920"/>
              <a:chOff x="597600" y="2961000"/>
              <a:chExt cx="864000" cy="862920"/>
            </a:xfrm>
          </p:grpSpPr>
          <p:sp>
            <p:nvSpPr>
              <p:cNvPr id="642" name="AutoShape 407"/>
              <p:cNvSpPr/>
              <p:nvPr/>
            </p:nvSpPr>
            <p:spPr>
              <a:xfrm rot="12343200">
                <a:off x="705600" y="3069360"/>
                <a:ext cx="647640" cy="6458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560 h 645840"/>
                  <a:gd name="textAreaBottom" fmla="*/ 494280 h 64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408"/>
              <p:cNvSpPr/>
              <p:nvPr/>
            </p:nvSpPr>
            <p:spPr>
              <a:xfrm rot="12343200">
                <a:off x="802800" y="3184920"/>
                <a:ext cx="431640" cy="43020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组合 2434"/>
          <p:cNvGrpSpPr/>
          <p:nvPr/>
        </p:nvGrpSpPr>
        <p:grpSpPr>
          <a:xfrm>
            <a:off x="-213480" y="3362400"/>
            <a:ext cx="1801080" cy="1946880"/>
            <a:chOff x="-213480" y="3362400"/>
            <a:chExt cx="1801080" cy="1946880"/>
          </a:xfrm>
        </p:grpSpPr>
        <p:grpSp>
          <p:nvGrpSpPr>
            <p:cNvPr id="645" name="组合 2435"/>
            <p:cNvGrpSpPr/>
            <p:nvPr/>
          </p:nvGrpSpPr>
          <p:grpSpPr>
            <a:xfrm>
              <a:off x="595080" y="3756960"/>
              <a:ext cx="980280" cy="983880"/>
              <a:chOff x="595080" y="3756960"/>
              <a:chExt cx="980280" cy="983880"/>
            </a:xfrm>
          </p:grpSpPr>
          <p:sp>
            <p:nvSpPr>
              <p:cNvPr id="646" name="Freeform 411"/>
              <p:cNvSpPr/>
              <p:nvPr/>
            </p:nvSpPr>
            <p:spPr>
              <a:xfrm rot="18826800">
                <a:off x="707040" y="3932280"/>
                <a:ext cx="75600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12"/>
              <p:cNvSpPr/>
              <p:nvPr/>
            </p:nvSpPr>
            <p:spPr>
              <a:xfrm rot="20871600">
                <a:off x="642600" y="4168080"/>
                <a:ext cx="8640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13"/>
              <p:cNvSpPr/>
              <p:nvPr/>
            </p:nvSpPr>
            <p:spPr>
              <a:xfrm rot="21169800">
                <a:off x="613800" y="4262040"/>
                <a:ext cx="64800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14"/>
              <p:cNvSpPr/>
              <p:nvPr/>
            </p:nvSpPr>
            <p:spPr>
              <a:xfrm rot="21169800">
                <a:off x="682560" y="4320720"/>
                <a:ext cx="648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组合 2440"/>
            <p:cNvGrpSpPr/>
            <p:nvPr/>
          </p:nvGrpSpPr>
          <p:grpSpPr>
            <a:xfrm>
              <a:off x="609120" y="3577680"/>
              <a:ext cx="796320" cy="885960"/>
              <a:chOff x="609120" y="3577680"/>
              <a:chExt cx="796320" cy="885960"/>
            </a:xfrm>
          </p:grpSpPr>
          <p:sp>
            <p:nvSpPr>
              <p:cNvPr id="651" name="Freeform 416"/>
              <p:cNvSpPr/>
              <p:nvPr/>
            </p:nvSpPr>
            <p:spPr>
              <a:xfrm rot="17034600">
                <a:off x="629280" y="3703680"/>
                <a:ext cx="75600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17"/>
              <p:cNvSpPr/>
              <p:nvPr/>
            </p:nvSpPr>
            <p:spPr>
              <a:xfrm rot="19078800">
                <a:off x="543600" y="3952440"/>
                <a:ext cx="86400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18"/>
              <p:cNvSpPr/>
              <p:nvPr/>
            </p:nvSpPr>
            <p:spPr>
              <a:xfrm rot="19377600">
                <a:off x="575280" y="4103640"/>
                <a:ext cx="64800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19"/>
              <p:cNvSpPr/>
              <p:nvPr/>
            </p:nvSpPr>
            <p:spPr>
              <a:xfrm rot="19377600">
                <a:off x="662040" y="4119480"/>
                <a:ext cx="648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组合 2445"/>
            <p:cNvGrpSpPr/>
            <p:nvPr/>
          </p:nvGrpSpPr>
          <p:grpSpPr>
            <a:xfrm>
              <a:off x="142200" y="3362400"/>
              <a:ext cx="975600" cy="984960"/>
              <a:chOff x="142200" y="3362400"/>
              <a:chExt cx="975600" cy="984960"/>
            </a:xfrm>
          </p:grpSpPr>
          <p:sp>
            <p:nvSpPr>
              <p:cNvPr id="656" name="Freeform 421"/>
              <p:cNvSpPr/>
              <p:nvPr/>
            </p:nvSpPr>
            <p:spPr>
              <a:xfrm rot="13688400">
                <a:off x="252360" y="353808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22"/>
              <p:cNvSpPr/>
              <p:nvPr/>
            </p:nvSpPr>
            <p:spPr>
              <a:xfrm rot="15733200">
                <a:off x="155160" y="382608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23"/>
              <p:cNvSpPr/>
              <p:nvPr/>
            </p:nvSpPr>
            <p:spPr>
              <a:xfrm rot="16031400">
                <a:off x="336600" y="397836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24"/>
              <p:cNvSpPr/>
              <p:nvPr/>
            </p:nvSpPr>
            <p:spPr>
              <a:xfrm rot="16031400">
                <a:off x="391320" y="392112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组合 2450"/>
            <p:cNvGrpSpPr/>
            <p:nvPr/>
          </p:nvGrpSpPr>
          <p:grpSpPr>
            <a:xfrm>
              <a:off x="-190080" y="3633840"/>
              <a:ext cx="892080" cy="789480"/>
              <a:chOff x="-190080" y="3633840"/>
              <a:chExt cx="892080" cy="789480"/>
            </a:xfrm>
          </p:grpSpPr>
          <p:sp>
            <p:nvSpPr>
              <p:cNvPr id="661" name="Freeform 426"/>
              <p:cNvSpPr/>
              <p:nvPr/>
            </p:nvSpPr>
            <p:spPr>
              <a:xfrm rot="10003800">
                <a:off x="-127440" y="3711960"/>
                <a:ext cx="75600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27"/>
              <p:cNvSpPr/>
              <p:nvPr/>
            </p:nvSpPr>
            <p:spPr>
              <a:xfrm rot="12048600">
                <a:off x="-193320" y="4035240"/>
                <a:ext cx="8640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28"/>
              <p:cNvSpPr/>
              <p:nvPr/>
            </p:nvSpPr>
            <p:spPr>
              <a:xfrm rot="12346800">
                <a:off x="74160" y="4050000"/>
                <a:ext cx="64800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29"/>
              <p:cNvSpPr/>
              <p:nvPr/>
            </p:nvSpPr>
            <p:spPr>
              <a:xfrm rot="12346800">
                <a:off x="42840" y="3977280"/>
                <a:ext cx="648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2455"/>
            <p:cNvGrpSpPr/>
            <p:nvPr/>
          </p:nvGrpSpPr>
          <p:grpSpPr>
            <a:xfrm>
              <a:off x="303120" y="4238640"/>
              <a:ext cx="981360" cy="982800"/>
              <a:chOff x="303120" y="4238640"/>
              <a:chExt cx="981360" cy="982800"/>
            </a:xfrm>
          </p:grpSpPr>
          <p:sp>
            <p:nvSpPr>
              <p:cNvPr id="666" name="Freeform 431"/>
              <p:cNvSpPr/>
              <p:nvPr/>
            </p:nvSpPr>
            <p:spPr>
              <a:xfrm rot="2727600">
                <a:off x="416160" y="4412880"/>
                <a:ext cx="755280" cy="633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32"/>
              <p:cNvSpPr/>
              <p:nvPr/>
            </p:nvSpPr>
            <p:spPr>
              <a:xfrm rot="4772400">
                <a:off x="406800" y="4684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33"/>
              <p:cNvSpPr/>
              <p:nvPr/>
            </p:nvSpPr>
            <p:spPr>
              <a:xfrm rot="5070600">
                <a:off x="434520" y="45550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34"/>
              <p:cNvSpPr/>
              <p:nvPr/>
            </p:nvSpPr>
            <p:spPr>
              <a:xfrm rot="5070600">
                <a:off x="380880" y="4632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组合 2460"/>
            <p:cNvGrpSpPr/>
            <p:nvPr/>
          </p:nvGrpSpPr>
          <p:grpSpPr>
            <a:xfrm>
              <a:off x="-14400" y="4290840"/>
              <a:ext cx="682200" cy="795600"/>
              <a:chOff x="-14400" y="4290840"/>
              <a:chExt cx="682200" cy="795600"/>
            </a:xfrm>
          </p:grpSpPr>
          <p:sp>
            <p:nvSpPr>
              <p:cNvPr id="671" name="Freeform 436"/>
              <p:cNvSpPr/>
              <p:nvPr/>
            </p:nvSpPr>
            <p:spPr>
              <a:xfrm rot="5628000">
                <a:off x="-50760" y="43718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7"/>
              <p:cNvSpPr/>
              <p:nvPr/>
            </p:nvSpPr>
            <p:spPr>
              <a:xfrm rot="7672800">
                <a:off x="-67320" y="4678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8"/>
              <p:cNvSpPr/>
              <p:nvPr/>
            </p:nvSpPr>
            <p:spPr>
              <a:xfrm rot="7971000">
                <a:off x="90720" y="4535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39"/>
              <p:cNvSpPr/>
              <p:nvPr/>
            </p:nvSpPr>
            <p:spPr>
              <a:xfrm rot="7971000">
                <a:off x="2880" y="455112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组合 2465"/>
            <p:cNvGrpSpPr/>
            <p:nvPr/>
          </p:nvGrpSpPr>
          <p:grpSpPr>
            <a:xfrm>
              <a:off x="-199800" y="4005360"/>
              <a:ext cx="896400" cy="954360"/>
              <a:chOff x="-199800" y="4005360"/>
              <a:chExt cx="896400" cy="954360"/>
            </a:xfrm>
          </p:grpSpPr>
          <p:sp>
            <p:nvSpPr>
              <p:cNvPr id="676" name="Freeform 441"/>
              <p:cNvSpPr/>
              <p:nvPr/>
            </p:nvSpPr>
            <p:spPr>
              <a:xfrm rot="6925800">
                <a:off x="-129240" y="4165920"/>
                <a:ext cx="75600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2"/>
              <p:cNvSpPr/>
              <p:nvPr/>
            </p:nvSpPr>
            <p:spPr>
              <a:xfrm rot="8970600">
                <a:off x="-156600" y="4484160"/>
                <a:ext cx="8640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3"/>
              <p:cNvSpPr/>
              <p:nvPr/>
            </p:nvSpPr>
            <p:spPr>
              <a:xfrm rot="9268800">
                <a:off x="54720" y="4370400"/>
                <a:ext cx="64800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44"/>
              <p:cNvSpPr/>
              <p:nvPr/>
            </p:nvSpPr>
            <p:spPr>
              <a:xfrm rot="9268800">
                <a:off x="-28440" y="4352400"/>
                <a:ext cx="648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组合 2470"/>
            <p:cNvGrpSpPr/>
            <p:nvPr/>
          </p:nvGrpSpPr>
          <p:grpSpPr>
            <a:xfrm>
              <a:off x="679320" y="4068720"/>
              <a:ext cx="908280" cy="816840"/>
              <a:chOff x="679320" y="4068720"/>
              <a:chExt cx="908280" cy="816840"/>
            </a:xfrm>
          </p:grpSpPr>
          <p:sp>
            <p:nvSpPr>
              <p:cNvPr id="681" name="Freeform 446"/>
              <p:cNvSpPr/>
              <p:nvPr/>
            </p:nvSpPr>
            <p:spPr>
              <a:xfrm rot="20636400">
                <a:off x="759240" y="4160520"/>
                <a:ext cx="7556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47"/>
              <p:cNvSpPr/>
              <p:nvPr/>
            </p:nvSpPr>
            <p:spPr>
              <a:xfrm rot="1081200">
                <a:off x="716400" y="4398120"/>
                <a:ext cx="8636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48"/>
              <p:cNvSpPr/>
              <p:nvPr/>
            </p:nvSpPr>
            <p:spPr>
              <a:xfrm rot="1379400">
                <a:off x="663840" y="4411800"/>
                <a:ext cx="6476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49"/>
              <p:cNvSpPr/>
              <p:nvPr/>
            </p:nvSpPr>
            <p:spPr>
              <a:xfrm rot="1379400">
                <a:off x="701280" y="449928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2475"/>
            <p:cNvGrpSpPr/>
            <p:nvPr/>
          </p:nvGrpSpPr>
          <p:grpSpPr>
            <a:xfrm>
              <a:off x="488160" y="4259880"/>
              <a:ext cx="877680" cy="771840"/>
              <a:chOff x="488160" y="4259880"/>
              <a:chExt cx="877680" cy="771840"/>
            </a:xfrm>
          </p:grpSpPr>
          <p:sp>
            <p:nvSpPr>
              <p:cNvPr id="686" name="Freeform 451"/>
              <p:cNvSpPr/>
              <p:nvPr/>
            </p:nvSpPr>
            <p:spPr>
              <a:xfrm rot="805800">
                <a:off x="549000" y="433908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2"/>
              <p:cNvSpPr/>
              <p:nvPr/>
            </p:nvSpPr>
            <p:spPr>
              <a:xfrm rot="2850600">
                <a:off x="522720" y="4579920"/>
                <a:ext cx="8636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3"/>
              <p:cNvSpPr/>
              <p:nvPr/>
            </p:nvSpPr>
            <p:spPr>
              <a:xfrm rot="3148800">
                <a:off x="492480" y="4514760"/>
                <a:ext cx="6476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4"/>
              <p:cNvSpPr/>
              <p:nvPr/>
            </p:nvSpPr>
            <p:spPr>
              <a:xfrm rot="3148800">
                <a:off x="486360" y="46054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组合 2480"/>
            <p:cNvGrpSpPr/>
            <p:nvPr/>
          </p:nvGrpSpPr>
          <p:grpSpPr>
            <a:xfrm>
              <a:off x="-213480" y="3816360"/>
              <a:ext cx="1040400" cy="972000"/>
              <a:chOff x="-213480" y="3816360"/>
              <a:chExt cx="1040400" cy="972000"/>
            </a:xfrm>
          </p:grpSpPr>
          <p:sp>
            <p:nvSpPr>
              <p:cNvPr id="691" name="Freeform 456"/>
              <p:cNvSpPr/>
              <p:nvPr/>
            </p:nvSpPr>
            <p:spPr>
              <a:xfrm rot="7717200">
                <a:off x="57960" y="3835080"/>
                <a:ext cx="49716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57"/>
              <p:cNvSpPr/>
              <p:nvPr/>
            </p:nvSpPr>
            <p:spPr>
              <a:xfrm rot="9762000">
                <a:off x="39240" y="4310640"/>
                <a:ext cx="56916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58"/>
              <p:cNvSpPr/>
              <p:nvPr/>
            </p:nvSpPr>
            <p:spPr>
              <a:xfrm rot="10060200">
                <a:off x="181800" y="4208040"/>
                <a:ext cx="42804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59"/>
              <p:cNvSpPr/>
              <p:nvPr/>
            </p:nvSpPr>
            <p:spPr>
              <a:xfrm rot="10060200">
                <a:off x="122760" y="4146840"/>
                <a:ext cx="428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2485"/>
            <p:cNvGrpSpPr/>
            <p:nvPr/>
          </p:nvGrpSpPr>
          <p:grpSpPr>
            <a:xfrm>
              <a:off x="310680" y="3476880"/>
              <a:ext cx="955800" cy="871560"/>
              <a:chOff x="310680" y="3476880"/>
              <a:chExt cx="955800" cy="871560"/>
            </a:xfrm>
          </p:grpSpPr>
          <p:sp>
            <p:nvSpPr>
              <p:cNvPr id="696" name="Freeform 461"/>
              <p:cNvSpPr/>
              <p:nvPr/>
            </p:nvSpPr>
            <p:spPr>
              <a:xfrm rot="13857000">
                <a:off x="606960" y="3444840"/>
                <a:ext cx="363240" cy="935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62"/>
              <p:cNvSpPr/>
              <p:nvPr/>
            </p:nvSpPr>
            <p:spPr>
              <a:xfrm rot="15901800">
                <a:off x="516600" y="3861000"/>
                <a:ext cx="414360" cy="108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463"/>
              <p:cNvSpPr/>
              <p:nvPr/>
            </p:nvSpPr>
            <p:spPr>
              <a:xfrm rot="16200000">
                <a:off x="667080" y="3947400"/>
                <a:ext cx="31104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464"/>
              <p:cNvSpPr/>
              <p:nvPr/>
            </p:nvSpPr>
            <p:spPr>
              <a:xfrm rot="16200000">
                <a:off x="752400" y="3930840"/>
                <a:ext cx="311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组合 2490"/>
            <p:cNvGrpSpPr/>
            <p:nvPr/>
          </p:nvGrpSpPr>
          <p:grpSpPr>
            <a:xfrm>
              <a:off x="122400" y="3656520"/>
              <a:ext cx="726120" cy="775440"/>
              <a:chOff x="122400" y="3656520"/>
              <a:chExt cx="726120" cy="775440"/>
            </a:xfrm>
          </p:grpSpPr>
          <p:sp>
            <p:nvSpPr>
              <p:cNvPr id="701" name="Freeform 466"/>
              <p:cNvSpPr/>
              <p:nvPr/>
            </p:nvSpPr>
            <p:spPr>
              <a:xfrm rot="11895600">
                <a:off x="207360" y="3727440"/>
                <a:ext cx="5558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467"/>
              <p:cNvSpPr/>
              <p:nvPr/>
            </p:nvSpPr>
            <p:spPr>
              <a:xfrm rot="13940400">
                <a:off x="132840" y="4037040"/>
                <a:ext cx="6354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468"/>
              <p:cNvSpPr/>
              <p:nvPr/>
            </p:nvSpPr>
            <p:spPr>
              <a:xfrm rot="14238600">
                <a:off x="326880" y="4101480"/>
                <a:ext cx="476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469"/>
              <p:cNvSpPr/>
              <p:nvPr/>
            </p:nvSpPr>
            <p:spPr>
              <a:xfrm rot="14238600">
                <a:off x="351000" y="4036680"/>
                <a:ext cx="4752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组合 2495"/>
            <p:cNvGrpSpPr/>
            <p:nvPr/>
          </p:nvGrpSpPr>
          <p:grpSpPr>
            <a:xfrm>
              <a:off x="111600" y="4370400"/>
              <a:ext cx="872640" cy="938880"/>
              <a:chOff x="111600" y="4370400"/>
              <a:chExt cx="872640" cy="938880"/>
            </a:xfrm>
          </p:grpSpPr>
          <p:sp>
            <p:nvSpPr>
              <p:cNvPr id="706" name="Freeform 471"/>
              <p:cNvSpPr/>
              <p:nvPr/>
            </p:nvSpPr>
            <p:spPr>
              <a:xfrm rot="4063800">
                <a:off x="170280" y="4523040"/>
                <a:ext cx="755280" cy="633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472"/>
              <p:cNvSpPr/>
              <p:nvPr/>
            </p:nvSpPr>
            <p:spPr>
              <a:xfrm rot="6108000">
                <a:off x="161280" y="4810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473"/>
              <p:cNvSpPr/>
              <p:nvPr/>
            </p:nvSpPr>
            <p:spPr>
              <a:xfrm rot="6406200">
                <a:off x="247680" y="4661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474"/>
              <p:cNvSpPr/>
              <p:nvPr/>
            </p:nvSpPr>
            <p:spPr>
              <a:xfrm rot="6406200">
                <a:off x="171720" y="471312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组合 2500"/>
            <p:cNvGrpSpPr/>
            <p:nvPr/>
          </p:nvGrpSpPr>
          <p:grpSpPr>
            <a:xfrm>
              <a:off x="322560" y="4012920"/>
              <a:ext cx="647640" cy="647280"/>
              <a:chOff x="322560" y="4012920"/>
              <a:chExt cx="647640" cy="647280"/>
            </a:xfrm>
          </p:grpSpPr>
          <p:sp>
            <p:nvSpPr>
              <p:cNvPr id="711" name="AutoShape 476"/>
              <p:cNvSpPr/>
              <p:nvPr/>
            </p:nvSpPr>
            <p:spPr>
              <a:xfrm>
                <a:off x="322560" y="4012920"/>
                <a:ext cx="647640" cy="64728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477"/>
              <p:cNvSpPr/>
              <p:nvPr/>
            </p:nvSpPr>
            <p:spPr>
              <a:xfrm>
                <a:off x="435240" y="4107960"/>
                <a:ext cx="432000" cy="4312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组合 2503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714" name="AutoShape 479"/>
            <p:cNvSpPr/>
            <p:nvPr/>
          </p:nvSpPr>
          <p:spPr>
            <a:xfrm>
              <a:off x="5834520" y="6031440"/>
              <a:ext cx="714240" cy="71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80"/>
            <p:cNvSpPr/>
            <p:nvPr/>
          </p:nvSpPr>
          <p:spPr>
            <a:xfrm>
              <a:off x="5724360" y="5921280"/>
              <a:ext cx="936720" cy="93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2506"/>
          <p:cNvGrpSpPr/>
          <p:nvPr/>
        </p:nvGrpSpPr>
        <p:grpSpPr>
          <a:xfrm>
            <a:off x="6500160" y="5340600"/>
            <a:ext cx="918720" cy="989640"/>
            <a:chOff x="6500160" y="5340600"/>
            <a:chExt cx="918720" cy="989640"/>
          </a:xfrm>
        </p:grpSpPr>
        <p:grpSp>
          <p:nvGrpSpPr>
            <p:cNvPr id="717" name="组合 2507"/>
            <p:cNvGrpSpPr/>
            <p:nvPr/>
          </p:nvGrpSpPr>
          <p:grpSpPr>
            <a:xfrm>
              <a:off x="6910920" y="5541840"/>
              <a:ext cx="498240" cy="500040"/>
              <a:chOff x="6910920" y="5541840"/>
              <a:chExt cx="498240" cy="500040"/>
            </a:xfrm>
          </p:grpSpPr>
          <p:sp>
            <p:nvSpPr>
              <p:cNvPr id="718" name="Freeform 483"/>
              <p:cNvSpPr/>
              <p:nvPr/>
            </p:nvSpPr>
            <p:spPr>
              <a:xfrm rot="18826800">
                <a:off x="6967440" y="5631120"/>
                <a:ext cx="385200" cy="321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84"/>
              <p:cNvSpPr/>
              <p:nvPr/>
            </p:nvSpPr>
            <p:spPr>
              <a:xfrm rot="20871600">
                <a:off x="6934320" y="575064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485"/>
              <p:cNvSpPr/>
              <p:nvPr/>
            </p:nvSpPr>
            <p:spPr>
              <a:xfrm rot="21169800">
                <a:off x="6919920" y="579816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86"/>
              <p:cNvSpPr/>
              <p:nvPr/>
            </p:nvSpPr>
            <p:spPr>
              <a:xfrm rot="21169800">
                <a:off x="6955200" y="582840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组合 2512"/>
            <p:cNvGrpSpPr/>
            <p:nvPr/>
          </p:nvGrpSpPr>
          <p:grpSpPr>
            <a:xfrm>
              <a:off x="6921720" y="5452200"/>
              <a:ext cx="403920" cy="451080"/>
              <a:chOff x="6921720" y="5452200"/>
              <a:chExt cx="403920" cy="451080"/>
            </a:xfrm>
          </p:grpSpPr>
          <p:sp>
            <p:nvSpPr>
              <p:cNvPr id="723" name="Freeform 488"/>
              <p:cNvSpPr/>
              <p:nvPr/>
            </p:nvSpPr>
            <p:spPr>
              <a:xfrm rot="17034600">
                <a:off x="6931080" y="551736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89"/>
              <p:cNvSpPr/>
              <p:nvPr/>
            </p:nvSpPr>
            <p:spPr>
              <a:xfrm rot="19078800">
                <a:off x="6886440" y="5643360"/>
                <a:ext cx="441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90"/>
              <p:cNvSpPr/>
              <p:nvPr/>
            </p:nvSpPr>
            <p:spPr>
              <a:xfrm rot="19377600">
                <a:off x="6902280" y="5719680"/>
                <a:ext cx="3319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91"/>
              <p:cNvSpPr/>
              <p:nvPr/>
            </p:nvSpPr>
            <p:spPr>
              <a:xfrm rot="19377600">
                <a:off x="6945480" y="5729400"/>
                <a:ext cx="3319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组合 2517"/>
            <p:cNvGrpSpPr/>
            <p:nvPr/>
          </p:nvGrpSpPr>
          <p:grpSpPr>
            <a:xfrm>
              <a:off x="6678720" y="5340600"/>
              <a:ext cx="497880" cy="502200"/>
              <a:chOff x="6678720" y="5340600"/>
              <a:chExt cx="497880" cy="502200"/>
            </a:xfrm>
          </p:grpSpPr>
          <p:sp>
            <p:nvSpPr>
              <p:cNvPr id="728" name="Freeform 493"/>
              <p:cNvSpPr/>
              <p:nvPr/>
            </p:nvSpPr>
            <p:spPr>
              <a:xfrm rot="13688400">
                <a:off x="6735960" y="5428800"/>
                <a:ext cx="383040" cy="325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94"/>
              <p:cNvSpPr/>
              <p:nvPr/>
            </p:nvSpPr>
            <p:spPr>
              <a:xfrm rot="15733200">
                <a:off x="6686280" y="5574960"/>
                <a:ext cx="438480" cy="38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95"/>
              <p:cNvSpPr/>
              <p:nvPr/>
            </p:nvSpPr>
            <p:spPr>
              <a:xfrm rot="16031400">
                <a:off x="6777720" y="5653440"/>
                <a:ext cx="32904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96"/>
              <p:cNvSpPr/>
              <p:nvPr/>
            </p:nvSpPr>
            <p:spPr>
              <a:xfrm rot="16031400">
                <a:off x="6805800" y="5624640"/>
                <a:ext cx="329040" cy="19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2522"/>
            <p:cNvGrpSpPr/>
            <p:nvPr/>
          </p:nvGrpSpPr>
          <p:grpSpPr>
            <a:xfrm>
              <a:off x="6511320" y="5479920"/>
              <a:ext cx="454680" cy="400680"/>
              <a:chOff x="6511320" y="5479920"/>
              <a:chExt cx="454680" cy="400680"/>
            </a:xfrm>
          </p:grpSpPr>
          <p:sp>
            <p:nvSpPr>
              <p:cNvPr id="733" name="Freeform 498"/>
              <p:cNvSpPr/>
              <p:nvPr/>
            </p:nvSpPr>
            <p:spPr>
              <a:xfrm rot="10003800">
                <a:off x="6543000" y="551952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99"/>
              <p:cNvSpPr/>
              <p:nvPr/>
            </p:nvSpPr>
            <p:spPr>
              <a:xfrm rot="12048600">
                <a:off x="6508080" y="5682960"/>
                <a:ext cx="441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00"/>
              <p:cNvSpPr/>
              <p:nvPr/>
            </p:nvSpPr>
            <p:spPr>
              <a:xfrm rot="12346800">
                <a:off x="6644160" y="5690520"/>
                <a:ext cx="3319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01"/>
              <p:cNvSpPr/>
              <p:nvPr/>
            </p:nvSpPr>
            <p:spPr>
              <a:xfrm rot="12346800">
                <a:off x="6630840" y="565380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组合 2527"/>
            <p:cNvGrpSpPr/>
            <p:nvPr/>
          </p:nvGrpSpPr>
          <p:grpSpPr>
            <a:xfrm>
              <a:off x="6761880" y="5785560"/>
              <a:ext cx="498960" cy="499680"/>
              <a:chOff x="6761880" y="5785560"/>
              <a:chExt cx="498960" cy="499680"/>
            </a:xfrm>
          </p:grpSpPr>
          <p:sp>
            <p:nvSpPr>
              <p:cNvPr id="738" name="Freeform 503"/>
              <p:cNvSpPr/>
              <p:nvPr/>
            </p:nvSpPr>
            <p:spPr>
              <a:xfrm rot="2727600">
                <a:off x="6819480" y="5873760"/>
                <a:ext cx="38304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04"/>
              <p:cNvSpPr/>
              <p:nvPr/>
            </p:nvSpPr>
            <p:spPr>
              <a:xfrm rot="4772400">
                <a:off x="6814080" y="6012000"/>
                <a:ext cx="438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05"/>
              <p:cNvSpPr/>
              <p:nvPr/>
            </p:nvSpPr>
            <p:spPr>
              <a:xfrm rot="5070600">
                <a:off x="6830280" y="5945400"/>
                <a:ext cx="3290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06"/>
              <p:cNvSpPr/>
              <p:nvPr/>
            </p:nvSpPr>
            <p:spPr>
              <a:xfrm rot="5070600">
                <a:off x="6802200" y="5985720"/>
                <a:ext cx="3290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组合 2532"/>
            <p:cNvGrpSpPr/>
            <p:nvPr/>
          </p:nvGrpSpPr>
          <p:grpSpPr>
            <a:xfrm>
              <a:off x="6595920" y="5814000"/>
              <a:ext cx="348480" cy="403560"/>
              <a:chOff x="6595920" y="5814000"/>
              <a:chExt cx="348480" cy="403560"/>
            </a:xfrm>
          </p:grpSpPr>
          <p:sp>
            <p:nvSpPr>
              <p:cNvPr id="743" name="Freeform 508"/>
              <p:cNvSpPr/>
              <p:nvPr/>
            </p:nvSpPr>
            <p:spPr>
              <a:xfrm rot="5628000">
                <a:off x="6578640" y="5853600"/>
                <a:ext cx="382680" cy="323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09"/>
              <p:cNvSpPr/>
              <p:nvPr/>
            </p:nvSpPr>
            <p:spPr>
              <a:xfrm rot="7672800">
                <a:off x="6570720" y="6010200"/>
                <a:ext cx="438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10"/>
              <p:cNvSpPr/>
              <p:nvPr/>
            </p:nvSpPr>
            <p:spPr>
              <a:xfrm rot="7971000">
                <a:off x="6651000" y="5937840"/>
                <a:ext cx="3290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11"/>
              <p:cNvSpPr/>
              <p:nvPr/>
            </p:nvSpPr>
            <p:spPr>
              <a:xfrm rot="7971000">
                <a:off x="6607800" y="5944680"/>
                <a:ext cx="328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组合 2537"/>
            <p:cNvGrpSpPr/>
            <p:nvPr/>
          </p:nvGrpSpPr>
          <p:grpSpPr>
            <a:xfrm>
              <a:off x="6507360" y="5667480"/>
              <a:ext cx="455040" cy="485280"/>
              <a:chOff x="6507360" y="5667480"/>
              <a:chExt cx="455040" cy="485280"/>
            </a:xfrm>
          </p:grpSpPr>
          <p:sp>
            <p:nvSpPr>
              <p:cNvPr id="748" name="Freeform 513"/>
              <p:cNvSpPr/>
              <p:nvPr/>
            </p:nvSpPr>
            <p:spPr>
              <a:xfrm rot="6925800">
                <a:off x="6542280" y="5749560"/>
                <a:ext cx="38484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14"/>
              <p:cNvSpPr/>
              <p:nvPr/>
            </p:nvSpPr>
            <p:spPr>
              <a:xfrm rot="8970600">
                <a:off x="6526440" y="591048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15"/>
              <p:cNvSpPr/>
              <p:nvPr/>
            </p:nvSpPr>
            <p:spPr>
              <a:xfrm rot="9268800">
                <a:off x="6634440" y="585360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16"/>
              <p:cNvSpPr/>
              <p:nvPr/>
            </p:nvSpPr>
            <p:spPr>
              <a:xfrm rot="9268800">
                <a:off x="6593760" y="5843520"/>
                <a:ext cx="3312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2542"/>
            <p:cNvGrpSpPr/>
            <p:nvPr/>
          </p:nvGrpSpPr>
          <p:grpSpPr>
            <a:xfrm>
              <a:off x="6955200" y="5700600"/>
              <a:ext cx="463680" cy="414720"/>
              <a:chOff x="6955200" y="5700600"/>
              <a:chExt cx="463680" cy="414720"/>
            </a:xfrm>
          </p:grpSpPr>
          <p:sp>
            <p:nvSpPr>
              <p:cNvPr id="753" name="Freeform 518"/>
              <p:cNvSpPr/>
              <p:nvPr/>
            </p:nvSpPr>
            <p:spPr>
              <a:xfrm rot="20636400">
                <a:off x="6996600" y="574740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19"/>
              <p:cNvSpPr/>
              <p:nvPr/>
            </p:nvSpPr>
            <p:spPr>
              <a:xfrm rot="1081200">
                <a:off x="6971760" y="586764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20"/>
              <p:cNvSpPr/>
              <p:nvPr/>
            </p:nvSpPr>
            <p:spPr>
              <a:xfrm rot="1379400">
                <a:off x="6947280" y="587340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21"/>
              <p:cNvSpPr/>
              <p:nvPr/>
            </p:nvSpPr>
            <p:spPr>
              <a:xfrm rot="1379400">
                <a:off x="6964200" y="591804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组合 2547"/>
            <p:cNvGrpSpPr/>
            <p:nvPr/>
          </p:nvGrpSpPr>
          <p:grpSpPr>
            <a:xfrm>
              <a:off x="6856920" y="5794560"/>
              <a:ext cx="445320" cy="393840"/>
              <a:chOff x="6856920" y="5794560"/>
              <a:chExt cx="445320" cy="393840"/>
            </a:xfrm>
          </p:grpSpPr>
          <p:sp>
            <p:nvSpPr>
              <p:cNvPr id="758" name="Freeform 523"/>
              <p:cNvSpPr/>
              <p:nvPr/>
            </p:nvSpPr>
            <p:spPr>
              <a:xfrm rot="805800">
                <a:off x="6887880" y="5834520"/>
                <a:ext cx="383040" cy="313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24"/>
              <p:cNvSpPr/>
              <p:nvPr/>
            </p:nvSpPr>
            <p:spPr>
              <a:xfrm rot="2850600">
                <a:off x="6876720" y="5958720"/>
                <a:ext cx="43668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25"/>
              <p:cNvSpPr/>
              <p:nvPr/>
            </p:nvSpPr>
            <p:spPr>
              <a:xfrm rot="3148800">
                <a:off x="6860880" y="5923800"/>
                <a:ext cx="3276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26"/>
              <p:cNvSpPr/>
              <p:nvPr/>
            </p:nvSpPr>
            <p:spPr>
              <a:xfrm rot="3148800">
                <a:off x="6856560" y="5971680"/>
                <a:ext cx="32760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2552"/>
            <p:cNvGrpSpPr/>
            <p:nvPr/>
          </p:nvGrpSpPr>
          <p:grpSpPr>
            <a:xfrm>
              <a:off x="6500160" y="5568840"/>
              <a:ext cx="527400" cy="492480"/>
              <a:chOff x="6500160" y="5568840"/>
              <a:chExt cx="527400" cy="492480"/>
            </a:xfrm>
          </p:grpSpPr>
          <p:sp>
            <p:nvSpPr>
              <p:cNvPr id="763" name="Freeform 528"/>
              <p:cNvSpPr/>
              <p:nvPr/>
            </p:nvSpPr>
            <p:spPr>
              <a:xfrm rot="7717200">
                <a:off x="6637320" y="5578560"/>
                <a:ext cx="252720" cy="473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29"/>
              <p:cNvSpPr/>
              <p:nvPr/>
            </p:nvSpPr>
            <p:spPr>
              <a:xfrm rot="9762000">
                <a:off x="6629040" y="5820480"/>
                <a:ext cx="289440" cy="53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30"/>
              <p:cNvSpPr/>
              <p:nvPr/>
            </p:nvSpPr>
            <p:spPr>
              <a:xfrm rot="10060200">
                <a:off x="6703920" y="5767560"/>
                <a:ext cx="216360" cy="38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31"/>
              <p:cNvSpPr/>
              <p:nvPr/>
            </p:nvSpPr>
            <p:spPr>
              <a:xfrm rot="10060200">
                <a:off x="6669720" y="5736600"/>
                <a:ext cx="2181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组合 2557"/>
            <p:cNvGrpSpPr/>
            <p:nvPr/>
          </p:nvGrpSpPr>
          <p:grpSpPr>
            <a:xfrm>
              <a:off x="6765480" y="5400000"/>
              <a:ext cx="486360" cy="443160"/>
              <a:chOff x="6765480" y="5400000"/>
              <a:chExt cx="486360" cy="443160"/>
            </a:xfrm>
          </p:grpSpPr>
          <p:sp>
            <p:nvSpPr>
              <p:cNvPr id="768" name="Freeform 533"/>
              <p:cNvSpPr/>
              <p:nvPr/>
            </p:nvSpPr>
            <p:spPr>
              <a:xfrm rot="13857000">
                <a:off x="6916680" y="5382720"/>
                <a:ext cx="183600" cy="477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34"/>
              <p:cNvSpPr/>
              <p:nvPr/>
            </p:nvSpPr>
            <p:spPr>
              <a:xfrm rot="15901800">
                <a:off x="6872400" y="5595120"/>
                <a:ext cx="20880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35"/>
              <p:cNvSpPr/>
              <p:nvPr/>
            </p:nvSpPr>
            <p:spPr>
              <a:xfrm rot="16200000">
                <a:off x="6948000" y="5635800"/>
                <a:ext cx="15660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36"/>
              <p:cNvSpPr/>
              <p:nvPr/>
            </p:nvSpPr>
            <p:spPr>
              <a:xfrm rot="16200000">
                <a:off x="6991920" y="5627160"/>
                <a:ext cx="1566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2562"/>
            <p:cNvGrpSpPr/>
            <p:nvPr/>
          </p:nvGrpSpPr>
          <p:grpSpPr>
            <a:xfrm>
              <a:off x="6664320" y="5484960"/>
              <a:ext cx="370440" cy="395640"/>
              <a:chOff x="6664320" y="5484960"/>
              <a:chExt cx="370440" cy="395640"/>
            </a:xfrm>
          </p:grpSpPr>
          <p:sp>
            <p:nvSpPr>
              <p:cNvPr id="773" name="Freeform 538"/>
              <p:cNvSpPr/>
              <p:nvPr/>
            </p:nvSpPr>
            <p:spPr>
              <a:xfrm rot="11895600">
                <a:off x="6707520" y="5520960"/>
                <a:ext cx="28332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39"/>
              <p:cNvSpPr/>
              <p:nvPr/>
            </p:nvSpPr>
            <p:spPr>
              <a:xfrm rot="13940400">
                <a:off x="6671880" y="5681160"/>
                <a:ext cx="322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40"/>
              <p:cNvSpPr/>
              <p:nvPr/>
            </p:nvSpPr>
            <p:spPr>
              <a:xfrm rot="14238600">
                <a:off x="6769800" y="5711040"/>
                <a:ext cx="2422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41"/>
              <p:cNvSpPr/>
              <p:nvPr/>
            </p:nvSpPr>
            <p:spPr>
              <a:xfrm rot="14238600">
                <a:off x="6780600" y="5680080"/>
                <a:ext cx="2422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2567"/>
            <p:cNvGrpSpPr/>
            <p:nvPr/>
          </p:nvGrpSpPr>
          <p:grpSpPr>
            <a:xfrm>
              <a:off x="6665040" y="5853600"/>
              <a:ext cx="444240" cy="476640"/>
              <a:chOff x="6665040" y="5853600"/>
              <a:chExt cx="444240" cy="476640"/>
            </a:xfrm>
          </p:grpSpPr>
          <p:sp>
            <p:nvSpPr>
              <p:cNvPr id="778" name="Freeform 543"/>
              <p:cNvSpPr/>
              <p:nvPr/>
            </p:nvSpPr>
            <p:spPr>
              <a:xfrm rot="4063800">
                <a:off x="6695640" y="5930280"/>
                <a:ext cx="38268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44"/>
              <p:cNvSpPr/>
              <p:nvPr/>
            </p:nvSpPr>
            <p:spPr>
              <a:xfrm rot="6108000">
                <a:off x="6689880" y="607644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45"/>
              <p:cNvSpPr/>
              <p:nvPr/>
            </p:nvSpPr>
            <p:spPr>
              <a:xfrm rot="6406200">
                <a:off x="6736320" y="6001200"/>
                <a:ext cx="3290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46"/>
              <p:cNvSpPr/>
              <p:nvPr/>
            </p:nvSpPr>
            <p:spPr>
              <a:xfrm rot="6406200">
                <a:off x="6696720" y="6027840"/>
                <a:ext cx="3290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2572"/>
            <p:cNvGrpSpPr/>
            <p:nvPr/>
          </p:nvGrpSpPr>
          <p:grpSpPr>
            <a:xfrm>
              <a:off x="6770520" y="5672160"/>
              <a:ext cx="331560" cy="329040"/>
              <a:chOff x="6770520" y="5672160"/>
              <a:chExt cx="331560" cy="329040"/>
            </a:xfrm>
          </p:grpSpPr>
          <p:sp>
            <p:nvSpPr>
              <p:cNvPr id="783" name="AutoShape 548"/>
              <p:cNvSpPr/>
              <p:nvPr/>
            </p:nvSpPr>
            <p:spPr>
              <a:xfrm>
                <a:off x="6770520" y="5672160"/>
                <a:ext cx="331560" cy="329040"/>
              </a:xfrm>
              <a:custGeom>
                <a:avLst/>
                <a:gdLst>
                  <a:gd name="textAreaLeft" fmla="*/ 77760 w 331560"/>
                  <a:gd name="textAreaRight" fmla="*/ 253800 w 33156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549"/>
              <p:cNvSpPr/>
              <p:nvPr/>
            </p:nvSpPr>
            <p:spPr>
              <a:xfrm>
                <a:off x="6827760" y="5721120"/>
                <a:ext cx="221400" cy="21780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组合 2575"/>
          <p:cNvGrpSpPr/>
          <p:nvPr/>
        </p:nvGrpSpPr>
        <p:grpSpPr>
          <a:xfrm>
            <a:off x="6206760" y="5852160"/>
            <a:ext cx="741240" cy="789120"/>
            <a:chOff x="6206760" y="5852160"/>
            <a:chExt cx="741240" cy="789120"/>
          </a:xfrm>
        </p:grpSpPr>
        <p:grpSp>
          <p:nvGrpSpPr>
            <p:cNvPr id="786" name="组合 2576"/>
            <p:cNvGrpSpPr/>
            <p:nvPr/>
          </p:nvGrpSpPr>
          <p:grpSpPr>
            <a:xfrm>
              <a:off x="6541920" y="6009120"/>
              <a:ext cx="399240" cy="400680"/>
              <a:chOff x="6541920" y="6009120"/>
              <a:chExt cx="399240" cy="400680"/>
            </a:xfrm>
          </p:grpSpPr>
          <p:sp>
            <p:nvSpPr>
              <p:cNvPr id="787" name="Freeform 552"/>
              <p:cNvSpPr/>
              <p:nvPr/>
            </p:nvSpPr>
            <p:spPr>
              <a:xfrm rot="18826800">
                <a:off x="6587280" y="608040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53"/>
              <p:cNvSpPr/>
              <p:nvPr/>
            </p:nvSpPr>
            <p:spPr>
              <a:xfrm rot="20871600">
                <a:off x="6561720" y="617508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54"/>
              <p:cNvSpPr/>
              <p:nvPr/>
            </p:nvSpPr>
            <p:spPr>
              <a:xfrm rot="21169800">
                <a:off x="6551280" y="621504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55"/>
              <p:cNvSpPr/>
              <p:nvPr/>
            </p:nvSpPr>
            <p:spPr>
              <a:xfrm rot="21169800">
                <a:off x="6578280" y="6237360"/>
                <a:ext cx="263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组合 2581"/>
            <p:cNvGrpSpPr/>
            <p:nvPr/>
          </p:nvGrpSpPr>
          <p:grpSpPr>
            <a:xfrm>
              <a:off x="6549840" y="5936400"/>
              <a:ext cx="324360" cy="360720"/>
              <a:chOff x="6549840" y="5936400"/>
              <a:chExt cx="324360" cy="360720"/>
            </a:xfrm>
          </p:grpSpPr>
          <p:sp>
            <p:nvSpPr>
              <p:cNvPr id="792" name="Freeform 557"/>
              <p:cNvSpPr/>
              <p:nvPr/>
            </p:nvSpPr>
            <p:spPr>
              <a:xfrm rot="17034600">
                <a:off x="6557760" y="5987880"/>
                <a:ext cx="30780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58"/>
              <p:cNvSpPr/>
              <p:nvPr/>
            </p:nvSpPr>
            <p:spPr>
              <a:xfrm rot="19078800">
                <a:off x="6523920" y="608796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59"/>
              <p:cNvSpPr/>
              <p:nvPr/>
            </p:nvSpPr>
            <p:spPr>
              <a:xfrm rot="19377600">
                <a:off x="6537240" y="6149880"/>
                <a:ext cx="263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0"/>
              <p:cNvSpPr/>
              <p:nvPr/>
            </p:nvSpPr>
            <p:spPr>
              <a:xfrm rot="19377600">
                <a:off x="6571800" y="6158520"/>
                <a:ext cx="263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组合 2586"/>
            <p:cNvGrpSpPr/>
            <p:nvPr/>
          </p:nvGrpSpPr>
          <p:grpSpPr>
            <a:xfrm>
              <a:off x="6360480" y="5852160"/>
              <a:ext cx="397800" cy="401760"/>
              <a:chOff x="6360480" y="5852160"/>
              <a:chExt cx="397800" cy="401760"/>
            </a:xfrm>
          </p:grpSpPr>
          <p:sp>
            <p:nvSpPr>
              <p:cNvPr id="797" name="Freeform 562"/>
              <p:cNvSpPr/>
              <p:nvPr/>
            </p:nvSpPr>
            <p:spPr>
              <a:xfrm rot="13688400">
                <a:off x="6405120" y="5923800"/>
                <a:ext cx="30852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63"/>
              <p:cNvSpPr/>
              <p:nvPr/>
            </p:nvSpPr>
            <p:spPr>
              <a:xfrm rot="15733200">
                <a:off x="6365160" y="6039000"/>
                <a:ext cx="35172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4"/>
              <p:cNvSpPr/>
              <p:nvPr/>
            </p:nvSpPr>
            <p:spPr>
              <a:xfrm rot="16031400">
                <a:off x="6439680" y="61020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65"/>
              <p:cNvSpPr/>
              <p:nvPr/>
            </p:nvSpPr>
            <p:spPr>
              <a:xfrm rot="16031400">
                <a:off x="6461640" y="607896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2591"/>
            <p:cNvGrpSpPr/>
            <p:nvPr/>
          </p:nvGrpSpPr>
          <p:grpSpPr>
            <a:xfrm>
              <a:off x="6225120" y="5959080"/>
              <a:ext cx="362880" cy="321480"/>
              <a:chOff x="6225120" y="5959080"/>
              <a:chExt cx="362880" cy="321480"/>
            </a:xfrm>
          </p:grpSpPr>
          <p:sp>
            <p:nvSpPr>
              <p:cNvPr id="802" name="Freeform 567"/>
              <p:cNvSpPr/>
              <p:nvPr/>
            </p:nvSpPr>
            <p:spPr>
              <a:xfrm rot="10003800">
                <a:off x="6250320" y="599076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568"/>
              <p:cNvSpPr/>
              <p:nvPr/>
            </p:nvSpPr>
            <p:spPr>
              <a:xfrm rot="12048600">
                <a:off x="6220800" y="612000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69"/>
              <p:cNvSpPr/>
              <p:nvPr/>
            </p:nvSpPr>
            <p:spPr>
              <a:xfrm rot="12346800">
                <a:off x="6332040" y="6126480"/>
                <a:ext cx="2642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570"/>
              <p:cNvSpPr/>
              <p:nvPr/>
            </p:nvSpPr>
            <p:spPr>
              <a:xfrm rot="12346800">
                <a:off x="6319440" y="609768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2596"/>
            <p:cNvGrpSpPr/>
            <p:nvPr/>
          </p:nvGrpSpPr>
          <p:grpSpPr>
            <a:xfrm>
              <a:off x="6423840" y="6203880"/>
              <a:ext cx="400320" cy="400680"/>
              <a:chOff x="6423840" y="6203880"/>
              <a:chExt cx="400320" cy="400680"/>
            </a:xfrm>
          </p:grpSpPr>
          <p:sp>
            <p:nvSpPr>
              <p:cNvPr id="807" name="Freeform 572"/>
              <p:cNvSpPr/>
              <p:nvPr/>
            </p:nvSpPr>
            <p:spPr>
              <a:xfrm rot="2727600">
                <a:off x="6469200" y="6275520"/>
                <a:ext cx="30888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573"/>
              <p:cNvSpPr/>
              <p:nvPr/>
            </p:nvSpPr>
            <p:spPr>
              <a:xfrm rot="4772400">
                <a:off x="6464880" y="6384960"/>
                <a:ext cx="3520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574"/>
              <p:cNvSpPr/>
              <p:nvPr/>
            </p:nvSpPr>
            <p:spPr>
              <a:xfrm rot="5070600">
                <a:off x="6476400" y="63324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575"/>
              <p:cNvSpPr/>
              <p:nvPr/>
            </p:nvSpPr>
            <p:spPr>
              <a:xfrm rot="5070600">
                <a:off x="6454800" y="63648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组合 2601"/>
            <p:cNvGrpSpPr/>
            <p:nvPr/>
          </p:nvGrpSpPr>
          <p:grpSpPr>
            <a:xfrm>
              <a:off x="6295320" y="6226920"/>
              <a:ext cx="277200" cy="324000"/>
              <a:chOff x="6295320" y="6226920"/>
              <a:chExt cx="277200" cy="324000"/>
            </a:xfrm>
          </p:grpSpPr>
          <p:sp>
            <p:nvSpPr>
              <p:cNvPr id="812" name="Freeform 577"/>
              <p:cNvSpPr/>
              <p:nvPr/>
            </p:nvSpPr>
            <p:spPr>
              <a:xfrm rot="5628000">
                <a:off x="6279840" y="6260040"/>
                <a:ext cx="30744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578"/>
              <p:cNvSpPr/>
              <p:nvPr/>
            </p:nvSpPr>
            <p:spPr>
              <a:xfrm rot="7672800">
                <a:off x="6271920" y="6384600"/>
                <a:ext cx="3502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579"/>
              <p:cNvSpPr/>
              <p:nvPr/>
            </p:nvSpPr>
            <p:spPr>
              <a:xfrm rot="7971000">
                <a:off x="6337080" y="632520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580"/>
              <p:cNvSpPr/>
              <p:nvPr/>
            </p:nvSpPr>
            <p:spPr>
              <a:xfrm rot="7971000">
                <a:off x="6301440" y="6330600"/>
                <a:ext cx="2628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组合 2606"/>
            <p:cNvGrpSpPr/>
            <p:nvPr/>
          </p:nvGrpSpPr>
          <p:grpSpPr>
            <a:xfrm>
              <a:off x="6221880" y="6107040"/>
              <a:ext cx="365040" cy="389160"/>
              <a:chOff x="6221880" y="6107040"/>
              <a:chExt cx="365040" cy="389160"/>
            </a:xfrm>
          </p:grpSpPr>
          <p:sp>
            <p:nvSpPr>
              <p:cNvPr id="817" name="Freeform 582"/>
              <p:cNvSpPr/>
              <p:nvPr/>
            </p:nvSpPr>
            <p:spPr>
              <a:xfrm rot="6925800">
                <a:off x="6249960" y="617256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583"/>
              <p:cNvSpPr/>
              <p:nvPr/>
            </p:nvSpPr>
            <p:spPr>
              <a:xfrm rot="8970600">
                <a:off x="6237360" y="630216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584"/>
              <p:cNvSpPr/>
              <p:nvPr/>
            </p:nvSpPr>
            <p:spPr>
              <a:xfrm rot="9268800">
                <a:off x="6324120" y="62568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585"/>
              <p:cNvSpPr/>
              <p:nvPr/>
            </p:nvSpPr>
            <p:spPr>
              <a:xfrm rot="9268800">
                <a:off x="6290640" y="624816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组合 2611"/>
            <p:cNvGrpSpPr/>
            <p:nvPr/>
          </p:nvGrpSpPr>
          <p:grpSpPr>
            <a:xfrm>
              <a:off x="6577920" y="6138000"/>
              <a:ext cx="370080" cy="332640"/>
              <a:chOff x="6577920" y="6138000"/>
              <a:chExt cx="370080" cy="332640"/>
            </a:xfrm>
          </p:grpSpPr>
          <p:sp>
            <p:nvSpPr>
              <p:cNvPr id="822" name="Freeform 587"/>
              <p:cNvSpPr/>
              <p:nvPr/>
            </p:nvSpPr>
            <p:spPr>
              <a:xfrm rot="20636400">
                <a:off x="6610320" y="6175440"/>
                <a:ext cx="3081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88"/>
              <p:cNvSpPr/>
              <p:nvPr/>
            </p:nvSpPr>
            <p:spPr>
              <a:xfrm rot="1081200">
                <a:off x="6592680" y="627012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89"/>
              <p:cNvSpPr/>
              <p:nvPr/>
            </p:nvSpPr>
            <p:spPr>
              <a:xfrm rot="1379400">
                <a:off x="6571440" y="627696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90"/>
              <p:cNvSpPr/>
              <p:nvPr/>
            </p:nvSpPr>
            <p:spPr>
              <a:xfrm rot="1379400">
                <a:off x="6585840" y="63126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组合 2616"/>
            <p:cNvGrpSpPr/>
            <p:nvPr/>
          </p:nvGrpSpPr>
          <p:grpSpPr>
            <a:xfrm>
              <a:off x="6504120" y="6215040"/>
              <a:ext cx="358200" cy="313920"/>
              <a:chOff x="6504120" y="6215040"/>
              <a:chExt cx="358200" cy="313920"/>
            </a:xfrm>
          </p:grpSpPr>
          <p:sp>
            <p:nvSpPr>
              <p:cNvPr id="827" name="Freeform 592"/>
              <p:cNvSpPr/>
              <p:nvPr/>
            </p:nvSpPr>
            <p:spPr>
              <a:xfrm rot="805800">
                <a:off x="6528600" y="6247440"/>
                <a:ext cx="308520" cy="249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93"/>
              <p:cNvSpPr/>
              <p:nvPr/>
            </p:nvSpPr>
            <p:spPr>
              <a:xfrm rot="2850600">
                <a:off x="6519240" y="6346800"/>
                <a:ext cx="3520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94"/>
              <p:cNvSpPr/>
              <p:nvPr/>
            </p:nvSpPr>
            <p:spPr>
              <a:xfrm rot="3148800">
                <a:off x="6505200" y="6319800"/>
                <a:ext cx="26424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95"/>
              <p:cNvSpPr/>
              <p:nvPr/>
            </p:nvSpPr>
            <p:spPr>
              <a:xfrm rot="3148800">
                <a:off x="6501960" y="6356880"/>
                <a:ext cx="26424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组合 2621"/>
            <p:cNvGrpSpPr/>
            <p:nvPr/>
          </p:nvGrpSpPr>
          <p:grpSpPr>
            <a:xfrm>
              <a:off x="6206760" y="6032880"/>
              <a:ext cx="424080" cy="396360"/>
              <a:chOff x="6206760" y="6032880"/>
              <a:chExt cx="424080" cy="396360"/>
            </a:xfrm>
          </p:grpSpPr>
          <p:sp>
            <p:nvSpPr>
              <p:cNvPr id="832" name="Freeform 597"/>
              <p:cNvSpPr/>
              <p:nvPr/>
            </p:nvSpPr>
            <p:spPr>
              <a:xfrm rot="7717200">
                <a:off x="6317280" y="6040440"/>
                <a:ext cx="203040" cy="380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98"/>
              <p:cNvSpPr/>
              <p:nvPr/>
            </p:nvSpPr>
            <p:spPr>
              <a:xfrm rot="9762000">
                <a:off x="6310440" y="6235560"/>
                <a:ext cx="23364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99"/>
              <p:cNvSpPr/>
              <p:nvPr/>
            </p:nvSpPr>
            <p:spPr>
              <a:xfrm rot="10060200">
                <a:off x="6368400" y="6194520"/>
                <a:ext cx="17424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00"/>
              <p:cNvSpPr/>
              <p:nvPr/>
            </p:nvSpPr>
            <p:spPr>
              <a:xfrm rot="10060200">
                <a:off x="6344280" y="6168600"/>
                <a:ext cx="1742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组合 2626"/>
            <p:cNvGrpSpPr/>
            <p:nvPr/>
          </p:nvGrpSpPr>
          <p:grpSpPr>
            <a:xfrm>
              <a:off x="6431400" y="5896440"/>
              <a:ext cx="387720" cy="353520"/>
              <a:chOff x="6431400" y="5896440"/>
              <a:chExt cx="387720" cy="353520"/>
            </a:xfrm>
          </p:grpSpPr>
          <p:sp>
            <p:nvSpPr>
              <p:cNvPr id="837" name="Freeform 602"/>
              <p:cNvSpPr/>
              <p:nvPr/>
            </p:nvSpPr>
            <p:spPr>
              <a:xfrm rot="13857000">
                <a:off x="6551280" y="5883120"/>
                <a:ext cx="147600" cy="379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03"/>
              <p:cNvSpPr/>
              <p:nvPr/>
            </p:nvSpPr>
            <p:spPr>
              <a:xfrm rot="15901800">
                <a:off x="6514560" y="60530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04"/>
              <p:cNvSpPr/>
              <p:nvPr/>
            </p:nvSpPr>
            <p:spPr>
              <a:xfrm rot="16200000">
                <a:off x="6574320" y="608832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05"/>
              <p:cNvSpPr/>
              <p:nvPr/>
            </p:nvSpPr>
            <p:spPr>
              <a:xfrm rot="16200000">
                <a:off x="6609600" y="6080760"/>
                <a:ext cx="12672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组合 2631"/>
            <p:cNvGrpSpPr/>
            <p:nvPr/>
          </p:nvGrpSpPr>
          <p:grpSpPr>
            <a:xfrm>
              <a:off x="6346440" y="5961600"/>
              <a:ext cx="295560" cy="315720"/>
              <a:chOff x="6346440" y="5961600"/>
              <a:chExt cx="295560" cy="315720"/>
            </a:xfrm>
          </p:grpSpPr>
          <p:sp>
            <p:nvSpPr>
              <p:cNvPr id="842" name="Freeform 607"/>
              <p:cNvSpPr/>
              <p:nvPr/>
            </p:nvSpPr>
            <p:spPr>
              <a:xfrm rot="11895600">
                <a:off x="6381000" y="5990400"/>
                <a:ext cx="22644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08"/>
              <p:cNvSpPr/>
              <p:nvPr/>
            </p:nvSpPr>
            <p:spPr>
              <a:xfrm rot="13940400">
                <a:off x="6348960" y="6114240"/>
                <a:ext cx="25992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09"/>
              <p:cNvSpPr/>
              <p:nvPr/>
            </p:nvSpPr>
            <p:spPr>
              <a:xfrm rot="14238600">
                <a:off x="6430320" y="6142320"/>
                <a:ext cx="19476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10"/>
              <p:cNvSpPr/>
              <p:nvPr/>
            </p:nvSpPr>
            <p:spPr>
              <a:xfrm rot="14238600">
                <a:off x="6438600" y="6117480"/>
                <a:ext cx="19476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组合 2636"/>
            <p:cNvGrpSpPr/>
            <p:nvPr/>
          </p:nvGrpSpPr>
          <p:grpSpPr>
            <a:xfrm>
              <a:off x="6347880" y="6257520"/>
              <a:ext cx="355320" cy="383760"/>
              <a:chOff x="6347880" y="6257520"/>
              <a:chExt cx="355320" cy="383760"/>
            </a:xfrm>
          </p:grpSpPr>
          <p:sp>
            <p:nvSpPr>
              <p:cNvPr id="847" name="Freeform 612"/>
              <p:cNvSpPr/>
              <p:nvPr/>
            </p:nvSpPr>
            <p:spPr>
              <a:xfrm rot="4063800">
                <a:off x="6370920" y="6320520"/>
                <a:ext cx="30888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13"/>
              <p:cNvSpPr/>
              <p:nvPr/>
            </p:nvSpPr>
            <p:spPr>
              <a:xfrm rot="6108000">
                <a:off x="6366600" y="6436080"/>
                <a:ext cx="3520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14"/>
              <p:cNvSpPr/>
              <p:nvPr/>
            </p:nvSpPr>
            <p:spPr>
              <a:xfrm rot="6406200">
                <a:off x="6401520" y="637632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15"/>
              <p:cNvSpPr/>
              <p:nvPr/>
            </p:nvSpPr>
            <p:spPr>
              <a:xfrm rot="6406200">
                <a:off x="6370920" y="63972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组合 2641"/>
            <p:cNvGrpSpPr/>
            <p:nvPr/>
          </p:nvGrpSpPr>
          <p:grpSpPr>
            <a:xfrm>
              <a:off x="6433560" y="6113880"/>
              <a:ext cx="263880" cy="262800"/>
              <a:chOff x="6433560" y="6113880"/>
              <a:chExt cx="263880" cy="262800"/>
            </a:xfrm>
          </p:grpSpPr>
          <p:sp>
            <p:nvSpPr>
              <p:cNvPr id="852" name="AutoShape 617"/>
              <p:cNvSpPr/>
              <p:nvPr/>
            </p:nvSpPr>
            <p:spPr>
              <a:xfrm>
                <a:off x="6433560" y="6113880"/>
                <a:ext cx="263880" cy="262800"/>
              </a:xfrm>
              <a:custGeom>
                <a:avLst/>
                <a:gdLst>
                  <a:gd name="textAreaLeft" fmla="*/ 61920 w 263880"/>
                  <a:gd name="textAreaRight" fmla="*/ 201960 w 26388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618"/>
              <p:cNvSpPr/>
              <p:nvPr/>
            </p:nvSpPr>
            <p:spPr>
              <a:xfrm>
                <a:off x="6480000" y="6151680"/>
                <a:ext cx="176040" cy="17496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组合 2644"/>
          <p:cNvGrpSpPr/>
          <p:nvPr/>
        </p:nvGrpSpPr>
        <p:grpSpPr>
          <a:xfrm>
            <a:off x="6605280" y="4270320"/>
            <a:ext cx="1921680" cy="1871280"/>
            <a:chOff x="6605280" y="4270320"/>
            <a:chExt cx="1921680" cy="1871280"/>
          </a:xfrm>
        </p:grpSpPr>
        <p:grpSp>
          <p:nvGrpSpPr>
            <p:cNvPr id="855" name="组合 2645"/>
            <p:cNvGrpSpPr/>
            <p:nvPr/>
          </p:nvGrpSpPr>
          <p:grpSpPr>
            <a:xfrm>
              <a:off x="7110720" y="5083920"/>
              <a:ext cx="878400" cy="967680"/>
              <a:chOff x="7110720" y="5083920"/>
              <a:chExt cx="878400" cy="967680"/>
            </a:xfrm>
          </p:grpSpPr>
          <p:sp>
            <p:nvSpPr>
              <p:cNvPr id="856" name="Freeform 621"/>
              <p:cNvSpPr/>
              <p:nvPr/>
            </p:nvSpPr>
            <p:spPr>
              <a:xfrm rot="3869400">
                <a:off x="7160040" y="526968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22"/>
              <p:cNvSpPr/>
              <p:nvPr/>
            </p:nvSpPr>
            <p:spPr>
              <a:xfrm rot="5914200">
                <a:off x="7143840" y="5537520"/>
                <a:ext cx="89100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23"/>
              <p:cNvSpPr/>
              <p:nvPr/>
            </p:nvSpPr>
            <p:spPr>
              <a:xfrm rot="6213000">
                <a:off x="7231320" y="5389920"/>
                <a:ext cx="66852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24"/>
              <p:cNvSpPr/>
              <p:nvPr/>
            </p:nvSpPr>
            <p:spPr>
              <a:xfrm rot="6213000">
                <a:off x="7161840" y="5446440"/>
                <a:ext cx="66852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组合 2650"/>
            <p:cNvGrpSpPr/>
            <p:nvPr/>
          </p:nvGrpSpPr>
          <p:grpSpPr>
            <a:xfrm>
              <a:off x="6865200" y="4965480"/>
              <a:ext cx="733320" cy="829800"/>
              <a:chOff x="6865200" y="4965480"/>
              <a:chExt cx="733320" cy="829800"/>
            </a:xfrm>
          </p:grpSpPr>
          <p:sp>
            <p:nvSpPr>
              <p:cNvPr id="861" name="Freeform 626"/>
              <p:cNvSpPr/>
              <p:nvPr/>
            </p:nvSpPr>
            <p:spPr>
              <a:xfrm rot="5910600">
                <a:off x="6859080" y="506520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627"/>
              <p:cNvSpPr/>
              <p:nvPr/>
            </p:nvSpPr>
            <p:spPr>
              <a:xfrm rot="7955400">
                <a:off x="6840000" y="537228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628"/>
              <p:cNvSpPr/>
              <p:nvPr/>
            </p:nvSpPr>
            <p:spPr>
              <a:xfrm rot="8253600">
                <a:off x="7006320" y="523296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629"/>
              <p:cNvSpPr/>
              <p:nvPr/>
            </p:nvSpPr>
            <p:spPr>
              <a:xfrm rot="8253600">
                <a:off x="6921720" y="5242320"/>
                <a:ext cx="638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组合 2655"/>
            <p:cNvGrpSpPr/>
            <p:nvPr/>
          </p:nvGrpSpPr>
          <p:grpSpPr>
            <a:xfrm>
              <a:off x="6605280" y="4719240"/>
              <a:ext cx="952920" cy="974160"/>
              <a:chOff x="6605280" y="4719240"/>
              <a:chExt cx="952920" cy="974160"/>
            </a:xfrm>
          </p:grpSpPr>
          <p:sp>
            <p:nvSpPr>
              <p:cNvPr id="866" name="Freeform 631"/>
              <p:cNvSpPr/>
              <p:nvPr/>
            </p:nvSpPr>
            <p:spPr>
              <a:xfrm rot="7644000">
                <a:off x="6709320" y="489132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632"/>
              <p:cNvSpPr/>
              <p:nvPr/>
            </p:nvSpPr>
            <p:spPr>
              <a:xfrm rot="9688800">
                <a:off x="6670800" y="5213160"/>
                <a:ext cx="85140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633"/>
              <p:cNvSpPr/>
              <p:nvPr/>
            </p:nvSpPr>
            <p:spPr>
              <a:xfrm rot="9987000">
                <a:off x="6902640" y="512064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634"/>
              <p:cNvSpPr/>
              <p:nvPr/>
            </p:nvSpPr>
            <p:spPr>
              <a:xfrm rot="9987000">
                <a:off x="6827040" y="5090400"/>
                <a:ext cx="638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2660"/>
            <p:cNvGrpSpPr/>
            <p:nvPr/>
          </p:nvGrpSpPr>
          <p:grpSpPr>
            <a:xfrm>
              <a:off x="6795000" y="4488840"/>
              <a:ext cx="910080" cy="833040"/>
              <a:chOff x="6795000" y="4488840"/>
              <a:chExt cx="910080" cy="833040"/>
            </a:xfrm>
          </p:grpSpPr>
          <p:sp>
            <p:nvSpPr>
              <p:cNvPr id="871" name="Freeform 636"/>
              <p:cNvSpPr/>
              <p:nvPr/>
            </p:nvSpPr>
            <p:spPr>
              <a:xfrm rot="9694200">
                <a:off x="6875280" y="459000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637"/>
              <p:cNvSpPr/>
              <p:nvPr/>
            </p:nvSpPr>
            <p:spPr>
              <a:xfrm rot="11739000">
                <a:off x="6810840" y="491112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638"/>
              <p:cNvSpPr/>
              <p:nvPr/>
            </p:nvSpPr>
            <p:spPr>
              <a:xfrm rot="12037200">
                <a:off x="7077240" y="490824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639"/>
              <p:cNvSpPr/>
              <p:nvPr/>
            </p:nvSpPr>
            <p:spPr>
              <a:xfrm rot="12037200">
                <a:off x="7039080" y="4840920"/>
                <a:ext cx="638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2665"/>
            <p:cNvGrpSpPr/>
            <p:nvPr/>
          </p:nvGrpSpPr>
          <p:grpSpPr>
            <a:xfrm>
              <a:off x="6934320" y="4371120"/>
              <a:ext cx="915120" cy="800280"/>
              <a:chOff x="6934320" y="4371120"/>
              <a:chExt cx="915120" cy="800280"/>
            </a:xfrm>
          </p:grpSpPr>
          <p:sp>
            <p:nvSpPr>
              <p:cNvPr id="876" name="Freeform 641"/>
              <p:cNvSpPr/>
              <p:nvPr/>
            </p:nvSpPr>
            <p:spPr>
              <a:xfrm rot="11763000">
                <a:off x="7002360" y="4466880"/>
                <a:ext cx="77904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642"/>
              <p:cNvSpPr/>
              <p:nvPr/>
            </p:nvSpPr>
            <p:spPr>
              <a:xfrm rot="13807800">
                <a:off x="6915960" y="4759920"/>
                <a:ext cx="890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643"/>
              <p:cNvSpPr/>
              <p:nvPr/>
            </p:nvSpPr>
            <p:spPr>
              <a:xfrm rot="14106000">
                <a:off x="7164000" y="4858920"/>
                <a:ext cx="66744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644"/>
              <p:cNvSpPr/>
              <p:nvPr/>
            </p:nvSpPr>
            <p:spPr>
              <a:xfrm rot="14106000">
                <a:off x="7171560" y="4779360"/>
                <a:ext cx="66744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组合 2670"/>
            <p:cNvGrpSpPr/>
            <p:nvPr/>
          </p:nvGrpSpPr>
          <p:grpSpPr>
            <a:xfrm>
              <a:off x="7117920" y="4270320"/>
              <a:ext cx="958320" cy="984240"/>
              <a:chOff x="7117920" y="4270320"/>
              <a:chExt cx="958320" cy="984240"/>
            </a:xfrm>
          </p:grpSpPr>
          <p:sp>
            <p:nvSpPr>
              <p:cNvPr id="881" name="Freeform 646"/>
              <p:cNvSpPr/>
              <p:nvPr/>
            </p:nvSpPr>
            <p:spPr>
              <a:xfrm rot="13857000">
                <a:off x="7207200" y="446148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47"/>
              <p:cNvSpPr/>
              <p:nvPr/>
            </p:nvSpPr>
            <p:spPr>
              <a:xfrm rot="15901800">
                <a:off x="7109640" y="4732200"/>
                <a:ext cx="890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48"/>
              <p:cNvSpPr/>
              <p:nvPr/>
            </p:nvSpPr>
            <p:spPr>
              <a:xfrm rot="16200000">
                <a:off x="7284240" y="4893480"/>
                <a:ext cx="66780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649"/>
              <p:cNvSpPr/>
              <p:nvPr/>
            </p:nvSpPr>
            <p:spPr>
              <a:xfrm rot="16200000">
                <a:off x="7339680" y="4835520"/>
                <a:ext cx="66816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组合 2675"/>
            <p:cNvGrpSpPr/>
            <p:nvPr/>
          </p:nvGrpSpPr>
          <p:grpSpPr>
            <a:xfrm>
              <a:off x="7321680" y="5074920"/>
              <a:ext cx="934200" cy="833400"/>
              <a:chOff x="7321680" y="5074920"/>
              <a:chExt cx="934200" cy="833400"/>
            </a:xfrm>
          </p:grpSpPr>
          <p:sp>
            <p:nvSpPr>
              <p:cNvPr id="886" name="Freeform 651"/>
              <p:cNvSpPr/>
              <p:nvPr/>
            </p:nvSpPr>
            <p:spPr>
              <a:xfrm rot="1156800">
                <a:off x="7399080" y="5194800"/>
                <a:ext cx="77904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52"/>
              <p:cNvSpPr/>
              <p:nvPr/>
            </p:nvSpPr>
            <p:spPr>
              <a:xfrm rot="3201600">
                <a:off x="7374600" y="5433120"/>
                <a:ext cx="890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653"/>
              <p:cNvSpPr/>
              <p:nvPr/>
            </p:nvSpPr>
            <p:spPr>
              <a:xfrm rot="3499800">
                <a:off x="7355520" y="5347080"/>
                <a:ext cx="667440" cy="49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654"/>
              <p:cNvSpPr/>
              <p:nvPr/>
            </p:nvSpPr>
            <p:spPr>
              <a:xfrm rot="3499800">
                <a:off x="7341840" y="5439960"/>
                <a:ext cx="66816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组合 2680"/>
            <p:cNvGrpSpPr/>
            <p:nvPr/>
          </p:nvGrpSpPr>
          <p:grpSpPr>
            <a:xfrm>
              <a:off x="7551360" y="4658400"/>
              <a:ext cx="975600" cy="965520"/>
              <a:chOff x="7551360" y="4658400"/>
              <a:chExt cx="975600" cy="965520"/>
            </a:xfrm>
          </p:grpSpPr>
          <p:sp>
            <p:nvSpPr>
              <p:cNvPr id="891" name="Freeform 656"/>
              <p:cNvSpPr/>
              <p:nvPr/>
            </p:nvSpPr>
            <p:spPr>
              <a:xfrm rot="19110000">
                <a:off x="7666200" y="4825800"/>
                <a:ext cx="74520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657"/>
              <p:cNvSpPr/>
              <p:nvPr/>
            </p:nvSpPr>
            <p:spPr>
              <a:xfrm rot="21154800">
                <a:off x="7605360" y="5061240"/>
                <a:ext cx="851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58"/>
              <p:cNvSpPr/>
              <p:nvPr/>
            </p:nvSpPr>
            <p:spPr>
              <a:xfrm rot="21453000">
                <a:off x="7570800" y="5143320"/>
                <a:ext cx="638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59"/>
              <p:cNvSpPr/>
              <p:nvPr/>
            </p:nvSpPr>
            <p:spPr>
              <a:xfrm rot="21453000">
                <a:off x="7637040" y="5206680"/>
                <a:ext cx="638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组合 2685"/>
            <p:cNvGrpSpPr/>
            <p:nvPr/>
          </p:nvGrpSpPr>
          <p:grpSpPr>
            <a:xfrm>
              <a:off x="7462080" y="4477320"/>
              <a:ext cx="833400" cy="906480"/>
              <a:chOff x="7462080" y="4477320"/>
              <a:chExt cx="833400" cy="906480"/>
            </a:xfrm>
          </p:grpSpPr>
          <p:sp>
            <p:nvSpPr>
              <p:cNvPr id="896" name="Freeform 661"/>
              <p:cNvSpPr/>
              <p:nvPr/>
            </p:nvSpPr>
            <p:spPr>
              <a:xfrm rot="17306400">
                <a:off x="7506000" y="4615560"/>
                <a:ext cx="74520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62"/>
              <p:cNvSpPr/>
              <p:nvPr/>
            </p:nvSpPr>
            <p:spPr>
              <a:xfrm rot="19351800">
                <a:off x="7422480" y="4861440"/>
                <a:ext cx="851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663"/>
              <p:cNvSpPr/>
              <p:nvPr/>
            </p:nvSpPr>
            <p:spPr>
              <a:xfrm rot="19649400">
                <a:off x="7444080" y="5004000"/>
                <a:ext cx="638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664"/>
              <p:cNvSpPr/>
              <p:nvPr/>
            </p:nvSpPr>
            <p:spPr>
              <a:xfrm rot="19649400">
                <a:off x="7527960" y="5029200"/>
                <a:ext cx="639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2690"/>
            <p:cNvGrpSpPr/>
            <p:nvPr/>
          </p:nvGrpSpPr>
          <p:grpSpPr>
            <a:xfrm>
              <a:off x="7457760" y="4320000"/>
              <a:ext cx="633960" cy="837360"/>
              <a:chOff x="7457760" y="4320000"/>
              <a:chExt cx="633960" cy="837360"/>
            </a:xfrm>
          </p:grpSpPr>
          <p:sp>
            <p:nvSpPr>
              <p:cNvPr id="901" name="Freeform 666"/>
              <p:cNvSpPr/>
              <p:nvPr/>
            </p:nvSpPr>
            <p:spPr>
              <a:xfrm rot="16059600">
                <a:off x="7385040" y="4436280"/>
                <a:ext cx="779040" cy="602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667"/>
              <p:cNvSpPr/>
              <p:nvPr/>
            </p:nvSpPr>
            <p:spPr>
              <a:xfrm rot="18104400">
                <a:off x="7292880" y="4681800"/>
                <a:ext cx="890280" cy="69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668"/>
              <p:cNvSpPr/>
              <p:nvPr/>
            </p:nvSpPr>
            <p:spPr>
              <a:xfrm rot="18402600">
                <a:off x="7363800" y="4848840"/>
                <a:ext cx="667440" cy="51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69"/>
              <p:cNvSpPr/>
              <p:nvPr/>
            </p:nvSpPr>
            <p:spPr>
              <a:xfrm rot="18402600">
                <a:off x="7446960" y="4837680"/>
                <a:ext cx="668160" cy="34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组合 2695"/>
            <p:cNvGrpSpPr/>
            <p:nvPr/>
          </p:nvGrpSpPr>
          <p:grpSpPr>
            <a:xfrm>
              <a:off x="7465320" y="5046840"/>
              <a:ext cx="816480" cy="671400"/>
              <a:chOff x="7465320" y="5046840"/>
              <a:chExt cx="816480" cy="671400"/>
            </a:xfrm>
          </p:grpSpPr>
          <p:sp>
            <p:nvSpPr>
              <p:cNvPr id="906" name="Freeform 671"/>
              <p:cNvSpPr/>
              <p:nvPr/>
            </p:nvSpPr>
            <p:spPr>
              <a:xfrm rot="21405000">
                <a:off x="7502760" y="5067000"/>
                <a:ext cx="744840" cy="630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672"/>
              <p:cNvSpPr/>
              <p:nvPr/>
            </p:nvSpPr>
            <p:spPr>
              <a:xfrm rot="1849200">
                <a:off x="7471800" y="530676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673"/>
              <p:cNvSpPr/>
              <p:nvPr/>
            </p:nvSpPr>
            <p:spPr>
              <a:xfrm rot="2148000">
                <a:off x="7421040" y="5284440"/>
                <a:ext cx="63828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674"/>
              <p:cNvSpPr/>
              <p:nvPr/>
            </p:nvSpPr>
            <p:spPr>
              <a:xfrm rot="2148000">
                <a:off x="7438680" y="5377320"/>
                <a:ext cx="638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组合 2700"/>
            <p:cNvGrpSpPr/>
            <p:nvPr/>
          </p:nvGrpSpPr>
          <p:grpSpPr>
            <a:xfrm>
              <a:off x="7003800" y="5118480"/>
              <a:ext cx="663120" cy="855000"/>
              <a:chOff x="7003800" y="5118480"/>
              <a:chExt cx="663120" cy="855000"/>
            </a:xfrm>
          </p:grpSpPr>
          <p:sp>
            <p:nvSpPr>
              <p:cNvPr id="911" name="Freeform 676"/>
              <p:cNvSpPr/>
              <p:nvPr/>
            </p:nvSpPr>
            <p:spPr>
              <a:xfrm rot="5119200">
                <a:off x="6944760" y="5249880"/>
                <a:ext cx="78048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677"/>
              <p:cNvSpPr/>
              <p:nvPr/>
            </p:nvSpPr>
            <p:spPr>
              <a:xfrm rot="7164000">
                <a:off x="6925320" y="5532120"/>
                <a:ext cx="89136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678"/>
              <p:cNvSpPr/>
              <p:nvPr/>
            </p:nvSpPr>
            <p:spPr>
              <a:xfrm rot="7462200">
                <a:off x="7070040" y="5383800"/>
                <a:ext cx="669240" cy="49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679"/>
              <p:cNvSpPr/>
              <p:nvPr/>
            </p:nvSpPr>
            <p:spPr>
              <a:xfrm rot="7462200">
                <a:off x="6988680" y="5414400"/>
                <a:ext cx="66924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2705"/>
            <p:cNvGrpSpPr/>
            <p:nvPr/>
          </p:nvGrpSpPr>
          <p:grpSpPr>
            <a:xfrm>
              <a:off x="7211880" y="5162040"/>
              <a:ext cx="972720" cy="979560"/>
              <a:chOff x="7211880" y="5162040"/>
              <a:chExt cx="972720" cy="979560"/>
            </a:xfrm>
          </p:grpSpPr>
          <p:sp>
            <p:nvSpPr>
              <p:cNvPr id="916" name="Freeform 681"/>
              <p:cNvSpPr/>
              <p:nvPr/>
            </p:nvSpPr>
            <p:spPr>
              <a:xfrm rot="2797200">
                <a:off x="7308360" y="535104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682"/>
              <p:cNvSpPr/>
              <p:nvPr/>
            </p:nvSpPr>
            <p:spPr>
              <a:xfrm rot="4842000">
                <a:off x="7290720" y="5608080"/>
                <a:ext cx="89064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683"/>
              <p:cNvSpPr/>
              <p:nvPr/>
            </p:nvSpPr>
            <p:spPr>
              <a:xfrm rot="5140200">
                <a:off x="7328880" y="5473080"/>
                <a:ext cx="66780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684"/>
              <p:cNvSpPr/>
              <p:nvPr/>
            </p:nvSpPr>
            <p:spPr>
              <a:xfrm rot="5140200">
                <a:off x="7281000" y="5548680"/>
                <a:ext cx="667800" cy="34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组合 2710"/>
            <p:cNvGrpSpPr/>
            <p:nvPr/>
          </p:nvGrpSpPr>
          <p:grpSpPr>
            <a:xfrm>
              <a:off x="7277040" y="4823280"/>
              <a:ext cx="635760" cy="665640"/>
              <a:chOff x="7277040" y="4823280"/>
              <a:chExt cx="635760" cy="665640"/>
            </a:xfrm>
          </p:grpSpPr>
          <p:sp>
            <p:nvSpPr>
              <p:cNvPr id="921" name="AutoShape 686"/>
              <p:cNvSpPr/>
              <p:nvPr/>
            </p:nvSpPr>
            <p:spPr>
              <a:xfrm rot="16200000">
                <a:off x="7261920" y="4838040"/>
                <a:ext cx="665640" cy="635760"/>
              </a:xfrm>
              <a:custGeom>
                <a:avLst/>
                <a:gdLst>
                  <a:gd name="textAreaLeft" fmla="*/ 156240 w 665640"/>
                  <a:gd name="textAreaRight" fmla="*/ 509400 w 665640"/>
                  <a:gd name="textAreaTop" fmla="*/ 149040 h 635760"/>
                  <a:gd name="textAreaBottom" fmla="*/ 486720 h 63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Oval 687"/>
              <p:cNvSpPr/>
              <p:nvPr/>
            </p:nvSpPr>
            <p:spPr>
              <a:xfrm rot="16200000">
                <a:off x="7360920" y="4939920"/>
                <a:ext cx="444240" cy="4222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组合 2713"/>
          <p:cNvGrpSpPr/>
          <p:nvPr/>
        </p:nvGrpSpPr>
        <p:grpSpPr>
          <a:xfrm>
            <a:off x="7747200" y="4312440"/>
            <a:ext cx="1413720" cy="1526760"/>
            <a:chOff x="7747200" y="4312440"/>
            <a:chExt cx="1413720" cy="1526760"/>
          </a:xfrm>
        </p:grpSpPr>
        <p:grpSp>
          <p:nvGrpSpPr>
            <p:cNvPr id="924" name="组合 2714"/>
            <p:cNvGrpSpPr/>
            <p:nvPr/>
          </p:nvGrpSpPr>
          <p:grpSpPr>
            <a:xfrm>
              <a:off x="8381160" y="4619520"/>
              <a:ext cx="768960" cy="771840"/>
              <a:chOff x="8381160" y="4619520"/>
              <a:chExt cx="768960" cy="771840"/>
            </a:xfrm>
          </p:grpSpPr>
          <p:sp>
            <p:nvSpPr>
              <p:cNvPr id="925" name="Freeform 690"/>
              <p:cNvSpPr/>
              <p:nvPr/>
            </p:nvSpPr>
            <p:spPr>
              <a:xfrm rot="18826800">
                <a:off x="8469720" y="4756320"/>
                <a:ext cx="591840" cy="497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91"/>
              <p:cNvSpPr/>
              <p:nvPr/>
            </p:nvSpPr>
            <p:spPr>
              <a:xfrm rot="20871600">
                <a:off x="8420400" y="4943520"/>
                <a:ext cx="67752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692"/>
              <p:cNvSpPr/>
              <p:nvPr/>
            </p:nvSpPr>
            <p:spPr>
              <a:xfrm rot="21169800">
                <a:off x="8396280" y="5016240"/>
                <a:ext cx="50796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693"/>
              <p:cNvSpPr/>
              <p:nvPr/>
            </p:nvSpPr>
            <p:spPr>
              <a:xfrm rot="21169800">
                <a:off x="8451360" y="5061960"/>
                <a:ext cx="5083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组合 2719"/>
            <p:cNvGrpSpPr/>
            <p:nvPr/>
          </p:nvGrpSpPr>
          <p:grpSpPr>
            <a:xfrm>
              <a:off x="8397720" y="4482000"/>
              <a:ext cx="623160" cy="693720"/>
              <a:chOff x="8397720" y="4482000"/>
              <a:chExt cx="623160" cy="693720"/>
            </a:xfrm>
          </p:grpSpPr>
          <p:sp>
            <p:nvSpPr>
              <p:cNvPr id="930" name="Freeform 695"/>
              <p:cNvSpPr/>
              <p:nvPr/>
            </p:nvSpPr>
            <p:spPr>
              <a:xfrm rot="17034600">
                <a:off x="8413200" y="4581000"/>
                <a:ext cx="59184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696"/>
              <p:cNvSpPr/>
              <p:nvPr/>
            </p:nvSpPr>
            <p:spPr>
              <a:xfrm rot="19078800">
                <a:off x="8348040" y="477612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697"/>
              <p:cNvSpPr/>
              <p:nvPr/>
            </p:nvSpPr>
            <p:spPr>
              <a:xfrm rot="19377600">
                <a:off x="8371080" y="489384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698"/>
              <p:cNvSpPr/>
              <p:nvPr/>
            </p:nvSpPr>
            <p:spPr>
              <a:xfrm rot="19377600">
                <a:off x="8438040" y="490860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组合 2724"/>
            <p:cNvGrpSpPr/>
            <p:nvPr/>
          </p:nvGrpSpPr>
          <p:grpSpPr>
            <a:xfrm>
              <a:off x="8028360" y="4312440"/>
              <a:ext cx="764640" cy="772200"/>
              <a:chOff x="8028360" y="4312440"/>
              <a:chExt cx="764640" cy="772200"/>
            </a:xfrm>
          </p:grpSpPr>
          <p:sp>
            <p:nvSpPr>
              <p:cNvPr id="935" name="Freeform 700"/>
              <p:cNvSpPr/>
              <p:nvPr/>
            </p:nvSpPr>
            <p:spPr>
              <a:xfrm rot="13688400">
                <a:off x="8114760" y="4449960"/>
                <a:ext cx="591480" cy="496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701"/>
              <p:cNvSpPr/>
              <p:nvPr/>
            </p:nvSpPr>
            <p:spPr>
              <a:xfrm rot="15733200">
                <a:off x="8037720" y="46767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702"/>
              <p:cNvSpPr/>
              <p:nvPr/>
            </p:nvSpPr>
            <p:spPr>
              <a:xfrm rot="16031400">
                <a:off x="8181360" y="4795200"/>
                <a:ext cx="5094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703"/>
              <p:cNvSpPr/>
              <p:nvPr/>
            </p:nvSpPr>
            <p:spPr>
              <a:xfrm rot="16031400">
                <a:off x="8223480" y="4749840"/>
                <a:ext cx="50940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组合 2729"/>
            <p:cNvGrpSpPr/>
            <p:nvPr/>
          </p:nvGrpSpPr>
          <p:grpSpPr>
            <a:xfrm>
              <a:off x="7768800" y="4520160"/>
              <a:ext cx="698040" cy="618120"/>
              <a:chOff x="7768800" y="4520160"/>
              <a:chExt cx="698040" cy="618120"/>
            </a:xfrm>
          </p:grpSpPr>
          <p:sp>
            <p:nvSpPr>
              <p:cNvPr id="940" name="Freeform 705"/>
              <p:cNvSpPr/>
              <p:nvPr/>
            </p:nvSpPr>
            <p:spPr>
              <a:xfrm rot="10003800">
                <a:off x="7817760" y="4581360"/>
                <a:ext cx="59220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06"/>
              <p:cNvSpPr/>
              <p:nvPr/>
            </p:nvSpPr>
            <p:spPr>
              <a:xfrm rot="12048600">
                <a:off x="7763400" y="4831200"/>
                <a:ext cx="67788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07"/>
              <p:cNvSpPr/>
              <p:nvPr/>
            </p:nvSpPr>
            <p:spPr>
              <a:xfrm rot="12346800">
                <a:off x="7974360" y="4843080"/>
                <a:ext cx="50832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708"/>
              <p:cNvSpPr/>
              <p:nvPr/>
            </p:nvSpPr>
            <p:spPr>
              <a:xfrm rot="12346800">
                <a:off x="7950240" y="4787640"/>
                <a:ext cx="50832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组合 2734"/>
            <p:cNvGrpSpPr/>
            <p:nvPr/>
          </p:nvGrpSpPr>
          <p:grpSpPr>
            <a:xfrm>
              <a:off x="8155800" y="4998600"/>
              <a:ext cx="768240" cy="769320"/>
              <a:chOff x="8155800" y="4998600"/>
              <a:chExt cx="768240" cy="769320"/>
            </a:xfrm>
          </p:grpSpPr>
          <p:sp>
            <p:nvSpPr>
              <p:cNvPr id="945" name="Freeform 710"/>
              <p:cNvSpPr/>
              <p:nvPr/>
            </p:nvSpPr>
            <p:spPr>
              <a:xfrm rot="2727600">
                <a:off x="8244000" y="5135040"/>
                <a:ext cx="59148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711"/>
              <p:cNvSpPr/>
              <p:nvPr/>
            </p:nvSpPr>
            <p:spPr>
              <a:xfrm rot="4772400">
                <a:off x="8232480" y="5346360"/>
                <a:ext cx="67716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712"/>
              <p:cNvSpPr/>
              <p:nvPr/>
            </p:nvSpPr>
            <p:spPr>
              <a:xfrm rot="5070600">
                <a:off x="8253720" y="5246280"/>
                <a:ext cx="5094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713"/>
              <p:cNvSpPr/>
              <p:nvPr/>
            </p:nvSpPr>
            <p:spPr>
              <a:xfrm rot="5070600">
                <a:off x="8214480" y="530532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组合 2739"/>
            <p:cNvGrpSpPr/>
            <p:nvPr/>
          </p:nvGrpSpPr>
          <p:grpSpPr>
            <a:xfrm>
              <a:off x="7907400" y="5036760"/>
              <a:ext cx="534240" cy="622800"/>
              <a:chOff x="7907400" y="5036760"/>
              <a:chExt cx="534240" cy="622800"/>
            </a:xfrm>
          </p:grpSpPr>
          <p:sp>
            <p:nvSpPr>
              <p:cNvPr id="950" name="Freeform 715"/>
              <p:cNvSpPr/>
              <p:nvPr/>
            </p:nvSpPr>
            <p:spPr>
              <a:xfrm rot="5628000">
                <a:off x="7878600" y="5100120"/>
                <a:ext cx="59112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716"/>
              <p:cNvSpPr/>
              <p:nvPr/>
            </p:nvSpPr>
            <p:spPr>
              <a:xfrm rot="7672800">
                <a:off x="7862760" y="5339160"/>
                <a:ext cx="67716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717"/>
              <p:cNvSpPr/>
              <p:nvPr/>
            </p:nvSpPr>
            <p:spPr>
              <a:xfrm rot="7971000">
                <a:off x="7986960" y="5226840"/>
                <a:ext cx="5094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718"/>
              <p:cNvSpPr/>
              <p:nvPr/>
            </p:nvSpPr>
            <p:spPr>
              <a:xfrm rot="7971000">
                <a:off x="7920720" y="524016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2744"/>
            <p:cNvGrpSpPr/>
            <p:nvPr/>
          </p:nvGrpSpPr>
          <p:grpSpPr>
            <a:xfrm>
              <a:off x="7764840" y="4813560"/>
              <a:ext cx="701280" cy="747000"/>
              <a:chOff x="7764840" y="4813560"/>
              <a:chExt cx="701280" cy="747000"/>
            </a:xfrm>
          </p:grpSpPr>
          <p:sp>
            <p:nvSpPr>
              <p:cNvPr id="955" name="Freeform 720"/>
              <p:cNvSpPr/>
              <p:nvPr/>
            </p:nvSpPr>
            <p:spPr>
              <a:xfrm rot="6925800">
                <a:off x="7819560" y="4939200"/>
                <a:ext cx="59148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721"/>
              <p:cNvSpPr/>
              <p:nvPr/>
            </p:nvSpPr>
            <p:spPr>
              <a:xfrm rot="8970600">
                <a:off x="7793280" y="518436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722"/>
              <p:cNvSpPr/>
              <p:nvPr/>
            </p:nvSpPr>
            <p:spPr>
              <a:xfrm rot="9268800">
                <a:off x="7959960" y="509688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723"/>
              <p:cNvSpPr/>
              <p:nvPr/>
            </p:nvSpPr>
            <p:spPr>
              <a:xfrm rot="9268800">
                <a:off x="7895520" y="5085360"/>
                <a:ext cx="50832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组合 2749"/>
            <p:cNvGrpSpPr/>
            <p:nvPr/>
          </p:nvGrpSpPr>
          <p:grpSpPr>
            <a:xfrm>
              <a:off x="8448840" y="4861800"/>
              <a:ext cx="712080" cy="639360"/>
              <a:chOff x="8448840" y="4861800"/>
              <a:chExt cx="712080" cy="639360"/>
            </a:xfrm>
          </p:grpSpPr>
          <p:sp>
            <p:nvSpPr>
              <p:cNvPr id="960" name="Freeform 725"/>
              <p:cNvSpPr/>
              <p:nvPr/>
            </p:nvSpPr>
            <p:spPr>
              <a:xfrm rot="20636400">
                <a:off x="8512920" y="4933800"/>
                <a:ext cx="59112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726"/>
              <p:cNvSpPr/>
              <p:nvPr/>
            </p:nvSpPr>
            <p:spPr>
              <a:xfrm rot="1081200">
                <a:off x="8477640" y="512100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727"/>
              <p:cNvSpPr/>
              <p:nvPr/>
            </p:nvSpPr>
            <p:spPr>
              <a:xfrm rot="1379400">
                <a:off x="8436960" y="513036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728"/>
              <p:cNvSpPr/>
              <p:nvPr/>
            </p:nvSpPr>
            <p:spPr>
              <a:xfrm rot="1379400">
                <a:off x="8462880" y="519912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组合 2754"/>
            <p:cNvGrpSpPr/>
            <p:nvPr/>
          </p:nvGrpSpPr>
          <p:grpSpPr>
            <a:xfrm>
              <a:off x="8299440" y="5012640"/>
              <a:ext cx="686880" cy="606600"/>
              <a:chOff x="8299440" y="5012640"/>
              <a:chExt cx="686880" cy="606600"/>
            </a:xfrm>
          </p:grpSpPr>
          <p:sp>
            <p:nvSpPr>
              <p:cNvPr id="965" name="Freeform 730"/>
              <p:cNvSpPr/>
              <p:nvPr/>
            </p:nvSpPr>
            <p:spPr>
              <a:xfrm rot="805800">
                <a:off x="8346960" y="5074560"/>
                <a:ext cx="591120" cy="482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731"/>
              <p:cNvSpPr/>
              <p:nvPr/>
            </p:nvSpPr>
            <p:spPr>
              <a:xfrm rot="2850600">
                <a:off x="8327160" y="5264640"/>
                <a:ext cx="6771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732"/>
              <p:cNvSpPr/>
              <p:nvPr/>
            </p:nvSpPr>
            <p:spPr>
              <a:xfrm rot="3148800">
                <a:off x="8300520" y="5212800"/>
                <a:ext cx="509400" cy="39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733"/>
              <p:cNvSpPr/>
              <p:nvPr/>
            </p:nvSpPr>
            <p:spPr>
              <a:xfrm rot="3148800">
                <a:off x="8298360" y="528264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组合 2759"/>
            <p:cNvGrpSpPr/>
            <p:nvPr/>
          </p:nvGrpSpPr>
          <p:grpSpPr>
            <a:xfrm>
              <a:off x="7747200" y="4663080"/>
              <a:ext cx="816840" cy="763200"/>
              <a:chOff x="7747200" y="4663080"/>
              <a:chExt cx="816840" cy="763200"/>
            </a:xfrm>
          </p:grpSpPr>
          <p:sp>
            <p:nvSpPr>
              <p:cNvPr id="970" name="Freeform 735"/>
              <p:cNvSpPr/>
              <p:nvPr/>
            </p:nvSpPr>
            <p:spPr>
              <a:xfrm rot="7717200">
                <a:off x="7959600" y="4678200"/>
                <a:ext cx="391320" cy="732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736"/>
              <p:cNvSpPr/>
              <p:nvPr/>
            </p:nvSpPr>
            <p:spPr>
              <a:xfrm rot="9762000">
                <a:off x="7944840" y="5049360"/>
                <a:ext cx="447120" cy="84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737"/>
              <p:cNvSpPr/>
              <p:nvPr/>
            </p:nvSpPr>
            <p:spPr>
              <a:xfrm rot="10060200">
                <a:off x="8060760" y="4969080"/>
                <a:ext cx="33408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738"/>
              <p:cNvSpPr/>
              <p:nvPr/>
            </p:nvSpPr>
            <p:spPr>
              <a:xfrm rot="10060200">
                <a:off x="8012880" y="4920120"/>
                <a:ext cx="334080" cy="42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2764"/>
            <p:cNvGrpSpPr/>
            <p:nvPr/>
          </p:nvGrpSpPr>
          <p:grpSpPr>
            <a:xfrm>
              <a:off x="8161200" y="4395240"/>
              <a:ext cx="749880" cy="684360"/>
              <a:chOff x="8161200" y="4395240"/>
              <a:chExt cx="749880" cy="684360"/>
            </a:xfrm>
          </p:grpSpPr>
          <p:sp>
            <p:nvSpPr>
              <p:cNvPr id="975" name="Freeform 740"/>
              <p:cNvSpPr/>
              <p:nvPr/>
            </p:nvSpPr>
            <p:spPr>
              <a:xfrm rot="13857000">
                <a:off x="8393040" y="4370760"/>
                <a:ext cx="286200" cy="733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741"/>
              <p:cNvSpPr/>
              <p:nvPr/>
            </p:nvSpPr>
            <p:spPr>
              <a:xfrm rot="15901800">
                <a:off x="8323920" y="4695480"/>
                <a:ext cx="326160" cy="84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742"/>
              <p:cNvSpPr/>
              <p:nvPr/>
            </p:nvSpPr>
            <p:spPr>
              <a:xfrm rot="16200000">
                <a:off x="8440200" y="4763160"/>
                <a:ext cx="24480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743"/>
              <p:cNvSpPr/>
              <p:nvPr/>
            </p:nvSpPr>
            <p:spPr>
              <a:xfrm rot="16200000">
                <a:off x="8506800" y="4750560"/>
                <a:ext cx="24480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2769"/>
            <p:cNvGrpSpPr/>
            <p:nvPr/>
          </p:nvGrpSpPr>
          <p:grpSpPr>
            <a:xfrm>
              <a:off x="8002440" y="4526640"/>
              <a:ext cx="573480" cy="609840"/>
              <a:chOff x="8002440" y="4526640"/>
              <a:chExt cx="573480" cy="609840"/>
            </a:xfrm>
          </p:grpSpPr>
          <p:sp>
            <p:nvSpPr>
              <p:cNvPr id="980" name="Freeform 745"/>
              <p:cNvSpPr/>
              <p:nvPr/>
            </p:nvSpPr>
            <p:spPr>
              <a:xfrm rot="11895600">
                <a:off x="8069040" y="4582800"/>
                <a:ext cx="439920" cy="497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746"/>
              <p:cNvSpPr/>
              <p:nvPr/>
            </p:nvSpPr>
            <p:spPr>
              <a:xfrm rot="13940400">
                <a:off x="8008920" y="4824000"/>
                <a:ext cx="5018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747"/>
              <p:cNvSpPr/>
              <p:nvPr/>
            </p:nvSpPr>
            <p:spPr>
              <a:xfrm rot="14238600">
                <a:off x="8163360" y="4878360"/>
                <a:ext cx="375480" cy="41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748"/>
              <p:cNvSpPr/>
              <p:nvPr/>
            </p:nvSpPr>
            <p:spPr>
              <a:xfrm rot="14238600">
                <a:off x="8181360" y="4827600"/>
                <a:ext cx="3754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组合 2774"/>
            <p:cNvGrpSpPr/>
            <p:nvPr/>
          </p:nvGrpSpPr>
          <p:grpSpPr>
            <a:xfrm>
              <a:off x="8006400" y="5101920"/>
              <a:ext cx="683640" cy="737280"/>
              <a:chOff x="8006400" y="5101920"/>
              <a:chExt cx="683640" cy="737280"/>
            </a:xfrm>
          </p:grpSpPr>
          <p:sp>
            <p:nvSpPr>
              <p:cNvPr id="985" name="Freeform 750"/>
              <p:cNvSpPr/>
              <p:nvPr/>
            </p:nvSpPr>
            <p:spPr>
              <a:xfrm rot="4063800">
                <a:off x="8052480" y="5222880"/>
                <a:ext cx="591120" cy="496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751"/>
              <p:cNvSpPr/>
              <p:nvPr/>
            </p:nvSpPr>
            <p:spPr>
              <a:xfrm rot="6108000">
                <a:off x="8044920" y="5447520"/>
                <a:ext cx="67752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752"/>
              <p:cNvSpPr/>
              <p:nvPr/>
            </p:nvSpPr>
            <p:spPr>
              <a:xfrm rot="6406200">
                <a:off x="8111520" y="5331240"/>
                <a:ext cx="5094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753"/>
              <p:cNvSpPr/>
              <p:nvPr/>
            </p:nvSpPr>
            <p:spPr>
              <a:xfrm rot="6406200">
                <a:off x="8052480" y="5369400"/>
                <a:ext cx="50940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组合 2779"/>
            <p:cNvGrpSpPr/>
            <p:nvPr/>
          </p:nvGrpSpPr>
          <p:grpSpPr>
            <a:xfrm>
              <a:off x="8168040" y="4818960"/>
              <a:ext cx="508680" cy="509400"/>
              <a:chOff x="8168040" y="4818960"/>
              <a:chExt cx="508680" cy="509400"/>
            </a:xfrm>
          </p:grpSpPr>
          <p:sp>
            <p:nvSpPr>
              <p:cNvPr id="990" name="AutoShape 755"/>
              <p:cNvSpPr/>
              <p:nvPr/>
            </p:nvSpPr>
            <p:spPr>
              <a:xfrm>
                <a:off x="8168040" y="4818960"/>
                <a:ext cx="508680" cy="509400"/>
              </a:xfrm>
              <a:custGeom>
                <a:avLst/>
                <a:gdLst>
                  <a:gd name="textAreaLeft" fmla="*/ 119520 w 508680"/>
                  <a:gd name="textAreaRight" fmla="*/ 389160 w 508680"/>
                  <a:gd name="textAreaTop" fmla="*/ 119520 h 509400"/>
                  <a:gd name="textAreaBottom" fmla="*/ 38988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756"/>
              <p:cNvSpPr/>
              <p:nvPr/>
            </p:nvSpPr>
            <p:spPr>
              <a:xfrm>
                <a:off x="8257680" y="4893480"/>
                <a:ext cx="338760" cy="33840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组合 2782"/>
          <p:cNvGrpSpPr/>
          <p:nvPr/>
        </p:nvGrpSpPr>
        <p:grpSpPr>
          <a:xfrm>
            <a:off x="7728480" y="2993040"/>
            <a:ext cx="1828800" cy="1925640"/>
            <a:chOff x="7728480" y="2993040"/>
            <a:chExt cx="1828800" cy="1925640"/>
          </a:xfrm>
        </p:grpSpPr>
        <p:grpSp>
          <p:nvGrpSpPr>
            <p:cNvPr id="993" name="组合 2783"/>
            <p:cNvGrpSpPr/>
            <p:nvPr/>
          </p:nvGrpSpPr>
          <p:grpSpPr>
            <a:xfrm>
              <a:off x="8551800" y="3371760"/>
              <a:ext cx="984240" cy="989280"/>
              <a:chOff x="8551800" y="3371760"/>
              <a:chExt cx="984240" cy="989280"/>
            </a:xfrm>
          </p:grpSpPr>
          <p:sp>
            <p:nvSpPr>
              <p:cNvPr id="994" name="Freeform 759"/>
              <p:cNvSpPr/>
              <p:nvPr/>
            </p:nvSpPr>
            <p:spPr>
              <a:xfrm rot="18826800">
                <a:off x="8654760" y="3557160"/>
                <a:ext cx="777960" cy="61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760"/>
              <p:cNvSpPr/>
              <p:nvPr/>
            </p:nvSpPr>
            <p:spPr>
              <a:xfrm rot="20871600">
                <a:off x="8587800" y="3790440"/>
                <a:ext cx="88920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761"/>
              <p:cNvSpPr/>
              <p:nvPr/>
            </p:nvSpPr>
            <p:spPr>
              <a:xfrm rot="21169800">
                <a:off x="8557560" y="3882960"/>
                <a:ext cx="66672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762"/>
              <p:cNvSpPr/>
              <p:nvPr/>
            </p:nvSpPr>
            <p:spPr>
              <a:xfrm rot="21169800">
                <a:off x="8629200" y="3939480"/>
                <a:ext cx="667080" cy="35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组合 2788"/>
            <p:cNvGrpSpPr/>
            <p:nvPr/>
          </p:nvGrpSpPr>
          <p:grpSpPr>
            <a:xfrm>
              <a:off x="8575200" y="3198960"/>
              <a:ext cx="787320" cy="904320"/>
              <a:chOff x="8575200" y="3198960"/>
              <a:chExt cx="787320" cy="904320"/>
            </a:xfrm>
          </p:grpSpPr>
          <p:sp>
            <p:nvSpPr>
              <p:cNvPr id="999" name="Freeform 764"/>
              <p:cNvSpPr/>
              <p:nvPr/>
            </p:nvSpPr>
            <p:spPr>
              <a:xfrm rot="17034600">
                <a:off x="8579520" y="3342240"/>
                <a:ext cx="778680" cy="61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765"/>
              <p:cNvSpPr/>
              <p:nvPr/>
            </p:nvSpPr>
            <p:spPr>
              <a:xfrm rot="19078800">
                <a:off x="8494200" y="3584880"/>
                <a:ext cx="88992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766"/>
              <p:cNvSpPr/>
              <p:nvPr/>
            </p:nvSpPr>
            <p:spPr>
              <a:xfrm rot="19377600">
                <a:off x="8523360" y="373752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767"/>
              <p:cNvSpPr/>
              <p:nvPr/>
            </p:nvSpPr>
            <p:spPr>
              <a:xfrm rot="19377600">
                <a:off x="8609400" y="3751920"/>
                <a:ext cx="66780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组合 2793"/>
            <p:cNvGrpSpPr/>
            <p:nvPr/>
          </p:nvGrpSpPr>
          <p:grpSpPr>
            <a:xfrm>
              <a:off x="8087760" y="2993040"/>
              <a:ext cx="977400" cy="983880"/>
              <a:chOff x="8087760" y="2993040"/>
              <a:chExt cx="977400" cy="983880"/>
            </a:xfrm>
          </p:grpSpPr>
          <p:sp>
            <p:nvSpPr>
              <p:cNvPr id="1004" name="Freeform 769"/>
              <p:cNvSpPr/>
              <p:nvPr/>
            </p:nvSpPr>
            <p:spPr>
              <a:xfrm rot="13688400">
                <a:off x="8208000" y="3158640"/>
                <a:ext cx="73656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770"/>
              <p:cNvSpPr/>
              <p:nvPr/>
            </p:nvSpPr>
            <p:spPr>
              <a:xfrm rot="15733200">
                <a:off x="8111520" y="3453480"/>
                <a:ext cx="84168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771"/>
              <p:cNvSpPr/>
              <p:nvPr/>
            </p:nvSpPr>
            <p:spPr>
              <a:xfrm rot="16031400">
                <a:off x="8292240" y="3603600"/>
                <a:ext cx="62964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772"/>
              <p:cNvSpPr/>
              <p:nvPr/>
            </p:nvSpPr>
            <p:spPr>
              <a:xfrm rot="16031400">
                <a:off x="8348040" y="3549240"/>
                <a:ext cx="6310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组合 2798"/>
            <p:cNvGrpSpPr/>
            <p:nvPr/>
          </p:nvGrpSpPr>
          <p:grpSpPr>
            <a:xfrm>
              <a:off x="7733520" y="3263400"/>
              <a:ext cx="914400" cy="780120"/>
              <a:chOff x="7733520" y="3263400"/>
              <a:chExt cx="914400" cy="780120"/>
            </a:xfrm>
          </p:grpSpPr>
          <p:sp>
            <p:nvSpPr>
              <p:cNvPr id="1009" name="Freeform 774"/>
              <p:cNvSpPr/>
              <p:nvPr/>
            </p:nvSpPr>
            <p:spPr>
              <a:xfrm rot="10003800">
                <a:off x="7793640" y="3344400"/>
                <a:ext cx="779040" cy="61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775"/>
              <p:cNvSpPr/>
              <p:nvPr/>
            </p:nvSpPr>
            <p:spPr>
              <a:xfrm rot="12048600">
                <a:off x="7725240" y="3659400"/>
                <a:ext cx="89028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776"/>
              <p:cNvSpPr/>
              <p:nvPr/>
            </p:nvSpPr>
            <p:spPr>
              <a:xfrm rot="12346800">
                <a:off x="8002080" y="367596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777"/>
              <p:cNvSpPr/>
              <p:nvPr/>
            </p:nvSpPr>
            <p:spPr>
              <a:xfrm rot="12346800">
                <a:off x="7967520" y="3605040"/>
                <a:ext cx="66780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组合 2803"/>
            <p:cNvGrpSpPr/>
            <p:nvPr/>
          </p:nvGrpSpPr>
          <p:grpSpPr>
            <a:xfrm>
              <a:off x="8255880" y="3849480"/>
              <a:ext cx="982080" cy="982800"/>
              <a:chOff x="8255880" y="3849480"/>
              <a:chExt cx="982080" cy="982800"/>
            </a:xfrm>
          </p:grpSpPr>
          <p:sp>
            <p:nvSpPr>
              <p:cNvPr id="1014" name="Freeform 779"/>
              <p:cNvSpPr/>
              <p:nvPr/>
            </p:nvSpPr>
            <p:spPr>
              <a:xfrm rot="2727600">
                <a:off x="8378280" y="4014360"/>
                <a:ext cx="73692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780"/>
              <p:cNvSpPr/>
              <p:nvPr/>
            </p:nvSpPr>
            <p:spPr>
              <a:xfrm rot="4772400">
                <a:off x="8372520" y="4291200"/>
                <a:ext cx="84204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781"/>
              <p:cNvSpPr/>
              <p:nvPr/>
            </p:nvSpPr>
            <p:spPr>
              <a:xfrm rot="5070600">
                <a:off x="8393760" y="4165200"/>
                <a:ext cx="6300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82"/>
              <p:cNvSpPr/>
              <p:nvPr/>
            </p:nvSpPr>
            <p:spPr>
              <a:xfrm rot="5070600">
                <a:off x="8341200" y="4243320"/>
                <a:ext cx="63144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组合 2808"/>
            <p:cNvGrpSpPr/>
            <p:nvPr/>
          </p:nvGrpSpPr>
          <p:grpSpPr>
            <a:xfrm>
              <a:off x="7921080" y="3917160"/>
              <a:ext cx="701640" cy="778320"/>
              <a:chOff x="7921080" y="3917160"/>
              <a:chExt cx="701640" cy="778320"/>
            </a:xfrm>
          </p:grpSpPr>
          <p:sp>
            <p:nvSpPr>
              <p:cNvPr id="1019" name="Freeform 784"/>
              <p:cNvSpPr/>
              <p:nvPr/>
            </p:nvSpPr>
            <p:spPr>
              <a:xfrm rot="5628000">
                <a:off x="7903440" y="3979080"/>
                <a:ext cx="736560" cy="654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785"/>
              <p:cNvSpPr/>
              <p:nvPr/>
            </p:nvSpPr>
            <p:spPr>
              <a:xfrm rot="7672800">
                <a:off x="7886160" y="4292640"/>
                <a:ext cx="8416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786"/>
              <p:cNvSpPr/>
              <p:nvPr/>
            </p:nvSpPr>
            <p:spPr>
              <a:xfrm rot="7971000">
                <a:off x="8041320" y="4151880"/>
                <a:ext cx="6296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787"/>
              <p:cNvSpPr/>
              <p:nvPr/>
            </p:nvSpPr>
            <p:spPr>
              <a:xfrm rot="7971000">
                <a:off x="7953480" y="4165920"/>
                <a:ext cx="631440" cy="37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组合 2813"/>
            <p:cNvGrpSpPr/>
            <p:nvPr/>
          </p:nvGrpSpPr>
          <p:grpSpPr>
            <a:xfrm>
              <a:off x="7737480" y="3614760"/>
              <a:ext cx="890640" cy="967320"/>
              <a:chOff x="7737480" y="3614760"/>
              <a:chExt cx="890640" cy="967320"/>
            </a:xfrm>
          </p:grpSpPr>
          <p:sp>
            <p:nvSpPr>
              <p:cNvPr id="1024" name="Freeform 789"/>
              <p:cNvSpPr/>
              <p:nvPr/>
            </p:nvSpPr>
            <p:spPr>
              <a:xfrm rot="6925800">
                <a:off x="7793640" y="3790440"/>
                <a:ext cx="778320" cy="615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790"/>
              <p:cNvSpPr/>
              <p:nvPr/>
            </p:nvSpPr>
            <p:spPr>
              <a:xfrm rot="8970600">
                <a:off x="7759800" y="4097520"/>
                <a:ext cx="88956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791"/>
              <p:cNvSpPr/>
              <p:nvPr/>
            </p:nvSpPr>
            <p:spPr>
              <a:xfrm rot="9268800">
                <a:off x="7978680" y="398304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792"/>
              <p:cNvSpPr/>
              <p:nvPr/>
            </p:nvSpPr>
            <p:spPr>
              <a:xfrm rot="9268800">
                <a:off x="7896600" y="3971520"/>
                <a:ext cx="667440" cy="33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组合 2818"/>
            <p:cNvGrpSpPr/>
            <p:nvPr/>
          </p:nvGrpSpPr>
          <p:grpSpPr>
            <a:xfrm>
              <a:off x="8627040" y="3691440"/>
              <a:ext cx="930240" cy="807120"/>
              <a:chOff x="8627040" y="3691440"/>
              <a:chExt cx="930240" cy="807120"/>
            </a:xfrm>
          </p:grpSpPr>
          <p:sp>
            <p:nvSpPr>
              <p:cNvPr id="1029" name="Freeform 794"/>
              <p:cNvSpPr/>
              <p:nvPr/>
            </p:nvSpPr>
            <p:spPr>
              <a:xfrm rot="20636400">
                <a:off x="8708400" y="3786840"/>
                <a:ext cx="778680" cy="615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795"/>
              <p:cNvSpPr/>
              <p:nvPr/>
            </p:nvSpPr>
            <p:spPr>
              <a:xfrm rot="1081200">
                <a:off x="8664120" y="4020120"/>
                <a:ext cx="88992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796"/>
              <p:cNvSpPr/>
              <p:nvPr/>
            </p:nvSpPr>
            <p:spPr>
              <a:xfrm rot="1379400">
                <a:off x="8610480" y="402912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797"/>
              <p:cNvSpPr/>
              <p:nvPr/>
            </p:nvSpPr>
            <p:spPr>
              <a:xfrm rot="1379400">
                <a:off x="8648280" y="4116240"/>
                <a:ext cx="667800" cy="33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组合 2823"/>
            <p:cNvGrpSpPr/>
            <p:nvPr/>
          </p:nvGrpSpPr>
          <p:grpSpPr>
            <a:xfrm>
              <a:off x="8457840" y="3870360"/>
              <a:ext cx="862920" cy="785160"/>
              <a:chOff x="8457840" y="3870360"/>
              <a:chExt cx="862920" cy="785160"/>
            </a:xfrm>
          </p:grpSpPr>
          <p:sp>
            <p:nvSpPr>
              <p:cNvPr id="1034" name="Freeform 799"/>
              <p:cNvSpPr/>
              <p:nvPr/>
            </p:nvSpPr>
            <p:spPr>
              <a:xfrm rot="805800">
                <a:off x="8521200" y="3947040"/>
                <a:ext cx="736200" cy="631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800"/>
              <p:cNvSpPr/>
              <p:nvPr/>
            </p:nvSpPr>
            <p:spPr>
              <a:xfrm rot="2850600">
                <a:off x="8498160" y="4195800"/>
                <a:ext cx="8413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801"/>
              <p:cNvSpPr/>
              <p:nvPr/>
            </p:nvSpPr>
            <p:spPr>
              <a:xfrm rot="3148800">
                <a:off x="8465040" y="4132800"/>
                <a:ext cx="629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802"/>
              <p:cNvSpPr/>
              <p:nvPr/>
            </p:nvSpPr>
            <p:spPr>
              <a:xfrm rot="3148800">
                <a:off x="8456040" y="4225680"/>
                <a:ext cx="6314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组合 2828"/>
            <p:cNvGrpSpPr/>
            <p:nvPr/>
          </p:nvGrpSpPr>
          <p:grpSpPr>
            <a:xfrm>
              <a:off x="7728480" y="3436560"/>
              <a:ext cx="1032480" cy="970200"/>
              <a:chOff x="7728480" y="3436560"/>
              <a:chExt cx="1032480" cy="970200"/>
            </a:xfrm>
          </p:grpSpPr>
          <p:sp>
            <p:nvSpPr>
              <p:cNvPr id="1039" name="Freeform 804"/>
              <p:cNvSpPr/>
              <p:nvPr/>
            </p:nvSpPr>
            <p:spPr>
              <a:xfrm rot="7717200">
                <a:off x="7987680" y="3465720"/>
                <a:ext cx="513720" cy="911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805"/>
              <p:cNvSpPr/>
              <p:nvPr/>
            </p:nvSpPr>
            <p:spPr>
              <a:xfrm rot="9762000">
                <a:off x="7970040" y="3928680"/>
                <a:ext cx="586800" cy="10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806"/>
              <p:cNvSpPr/>
              <p:nvPr/>
            </p:nvSpPr>
            <p:spPr>
              <a:xfrm rot="10060200">
                <a:off x="8119080" y="3825720"/>
                <a:ext cx="439200" cy="77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807"/>
              <p:cNvSpPr/>
              <p:nvPr/>
            </p:nvSpPr>
            <p:spPr>
              <a:xfrm rot="10060200">
                <a:off x="8058600" y="3766320"/>
                <a:ext cx="43956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组合 2833"/>
            <p:cNvGrpSpPr/>
            <p:nvPr/>
          </p:nvGrpSpPr>
          <p:grpSpPr>
            <a:xfrm>
              <a:off x="8252280" y="3084840"/>
              <a:ext cx="973440" cy="884880"/>
              <a:chOff x="8252280" y="3084840"/>
              <a:chExt cx="973440" cy="884880"/>
            </a:xfrm>
          </p:grpSpPr>
          <p:sp>
            <p:nvSpPr>
              <p:cNvPr id="1044" name="Freeform 809"/>
              <p:cNvSpPr/>
              <p:nvPr/>
            </p:nvSpPr>
            <p:spPr>
              <a:xfrm rot="13857000">
                <a:off x="8560080" y="3045600"/>
                <a:ext cx="357840" cy="963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810"/>
              <p:cNvSpPr/>
              <p:nvPr/>
            </p:nvSpPr>
            <p:spPr>
              <a:xfrm rot="15901800">
                <a:off x="8467920" y="3474000"/>
                <a:ext cx="408960" cy="11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811"/>
              <p:cNvSpPr/>
              <p:nvPr/>
            </p:nvSpPr>
            <p:spPr>
              <a:xfrm rot="16200000">
                <a:off x="8620560" y="3557520"/>
                <a:ext cx="307080" cy="82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812"/>
              <p:cNvSpPr/>
              <p:nvPr/>
            </p:nvSpPr>
            <p:spPr>
              <a:xfrm rot="16200000">
                <a:off x="8709120" y="3542760"/>
                <a:ext cx="305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组合 2838"/>
            <p:cNvGrpSpPr/>
            <p:nvPr/>
          </p:nvGrpSpPr>
          <p:grpSpPr>
            <a:xfrm>
              <a:off x="8058960" y="3265920"/>
              <a:ext cx="721800" cy="790200"/>
              <a:chOff x="8058960" y="3265920"/>
              <a:chExt cx="721800" cy="790200"/>
            </a:xfrm>
          </p:grpSpPr>
          <p:sp>
            <p:nvSpPr>
              <p:cNvPr id="1049" name="Freeform 814"/>
              <p:cNvSpPr/>
              <p:nvPr/>
            </p:nvSpPr>
            <p:spPr>
              <a:xfrm rot="11895600">
                <a:off x="8147520" y="3334680"/>
                <a:ext cx="54468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815"/>
              <p:cNvSpPr/>
              <p:nvPr/>
            </p:nvSpPr>
            <p:spPr>
              <a:xfrm rot="13940400">
                <a:off x="8070840" y="3653640"/>
                <a:ext cx="62388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816"/>
              <p:cNvSpPr/>
              <p:nvPr/>
            </p:nvSpPr>
            <p:spPr>
              <a:xfrm rot="14238600">
                <a:off x="8263440" y="3714120"/>
                <a:ext cx="4680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817"/>
              <p:cNvSpPr/>
              <p:nvPr/>
            </p:nvSpPr>
            <p:spPr>
              <a:xfrm rot="14238600">
                <a:off x="8290080" y="3652920"/>
                <a:ext cx="46800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组合 2843"/>
            <p:cNvGrpSpPr/>
            <p:nvPr/>
          </p:nvGrpSpPr>
          <p:grpSpPr>
            <a:xfrm>
              <a:off x="8058600" y="3989520"/>
              <a:ext cx="884160" cy="929160"/>
              <a:chOff x="8058600" y="3989520"/>
              <a:chExt cx="884160" cy="929160"/>
            </a:xfrm>
          </p:grpSpPr>
          <p:sp>
            <p:nvSpPr>
              <p:cNvPr id="1054" name="Freeform 819"/>
              <p:cNvSpPr/>
              <p:nvPr/>
            </p:nvSpPr>
            <p:spPr>
              <a:xfrm rot="4063800">
                <a:off x="8132400" y="4127040"/>
                <a:ext cx="736200" cy="654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820"/>
              <p:cNvSpPr/>
              <p:nvPr/>
            </p:nvSpPr>
            <p:spPr>
              <a:xfrm rot="6108000">
                <a:off x="8122680" y="4421160"/>
                <a:ext cx="84132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821"/>
              <p:cNvSpPr/>
              <p:nvPr/>
            </p:nvSpPr>
            <p:spPr>
              <a:xfrm rot="6406200">
                <a:off x="8206200" y="4274640"/>
                <a:ext cx="6296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822"/>
              <p:cNvSpPr/>
              <p:nvPr/>
            </p:nvSpPr>
            <p:spPr>
              <a:xfrm rot="6406200">
                <a:off x="8129160" y="4326480"/>
                <a:ext cx="631440" cy="37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组合 2848"/>
            <p:cNvGrpSpPr/>
            <p:nvPr/>
          </p:nvGrpSpPr>
          <p:grpSpPr>
            <a:xfrm>
              <a:off x="8259120" y="3639600"/>
              <a:ext cx="665640" cy="631440"/>
              <a:chOff x="8259120" y="3639600"/>
              <a:chExt cx="665640" cy="631440"/>
            </a:xfrm>
          </p:grpSpPr>
          <p:sp>
            <p:nvSpPr>
              <p:cNvPr id="1059" name="AutoShape 824"/>
              <p:cNvSpPr/>
              <p:nvPr/>
            </p:nvSpPr>
            <p:spPr>
              <a:xfrm>
                <a:off x="8259120" y="3639600"/>
                <a:ext cx="665640" cy="631440"/>
              </a:xfrm>
              <a:custGeom>
                <a:avLst/>
                <a:gdLst>
                  <a:gd name="textAreaLeft" fmla="*/ 156240 w 665640"/>
                  <a:gd name="textAreaRight" fmla="*/ 509400 w 665640"/>
                  <a:gd name="textAreaTop" fmla="*/ 148320 h 631440"/>
                  <a:gd name="textAreaBottom" fmla="*/ 483120 h 63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Oval 825"/>
              <p:cNvSpPr/>
              <p:nvPr/>
            </p:nvSpPr>
            <p:spPr>
              <a:xfrm>
                <a:off x="8375040" y="3732480"/>
                <a:ext cx="444960" cy="42084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"/>
          <p:cNvSpPr/>
          <p:nvPr/>
        </p:nvSpPr>
        <p:spPr>
          <a:xfrm>
            <a:off x="473040" y="1123920"/>
            <a:ext cx="79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花瓣效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200A-9F70-44DF-BD4C-19A1D8D87CB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0:11:21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14Z</dcterms:modified>
  <cp:revision>1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