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5.gif" ContentType="image/gif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6AA-31D7-4976-9303-B20B72A6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8B6-08A8-4FB0-A64E-51F5C21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FC2-759A-4E59-A306-54BDA761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88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420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88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420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4B2-E8F0-4638-BC09-388988D7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0691-C5D1-4C4F-AC3F-C72F0429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AC00-4699-45BF-B9A4-A5CCEF5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0F0-8703-4B82-ACCE-BC7009F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D962-54A9-4FF7-B791-7500A12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4491-436C-4BD2-80B6-BEE2B8FD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B247-7D96-4AE5-AA83-2A11F45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232-B4D5-4C3C-A37E-BDDA875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DA2-7813-40A4-8F01-0EBC7027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1497-1C98-4205-AABF-C2ABAA4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DCE0-F5A8-4DCA-AE0F-EFC4F691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8788-4C86-4C67-ACE7-F797F0D2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1F3D-0B6A-4DCE-B3DF-84D2E22F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88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420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88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420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CFD-A60F-4808-BC34-EC90583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5263-1247-4A53-8DE4-DFDD6012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2C27-8535-4E0A-B0D0-51759B09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D554-22AC-4195-A131-42533CF0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4A4F-0436-4866-9310-077E7AAA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41CD-B4B6-4CCF-83F5-B36551DE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3C5-8AEC-487D-99C7-B22D393D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1D79-8E55-4A47-8555-7670ABD2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5AF19-2B80-4E15-96B4-7E95AE8B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2AE2-AFC2-4C69-95A9-CEF5F37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9F59-5410-4A3E-B1DA-26FEE74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EB5A-DDD7-453D-B5EE-32BB308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2418-D73F-4858-9907-CE3B862A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8288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14200" y="83808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5192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8288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14200" y="3743640"/>
            <a:ext cx="260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2B1C-691A-4289-9313-B3EABC7C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2A3-4491-470B-91A5-6275C6FA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A7A-1394-4753-AB9A-C5E04771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915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A45-C108-4F4B-B041-376C4F6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EC2-550F-46F6-851D-D433580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1200" y="374364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F73-2FB9-4CDB-A481-1435DCA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-4680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1200" y="838080"/>
            <a:ext cx="3941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43640"/>
            <a:ext cx="8077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95B-6FED-4E6F-B9B9-886538C2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hummingbird_with_flower_hg_clr"/>
          <p:cNvPicPr/>
          <p:nvPr/>
        </p:nvPicPr>
        <p:blipFill>
          <a:blip r:embed="rId3"/>
          <a:stretch/>
        </p:blipFill>
        <p:spPr>
          <a:xfrm flipH="1">
            <a:off x="6858000" y="2438280"/>
            <a:ext cx="2619360" cy="4496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30856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2644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2203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2203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2203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2203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22035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F77-8720-4147-9053-9B0917DC4E66}" type="slidenum">
              <a:rPr b="0" lang="en-US" sz="10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AAD1-338D-4CE9-8C2E-FE306313ED5A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687-73D8-425B-80B7-27AA26A204FB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30856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SzPct val="2644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SzPct val="2203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SzPct val="2203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SzPct val="2203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SzPct val="2203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SzPct val="2203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976-6331-46B8-A6CB-BDFBB4B7F85E}" type="slidenum">
              <a:rPr b="0" lang="en-US" sz="900" spc="-1" strike="noStrike">
                <a:solidFill>
                  <a:srgbClr val="ffffff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5.gif"/><Relationship Id="rId8" Type="http://schemas.openxmlformats.org/officeDocument/2006/relationships/image" Target="../media/image14.png"/><Relationship Id="rId9" Type="http://schemas.openxmlformats.org/officeDocument/2006/relationships/image" Target="../media/image15.gif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7916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Eras Bold ITC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55623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31" descr="hummingbirds_hovering_hg_clr"/>
          <p:cNvPicPr/>
          <p:nvPr/>
        </p:nvPicPr>
        <p:blipFill>
          <a:blip r:embed="rId1"/>
          <a:stretch/>
        </p:blipFill>
        <p:spPr>
          <a:xfrm>
            <a:off x="2362320" y="1482840"/>
            <a:ext cx="4495680" cy="337824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466560" y="981000"/>
            <a:ext cx="816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动态卡通鸟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730760"/>
            <a:ext cx="91440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546336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Bold ITC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336699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Black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4FD-BA0B-4C1A-9D1D-2CEA89162F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Bold ITC"/>
                <a:ea typeface="宋体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0" y="5463360"/>
            <a:ext cx="9144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142" name="Picture 384" descr="hummingbirds_sld"/>
          <p:cNvPicPr/>
          <p:nvPr/>
        </p:nvPicPr>
        <p:blipFill>
          <a:blip r:embed="rId1"/>
          <a:stretch/>
        </p:blipFill>
        <p:spPr>
          <a:xfrm>
            <a:off x="237960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5" descr="hummingbirds_trs"/>
          <p:cNvPicPr/>
          <p:nvPr/>
        </p:nvPicPr>
        <p:blipFill>
          <a:blip r:embed="rId2"/>
          <a:stretch/>
        </p:blipFill>
        <p:spPr>
          <a:xfrm>
            <a:off x="460692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86" descr="hummingbirds_prt"/>
          <p:cNvPicPr/>
          <p:nvPr/>
        </p:nvPicPr>
        <p:blipFill>
          <a:blip r:embed="rId3"/>
          <a:stretch/>
        </p:blipFill>
        <p:spPr>
          <a:xfrm>
            <a:off x="683424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7" descr="hummingbirds_qx"/>
          <p:cNvPicPr/>
          <p:nvPr/>
        </p:nvPicPr>
        <p:blipFill>
          <a:blip r:embed="rId4"/>
          <a:stretch/>
        </p:blipFill>
        <p:spPr>
          <a:xfrm>
            <a:off x="152280" y="135000"/>
            <a:ext cx="2157480" cy="161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89" descr="hummingbird_investigating_hg_clr"/>
          <p:cNvPicPr/>
          <p:nvPr/>
        </p:nvPicPr>
        <p:blipFill>
          <a:blip r:embed="rId5"/>
          <a:stretch/>
        </p:blipFill>
        <p:spPr>
          <a:xfrm>
            <a:off x="152280" y="1905120"/>
            <a:ext cx="2514600" cy="2206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90" descr="hummingbird_with_flower_hg_clr"/>
          <p:cNvPicPr/>
          <p:nvPr/>
        </p:nvPicPr>
        <p:blipFill>
          <a:blip r:embed="rId6"/>
          <a:stretch/>
        </p:blipFill>
        <p:spPr>
          <a:xfrm>
            <a:off x="2819520" y="1905120"/>
            <a:ext cx="173196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91" descr="hummingbirds_hovering_hg_clr"/>
          <p:cNvPicPr/>
          <p:nvPr/>
        </p:nvPicPr>
        <p:blipFill>
          <a:blip r:embed="rId7"/>
          <a:stretch/>
        </p:blipFill>
        <p:spPr>
          <a:xfrm>
            <a:off x="4648320" y="1828800"/>
            <a:ext cx="2133360" cy="1603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2" descr="hummingbird"/>
          <p:cNvPicPr/>
          <p:nvPr/>
        </p:nvPicPr>
        <p:blipFill>
          <a:blip r:embed="rId8"/>
          <a:stretch/>
        </p:blipFill>
        <p:spPr>
          <a:xfrm>
            <a:off x="5562720" y="3809880"/>
            <a:ext cx="3276360" cy="276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93" descr="hummingbird_hovering_hg_clr"/>
          <p:cNvPicPr/>
          <p:nvPr/>
        </p:nvPicPr>
        <p:blipFill>
          <a:blip r:embed="rId9"/>
          <a:stretch/>
        </p:blipFill>
        <p:spPr>
          <a:xfrm>
            <a:off x="6858000" y="19051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6:05:2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11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