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6D8-0287-40F1-8AB3-BFB543E7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C50-C1AB-415D-8CF8-4596473F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6E3-8E6B-4110-857B-5B51F559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92A-16D3-4C70-B46B-A733FAF2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528F-E2A1-4EF0-8B87-8F570487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6BA-3660-4A3E-A49C-D65D6E11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60EA-1BB5-4154-AAA7-6252A31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C76-848B-452E-AA64-EE0DC5F3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0AF4-CFEA-4914-B5C4-E8B22EAD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CF67-7299-4CBD-B5A3-D9667271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2470-6766-4B7B-B624-D3C9FC3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8C2-FBDF-4C0F-9283-475FE0E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71AC-E597-4252-9F7C-5CA57D97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B052-4BBA-4AD9-8F94-8897EC2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A788-64FB-41D6-A982-E8FD578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B9E8-0033-4000-880F-FEEF3675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487E-F7BA-471E-A9F0-A2D1B8F6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B555-E8CF-4867-9357-6EE9B783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2CF4-53DB-49D4-A2FD-FA7AE4D6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4C17-7127-4A36-8C81-1230EA9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23D4-A30A-4132-8FAC-31BB089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535B-68FB-4ED3-AA4A-8B7E2BB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619-876F-4E3E-BF34-25C1D718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EAC8-43AE-49E2-AED7-5B9862B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142D-288C-463F-A3B8-F6E2800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3795-BB4B-471F-9009-2CC8C370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62B3-66BC-484A-BA9E-FF5D99D7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E1A1-DCA9-45CA-B722-7199C1E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E6C0-6D41-4296-B490-64937954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F9DD-BC41-445B-8D7E-E77EB454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7B0-94FC-4309-90F5-E677B46E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47-8D8E-4932-92ED-F193A61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851-8861-4883-B898-C60139F7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C0E-131F-494C-ABF8-32E742F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366-E56C-4DD9-A32A-4B5EEED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5E4-B612-4E52-B32D-6576C23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870-B7B4-4935-8CD7-EAD28379F1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AC78-1FB1-4416-9A45-24BCB342B1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B99C-464E-4216-A755-FB934BE27E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44E3-58FA-44CC-95F5-C4CFCA2EC5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  <a:ea typeface="宋体"/>
              </a:rPr>
              <a:t>DIGITAL RADIANC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3123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YOUR SUBTITLE GOES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687320" y="105264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电子企业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977F-F1F6-4047-8F05-F3FD5E3C49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  <a:ea typeface="宋体"/>
              </a:rPr>
              <a:t>TRANSITIONAL PAG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2:08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