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5D4-E4BC-4556-AA93-EFB4B0CC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D5E-04D0-4D10-A598-EBFE694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A21-9635-422E-9E64-115B16AE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F15-4F5F-43A8-A7A3-FE40E3AA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3CF6-430C-4C5A-B032-13A1FE3B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EA8-A59F-4C34-B368-713985A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9A3-2D06-45DE-BB94-55E39F90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9277-497F-40EA-B610-C5E70CF9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D23-D3FD-4756-97DB-6F50AA6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7E5D-6173-4180-B235-3983985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05D-DDDA-4D95-B918-44BCA9B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7BE-0A06-4180-82E6-E5FA8BE8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FC76-5B73-4F4A-A202-41D516F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75D-925C-4178-BB40-BB8F496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0D55-6CDF-42F1-8C4C-E77655F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8089-E0E5-408B-B646-13EEBD3E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FDC-D8CC-4461-BBE4-3978499D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F41-17C6-4408-B7EB-6A9C7A6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444-57A1-4232-892F-4508583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F64-6F65-4DCE-B81A-9ED1AFC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ECD-19D5-4B28-B399-C9BCB6A4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642-2F96-46DD-9212-9F796A1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189-BE8D-4E60-8B76-63FE136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A46-A1FD-4742-9462-4DEACCD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6B4-52EC-4A35-81D5-B05CA646EC5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F78-B8E8-48C1-AF1B-D62EA55D16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C:\Users\Administrator\Desktop\未标题-23551.png"/>
          <p:cNvPicPr/>
          <p:nvPr/>
        </p:nvPicPr>
        <p:blipFill>
          <a:blip r:embed="rId2"/>
          <a:stretch/>
        </p:blipFill>
        <p:spPr>
          <a:xfrm>
            <a:off x="-11160" y="0"/>
            <a:ext cx="9161640" cy="1571760"/>
          </a:xfrm>
          <a:prstGeom prst="rect">
            <a:avLst/>
          </a:prstGeom>
          <a:ln w="0">
            <a:noFill/>
          </a:ln>
        </p:spPr>
      </p:pic>
      <p:sp>
        <p:nvSpPr>
          <p:cNvPr id="5" name="矩形 7"/>
          <p:cNvSpPr/>
          <p:nvPr/>
        </p:nvSpPr>
        <p:spPr>
          <a:xfrm>
            <a:off x="0" y="1052640"/>
            <a:ext cx="9150480" cy="144360"/>
          </a:xfrm>
          <a:prstGeom prst="rect">
            <a:avLst/>
          </a:prstGeom>
          <a:solidFill>
            <a:srgbClr val="34bc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-11160" y="1125360"/>
            <a:ext cx="9161640" cy="71640"/>
          </a:xfrm>
          <a:prstGeom prst="rect">
            <a:avLst/>
          </a:prstGeom>
          <a:solidFill>
            <a:srgbClr val="053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8E91-6E72-4EED-B507-9BC78B97AF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8E50-2A71-43FB-BFA5-35CB79469B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Administrator\Desktop\未标题2-1.png"/>
          <p:cNvPicPr/>
          <p:nvPr/>
        </p:nvPicPr>
        <p:blipFill>
          <a:blip r:embed="rId1"/>
          <a:srcRect l="440" t="0" r="0" b="0"/>
          <a:stretch/>
        </p:blipFill>
        <p:spPr>
          <a:xfrm>
            <a:off x="0" y="-15840"/>
            <a:ext cx="9213840" cy="69181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468360" y="126828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卡通梦幻星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7D5-B011-4765-92B7-1136170B40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宋黑简体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9"/>
          <p:cNvGrpSpPr/>
          <p:nvPr/>
        </p:nvGrpSpPr>
        <p:grpSpPr>
          <a:xfrm>
            <a:off x="2367000" y="2565360"/>
            <a:ext cx="4392720" cy="574560"/>
            <a:chOff x="2367000" y="2565360"/>
            <a:chExt cx="4392720" cy="574560"/>
          </a:xfrm>
        </p:grpSpPr>
        <p:sp>
          <p:nvSpPr>
            <p:cNvPr id="96" name="矩形 3"/>
            <p:cNvSpPr/>
            <p:nvPr/>
          </p:nvSpPr>
          <p:spPr>
            <a:xfrm>
              <a:off x="2943000" y="2565360"/>
              <a:ext cx="3816720" cy="54144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" descr="C:\Users\Administrator\Desktop\未标111题-1.png"/>
            <p:cNvPicPr/>
            <p:nvPr/>
          </p:nvPicPr>
          <p:blipFill>
            <a:blip r:embed="rId1"/>
            <a:stretch/>
          </p:blipFill>
          <p:spPr>
            <a:xfrm>
              <a:off x="2583000" y="2643840"/>
              <a:ext cx="1512360" cy="4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6"/>
            <p:cNvSpPr/>
            <p:nvPr/>
          </p:nvSpPr>
          <p:spPr>
            <a:xfrm>
              <a:off x="2367000" y="2565360"/>
              <a:ext cx="518400" cy="54180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7"/>
            <p:cNvSpPr/>
            <p:nvPr/>
          </p:nvSpPr>
          <p:spPr>
            <a:xfrm>
              <a:off x="2367000" y="256536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8"/>
            <p:cNvSpPr/>
            <p:nvPr/>
          </p:nvSpPr>
          <p:spPr>
            <a:xfrm>
              <a:off x="3339000" y="265140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1"/>
          <p:cNvGrpSpPr/>
          <p:nvPr/>
        </p:nvGrpSpPr>
        <p:grpSpPr>
          <a:xfrm>
            <a:off x="2367000" y="4100400"/>
            <a:ext cx="4392720" cy="574920"/>
            <a:chOff x="2367000" y="4100400"/>
            <a:chExt cx="4392720" cy="574920"/>
          </a:xfrm>
        </p:grpSpPr>
        <p:sp>
          <p:nvSpPr>
            <p:cNvPr id="102" name="矩形 12"/>
            <p:cNvSpPr/>
            <p:nvPr/>
          </p:nvSpPr>
          <p:spPr>
            <a:xfrm>
              <a:off x="2943000" y="4100400"/>
              <a:ext cx="3816720" cy="54180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2" descr="C:\Users\Administrator\Desktop\未标111题-1.png"/>
            <p:cNvPicPr/>
            <p:nvPr/>
          </p:nvPicPr>
          <p:blipFill>
            <a:blip r:embed="rId2"/>
            <a:stretch/>
          </p:blipFill>
          <p:spPr>
            <a:xfrm>
              <a:off x="2583000" y="4178880"/>
              <a:ext cx="151236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2367000" y="4100400"/>
              <a:ext cx="518400" cy="54216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5"/>
            <p:cNvSpPr/>
            <p:nvPr/>
          </p:nvSpPr>
          <p:spPr>
            <a:xfrm>
              <a:off x="2367000" y="41004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6"/>
            <p:cNvSpPr/>
            <p:nvPr/>
          </p:nvSpPr>
          <p:spPr>
            <a:xfrm>
              <a:off x="3339000" y="41864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7"/>
          <p:cNvGrpSpPr/>
          <p:nvPr/>
        </p:nvGrpSpPr>
        <p:grpSpPr>
          <a:xfrm>
            <a:off x="2367000" y="3333600"/>
            <a:ext cx="4392720" cy="574920"/>
            <a:chOff x="2367000" y="3333600"/>
            <a:chExt cx="4392720" cy="574920"/>
          </a:xfrm>
        </p:grpSpPr>
        <p:sp>
          <p:nvSpPr>
            <p:cNvPr id="108" name="矩形 18"/>
            <p:cNvSpPr/>
            <p:nvPr/>
          </p:nvSpPr>
          <p:spPr>
            <a:xfrm>
              <a:off x="2943000" y="3333600"/>
              <a:ext cx="3816720" cy="54180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C:\Users\Administrator\Desktop\未标111题-1.png"/>
            <p:cNvPicPr/>
            <p:nvPr/>
          </p:nvPicPr>
          <p:blipFill>
            <a:blip r:embed="rId3"/>
            <a:stretch/>
          </p:blipFill>
          <p:spPr>
            <a:xfrm>
              <a:off x="2583000" y="3412080"/>
              <a:ext cx="1512360" cy="49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20"/>
            <p:cNvSpPr/>
            <p:nvPr/>
          </p:nvSpPr>
          <p:spPr>
            <a:xfrm>
              <a:off x="2367000" y="3333600"/>
              <a:ext cx="518400" cy="54216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1"/>
            <p:cNvSpPr/>
            <p:nvPr/>
          </p:nvSpPr>
          <p:spPr>
            <a:xfrm>
              <a:off x="2367000" y="3333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2"/>
            <p:cNvSpPr/>
            <p:nvPr/>
          </p:nvSpPr>
          <p:spPr>
            <a:xfrm>
              <a:off x="3339000" y="34196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3"/>
          <p:cNvGrpSpPr/>
          <p:nvPr/>
        </p:nvGrpSpPr>
        <p:grpSpPr>
          <a:xfrm>
            <a:off x="2367000" y="4869000"/>
            <a:ext cx="4392720" cy="574560"/>
            <a:chOff x="2367000" y="4869000"/>
            <a:chExt cx="4392720" cy="574560"/>
          </a:xfrm>
        </p:grpSpPr>
        <p:sp>
          <p:nvSpPr>
            <p:cNvPr id="114" name="矩形 24"/>
            <p:cNvSpPr/>
            <p:nvPr/>
          </p:nvSpPr>
          <p:spPr>
            <a:xfrm>
              <a:off x="2943000" y="4869000"/>
              <a:ext cx="3816720" cy="541440"/>
            </a:xfrm>
            <a:prstGeom prst="rect">
              <a:avLst/>
            </a:prstGeom>
            <a:solidFill>
              <a:srgbClr val="34bcea"/>
            </a:solidFill>
            <a:ln w="3240">
              <a:solidFill>
                <a:srgbClr val="0539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" descr="C:\Users\Administrator\Desktop\未标111题-1.png"/>
            <p:cNvPicPr/>
            <p:nvPr/>
          </p:nvPicPr>
          <p:blipFill>
            <a:blip r:embed="rId4"/>
            <a:stretch/>
          </p:blipFill>
          <p:spPr>
            <a:xfrm>
              <a:off x="2583000" y="4947480"/>
              <a:ext cx="1512360" cy="4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26"/>
            <p:cNvSpPr/>
            <p:nvPr/>
          </p:nvSpPr>
          <p:spPr>
            <a:xfrm>
              <a:off x="2367000" y="4869000"/>
              <a:ext cx="518400" cy="541800"/>
            </a:xfrm>
            <a:prstGeom prst="rect">
              <a:avLst/>
            </a:prstGeom>
            <a:solidFill>
              <a:srgbClr val="05395c"/>
            </a:solidFill>
            <a:ln w="9360">
              <a:solidFill>
                <a:srgbClr val="34bc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7"/>
            <p:cNvSpPr/>
            <p:nvPr/>
          </p:nvSpPr>
          <p:spPr>
            <a:xfrm>
              <a:off x="2367000" y="48690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8"/>
            <p:cNvSpPr/>
            <p:nvPr/>
          </p:nvSpPr>
          <p:spPr>
            <a:xfrm>
              <a:off x="3339000" y="4955040"/>
              <a:ext cx="303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5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