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631-BB58-4D16-8756-4DACFC7D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D49-20FF-4380-A4EF-B744C526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F54B0-8CD3-41FD-84E4-AF919E77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31296-0C3B-448B-A1A9-4EDE8405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8ED1B-D01D-4420-A4C1-A3527E6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D98DF-EF9A-4355-B1B7-3C6E6EB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FAB52-38A9-4B59-A854-350CB8D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7F727-AD74-4F58-A91B-1591601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124B-A5B2-4CDF-B658-6BB71B07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D1C92-E9C9-4231-BC2F-8C67B9AA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32183-323F-455C-B53C-1CB0205D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EB1DE-0EC1-49D7-8325-BFE9E215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0D6-C3FB-49C5-B37B-0CD95EB6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E0468-AFBE-4EF3-8001-40FB7377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257C3-D050-4C36-A903-365C1372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E9C66-05D1-4218-BD48-8E951649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315D7-FB3F-4B6F-9A12-100FDCC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BD1C0-0DA0-48FA-9C3D-5B97D13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13DDB-DA53-4098-BF50-A6E36D3C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50D26-C7B7-4893-B855-2F87D594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C7772-4D34-48F1-A98A-17588F2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7F8E2-C569-4F9B-B00D-663DBB8C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4AA49-CE79-4845-B565-68475800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48E-5587-4901-AE15-FA75271D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7531B-BB6A-4C7F-9170-3B397FEB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E907C-30A5-4161-8611-0A0B2CEF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89BEA-1742-478E-BC2A-0977886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AA41A-723F-493A-9ABE-E209492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D2FFD-469C-40BC-AF0F-5A210169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9C9F4-4513-4397-AC35-BF445C5D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BF274-2AEA-4A78-8F1A-EB7AE270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A34E3-D406-4563-928A-8F7A1D3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D000A-FA15-40DA-80B0-D936A35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20B2A-1520-454A-AEEE-6DE24FB4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C9F4-E390-4966-8A4E-B453D843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0D876-B7B0-4A27-8A05-34C04131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5DADE-630D-4223-82D4-B3A933D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0C844-0EB6-4167-B16D-C7FC0308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66088-6FE3-44EE-9FB4-8AAABF53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F89CF-51A7-4050-B88C-8E45DDA2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D6818-5F2B-4595-80C8-398BFF6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5DCFE-D765-4E75-8DBE-F78B9166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B18CD-2FA2-47F6-AA94-0CB5CC6E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9F429-46C6-4732-8373-760EE3A7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F436D-857B-446A-A2B0-A9412EC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4F7E-6967-425A-A6B4-920E9E7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88E01-20F9-4B56-824A-7425B4B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3C2A3-C099-4832-8BCB-41BD23D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D0AE6-B89E-44FA-A12D-147AD012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E992-F5BD-4F59-846E-3182A9E0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BB482-0C38-453B-9790-F4CB7384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7DC3B-F0EF-41E9-8707-8D22A8C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00001-002D-44C2-A2A1-6C1D09F3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639D1-EA5D-46CC-91EC-DC4A62BD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C27CF-E337-4ECD-97E0-A2B4A43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E8C58-8073-4D8A-9B05-18C70AE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28B6-FD1D-4F8B-8379-2BE4A43B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C69E1-F792-4F1B-8F36-4C4E39D1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77E2A-18AD-40A7-9179-FD33DCF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2D4AF-DC22-4BA2-A15B-A1CC6CB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146EE-6CD3-4993-A05D-4704D98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FFB46-7C51-4D07-8124-58558B66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95C17-4AC9-44B2-B48B-02E3E218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FD0FB-83F8-48CF-A541-269369E1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0C89-7369-4900-B6C6-DD735DD8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916E-7148-424C-BD84-8DF85308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D095-7545-4148-94BD-D9290DC0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14A1-7AC7-44F8-B071-2D901479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91D-66FB-45C0-B606-955817D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F62F-41C6-471C-BBC0-23D8DEC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2722-E2C8-4B41-95F6-D661B0E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4553-899C-470E-934E-420D316E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E329-71B3-4C7D-B8A8-D2C59657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C969-1C0B-472F-825F-77F41BD2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CD11-5CD5-4489-B31E-1831C3F2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437F-FD7D-4773-ABC5-0F6E9831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11DD-6591-4268-875F-A8D667D5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EFFC-176F-4B2E-BDFA-68360FE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7214-61A6-4166-8E37-A86EC04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07B-5FAA-4C7D-82D2-11AF29DE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0A1D-1C9A-4800-BC1C-13829B7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56BE-255B-446D-9785-E66FAEB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E800-FBD7-4331-85DC-7FE188B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CBB3-AE4B-446C-AC53-83FA192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6FB1-652B-498E-A7FE-F7D7A49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A90F-690F-416E-B2CD-8CDC66DF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BB04-29D6-4B0D-867D-2B6FBD0B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CAEB-A46B-4F77-9905-6DF2F06E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1786-CE42-41DA-BC87-FE84A25D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E31B-7A37-42DC-84D6-8FB8F9AA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847-E356-4BB8-BA3D-70A5BA3C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9ECC-5562-4EA3-B64C-5C87CF51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1E13-0FBA-49FD-BFCF-E7A160BF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E613-9CAA-4A07-9E92-53BF87CF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B5B2E-8FCA-4CBA-B445-74ADFCEF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405E-12B7-4D39-8A50-41FE3A8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681E-C09D-43CE-88B8-49E676F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862F-37DF-467F-850F-971C3B77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B0A4-E238-4568-B2BF-EA0D989B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0F1D-8070-403F-91E5-45B7FD14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C73D6-F277-45FF-9016-537300D7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A88-7EE9-4B36-92CD-C91A8797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06BF-95A0-42E8-B204-C2017DFB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4AA1E-A6C9-4A34-B493-C3B421A5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0CC35-8388-490A-8C8F-F3E0F17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059F9-6526-460D-BED7-526BBC6D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F925-4055-4039-B7B5-5FDCA963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61F6-CB3B-4A8B-BC8A-62B88DC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695C2-B915-46C4-B931-8012C01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8D3B-15E5-441B-9ECA-533E2C22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A1F4B-569B-4704-A13C-8735723B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7A7B-DF6A-4731-9F30-597FD02A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7DC-4422-4AF5-B620-B2DCB2B9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D37E-AC59-40E9-81FC-381B02C2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2AAF7-0797-4E2F-A1DA-9FBA0D7D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5B45-8854-450E-AB8A-08A23CDF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B0221-0EA2-4E37-A4A9-B91CBF13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503D-A790-4CF3-870D-CF72FC9E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D143-721A-461D-9D3A-3A37179C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0522-49E9-44A0-97AC-0A5385C3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CC24C-36F5-432F-ADA7-C2E5289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0FF4-53BE-4BBF-95DD-7C14C04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FC7B4-2213-455C-B52A-026A8C18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14C-4ADE-46B0-9C80-B048512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6FB7E-69B8-4E76-9C94-525AFC2D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2CA2F-A501-468D-80B3-5C51C3AA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F5DFB-DE98-49E6-8CA0-042422F0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2DB06-D316-42FE-A9E4-E5E2BE09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63D1-51CE-4852-936F-6F47063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C70C-67B1-4AE7-98EC-931E7EA0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1E234-41E9-49F7-9DF1-C1162117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3196E-A8C0-4ED6-BC70-C932B158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EF57-081E-479C-9FA8-22633FB2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1CC21-9B64-49DD-8CF8-FC6BF61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8AE-371E-4194-B615-4389D43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4FF84-5D61-4441-9C76-985AF41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7F013-3C0B-46F3-A7C1-205111B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B71E-7FD1-4402-8846-6B08900C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FED2-3793-4E20-BF7C-4293A173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75A1-7FEF-4C18-907A-EF17CC2B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7966C-5473-41BD-BD2F-19EE6F5B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CA932-BAA5-4F6F-A365-A09EE718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53AE7-B21F-405F-9DCF-6B542DD5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91EA5-AD06-43C7-973F-D4C5860F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DD30-C7A9-44B6-B8A1-6CF8F9B4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129-9BAD-42A3-9715-DB5BDCED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8391-7F6D-4422-93EF-FCB221F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03A9E-9494-4194-8EE1-AA1020D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88FE8-4B1E-4580-8CA2-2A50871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DE86-3942-43CC-B6CF-2BB25AF1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112F-64E0-4DA0-93D3-B7F396E2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65342-953E-4169-988F-502887CA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4D2A1-861A-47F0-A248-0AB8C637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622B5-3795-4BC1-8994-F96F0E55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19F44-473A-4032-B2C5-CAC5E217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51744-C459-4AD6-B339-A1FD8C4F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9A5C-32F5-4411-B869-2F3CF2D7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514-5383-4F65-AE6E-F1E9C53B53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5B21-66B2-47F4-AD64-11F00D2AC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5F96-5C18-4C23-AC46-5C1D34E841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2C7-B2D5-4FE7-9923-6FA6F61109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0A4B-31B9-4CC2-B4C6-54A9A3BD64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32FB-D94C-42ED-A532-5E80DB1DA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573-8B08-4B12-9303-64E55954AF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5ECB-4A62-4062-9598-55B24C3B6C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4231-D4B4-48E5-B9CE-DC0AC0C2F9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139F-5517-4DB9-909B-F1A9D12E0D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3139-B798-49D5-9986-E346A01A18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B7D-6B4F-49DC-AB6B-8BC00CC0C3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A43-8801-40B5-BE6B-F0A90BF060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7955-0D6E-4AF4-BC9C-8E7BDB9689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D5B6-71EF-42C5-A214-28DB17ED57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1447-DFF0-480F-8934-F7107BE279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B33-DCAA-4200-B5DD-57560C8397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8920-4317-4F9A-AD2A-53FECEE1D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D627-B04C-4B4F-907B-31F75C5FE1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B781-91D2-4F59-809D-033D75E8F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EDD-6732-44E9-89FC-32ADC9D6E5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BB31-9EF2-4B72-AC08-A03995EEE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255-18D5-423B-8777-EBAB4C2D7F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C669-F505-4299-91A5-9D58E5DEF3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0"/>
          <p:cNvSpPr/>
          <p:nvPr/>
        </p:nvSpPr>
        <p:spPr>
          <a:xfrm>
            <a:off x="2195640" y="389736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课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16"/>
          <p:cNvSpPr txBox="1"/>
          <p:nvPr/>
        </p:nvSpPr>
        <p:spPr>
          <a:xfrm>
            <a:off x="2124000" y="134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五年级下册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语文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3" descr="pic_251422hk"/>
          <p:cNvPicPr/>
          <p:nvPr/>
        </p:nvPicPr>
        <p:blipFill>
          <a:blip r:embed="rId1"/>
          <a:srcRect l="0" t="0" r="0" b="380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2"/>
          <p:cNvSpPr/>
          <p:nvPr/>
        </p:nvSpPr>
        <p:spPr>
          <a:xfrm>
            <a:off x="3995640" y="893880"/>
            <a:ext cx="4751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我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种在春天的土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变小草，绿得生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变小花，开得漂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成为柳絮和蒲公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更是我最大的愿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会飞啊，飞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飞到遥远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3" descr="pic_251422hk"/>
          <p:cNvPicPr/>
          <p:nvPr/>
        </p:nvPicPr>
        <p:blipFill>
          <a:blip r:embed="rId1"/>
          <a:srcRect l="0" t="0" r="0" b="380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"/>
          <p:cNvSpPr/>
          <p:nvPr/>
        </p:nvSpPr>
        <p:spPr>
          <a:xfrm>
            <a:off x="3059280" y="1916280"/>
            <a:ext cx="58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不过，飞到遥远的地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要和爸爸妈妈商量商量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8" descr="图片1了 "/>
          <p:cNvPicPr/>
          <p:nvPr/>
        </p:nvPicPr>
        <p:blipFill>
          <a:blip r:embed="rId1"/>
          <a:srcRect l="1293" t="397" r="1293" b="1605"/>
          <a:stretch/>
        </p:blipFill>
        <p:spPr>
          <a:xfrm>
            <a:off x="0" y="620640"/>
            <a:ext cx="9144000" cy="6238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4"/>
          <p:cNvSpPr/>
          <p:nvPr/>
        </p:nvSpPr>
        <p:spPr>
          <a:xfrm>
            <a:off x="1908000" y="692280"/>
            <a:ext cx="655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不过，飞向遥远的地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要和爸爸妈妈商量商量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68360" y="21193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这是诗中的最后一节，从诗意上看，与第四节诗是紧密相关的。乍看起来，似乎有画蛇添足之嫌，把孩子的想象一下子拉到了现实，与前面的诗句有些不和谐，甚至格格不入。实际上，正是这句话，形象地表现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是怎样地沉迷在想象之中，以至于把想象当成了现实，一想到要飞向遥远的地方，自己是快乐了，爸爸妈妈是不是放心呢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所以得和他们商量商量。这更增加了诗的情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9" descr="图片3"/>
          <p:cNvPicPr/>
          <p:nvPr/>
        </p:nvPicPr>
        <p:blipFill>
          <a:blip r:embed="rId2"/>
          <a:stretch/>
        </p:blipFill>
        <p:spPr>
          <a:xfrm>
            <a:off x="0" y="549360"/>
            <a:ext cx="2195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8" descr="图片1了 "/>
          <p:cNvPicPr/>
          <p:nvPr/>
        </p:nvPicPr>
        <p:blipFill>
          <a:blip r:embed="rId1"/>
          <a:srcRect l="1293" t="397" r="1293" b="1605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611280" y="2349000"/>
            <a:ext cx="82087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  <a:ea typeface="幼圆"/>
              </a:rPr>
              <a:t>         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幼圆"/>
              </a:rPr>
              <a:t>《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幼圆"/>
              </a:rPr>
              <a:t>我想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幼圆"/>
              </a:rPr>
              <a:t>》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幼圆"/>
              </a:rPr>
              <a:t>写了一个孩子一连串美妙的幻想：想把小手安在桃树枝上，想把脚丫接在柳树根上，想把眼睛装在风筝上，想把自己种在土地上，表达了儿童丰富的想象力以及对美的追求和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835280" y="1628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觉得作者的想法美在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图12"/>
          <p:cNvPicPr/>
          <p:nvPr/>
        </p:nvPicPr>
        <p:blipFill>
          <a:blip r:embed="rId2"/>
          <a:stretch/>
        </p:blipFill>
        <p:spPr>
          <a:xfrm>
            <a:off x="324000" y="83664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pic_251421tt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72" name="WordArt 4"/>
          <p:cNvSpPr txBox="1"/>
          <p:nvPr/>
        </p:nvSpPr>
        <p:spPr>
          <a:xfrm>
            <a:off x="1763640" y="1773360"/>
            <a:ext cx="5616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童年的水墨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5" descr="1439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9"/>
          <p:cNvSpPr/>
          <p:nvPr/>
        </p:nvSpPr>
        <p:spPr>
          <a:xfrm>
            <a:off x="1332000" y="765000"/>
            <a:ext cx="723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街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听不见马路上车辆喧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哪管它街头广播声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书页在膝盖上轻轻地翻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嘴角漾着丝丝抹不掉的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阳光从脚尖悄悄爬上膝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也想着“黑旋风”水战“浪里白条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1439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826920" y="1557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街头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》──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读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水浒传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》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的孩子，那样的专注，尽管马路街头是那样的喧闹，却丝毫不能影响他，对时间的推移也浑然不觉。无边的喧闹和一隅的安静，形成了鲜明的对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图12"/>
          <p:cNvPicPr/>
          <p:nvPr/>
        </p:nvPicPr>
        <p:blipFill>
          <a:blip r:embed="rId2"/>
          <a:stretch/>
        </p:blipFill>
        <p:spPr>
          <a:xfrm>
            <a:off x="250920" y="69228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5" descr="1439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755640" y="10573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前一句描写了读书的神态，孩子是坐在街头读书，书就放在膝盖上，他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她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似乎很懂得爱护书，翻页时动作是轻轻的。肯定是书中的故事有趣，所以他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她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情不自禁地微笑着。后一句点明了他看的是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水浒传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但主要说他看书看得入迷了，只想着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黑旋风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水战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浪里白条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的事，对时间的悄然流逝一点也没有注意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2" descr="0kwct8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770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1"/>
          <p:cNvSpPr/>
          <p:nvPr/>
        </p:nvSpPr>
        <p:spPr>
          <a:xfrm>
            <a:off x="900000" y="836640"/>
            <a:ext cx="662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溪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垂柳把溪水当做梳妆的镜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山溪像玉带一样平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人影给溪水染绿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钓竿上立着一只红蜻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忽然扑腾一声人影碎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草地上蹦跳着鱼儿和笑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图片1tuh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4"/>
          <p:cNvSpPr/>
          <p:nvPr/>
        </p:nvSpPr>
        <p:spPr>
          <a:xfrm>
            <a:off x="1476360" y="1052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溪边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华文新魏"/>
              </a:rPr>
              <a:t>》──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钓鱼的孩子，那样的快乐，静静的溪水映着爱美的柳树，映着钓鱼孩子的倒影，静静的钓鱼竿，立着红蜻蜓，我们仿佛觉得空气都停止了流动，似乎大家都怕鱼受惊，而鱼上钩的一刹那，这种静立刻被打破了，溪水动了，人影碎了，鱼跃人欢，寥寥几句，勾勒出一个现代垂钓儿童的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图12"/>
          <p:cNvPicPr/>
          <p:nvPr/>
        </p:nvPicPr>
        <p:blipFill>
          <a:blip r:embed="rId2"/>
          <a:stretch/>
        </p:blipFill>
        <p:spPr>
          <a:xfrm>
            <a:off x="250920" y="69228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9" descr="168134696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36" name="WordArt 3"/>
          <p:cNvSpPr txBox="1"/>
          <p:nvPr/>
        </p:nvSpPr>
        <p:spPr>
          <a:xfrm>
            <a:off x="2411280" y="292428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儿童诗两首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8" descr="图片10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2195640" y="996840"/>
            <a:ext cx="6842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像刚下水的鸭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扇动翅膀拍水戏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一双双小手拨动着浪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你拨我溅笑哈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是哪个“水葫芦”一下钻入水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出水时只见一阵水花两对虎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10"/>
          <p:cNvSpPr txBox="1"/>
          <p:nvPr/>
        </p:nvSpPr>
        <p:spPr>
          <a:xfrm>
            <a:off x="539640" y="98100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江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5" descr="图片9,"/>
          <p:cNvPicPr/>
          <p:nvPr/>
        </p:nvPicPr>
        <p:blipFill>
          <a:blip r:embed="rId1"/>
          <a:stretch/>
        </p:blipFill>
        <p:spPr>
          <a:xfrm>
            <a:off x="71280" y="620640"/>
            <a:ext cx="8964720" cy="59770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971640" y="1052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新魏"/>
              </a:rPr>
              <a:t>江上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华文新魏"/>
              </a:rPr>
              <a:t>》─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新魏"/>
              </a:rPr>
              <a:t>戏水的孩子，那样的调皮，一群孩子像鸭群一样跳入水中，在水里互相你拨我溅地嬉戏，就在这嬉戏中，一个孩子钻入水中，不见了，突然一阵水花，他出现了，调皮地笑着，露出两对小虎牙。一群孩子的嬉戏和一个孩子的特写，给人以鲜明的形象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6" descr="图12"/>
          <p:cNvPicPr/>
          <p:nvPr/>
        </p:nvPicPr>
        <p:blipFill>
          <a:blip r:embed="rId2"/>
          <a:stretch/>
        </p:blipFill>
        <p:spPr>
          <a:xfrm>
            <a:off x="250920" y="69228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{87B603B1-1240-41D9-AD53-F3DF1697BF0B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1116000" y="2133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读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童年的水墨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这首诗，你看到了怎样的画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这个画面给你怎样的感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图11"/>
          <p:cNvPicPr/>
          <p:nvPr/>
        </p:nvPicPr>
        <p:blipFill>
          <a:blip r:embed="rId2"/>
          <a:stretch/>
        </p:blipFill>
        <p:spPr>
          <a:xfrm>
            <a:off x="395280" y="765000"/>
            <a:ext cx="2808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9" descr="25_140473_7f5de3df79698ae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468360" y="2363760"/>
            <a:ext cx="4680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云是画面的主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让阳光渲染它的模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暖一抹，冷一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在小溪的天空漂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树是画面的主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让风涂抹它的年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124000" y="98100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Arial"/>
              </a:rPr>
              <a:t>  </a:t>
            </a:r>
            <a:r>
              <a:rPr b="1" lang="zh-CN" sz="4400" spc="-1" strike="noStrike">
                <a:solidFill>
                  <a:srgbClr val="ff7c80"/>
                </a:solidFill>
                <a:latin typeface="Arial"/>
                <a:ea typeface="华文行楷"/>
              </a:rPr>
              <a:t>山村孩子的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邱易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4427640" y="2349360"/>
            <a:ext cx="468144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浓一笔，淡一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叶的眼睛在崖畔张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泥土是画面的主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让幻想展示它的富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深一脚，浅一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山路上印满秋天的芬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0" descr="图片1"/>
          <p:cNvPicPr/>
          <p:nvPr/>
        </p:nvPicPr>
        <p:blipFill>
          <a:blip r:embed="rId2"/>
          <a:stretch/>
        </p:blipFill>
        <p:spPr>
          <a:xfrm>
            <a:off x="250920" y="620640"/>
            <a:ext cx="24494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4" descr="图片1fh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600" name="WordArt 21"/>
          <p:cNvSpPr txBox="1"/>
          <p:nvPr/>
        </p:nvSpPr>
        <p:spPr>
          <a:xfrm>
            <a:off x="2484360" y="155736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16813358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900000" y="1988640"/>
            <a:ext cx="7561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借助拼音读准本课出现的生字“丫”，读读记记“花苞、柔软、柳絮、喧闹、梳妆、虎牙、水墨画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通过朗读课文，感受儿童丰富的想象力，体会童年生活的快乐。感悟儿童诗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WordArt 6"/>
          <p:cNvSpPr txBox="1"/>
          <p:nvPr/>
        </p:nvSpPr>
        <p:spPr>
          <a:xfrm>
            <a:off x="90000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16813358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755640" y="1181160"/>
            <a:ext cx="2232000" cy="18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汲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喧闹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葫芦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979640" y="11318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吸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97964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喧哗热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1042920" y="25876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多年生水生草本植物，叶直立，卵形或圆形，叶柄中部以下膨大，花呈漏斗状，蓝紫色。诗中的水葫芦加上了引号，不是指真正的水葫芦，而是指水性极好的孩子，与我们通常说的“旱鸭子”是相对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9"/>
          <p:cNvSpPr txBox="1"/>
          <p:nvPr/>
        </p:nvSpPr>
        <p:spPr>
          <a:xfrm>
            <a:off x="395280" y="549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词语理解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9" descr="6l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47" name="WordArt 10"/>
          <p:cNvSpPr txBox="1"/>
          <p:nvPr/>
        </p:nvSpPr>
        <p:spPr>
          <a:xfrm>
            <a:off x="2987640" y="1844640"/>
            <a:ext cx="3024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想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399564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高洪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{3AB6AD8B-E135-4B72-9AD7-BE9599717F7D}"/>
          <p:cNvPicPr/>
          <p:nvPr/>
        </p:nvPicPr>
        <p:blipFill>
          <a:blip r:embed="rId1"/>
          <a:stretch/>
        </p:blipFill>
        <p:spPr>
          <a:xfrm>
            <a:off x="179280" y="606600"/>
            <a:ext cx="8785440" cy="60624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4"/>
          <p:cNvSpPr/>
          <p:nvPr/>
        </p:nvSpPr>
        <p:spPr>
          <a:xfrm>
            <a:off x="792000" y="1197000"/>
            <a:ext cx="77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高洪波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 笔名向川，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1951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年生，内蒙古开鲁人。有儿童诗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鹅鹅鹅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大象法官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飞龙与神鸽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喊泉的秘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少女和泡泡糖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吃石头的鳄鱼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种葡萄的狐狸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我喜欢你，狐狸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。散文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波斯猫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文坛走笔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人生趣谈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司马台的砖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高洪波散文选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高洪波军旅散文选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。评论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说给缪斯的情话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。诗歌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我想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获全国第一届儿童文学优秀作品奖，散文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悄悄话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获全国第三届儿童文学优秀作品奖。</a:t>
            </a:r>
            <a:r>
              <a:rPr b="0" lang="zh-CN" sz="3200" spc="-1" strike="noStrike">
                <a:solidFill>
                  <a:srgbClr val="ff7c8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10"/>
          <p:cNvSpPr txBox="1"/>
          <p:nvPr/>
        </p:nvSpPr>
        <p:spPr>
          <a:xfrm>
            <a:off x="539640" y="62064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走近作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2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3708360" y="836640"/>
            <a:ext cx="439272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小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安在桃树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带着一串花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牵着万缕阳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悠啊，悠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悠出声声春的歌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13"/>
          <p:cNvSpPr txBox="1"/>
          <p:nvPr/>
        </p:nvSpPr>
        <p:spPr>
          <a:xfrm>
            <a:off x="971640" y="836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诗歌朗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2"/>
          <p:cNvSpPr/>
          <p:nvPr/>
        </p:nvSpPr>
        <p:spPr>
          <a:xfrm>
            <a:off x="3851280" y="851040"/>
            <a:ext cx="504036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脚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接在柳树根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伸进湿软的土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汲取甜美的营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长啊，长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长成一座绿色的帐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2"/>
          <p:cNvSpPr/>
          <p:nvPr/>
        </p:nvSpPr>
        <p:spPr>
          <a:xfrm>
            <a:off x="4140360" y="692280"/>
            <a:ext cx="4032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装在风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看白云多柔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瞧太阳多明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望啊，望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蓝天是我的课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a</cp:lastModifiedBy>
  <dcterms:modified xsi:type="dcterms:W3CDTF">2015-03-17T07:10:27Z</dcterms:modified>
  <cp:revision>934</cp:revision>
  <dc:subject/>
  <dc:title>幻灯片 1</dc:title>
</cp:coreProperties>
</file>