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3228-2F72-4574-86B9-A739104EA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BFB2-6112-48D7-915E-FF7209898F4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FC7A6-F242-4493-85C4-D64E6E0A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073B5-FCC1-473F-887F-1646E32D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8E454-5158-4418-9279-0FA2ABAF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E865D-163D-4479-B46D-97DB27AB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9351C-735E-46A2-AEE0-5057B986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F1611-0128-4B6E-9EF1-83720278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1F648-8294-471A-970F-39BD79BA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86036-13C4-4D2E-997E-2102A76E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50296-7898-44EB-8313-158A299E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3B585-F8E7-48A9-941F-82831487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037E-434F-46C5-A7E1-1CAD41B296E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92C01-A8CE-4CE0-BB16-7CCB17FA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DB9BF-68F7-4A62-BC4F-87AF46AF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4F41C-95FF-4C90-A919-D01A723E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49BBC-8884-4CE2-9305-2DE2FCC4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89FE7-6164-482F-9E30-ABC747CF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6D581-A800-43A7-81E2-E4F9E5EB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FE582-64BE-4B9D-A905-195084AC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E30E3-64C2-49B7-A270-BDF94022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BFC38-3030-4E70-B55C-B5A7EEFB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3D9A1-8609-49D1-91F6-17F71EE5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EBFC-6C46-439F-8CB7-57DC05D0640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55B7D-625B-46E6-A90C-03E6ECB4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7F778-E2B6-4B53-8686-29A5B527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DADDD-1870-49B2-AB4B-AB30F311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E457E-8931-4E16-B441-F5B4DCE0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4093B-81EE-4EA7-9879-55E68A70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74DF1-89BE-41AF-861E-D0CC90D4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EA6A7-E34B-4CD2-949C-CB804F08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54E7F-E60B-475C-9A3C-73FC2730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A899B-5D48-4AF2-B8A2-2881F2E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D5976-2654-4279-BB5F-D4501D05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B9A16-10C7-46B9-9B87-1EDECF24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463FB-FC24-464B-A57F-952EE898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D1FE4-2193-489A-A74C-DC153536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A1B02-62D1-4785-A20A-13523D16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001F4-2938-4B59-BA4D-AA3093C3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BC07C-57D4-43A9-9F38-5A40BBA8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50786-8756-4D3F-BDF2-CA61DBB7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A01A4-77B1-400E-9994-ABB66E01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0BAAC-CDC7-4499-869E-68233C41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B03FA-2E26-4207-837B-A03D2EB8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B7BAB-652E-4B60-8C45-084E6634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15FD0-FCEB-4642-B63E-695C8FA6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B7AE6-1362-48EB-99D9-CF3D4AF1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710E1-0772-448B-9B1B-3D5BB89D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7F9C3-B85B-44E5-B294-7973AD8B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A5917-59F2-4447-A923-47D9EC23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66112-9E86-4ED3-8C9A-A510A15D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47161-72C4-48B3-9AF3-B15940D5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3E2EB-D080-4DA3-8427-6FA1317B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DE693-FD8E-4D41-B546-EC635628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E2AD1-91DB-4B1D-BFD2-75191DAB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69B83-0B2D-4350-A01A-F7582E8D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907BC-178C-42B4-BBB3-94CFBA42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83039-7C3C-4A02-9DB6-7010CAB8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5EAF8-4DC2-4ED7-806E-9458BFDD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73820-8478-4653-BC12-19E6AE7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22CAB-8156-460D-81EF-DD4D2927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5CD24-EF4B-45B1-A81D-7EA3345E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C8089-7431-46B0-BCAD-9238E515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8D3E1-E07B-4FD9-BC15-B87E42CD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78458-C2A1-4D18-92F3-38766149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F737E-4D4E-49FC-A2A3-D0C08599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38A64-3882-4ED3-827A-5E9542F8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EE6C7-CF24-4A3C-B439-96D587B3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8AAE-A51B-4FF9-AACD-15C491377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54689-5C46-44A7-87FE-0173633C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56558-04B5-46C5-9EB3-945B14A1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CED75-3B75-4A90-AEB4-265039A7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E8A3F-A400-458B-82F2-7A2BFEA0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D5774-7839-4F88-9780-F3DE870F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5B24E-F6FE-4F37-9907-705C98B621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1BE59-1D5B-421D-B134-D1EEFFAA7B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B37CF-7427-443B-9F37-AF49D4E069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15B39-BE91-40CE-82E9-86A5FF82EB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C8EDD-8518-4F8C-9D68-7C415EBEEE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9FA8-BC58-4183-8A7E-51BE27496A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F6F94-DA1B-4D40-972A-7802DA3C82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60A2B-E8F2-4A57-AD19-E58F44304F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8C077-B075-4278-B13D-D5CDF824AB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A5A14-1145-4925-9D04-724B43020E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A3449-5732-46E3-A2E8-32400F50CE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9AEC0-96F5-4A58-A1A2-56EBA2D8B7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1F93A-214E-4ABB-90CD-C757DB241A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4A3E-B424-47E2-B47C-5CFE9CEA65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F477-9752-4DC0-840E-95EB016D1D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91B5-1630-4570-B12C-0FBE5876C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E78D-1131-4413-BA1F-E958BF11C0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B851-CE2E-4E67-BFB3-2ABED691C3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5525-5153-44EB-92CD-E7686ACFBD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158D-6CC4-4F97-ADD1-6CE1B46BBA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1FED-8BE9-4E95-9C73-3FFF88D647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192C-42A4-4BAC-B329-EF2BB88FBA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FCA8-0039-4CF9-8EAD-92E1DC8238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526E-E93F-485B-B488-4C9763AFAC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7E84-2DB5-4AC0-9802-AE72BDC436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6F7D-52EA-4A2C-B29C-95CFF52CA3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70F43-411B-4EF9-BB0C-C5608DA5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F500-C431-48C4-8130-6B6FD5BFD79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4E02-7E17-46AD-A254-E36A7536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16B5-BF17-4722-9F42-FD51C52C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D5AA-47CE-4C3B-AA36-1DA552A1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497D-80A3-49EF-BCBC-498ED029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A505-1E33-4EB8-A492-05C94D19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DCA0C-2F5F-44E0-B1A1-5CCA6C7A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EAAEF-F45E-4B40-9FE4-8A1752D2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D6C0-0769-4885-992A-CD595A02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11FFB-5D0C-469F-9710-73F4E725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C5024-7B60-437B-B58E-996CF6D6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5EC6-F46E-481E-BD93-F23D7E0CF83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3532F-2BDE-455A-BA81-46983282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3B49B-5E04-4099-9919-2CD8211B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F6125-7EC2-4276-AF33-FD763099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95E7-FF0E-485F-A77E-87A34AC0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03E5-60FD-425A-A8F4-A445FE6A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F8864-E897-41C2-9587-4778B70B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73851-9C46-421D-8C6F-EB87F964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2FBC1-2F1F-45A1-BECD-3E46362C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95CC7-4780-48BF-802F-3E4D4789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20E5D-3FCB-4E95-B045-97E8C158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9750-01CB-4783-8C3D-AE54AD5DC7C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CBE6-DF01-42B0-AB62-D2471012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B6CB1-2478-4565-A36F-F2176CCB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2A8A-BB28-4B6F-877F-308A2982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FA153-40C2-4B47-B2A8-607B3335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42D5-A987-41DA-B231-587E9A95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0CC6C-B4E3-49A6-9A63-C7E0082B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59B81-3C62-4FB4-8152-67FDFC24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E7673-5942-4BF6-8BFA-E584CD85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F7E13-7A76-43F0-BAB6-BD5132B8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0FF00-43AE-4B6D-ABB0-922651DB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86FC-2A5D-4FDC-BBA0-AFD5717B106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15D34-9428-41A9-81D1-4EEDB92C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2C827-B64E-48BF-8E6E-24886A16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D0901-298A-4AC3-A2E6-E215A2CF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D1EDC-C494-42D6-A12A-0DF96C79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DFC55-2A80-4B58-9EAC-BE2852F0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29382-327D-4E28-9D35-5A0CAA40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D321A-A969-490F-B954-473CF825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A5F3F-59FF-4346-9573-4228283A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5D879-FDD5-4C47-90A8-4D68E598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D7505-2858-49E9-9063-45607EFB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7C71-5DDB-4075-8EC4-92FCBD1A440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2E25-1B7C-486C-B450-91D13F4E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2868A-F4A6-4A12-848D-E953E49B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8C4A3-8E72-4F6C-A8F6-91305B71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70DF7-9D00-4BF4-93E5-7D1E61F8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DE67F-8052-4777-8109-0C6B3868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275DC-C7EC-455C-BB13-4420204F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FD833-929F-4716-99F4-0D1EE33B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332AA-A621-44D4-A211-3E17D162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2966A-ECB8-49F6-A43C-30AC4CA2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D74B1-75FC-48D7-9B0B-62B4FABF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hyperlink" Target="http://blog.sina.com.cn/9ippt" TargetMode="Externa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5C50-B0BB-4A00-AEF6-321E304971A8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4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1AA7-C28A-4AAE-8907-587A4D24F61D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27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0206-D424-499C-B8B8-E25E6E730E0B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0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B637-F648-49EA-A1AA-04369AA0A45E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3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6249-94F7-40AA-BABD-59CBD0646F2E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CE8C-E383-4E0C-B501-6012780FD09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A70A-BBAB-46C4-B756-42CC608227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圆角矩形 4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Num" idx="5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D0FE-4559-4CD1-A779-A43D3B7FD532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878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">
            <a:hlinkClick r:id="rId3"/>
          </p:cNvPr>
          <p:cNvSpPr/>
          <p:nvPr/>
        </p:nvSpPr>
        <p:spPr>
          <a:xfrm>
            <a:off x="826920" y="638172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6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圆角矩形 7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Num" idx="6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BA04-066F-4D23-A409-25553E3C54AB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5E4F-0BCB-41F6-B1E8-E80DBF95713B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2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89CB-E884-4192-8715-4D0A3A65A452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5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ADEE-5F2B-4660-844E-BD77583021FB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8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78C2-59B6-4C91-AA30-BE72AB29251B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21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6593-D586-4A83-86B3-AD62DD1462E8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圆角矩形 13"/>
          <p:cNvSpPr/>
          <p:nvPr/>
        </p:nvSpPr>
        <p:spPr>
          <a:xfrm>
            <a:off x="-9360" y="2421000"/>
            <a:ext cx="9153360" cy="292428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1042920" y="3068640"/>
            <a:ext cx="74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复古工作团队报告</a:t>
            </a:r>
            <a:r>
              <a:rPr b="0" lang="en-US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9"/>
          <p:cNvSpPr/>
          <p:nvPr/>
        </p:nvSpPr>
        <p:spPr>
          <a:xfrm>
            <a:off x="5364000" y="4581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工作团队</a:t>
            </a:r>
            <a:r>
              <a:rPr b="0" lang="en-US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or</a:t>
            </a:r>
            <a:r>
              <a:rPr b="0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报告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7667640" y="765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图片 12" descr="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831960"/>
          </a:xfrm>
          <a:prstGeom prst="rect">
            <a:avLst/>
          </a:prstGeom>
          <a:ln w="0">
            <a:noFill/>
          </a:ln>
        </p:spPr>
      </p:pic>
      <p:sp>
        <p:nvSpPr>
          <p:cNvPr id="540" name="任意多边形 14"/>
          <p:cNvSpPr/>
          <p:nvPr/>
        </p:nvSpPr>
        <p:spPr>
          <a:xfrm>
            <a:off x="0" y="907920"/>
            <a:ext cx="9129600" cy="1481400"/>
          </a:xfrm>
          <a:custGeom>
            <a:avLst/>
            <a:gdLst/>
            <a:ahLst/>
            <a:rect l="l" t="t" r="r" b="b"/>
            <a:pathLst>
              <a:path w="9129387" h="1482247">
                <a:moveTo>
                  <a:pt x="0" y="899787"/>
                </a:moveTo>
                <a:cubicBezTo>
                  <a:pt x="825674" y="610644"/>
                  <a:pt x="1651349" y="321502"/>
                  <a:pt x="2430050" y="411272"/>
                </a:cubicBezTo>
                <a:cubicBezTo>
                  <a:pt x="3208751" y="501042"/>
                  <a:pt x="3839228" y="1482247"/>
                  <a:pt x="4672209" y="1438406"/>
                </a:cubicBezTo>
                <a:cubicBezTo>
                  <a:pt x="5505190" y="1394565"/>
                  <a:pt x="6726477" y="296450"/>
                  <a:pt x="7427935" y="148225"/>
                </a:cubicBezTo>
                <a:cubicBezTo>
                  <a:pt x="8129393" y="0"/>
                  <a:pt x="8632521" y="471814"/>
                  <a:pt x="8880954" y="549058"/>
                </a:cubicBezTo>
                <a:cubicBezTo>
                  <a:pt x="9129387" y="626302"/>
                  <a:pt x="9023959" y="618995"/>
                  <a:pt x="8918532" y="611688"/>
                </a:cubicBezTo>
              </a:path>
            </a:pathLst>
          </a:custGeom>
          <a:noFill/>
          <a:ln w="38160">
            <a:solidFill>
              <a:srgbClr val="eb641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灯片编号占位符 3"/>
          <p:cNvSpPr/>
          <p:nvPr/>
        </p:nvSpPr>
        <p:spPr>
          <a:xfrm>
            <a:off x="8286840" y="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7D3C-BD44-4BD6-AAC1-4E3561D9437C}" type="slidenum"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接连接符 17"/>
          <p:cNvSpPr/>
          <p:nvPr/>
        </p:nvSpPr>
        <p:spPr>
          <a:xfrm flipV="1">
            <a:off x="0" y="980640"/>
            <a:ext cx="9144000" cy="71640"/>
          </a:xfrm>
          <a:prstGeom prst="line">
            <a:avLst/>
          </a:prstGeom>
          <a:ln w="34920">
            <a:solidFill>
              <a:srgbClr val="28a0be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21"/>
          <p:cNvSpPr/>
          <p:nvPr/>
        </p:nvSpPr>
        <p:spPr>
          <a:xfrm>
            <a:off x="2916360" y="33336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4"/>
          <p:cNvSpPr/>
          <p:nvPr/>
        </p:nvSpPr>
        <p:spPr>
          <a:xfrm>
            <a:off x="1908000" y="1628640"/>
            <a:ext cx="5112000" cy="329256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输入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输入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输入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输入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输入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灯片编号占位符 3"/>
          <p:cNvSpPr/>
          <p:nvPr/>
        </p:nvSpPr>
        <p:spPr>
          <a:xfrm>
            <a:off x="8286840" y="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FDCC-31D8-47FE-9B6A-BA03B8F3C57C}" type="slidenum"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直接连接符 17"/>
          <p:cNvSpPr/>
          <p:nvPr/>
        </p:nvSpPr>
        <p:spPr>
          <a:xfrm flipV="1">
            <a:off x="0" y="980640"/>
            <a:ext cx="9144000" cy="71640"/>
          </a:xfrm>
          <a:prstGeom prst="line">
            <a:avLst/>
          </a:prstGeom>
          <a:ln w="34920">
            <a:solidFill>
              <a:srgbClr val="28a0be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21"/>
          <p:cNvSpPr/>
          <p:nvPr/>
        </p:nvSpPr>
        <p:spPr>
          <a:xfrm>
            <a:off x="395280" y="40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23"/>
          <p:cNvSpPr/>
          <p:nvPr/>
        </p:nvSpPr>
        <p:spPr>
          <a:xfrm>
            <a:off x="6372360" y="333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文并茂？这么排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图片 24" descr=""/>
          <p:cNvPicPr/>
          <p:nvPr/>
        </p:nvPicPr>
        <p:blipFill>
          <a:blip r:embed="rId1"/>
          <a:stretch/>
        </p:blipFill>
        <p:spPr>
          <a:xfrm>
            <a:off x="673200" y="1916280"/>
            <a:ext cx="3836880" cy="7648560"/>
          </a:xfrm>
          <a:prstGeom prst="rect">
            <a:avLst/>
          </a:prstGeom>
          <a:ln w="0">
            <a:noFill/>
          </a:ln>
        </p:spPr>
      </p:pic>
      <p:sp>
        <p:nvSpPr>
          <p:cNvPr id="552" name="TextBox 30"/>
          <p:cNvSpPr/>
          <p:nvPr/>
        </p:nvSpPr>
        <p:spPr>
          <a:xfrm>
            <a:off x="5076720" y="1989000"/>
            <a:ext cx="3598920" cy="3292560"/>
          </a:xfrm>
          <a:prstGeom prst="pie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灯片编号占位符 3"/>
          <p:cNvSpPr/>
          <p:nvPr/>
        </p:nvSpPr>
        <p:spPr>
          <a:xfrm>
            <a:off x="8286840" y="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F79D-29DC-4657-95A2-AB3707A0A5FD}" type="slidenum"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直接连接符 17"/>
          <p:cNvSpPr/>
          <p:nvPr/>
        </p:nvSpPr>
        <p:spPr>
          <a:xfrm flipV="1">
            <a:off x="0" y="980640"/>
            <a:ext cx="9144000" cy="71640"/>
          </a:xfrm>
          <a:prstGeom prst="line">
            <a:avLst/>
          </a:prstGeom>
          <a:ln w="34920">
            <a:solidFill>
              <a:srgbClr val="28a0be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21"/>
          <p:cNvSpPr/>
          <p:nvPr/>
        </p:nvSpPr>
        <p:spPr>
          <a:xfrm>
            <a:off x="395280" y="40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23"/>
          <p:cNvSpPr/>
          <p:nvPr/>
        </p:nvSpPr>
        <p:spPr>
          <a:xfrm>
            <a:off x="6372360" y="476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是文字？这么排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5076720" y="2060640"/>
            <a:ext cx="3527640" cy="3385800"/>
          </a:xfrm>
          <a:prstGeom prst="pie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对角圆角矩形 8"/>
          <p:cNvSpPr/>
          <p:nvPr/>
        </p:nvSpPr>
        <p:spPr>
          <a:xfrm rot="16200000">
            <a:off x="503280" y="2168280"/>
            <a:ext cx="3924360" cy="3492360"/>
          </a:xfrm>
          <a:custGeom>
            <a:avLst/>
            <a:gdLst/>
            <a:ahLst/>
            <a:rect l="l" t="t" r="r" b="b"/>
            <a:pathLst>
              <a:path w="3924300" h="3492500">
                <a:moveTo>
                  <a:pt x="582094" y="0"/>
                </a:moveTo>
                <a:lnTo>
                  <a:pt x="3924300" y="0"/>
                </a:lnTo>
                <a:lnTo>
                  <a:pt x="3924300" y="0"/>
                </a:lnTo>
                <a:lnTo>
                  <a:pt x="3924300" y="2910405"/>
                </a:lnTo>
                <a:cubicBezTo>
                  <a:pt x="3924300" y="3231887"/>
                  <a:pt x="3663688" y="3492499"/>
                  <a:pt x="3342206" y="3492499"/>
                </a:cubicBezTo>
                <a:lnTo>
                  <a:pt x="0" y="3492500"/>
                </a:lnTo>
                <a:lnTo>
                  <a:pt x="0" y="3492500"/>
                </a:lnTo>
                <a:lnTo>
                  <a:pt x="0" y="582094"/>
                </a:lnTo>
                <a:cubicBezTo>
                  <a:pt x="0" y="260612"/>
                  <a:pt x="260612" y="0"/>
                  <a:pt x="582094" y="0"/>
                </a:cubicBezTo>
                <a:close/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971640" y="2133720"/>
            <a:ext cx="29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直接连接符 11"/>
          <p:cNvSpPr/>
          <p:nvPr/>
        </p:nvSpPr>
        <p:spPr>
          <a:xfrm>
            <a:off x="4643280" y="1125360"/>
            <a:ext cx="0" cy="5040360"/>
          </a:xfrm>
          <a:prstGeom prst="line">
            <a:avLst/>
          </a:prstGeom>
          <a:ln w="25560">
            <a:solidFill>
              <a:srgbClr val="7030a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3"/>
          <p:cNvSpPr/>
          <p:nvPr/>
        </p:nvSpPr>
        <p:spPr>
          <a:xfrm>
            <a:off x="8286840" y="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ED4-526E-4C64-A386-006599E244BE}" type="slidenum"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直接连接符 17"/>
          <p:cNvSpPr/>
          <p:nvPr/>
        </p:nvSpPr>
        <p:spPr>
          <a:xfrm flipV="1">
            <a:off x="0" y="980640"/>
            <a:ext cx="9144000" cy="71640"/>
          </a:xfrm>
          <a:prstGeom prst="line">
            <a:avLst/>
          </a:prstGeom>
          <a:ln w="34920">
            <a:solidFill>
              <a:srgbClr val="28a0be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21"/>
          <p:cNvSpPr/>
          <p:nvPr/>
        </p:nvSpPr>
        <p:spPr>
          <a:xfrm>
            <a:off x="395280" y="40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23"/>
          <p:cNvSpPr/>
          <p:nvPr/>
        </p:nvSpPr>
        <p:spPr>
          <a:xfrm>
            <a:off x="6084720" y="47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图？这么排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图片 9" descr=""/>
          <p:cNvPicPr/>
          <p:nvPr/>
        </p:nvPicPr>
        <p:blipFill>
          <a:blip r:embed="rId1"/>
          <a:stretch/>
        </p:blipFill>
        <p:spPr>
          <a:xfrm>
            <a:off x="563400" y="1292400"/>
            <a:ext cx="5807160" cy="4416120"/>
          </a:xfrm>
          <a:prstGeom prst="rect">
            <a:avLst/>
          </a:prstGeom>
          <a:ln w="0">
            <a:noFill/>
          </a:ln>
        </p:spPr>
      </p:pic>
      <p:sp>
        <p:nvSpPr>
          <p:cNvPr id="567" name="TextBox 10"/>
          <p:cNvSpPr/>
          <p:nvPr/>
        </p:nvSpPr>
        <p:spPr>
          <a:xfrm>
            <a:off x="6443640" y="2276640"/>
            <a:ext cx="2413080" cy="990720"/>
          </a:xfrm>
          <a:prstGeom prst="cloudCallout">
            <a:avLst>
              <a:gd name="adj1" fmla="val -44615"/>
              <a:gd name="adj2" fmla="val 130310"/>
            </a:avLst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图，你想说点什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3808-B1DE-45CF-BFE2-A1DEF03258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折角形 17"/>
          <p:cNvSpPr/>
          <p:nvPr/>
        </p:nvSpPr>
        <p:spPr>
          <a:xfrm>
            <a:off x="5508720" y="1773360"/>
            <a:ext cx="3311280" cy="3743280"/>
          </a:xfrm>
          <a:prstGeom prst="foldedCorner">
            <a:avLst>
              <a:gd name="adj" fmla="val 16666"/>
            </a:avLst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0"/>
          <p:cNvSpPr/>
          <p:nvPr/>
        </p:nvSpPr>
        <p:spPr>
          <a:xfrm>
            <a:off x="7667640" y="765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图片 12" descr="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83196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11" descr=""/>
          <p:cNvPicPr/>
          <p:nvPr/>
        </p:nvPicPr>
        <p:blipFill>
          <a:blip r:embed="rId2"/>
          <a:stretch/>
        </p:blipFill>
        <p:spPr>
          <a:xfrm>
            <a:off x="1440" y="1031760"/>
            <a:ext cx="5424480" cy="5072040"/>
          </a:xfrm>
          <a:prstGeom prst="rect">
            <a:avLst/>
          </a:prstGeom>
          <a:ln w="0">
            <a:noFill/>
          </a:ln>
        </p:spPr>
      </p:pic>
      <p:grpSp>
        <p:nvGrpSpPr>
          <p:cNvPr id="576" name="组合 1"/>
          <p:cNvGrpSpPr/>
          <p:nvPr/>
        </p:nvGrpSpPr>
        <p:grpSpPr>
          <a:xfrm>
            <a:off x="5940360" y="3860640"/>
            <a:ext cx="3962520" cy="1427400"/>
            <a:chOff x="5940360" y="3860640"/>
            <a:chExt cx="3962520" cy="1427400"/>
          </a:xfrm>
        </p:grpSpPr>
        <p:pic>
          <p:nvPicPr>
            <p:cNvPr id="577" name="图片 6" descr="邮件.png"/>
            <p:cNvPicPr/>
            <p:nvPr/>
          </p:nvPicPr>
          <p:blipFill>
            <a:blip r:embed="rId3"/>
            <a:stretch/>
          </p:blipFill>
          <p:spPr>
            <a:xfrm>
              <a:off x="5940360" y="4928040"/>
              <a:ext cx="44208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>
              <a:off x="6470640" y="4896360"/>
              <a:ext cx="34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66c7d"/>
                  </a:solidFill>
                  <a:latin typeface="Calibri"/>
                </a:rPr>
                <a:t>Your mai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9" name="图片 8" descr="QQ.png"/>
            <p:cNvPicPr/>
            <p:nvPr/>
          </p:nvPicPr>
          <p:blipFill>
            <a:blip r:embed="rId4"/>
            <a:stretch/>
          </p:blipFill>
          <p:spPr>
            <a:xfrm>
              <a:off x="5940360" y="4423320"/>
              <a:ext cx="525960" cy="42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9"/>
            <p:cNvSpPr/>
            <p:nvPr/>
          </p:nvSpPr>
          <p:spPr>
            <a:xfrm>
              <a:off x="6470640" y="4427640"/>
              <a:ext cx="246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66c7d"/>
                  </a:solidFill>
                  <a:latin typeface="Calibri"/>
                  <a:ea typeface="Arial"/>
                </a:rPr>
                <a:t>Your QQ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TextBox 15"/>
            <p:cNvSpPr/>
            <p:nvPr/>
          </p:nvSpPr>
          <p:spPr>
            <a:xfrm>
              <a:off x="6470640" y="3860640"/>
              <a:ext cx="2743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641b"/>
                  </a:solidFill>
                  <a:latin typeface="Calibri"/>
                  <a:ea typeface="微软雅黑"/>
                </a:rPr>
                <a:t>Your 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2" name="图片 11" descr="vcard.png"/>
            <p:cNvPicPr/>
            <p:nvPr/>
          </p:nvPicPr>
          <p:blipFill>
            <a:blip r:embed="rId5"/>
            <a:stretch/>
          </p:blipFill>
          <p:spPr>
            <a:xfrm>
              <a:off x="5940360" y="3933720"/>
              <a:ext cx="442440" cy="36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TextBox 18"/>
          <p:cNvSpPr/>
          <p:nvPr/>
        </p:nvSpPr>
        <p:spPr>
          <a:xfrm>
            <a:off x="5867280" y="2349360"/>
            <a:ext cx="2737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105766"/>
                </a:solidFill>
                <a:latin typeface="Calibri"/>
              </a:rPr>
              <a:t>You are more than welcomed to  contact m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5:45:22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9:13Z</dcterms:modified>
  <cp:revision>51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