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616-612D-4FE0-BFA6-EADE3C17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4D59-C8AE-4636-81D4-4B0EA9DE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3D7-2D7F-48E1-B1B7-C90EFAD7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2824-A8DB-48AB-9412-A08F8E98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5CE4-BAD4-4357-A200-ACEF6FB4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7EAA-19B7-4C82-A348-DE1C026D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4DF7-243E-4395-8757-9709B89B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10A6-14F2-4675-A4CB-49AECF6E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649F4-AB9B-413C-AAB2-8C43C0A9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549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4998-E419-49BE-A46C-2A82FF95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C164E-0BAC-4CF5-8469-BE67222D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0A7-6380-43FB-BFF1-9183E2EE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1278-7FA4-4100-B781-1EE1DB40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4BC4-4657-44E3-A00D-79292C4C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2F5D-900C-4564-BD2B-6EBA0DF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4E36-681E-45C6-86C4-B7156E78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EA9C-6532-40FE-BB9E-7A419DE5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5E0-6C0B-4E8F-907E-FDCEF567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3EB7-EC14-4E05-AE2E-6D81F42A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5E80-A847-4BB9-B541-B9622A0ED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71280" y="549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78D-6593-4D62-91F9-47692B03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3A5-2E7A-4F56-84FE-FC9EBBC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48E-E2DA-41CD-9ABD-DB8E0E21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BBA7-E9F4-4A32-BEB0-9ABB644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9640" y="8366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00000" y="765000"/>
            <a:ext cx="3286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11253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6920" y="1125360"/>
            <a:ext cx="36864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90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5640" y="620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8360" y="112536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280" y="549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286000" y="6324480"/>
            <a:ext cx="4952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2D1D-ADC2-416B-BA91-CE042FE3A12F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84E7-BEB7-4F03-A815-AE3B3DE5A0EB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6160" y="1628640"/>
            <a:ext cx="863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就業市場巨變下的</a:t>
            </a:r>
            <a:br>
              <a:rPr sz="4400"/>
            </a:b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生涯發展機會與挑戰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39333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主講人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XX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雜誌總編輯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501336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日期：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X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zh-TW" sz="3200" spc="-1" strike="noStrike">
                <a:solidFill>
                  <a:srgbClr val="000000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93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高等教育文憑爆炸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碩士以上人數暴增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大學暴增後遺症：名校主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國內升學取代留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2002-200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→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留學人數減少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2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留歐取代留美，遊學取代留學，碩士取代博士，法商取代理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留學投資報酬率大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研究所最大成本：時間與卡位機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後文憑時代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碩士在學人數暴增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39640" y="1628640"/>
          <a:ext cx="7772400" cy="4114800"/>
        </p:xfrm>
        <a:graphic>
          <a:graphicData uri="http://schemas.openxmlformats.org/drawingml/2006/table">
            <a:tbl>
              <a:tblPr/>
              <a:tblGrid>
                <a:gridCol w="1943280"/>
                <a:gridCol w="1943280"/>
                <a:gridCol w="1942560"/>
                <a:gridCol w="1943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碩士在學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博士在學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碩士在職專班在學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8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0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.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非典型工作取代正職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非典型工作：派遣‧委外‧約聘‧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art-time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見習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核心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非核心：客服‧行政庶務…優先外切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派遣定義：勞動者由甲公司（人力仲介公司）派往乙公司工作，雖然名義上為甲公司員工，但管理完全聽命於乙公司，與乙公司正式編制員工無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新鮮人踏進職場新階段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93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企業採用派遣員工的原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保持人力彈性化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控制編制內員額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節省薪資福利成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節省招募等行政成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儲備人力：則優從派遣轉為正式員工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6160" y="0"/>
            <a:ext cx="863748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性格特質決勝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草莓族：抗壓性低‧不能吃苦耐勞‧穩定性差‧自我中心主義‧拜金與享樂主義‧成就動機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性格＞專業：要找志同道合的人，而非只是最優秀的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3 Q Very Much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IQ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A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10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不確定的未來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生涯規劃的終結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型人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鐵飯碗的破碎：軍‧公‧教‧金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組織無情，人才不忠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從忠於雇主和組織，轉為忠於自己的履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為自己履歷創造可攜式（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portable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）價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多重專長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型與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π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型人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工作壽命縮短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27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代表案例：金融業‧媒體業‧科技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高學歷的投資報酬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養不起的人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人生必修課：理財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失業型復甦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景氣復甦，失業率依然居高不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產業結構扭曲：科技業一枝獨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傳統產業在大陸收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‧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企業用人政策保守化：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543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原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收復失業率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％的關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15364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工作機會的流失與新生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工作機會外移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傳統製造業→高科技製造業→服務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新外移焦點：軟體業‧銀行後勤‧客服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服務業恢復徵才動能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科技新貴光環褪色，服務業躋身高薪俱樂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科系與學歷門檻低，人文社會背景打開出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房地產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金融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運輸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健身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流通量販業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79292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薪資破壞的夢魘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全球化的天堂與地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所得分配兩極化：中間階級萎縮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受害者</a:t>
            </a: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：新鮮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受害人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：無技術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薪資結構改變：變動薪資取代固定薪資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9328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333399"/>
                </a:solidFill>
                <a:latin typeface="Times New Roman"/>
              </a:rPr>
              <a:t>薪資破壞受害者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TW" sz="4400" spc="-1" strike="noStrike">
                <a:solidFill>
                  <a:srgbClr val="333399"/>
                </a:solidFill>
                <a:latin typeface="Times New Roman"/>
              </a:rPr>
              <a:t>：新鮮人</a:t>
            </a:r>
            <a:r>
              <a:rPr b="0" lang="zh-TW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95280" y="1413000"/>
          <a:ext cx="8208720" cy="4192560"/>
        </p:xfrm>
        <a:graphic>
          <a:graphicData uri="http://schemas.openxmlformats.org/drawingml/2006/table">
            <a:tbl>
              <a:tblPr/>
              <a:tblGrid>
                <a:gridCol w="1641240"/>
                <a:gridCol w="1641600"/>
                <a:gridCol w="1643040"/>
                <a:gridCol w="1641600"/>
                <a:gridCol w="1641240"/>
              </a:tblGrid>
              <a:tr h="11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起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高中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大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研究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9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,3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7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,4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,3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7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,8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,0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,9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減少幅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932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薪資破壞受害者</a:t>
            </a: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0" lang="zh-TW" sz="4000" spc="-1" strike="noStrike">
                <a:solidFill>
                  <a:srgbClr val="333399"/>
                </a:solidFill>
                <a:latin typeface="Times New Roman"/>
              </a:rPr>
              <a:t>：無技術者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557360"/>
          <a:ext cx="7772400" cy="4114800"/>
        </p:xfrm>
        <a:graphic>
          <a:graphicData uri="http://schemas.openxmlformats.org/drawingml/2006/table">
            <a:tbl>
              <a:tblPr/>
              <a:tblGrid>
                <a:gridCol w="1553760"/>
                <a:gridCol w="1554480"/>
                <a:gridCol w="1555560"/>
                <a:gridCol w="1554480"/>
                <a:gridCol w="15541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薪資成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事務工作人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技術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專業人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主管與經理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3-19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-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52560"/>
            <a:ext cx="863748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巨變</a:t>
            </a:r>
            <a:r>
              <a:rPr b="1" lang="zh-TW" sz="4400" spc="-1" strike="noStrike">
                <a:solidFill>
                  <a:srgbClr val="333399"/>
                </a:solidFill>
                <a:latin typeface="Tahoma"/>
              </a:rPr>
              <a:t>6</a:t>
            </a:r>
            <a:r>
              <a:rPr b="1" lang="zh-TW" sz="4400" spc="-1" strike="noStrike">
                <a:solidFill>
                  <a:srgbClr val="333399"/>
                </a:solidFill>
                <a:latin typeface="Times New Roman"/>
              </a:rPr>
              <a:t>：職場文藝復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史無用論，數學萬能論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高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中生選組方向改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FA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與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M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微笑曲線理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頂級消費族群出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業務國際化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藝術行銷與公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文藝復興原因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HR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新武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调查 就业市场</cp:keywords>
  <dc:language>en-US</dc:language>
  <cp:lastModifiedBy/>
  <cp:revision>0</cp:revision>
  <dc:subject/>
  <dc:title/>
</cp:coreProperties>
</file>