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070-B995-4F34-A8D8-DE9724DB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614-49F7-4CEC-A6DF-0E128F5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4FC-295E-4B72-B167-230D16CE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74F-6F37-4697-B4D1-DEEBA939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C8F6-2BA2-45CC-801E-6B6F5A5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C05-C29F-40FA-985A-D9EABF2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5974-02C7-486F-83F6-655B6B7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581C-111F-48AA-AB3B-F93561C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8F47-A16E-4692-A5EC-4667DB3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85F-D2C3-4FAA-A622-CF05907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DE1-196C-4127-9F25-13C44D1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068-8A98-415C-BEEC-017974B4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98D-9332-46E8-822B-C3ACEEB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9F9-F706-4226-9C97-30F4E7F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96C-BE02-447E-9D3C-D72AECCC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A40-4A40-448F-B071-FD6877A7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38CF-2893-4654-84DF-AAB8B010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56A-FC02-4597-BD00-BE8CCAB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3050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88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1FB-33DD-4AFD-99C8-9B293D90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B4B-1DCE-4F92-8C7C-C44EA1D9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CCF-3657-427A-A31A-4F9F742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7D1-3F41-432D-A3B4-ECF7CDE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8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C9D-48D8-4CA9-9DD8-BEFEB17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050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8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37F-F33E-448F-B1B0-F0DBB71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038" descr=""/>
          <p:cNvPicPr/>
          <p:nvPr/>
        </p:nvPicPr>
        <p:blipFill>
          <a:blip r:embed="rId2"/>
          <a:stretch/>
        </p:blipFill>
        <p:spPr>
          <a:xfrm>
            <a:off x="73080" y="61920"/>
            <a:ext cx="9016920" cy="1031760"/>
          </a:xfrm>
          <a:prstGeom prst="rect">
            <a:avLst/>
          </a:prstGeom>
          <a:ln w="0">
            <a:noFill/>
          </a:ln>
        </p:spPr>
      </p:pic>
      <p:sp>
        <p:nvSpPr>
          <p:cNvPr id="1" name="矩形 1039"/>
          <p:cNvSpPr/>
          <p:nvPr/>
        </p:nvSpPr>
        <p:spPr>
          <a:xfrm>
            <a:off x="63360" y="6453360"/>
            <a:ext cx="8990280" cy="37296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1040"/>
          <p:cNvSpPr/>
          <p:nvPr/>
        </p:nvSpPr>
        <p:spPr>
          <a:xfrm>
            <a:off x="88920" y="1135080"/>
            <a:ext cx="8955000" cy="52657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2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2a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文本框 1036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  <a:ea typeface="Arial"/>
              </a:rPr>
              <a:t>LOG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新月形 1037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组合 1041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11" name="圆角矩形 1042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任意多边形 1043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任意多边形 1044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任意多边形 1045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任意多边形 1046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6F7-19BE-404B-9C58-07E01B35E23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7FBA-AFB3-4039-9E1D-265A905954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对象 3088" descr=""/>
          <p:cNvPicPr/>
          <p:nvPr/>
        </p:nvPicPr>
        <p:blipFill>
          <a:blip r:embed="rId2"/>
          <a:stretch/>
        </p:blipFill>
        <p:spPr>
          <a:xfrm>
            <a:off x="84240" y="52560"/>
            <a:ext cx="8980560" cy="4813200"/>
          </a:xfrm>
          <a:prstGeom prst="rect">
            <a:avLst/>
          </a:prstGeom>
          <a:ln w="0">
            <a:noFill/>
          </a:ln>
        </p:spPr>
      </p:pic>
      <p:sp>
        <p:nvSpPr>
          <p:cNvPr id="94" name="矩形 3089"/>
          <p:cNvSpPr/>
          <p:nvPr/>
        </p:nvSpPr>
        <p:spPr>
          <a:xfrm>
            <a:off x="33480" y="4869000"/>
            <a:ext cx="9091440" cy="1939680"/>
          </a:xfrm>
          <a:prstGeom prst="rect">
            <a:avLst/>
          </a:prstGeom>
          <a:solidFill>
            <a:srgbClr val="145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3097"/>
          <p:cNvSpPr/>
          <p:nvPr/>
        </p:nvSpPr>
        <p:spPr>
          <a:xfrm>
            <a:off x="2617920" y="4869000"/>
            <a:ext cx="6526080" cy="384120"/>
          </a:xfrm>
          <a:prstGeom prst="rect">
            <a:avLst/>
          </a:prstGeom>
          <a:solidFill>
            <a:srgbClr val="00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3090"/>
          <p:cNvGrpSpPr/>
          <p:nvPr/>
        </p:nvGrpSpPr>
        <p:grpSpPr>
          <a:xfrm>
            <a:off x="-6480" y="0"/>
            <a:ext cx="9154800" cy="6859440"/>
            <a:chOff x="-6480" y="0"/>
            <a:chExt cx="9154800" cy="6859440"/>
          </a:xfrm>
        </p:grpSpPr>
        <p:sp>
          <p:nvSpPr>
            <p:cNvPr id="97" name="圆角矩形 3091"/>
            <p:cNvSpPr/>
            <p:nvPr/>
          </p:nvSpPr>
          <p:spPr>
            <a:xfrm>
              <a:off x="36360" y="38160"/>
              <a:ext cx="907200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3092"/>
            <p:cNvSpPr/>
            <p:nvPr/>
          </p:nvSpPr>
          <p:spPr>
            <a:xfrm>
              <a:off x="-648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3093"/>
            <p:cNvSpPr/>
            <p:nvPr/>
          </p:nvSpPr>
          <p:spPr>
            <a:xfrm>
              <a:off x="144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3094"/>
            <p:cNvSpPr/>
            <p:nvPr/>
          </p:nvSpPr>
          <p:spPr>
            <a:xfrm>
              <a:off x="874656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任意多边形 3095"/>
            <p:cNvSpPr/>
            <p:nvPr/>
          </p:nvSpPr>
          <p:spPr>
            <a:xfrm>
              <a:off x="868464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3050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2a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2a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2a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742840" y="485388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文本框 2053"/>
          <p:cNvSpPr/>
          <p:nvPr/>
        </p:nvSpPr>
        <p:spPr>
          <a:xfrm>
            <a:off x="3852000" y="57294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LO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914400" y="259092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钢笔写字企业幻灯片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组合 106498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330" name="椭圆 106499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椭圆 106500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椭圆 106501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椭圆 106502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矩形 106503"/>
            <p:cNvSpPr/>
            <p:nvPr/>
          </p:nvSpPr>
          <p:spPr>
            <a:xfrm rot="13770000">
              <a:off x="4914360" y="36846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矩形 106504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组合 106505"/>
            <p:cNvGrpSpPr/>
            <p:nvPr/>
          </p:nvGrpSpPr>
          <p:grpSpPr>
            <a:xfrm>
              <a:off x="3867120" y="1928880"/>
              <a:ext cx="1702800" cy="1836360"/>
              <a:chOff x="3867120" y="1928880"/>
              <a:chExt cx="1702800" cy="1836360"/>
            </a:xfrm>
          </p:grpSpPr>
          <p:sp>
            <p:nvSpPr>
              <p:cNvPr id="337" name="矩形 106506"/>
              <p:cNvSpPr/>
              <p:nvPr/>
            </p:nvSpPr>
            <p:spPr>
              <a:xfrm rot="18394200">
                <a:off x="5041440" y="2141280"/>
                <a:ext cx="59580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组合 106507"/>
              <p:cNvGrpSpPr/>
              <p:nvPr/>
            </p:nvGrpSpPr>
            <p:grpSpPr>
              <a:xfrm>
                <a:off x="3867120" y="2177280"/>
                <a:ext cx="1609560" cy="1587960"/>
                <a:chOff x="3867120" y="2177280"/>
                <a:chExt cx="1609560" cy="1587960"/>
              </a:xfrm>
            </p:grpSpPr>
            <p:sp>
              <p:nvSpPr>
                <p:cNvPr id="339" name="椭圆 106508"/>
                <p:cNvSpPr/>
                <p:nvPr/>
              </p:nvSpPr>
              <p:spPr>
                <a:xfrm>
                  <a:off x="3867120" y="2177280"/>
                  <a:ext cx="1609560" cy="158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5140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任意多边形 106509"/>
                <p:cNvSpPr/>
                <p:nvPr/>
              </p:nvSpPr>
              <p:spPr>
                <a:xfrm>
                  <a:off x="4051080" y="220356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文本框 106510"/>
              <p:cNvSpPr/>
              <p:nvPr/>
            </p:nvSpPr>
            <p:spPr>
              <a:xfrm>
                <a:off x="3953880" y="28684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组合 106511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343" name="组合 106512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344" name="椭圆 106513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任意多边形 106514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文本框 106515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" name="组合 106516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348" name="组合 106517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349" name="椭圆 106518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4a6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任意多边形 106519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文本框 106520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106521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353" name="组合 106522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354" name="椭圆 106523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b3c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任意多边形 106524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文本框 106525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组合 100410"/>
          <p:cNvGrpSpPr/>
          <p:nvPr/>
        </p:nvGrpSpPr>
        <p:grpSpPr>
          <a:xfrm>
            <a:off x="1447920" y="1542960"/>
            <a:ext cx="7391160" cy="4476960"/>
            <a:chOff x="1447920" y="1542960"/>
            <a:chExt cx="7391160" cy="4476960"/>
          </a:xfrm>
        </p:grpSpPr>
        <p:sp>
          <p:nvSpPr>
            <p:cNvPr id="359" name="任意多边形 100354"/>
            <p:cNvSpPr/>
            <p:nvPr/>
          </p:nvSpPr>
          <p:spPr>
            <a:xfrm>
              <a:off x="144792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a76e23"/>
                </a:gs>
                <a:gs pos="100000">
                  <a:srgbClr val="6d77b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文本框 100383"/>
            <p:cNvSpPr/>
            <p:nvPr/>
          </p:nvSpPr>
          <p:spPr>
            <a:xfrm>
              <a:off x="6172200" y="3733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it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椭圆 100385"/>
            <p:cNvSpPr/>
            <p:nvPr/>
          </p:nvSpPr>
          <p:spPr>
            <a:xfrm rot="20876400">
              <a:off x="362124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椭圆 100386"/>
            <p:cNvSpPr/>
            <p:nvPr/>
          </p:nvSpPr>
          <p:spPr>
            <a:xfrm>
              <a:off x="355284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椭圆 100387"/>
            <p:cNvSpPr/>
            <p:nvPr/>
          </p:nvSpPr>
          <p:spPr>
            <a:xfrm>
              <a:off x="3573360" y="376236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椭圆 100388"/>
            <p:cNvSpPr/>
            <p:nvPr/>
          </p:nvSpPr>
          <p:spPr>
            <a:xfrm>
              <a:off x="359100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椭圆 100389"/>
            <p:cNvSpPr/>
            <p:nvPr/>
          </p:nvSpPr>
          <p:spPr>
            <a:xfrm>
              <a:off x="3683160" y="382284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文本框 100390"/>
            <p:cNvSpPr/>
            <p:nvPr/>
          </p:nvSpPr>
          <p:spPr>
            <a:xfrm>
              <a:off x="397044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椭圆 100391"/>
            <p:cNvSpPr/>
            <p:nvPr/>
          </p:nvSpPr>
          <p:spPr>
            <a:xfrm rot="20826600">
              <a:off x="1778040" y="436212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组合 100392"/>
            <p:cNvGrpSpPr/>
            <p:nvPr/>
          </p:nvGrpSpPr>
          <p:grpSpPr>
            <a:xfrm>
              <a:off x="1701720" y="3371760"/>
              <a:ext cx="1371240" cy="1441080"/>
              <a:chOff x="1701720" y="3371760"/>
              <a:chExt cx="1371240" cy="1441080"/>
            </a:xfrm>
          </p:grpSpPr>
          <p:sp>
            <p:nvSpPr>
              <p:cNvPr id="369" name="椭圆 100393"/>
              <p:cNvSpPr/>
              <p:nvPr/>
            </p:nvSpPr>
            <p:spPr>
              <a:xfrm>
                <a:off x="170172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100394"/>
              <p:cNvSpPr/>
              <p:nvPr/>
            </p:nvSpPr>
            <p:spPr>
              <a:xfrm>
                <a:off x="1719360" y="33800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椭圆 100395"/>
              <p:cNvSpPr/>
              <p:nvPr/>
            </p:nvSpPr>
            <p:spPr>
              <a:xfrm>
                <a:off x="1732680" y="33937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椭圆 100396"/>
              <p:cNvSpPr/>
              <p:nvPr/>
            </p:nvSpPr>
            <p:spPr>
              <a:xfrm>
                <a:off x="1804320" y="34304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文本框 100397"/>
              <p:cNvSpPr/>
              <p:nvPr/>
            </p:nvSpPr>
            <p:spPr>
              <a:xfrm>
                <a:off x="198216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椭圆 100398"/>
            <p:cNvSpPr/>
            <p:nvPr/>
          </p:nvSpPr>
          <p:spPr>
            <a:xfrm>
              <a:off x="160020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椭圆 100399"/>
            <p:cNvSpPr/>
            <p:nvPr/>
          </p:nvSpPr>
          <p:spPr>
            <a:xfrm>
              <a:off x="167652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椭圆 100400"/>
            <p:cNvSpPr/>
            <p:nvPr/>
          </p:nvSpPr>
          <p:spPr>
            <a:xfrm>
              <a:off x="168912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椭圆 100401"/>
            <p:cNvSpPr/>
            <p:nvPr/>
          </p:nvSpPr>
          <p:spPr>
            <a:xfrm>
              <a:off x="170028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椭圆 100402"/>
            <p:cNvSpPr/>
            <p:nvPr/>
          </p:nvSpPr>
          <p:spPr>
            <a:xfrm>
              <a:off x="1754280" y="20415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文本框 100403"/>
            <p:cNvSpPr/>
            <p:nvPr/>
          </p:nvSpPr>
          <p:spPr>
            <a:xfrm>
              <a:off x="187344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椭圆 100404"/>
            <p:cNvSpPr/>
            <p:nvPr/>
          </p:nvSpPr>
          <p:spPr>
            <a:xfrm>
              <a:off x="2867040" y="207648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椭圆 100405"/>
            <p:cNvSpPr/>
            <p:nvPr/>
          </p:nvSpPr>
          <p:spPr>
            <a:xfrm>
              <a:off x="2989440" y="154296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椭圆 100406"/>
            <p:cNvSpPr/>
            <p:nvPr/>
          </p:nvSpPr>
          <p:spPr>
            <a:xfrm>
              <a:off x="2998800" y="154620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椭圆 100407"/>
            <p:cNvSpPr/>
            <p:nvPr/>
          </p:nvSpPr>
          <p:spPr>
            <a:xfrm>
              <a:off x="3005280" y="1552680"/>
              <a:ext cx="63324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椭圆 100408"/>
            <p:cNvSpPr/>
            <p:nvPr/>
          </p:nvSpPr>
          <p:spPr>
            <a:xfrm>
              <a:off x="3041640" y="15717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文本框 100409"/>
            <p:cNvSpPr/>
            <p:nvPr/>
          </p:nvSpPr>
          <p:spPr>
            <a:xfrm>
              <a:off x="305964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组合 89090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88" name="椭圆 89091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组合 89092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90" name="椭圆 89093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任意多边形 89094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文本框 89095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组合 89096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94" name="组合 89097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95" name="椭圆 89098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2b4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89099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文本框 89100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B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89101"/>
            <p:cNvGrpSpPr/>
            <p:nvPr/>
          </p:nvGrpSpPr>
          <p:grpSpPr>
            <a:xfrm>
              <a:off x="3525120" y="5037840"/>
              <a:ext cx="367560" cy="334440"/>
              <a:chOff x="3525120" y="5037840"/>
              <a:chExt cx="367560" cy="334440"/>
            </a:xfrm>
          </p:grpSpPr>
          <p:sp>
            <p:nvSpPr>
              <p:cNvPr id="399" name="椭圆 89102"/>
              <p:cNvSpPr/>
              <p:nvPr/>
            </p:nvSpPr>
            <p:spPr>
              <a:xfrm rot="18226800">
                <a:off x="3553200" y="521064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7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椭圆 89103"/>
              <p:cNvSpPr/>
              <p:nvPr/>
            </p:nvSpPr>
            <p:spPr>
              <a:xfrm rot="18226800">
                <a:off x="373428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145232"/>
                  </a:gs>
                  <a:gs pos="100000">
                    <a:srgbClr val="0d372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组合 89104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02" name="组合 89105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03" name="椭圆 89106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5232"/>
                    </a:gs>
                    <a:gs pos="100000">
                      <a:srgbClr val="05140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任意多边形 89107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52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文本框 89108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组合 89109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07" name="组合 89110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08" name="椭圆 89111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ccab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任意多边形 89112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文本框 89113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组合 89114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12" name="组合 89115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13" name="椭圆 89116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任意多边形 89117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文本框 89118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D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89119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17" name="组合 89120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18" name="椭圆 89121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236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任意多边形 89122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文本框 89123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椭圆 89124"/>
            <p:cNvSpPr/>
            <p:nvPr/>
          </p:nvSpPr>
          <p:spPr>
            <a:xfrm rot="18226800">
              <a:off x="5563440" y="5173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椭圆 89125"/>
            <p:cNvSpPr/>
            <p:nvPr/>
          </p:nvSpPr>
          <p:spPr>
            <a:xfrm rot="18226800">
              <a:off x="5410800" y="50220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组合 89126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424" name="椭圆 89127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f456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椭圆 89128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6d77bf"/>
                  </a:gs>
                  <a:gs pos="100000">
                    <a:srgbClr val="353a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组合 89129"/>
            <p:cNvGrpSpPr/>
            <p:nvPr/>
          </p:nvGrpSpPr>
          <p:grpSpPr>
            <a:xfrm>
              <a:off x="4471200" y="2531160"/>
              <a:ext cx="186840" cy="467280"/>
              <a:chOff x="4471200" y="2531160"/>
              <a:chExt cx="186840" cy="467280"/>
            </a:xfrm>
          </p:grpSpPr>
          <p:sp>
            <p:nvSpPr>
              <p:cNvPr id="427" name="椭圆 89130"/>
              <p:cNvSpPr/>
              <p:nvPr/>
            </p:nvSpPr>
            <p:spPr>
              <a:xfrm rot="18226800">
                <a:off x="449964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2e4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椭圆 89131"/>
              <p:cNvSpPr/>
              <p:nvPr/>
            </p:nvSpPr>
            <p:spPr>
              <a:xfrm rot="18226800">
                <a:off x="449964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324a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椭圆 89132"/>
            <p:cNvSpPr/>
            <p:nvPr/>
          </p:nvSpPr>
          <p:spPr>
            <a:xfrm rot="18226800">
              <a:off x="5963400" y="360216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c91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89133"/>
            <p:cNvSpPr/>
            <p:nvPr/>
          </p:nvSpPr>
          <p:spPr>
            <a:xfrm rot="18226800">
              <a:off x="5715720" y="37260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bc9158"/>
                </a:gs>
                <a:gs pos="100000">
                  <a:srgbClr val="a76e2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文本框 89134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文本框 89135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文本框 89136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文本框 89137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文本框 89138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a00"/>
                  </a:solidFill>
                  <a:latin typeface="Arial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101422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38" name="圆角矩形 101423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圆角矩形 101424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圆角矩形 101425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圆角矩形 101426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圆角矩形 101427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圆角矩形 101428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组合 101429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45" name="椭圆 101430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椭圆 101431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椭圆 101432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椭圆 101433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椭圆 101434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文本框 101435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文本框 101436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组合 101437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53" name="圆角矩形 101438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圆角矩形 101439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圆角矩形 101440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圆角矩形 101441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椭圆 101442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椭圆 101443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椭圆 101444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椭圆 101445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椭圆 101446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文本框 101447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文本框 101448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圆角矩形 101449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圆角矩形 101450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组合 101451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67" name="圆角矩形 101452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圆角矩形 101453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圆角矩形 101454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圆角矩形 101455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组合 101456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72" name="椭圆 101457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椭圆 101458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椭圆 101459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椭圆 101460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椭圆 101461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文本框 101462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文本框 101463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圆角矩形 101464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圆角矩形 101465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组合 7792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83" name="组合 77826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4" name="矩形 77827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矩形 77828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组合 77916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7" name="组合 77882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8" name="组合 77883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9" name="任意多边形 77884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77885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组合 77886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2" name="任意多边形 77887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任意多边形 77888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4" name="组合 77889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5" name="椭圆 77890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77891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77892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椭圆 77893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椭圆 77894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组合 77895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501" name="椭圆 77896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77897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77898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77899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文本框 77900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文本框 77901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组合 77917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8" name="组合 77864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9" name="组合 77865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10" name="任意多边形 77866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77867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组合 77868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3" name="任意多边形 77869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77870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5" name="组合 77871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6" name="椭圆 77872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77873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77874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77875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77876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组合 77877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2" name="椭圆 77878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77879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椭圆 77880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77881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6" name="文本框 77902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文本框 77903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组合 77918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9" name="组合 77829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30" name="组合 77830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31" name="任意多边形 77831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77832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77833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4" name="任意多边形 77834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77835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6" name="组合 77836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7" name="椭圆 77837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77838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77839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椭圆 77840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椭圆 77841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组合 77842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3" name="椭圆 77843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77844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椭圆 77845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77846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7" name="文本框 77904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文本框 77905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77919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50" name="组合 77847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51" name="组合 77848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2" name="任意多边形 77849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77850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组合 77851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5" name="任意多边形 77852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77853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椭圆 77854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椭圆 7785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椭圆 77856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椭圆 77857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椭圆 77858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2" name="组合 77859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3" name="椭圆 77860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77861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77862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椭圆 77863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7" name="文本框 77906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文本框 77907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2a00"/>
                    </a:solidFill>
                    <a:latin typeface="Arial"/>
                    <a:ea typeface="Arial"/>
                  </a:rPr>
                  <a:t>Your Tex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组合 77908"/>
            <p:cNvGrpSpPr/>
            <p:nvPr/>
          </p:nvGrpSpPr>
          <p:grpSpPr>
            <a:xfrm>
              <a:off x="1098360" y="1828800"/>
              <a:ext cx="6057000" cy="407880"/>
              <a:chOff x="1098360" y="1828800"/>
              <a:chExt cx="6057000" cy="407880"/>
            </a:xfrm>
          </p:grpSpPr>
          <p:sp>
            <p:nvSpPr>
              <p:cNvPr id="570" name="文本框 77909"/>
              <p:cNvSpPr/>
              <p:nvPr/>
            </p:nvSpPr>
            <p:spPr>
              <a:xfrm>
                <a:off x="109836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文本框 77910"/>
              <p:cNvSpPr/>
              <p:nvPr/>
            </p:nvSpPr>
            <p:spPr>
              <a:xfrm>
                <a:off x="28526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文本框 77911"/>
              <p:cNvSpPr/>
              <p:nvPr/>
            </p:nvSpPr>
            <p:spPr>
              <a:xfrm>
                <a:off x="45990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文本框 77912"/>
              <p:cNvSpPr/>
              <p:nvPr/>
            </p:nvSpPr>
            <p:spPr>
              <a:xfrm>
                <a:off x="638928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a00"/>
                    </a:solidFill>
                    <a:latin typeface="Verdana"/>
                    <a:ea typeface="Arial"/>
                  </a:rPr>
                  <a:t>2004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574" name="直接箭头连接符 77913"/>
              <p:cNvCxnSpPr>
                <a:stCxn id="570" idx="3"/>
                <a:endCxn id="571" idx="1"/>
              </p:cNvCxnSpPr>
              <p:nvPr/>
            </p:nvCxnSpPr>
            <p:spPr>
              <a:xfrm>
                <a:off x="183528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  <p:cxnSp>
            <p:nvCxnSpPr>
              <p:cNvPr id="575" name="直接箭头连接符 77914"/>
              <p:cNvCxnSpPr>
                <a:stCxn id="571" idx="3"/>
                <a:endCxn id="572" idx="1"/>
              </p:cNvCxnSpPr>
              <p:nvPr/>
            </p:nvCxnSpPr>
            <p:spPr>
              <a:xfrm>
                <a:off x="358884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  <p:cxnSp>
            <p:nvCxnSpPr>
              <p:cNvPr id="576" name="直接箭头连接符 77915"/>
              <p:cNvCxnSpPr/>
              <p:nvPr/>
            </p:nvCxnSpPr>
            <p:spPr>
              <a:xfrm>
                <a:off x="533556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组合 78850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79" name="燕尾形 78851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94b84d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燕尾形 78852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76e23"/>
                </a:gs>
                <a:gs pos="100000">
                  <a:srgbClr val="c29a6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燕尾形 78853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99a0d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圆角矩形 78854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99a0d2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圆角矩形 78855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76e23"/>
                </a:gs>
                <a:gs pos="100000">
                  <a:srgbClr val="c29a6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圆角矩形 78856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94b84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90135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587" name="任意多边形 90114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f7b37">
                    <a:alpha val="32156"/>
                  </a:srgbClr>
                </a:gs>
                <a:gs pos="100000">
                  <a:srgbClr val="a76e2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圆角矩形 90115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圆角矩形 90116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八边形 90117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八边形 90118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圆角矩形 90119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a76e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圆角矩形 90120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3310"/>
                </a:gs>
                <a:gs pos="50000">
                  <a:srgbClr val="a76e23"/>
                </a:gs>
                <a:gs pos="100000">
                  <a:srgbClr val="4d33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八边形 90121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八边形 90122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任意多边形 90123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89b89">
                    <a:alpha val="32156"/>
                  </a:srgbClr>
                </a:gs>
                <a:gs pos="100000">
                  <a:srgbClr val="14523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文本框 90124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文本框 90125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组合 90126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600" name="圆角矩形 90127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145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圆角矩形 90128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82013"/>
                  </a:gs>
                  <a:gs pos="50000">
                    <a:srgbClr val="145232"/>
                  </a:gs>
                  <a:gs pos="100000">
                    <a:srgbClr val="0820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八边形 90129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八边形 90130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文本框 9013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文本框 90132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" name="文本框 90133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文本框 9013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838080" y="233028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2a00"/>
                      </a:solidFill>
                    </a:lnR>
                    <a:lnT>
                      <a:noFill/>
                    </a:lnT>
                    <a:lnB w="5760">
                      <a:solidFill>
                        <a:srgbClr val="002a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/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2a00"/>
                      </a:solidFill>
                    </a:lnL>
                    <a:lnR w="5760">
                      <a:solidFill>
                        <a:srgbClr val="002a00"/>
                      </a:solidFill>
                    </a:lnR>
                    <a:lnT w="5760">
                      <a:solidFill>
                        <a:srgbClr val="002a00"/>
                      </a:solidFill>
                    </a:lnT>
                    <a:lnB w="5760">
                      <a:solidFill>
                        <a:srgbClr val="002a00"/>
                      </a:solidFill>
                    </a:lnB>
                    <a:solidFill>
                      <a:srgbClr val="a76e2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组合 92162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12" name="圆角矩形 92163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ecf3e0"/>
                </a:gs>
              </a:gsLst>
              <a:lin ang="5400000"/>
            </a:gradFill>
            <a:ln w="25560">
              <a:solidFill>
                <a:srgbClr val="1452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3" name="对象 92164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圆角矩形 92165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八边形 92166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八边形 92167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圆角矩形 92168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d77bf"/>
                </a:gs>
                <a:gs pos="100000">
                  <a:srgbClr val="d7daed"/>
                </a:gs>
              </a:gsLst>
              <a:lin ang="5400000"/>
            </a:gradFill>
            <a:ln w="255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8" name="对象 92169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圆角矩形 92170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八边形 92171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八边形 92172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文本框 8199"/>
          <p:cNvSpPr/>
          <p:nvPr/>
        </p:nvSpPr>
        <p:spPr>
          <a:xfrm>
            <a:off x="838080" y="76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组合 107551"/>
          <p:cNvGrpSpPr/>
          <p:nvPr/>
        </p:nvGrpSpPr>
        <p:grpSpPr>
          <a:xfrm>
            <a:off x="914400" y="1523880"/>
            <a:ext cx="7446960" cy="4705560"/>
            <a:chOff x="914400" y="1523880"/>
            <a:chExt cx="7446960" cy="4705560"/>
          </a:xfrm>
        </p:grpSpPr>
        <p:sp>
          <p:nvSpPr>
            <p:cNvPr id="625" name="上箭头 107522"/>
            <p:cNvSpPr/>
            <p:nvPr/>
          </p:nvSpPr>
          <p:spPr>
            <a:xfrm>
              <a:off x="1905120" y="2286000"/>
              <a:ext cx="5530680" cy="274320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6d77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圆角矩形 107523"/>
            <p:cNvSpPr/>
            <p:nvPr/>
          </p:nvSpPr>
          <p:spPr>
            <a:xfrm>
              <a:off x="1676520" y="1523880"/>
              <a:ext cx="5790960" cy="57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9dbd5b"/>
                </a:gs>
                <a:gs pos="100000">
                  <a:srgbClr val="66990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e7"/>
                  </a:solidFill>
                  <a:latin typeface="Verdana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文本框 107524"/>
            <p:cNvSpPr/>
            <p:nvPr/>
          </p:nvSpPr>
          <p:spPr>
            <a:xfrm>
              <a:off x="3656160" y="2895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" name="组合 107525"/>
            <p:cNvGrpSpPr/>
            <p:nvPr/>
          </p:nvGrpSpPr>
          <p:grpSpPr>
            <a:xfrm>
              <a:off x="914400" y="4159080"/>
              <a:ext cx="1579680" cy="2070360"/>
              <a:chOff x="914400" y="4159080"/>
              <a:chExt cx="1579680" cy="2070360"/>
            </a:xfrm>
          </p:grpSpPr>
          <p:grpSp>
            <p:nvGrpSpPr>
              <p:cNvPr id="629" name="组合 107526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grpSp>
              <p:nvGrpSpPr>
                <p:cNvPr id="630" name="组合 107527"/>
                <p:cNvGrpSpPr/>
                <p:nvPr/>
              </p:nvGrpSpPr>
              <p:grpSpPr>
                <a:xfrm>
                  <a:off x="914400" y="4159080"/>
                  <a:ext cx="1486080" cy="1514520"/>
                  <a:chOff x="914400" y="4159080"/>
                  <a:chExt cx="1486080" cy="1514520"/>
                </a:xfrm>
              </p:grpSpPr>
              <p:sp>
                <p:nvSpPr>
                  <p:cNvPr id="631" name="椭圆 107528"/>
                  <p:cNvSpPr/>
                  <p:nvPr/>
                </p:nvSpPr>
                <p:spPr>
                  <a:xfrm>
                    <a:off x="914400" y="41590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9900"/>
                      </a:gs>
                      <a:gs pos="100000">
                        <a:srgbClr val="416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任意多边形 107529"/>
                  <p:cNvSpPr/>
                  <p:nvPr/>
                </p:nvSpPr>
                <p:spPr>
                  <a:xfrm>
                    <a:off x="1084320" y="41839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3" name="文本框 107530"/>
                <p:cNvSpPr/>
                <p:nvPr/>
              </p:nvSpPr>
              <p:spPr>
                <a:xfrm>
                  <a:off x="1072440" y="49302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椭圆 107531"/>
              <p:cNvSpPr/>
              <p:nvPr/>
            </p:nvSpPr>
            <p:spPr>
              <a:xfrm>
                <a:off x="91440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107532"/>
            <p:cNvGrpSpPr/>
            <p:nvPr/>
          </p:nvGrpSpPr>
          <p:grpSpPr>
            <a:xfrm>
              <a:off x="2819520" y="4159080"/>
              <a:ext cx="1617480" cy="2070360"/>
              <a:chOff x="2819520" y="4159080"/>
              <a:chExt cx="1617480" cy="2070360"/>
            </a:xfrm>
          </p:grpSpPr>
          <p:grpSp>
            <p:nvGrpSpPr>
              <p:cNvPr id="636" name="组合 107533"/>
              <p:cNvGrpSpPr/>
              <p:nvPr/>
            </p:nvGrpSpPr>
            <p:grpSpPr>
              <a:xfrm>
                <a:off x="2819520" y="4159080"/>
                <a:ext cx="1523880" cy="1521000"/>
                <a:chOff x="2819520" y="4159080"/>
                <a:chExt cx="1523880" cy="1521000"/>
              </a:xfrm>
            </p:grpSpPr>
            <p:sp>
              <p:nvSpPr>
                <p:cNvPr id="637" name="椭圆 107534"/>
                <p:cNvSpPr/>
                <p:nvPr/>
              </p:nvSpPr>
              <p:spPr>
                <a:xfrm>
                  <a:off x="2819520" y="41590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639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任意多边形 107535"/>
                <p:cNvSpPr/>
                <p:nvPr/>
              </p:nvSpPr>
              <p:spPr>
                <a:xfrm>
                  <a:off x="2993760" y="41842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76e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文本框 107536"/>
              <p:cNvSpPr/>
              <p:nvPr/>
            </p:nvSpPr>
            <p:spPr>
              <a:xfrm>
                <a:off x="2895480" y="48895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椭圆 107537"/>
              <p:cNvSpPr/>
              <p:nvPr/>
            </p:nvSpPr>
            <p:spPr>
              <a:xfrm>
                <a:off x="2857680" y="5791320"/>
                <a:ext cx="157932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107538"/>
            <p:cNvGrpSpPr/>
            <p:nvPr/>
          </p:nvGrpSpPr>
          <p:grpSpPr>
            <a:xfrm>
              <a:off x="4876920" y="4114800"/>
              <a:ext cx="1631880" cy="2114640"/>
              <a:chOff x="4876920" y="4114800"/>
              <a:chExt cx="1631880" cy="2114640"/>
            </a:xfrm>
          </p:grpSpPr>
          <p:grpSp>
            <p:nvGrpSpPr>
              <p:cNvPr id="642" name="组合 107539"/>
              <p:cNvGrpSpPr/>
              <p:nvPr/>
            </p:nvGrpSpPr>
            <p:grpSpPr>
              <a:xfrm>
                <a:off x="4876920" y="4114800"/>
                <a:ext cx="1523880" cy="1521000"/>
                <a:chOff x="4876920" y="4114800"/>
                <a:chExt cx="1523880" cy="1521000"/>
              </a:xfrm>
            </p:grpSpPr>
            <p:sp>
              <p:nvSpPr>
                <p:cNvPr id="643" name="椭圆 107540"/>
                <p:cNvSpPr/>
                <p:nvPr/>
              </p:nvSpPr>
              <p:spPr>
                <a:xfrm>
                  <a:off x="4876920" y="41148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77bf"/>
                    </a:gs>
                    <a:gs pos="100000">
                      <a:srgbClr val="383d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 107541"/>
                <p:cNvSpPr/>
                <p:nvPr/>
              </p:nvSpPr>
              <p:spPr>
                <a:xfrm>
                  <a:off x="5051160" y="41400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77b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文本框 107542"/>
              <p:cNvSpPr/>
              <p:nvPr/>
            </p:nvSpPr>
            <p:spPr>
              <a:xfrm>
                <a:off x="4952880" y="48448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椭圆 107543"/>
              <p:cNvSpPr/>
              <p:nvPr/>
            </p:nvSpPr>
            <p:spPr>
              <a:xfrm>
                <a:off x="492912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" name="组合 107544"/>
            <p:cNvGrpSpPr/>
            <p:nvPr/>
          </p:nvGrpSpPr>
          <p:grpSpPr>
            <a:xfrm>
              <a:off x="6781680" y="4114800"/>
              <a:ext cx="1579680" cy="2114640"/>
              <a:chOff x="6781680" y="4114800"/>
              <a:chExt cx="1579680" cy="2114640"/>
            </a:xfrm>
          </p:grpSpPr>
          <p:grpSp>
            <p:nvGrpSpPr>
              <p:cNvPr id="648" name="组合 107545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grpSp>
              <p:nvGrpSpPr>
                <p:cNvPr id="649" name="组合 107546"/>
                <p:cNvGrpSpPr/>
                <p:nvPr/>
              </p:nvGrpSpPr>
              <p:grpSpPr>
                <a:xfrm>
                  <a:off x="6781680" y="4114800"/>
                  <a:ext cx="1524240" cy="1531800"/>
                  <a:chOff x="6781680" y="4114800"/>
                  <a:chExt cx="1524240" cy="1531800"/>
                </a:xfrm>
              </p:grpSpPr>
              <p:sp>
                <p:nvSpPr>
                  <p:cNvPr id="650" name="椭圆 107547"/>
                  <p:cNvSpPr/>
                  <p:nvPr/>
                </p:nvSpPr>
                <p:spPr>
                  <a:xfrm>
                    <a:off x="6781680" y="4114800"/>
                    <a:ext cx="152424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45232"/>
                      </a:gs>
                      <a:gs pos="100000">
                        <a:srgbClr val="05140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任意多边形 107548"/>
                  <p:cNvSpPr/>
                  <p:nvPr/>
                </p:nvSpPr>
                <p:spPr>
                  <a:xfrm>
                    <a:off x="6955920" y="4140000"/>
                    <a:ext cx="117576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452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文本框 107549"/>
                <p:cNvSpPr/>
                <p:nvPr/>
              </p:nvSpPr>
              <p:spPr>
                <a:xfrm>
                  <a:off x="6924960" y="48286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椭圆 107550"/>
              <p:cNvSpPr/>
              <p:nvPr/>
            </p:nvSpPr>
            <p:spPr>
              <a:xfrm>
                <a:off x="6781680" y="5791320"/>
                <a:ext cx="1579680" cy="438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86018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86134"/>
          <p:cNvSpPr/>
          <p:nvPr/>
        </p:nvSpPr>
        <p:spPr>
          <a:xfrm rot="1758000">
            <a:off x="2458800" y="3451320"/>
            <a:ext cx="749160" cy="625320"/>
          </a:xfrm>
          <a:prstGeom prst="ellipse">
            <a:avLst/>
          </a:prstGeom>
          <a:gradFill rotWithShape="0">
            <a:gsLst>
              <a:gs pos="0">
                <a:srgbClr val="6d77bf"/>
              </a:gs>
              <a:gs pos="100000">
                <a:srgbClr val="323758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86141"/>
          <p:cNvSpPr/>
          <p:nvPr/>
        </p:nvSpPr>
        <p:spPr>
          <a:xfrm rot="1758000">
            <a:off x="2458800" y="4233960"/>
            <a:ext cx="749160" cy="62532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组合 86164"/>
          <p:cNvGrpSpPr/>
          <p:nvPr/>
        </p:nvGrpSpPr>
        <p:grpSpPr>
          <a:xfrm>
            <a:off x="2333160" y="4846320"/>
            <a:ext cx="4372560" cy="934200"/>
            <a:chOff x="2333160" y="4846320"/>
            <a:chExt cx="4372560" cy="934200"/>
          </a:xfrm>
        </p:grpSpPr>
        <p:sp>
          <p:nvSpPr>
            <p:cNvPr id="149" name="圆角矩形 86147"/>
            <p:cNvSpPr/>
            <p:nvPr/>
          </p:nvSpPr>
          <p:spPr>
            <a:xfrm>
              <a:off x="2749680" y="5032440"/>
              <a:ext cx="39560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椭圆 86149"/>
            <p:cNvSpPr/>
            <p:nvPr/>
          </p:nvSpPr>
          <p:spPr>
            <a:xfrm rot="1758000">
              <a:off x="2458800" y="5011560"/>
              <a:ext cx="749160" cy="62568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椭圆 86150"/>
            <p:cNvSpPr/>
            <p:nvPr/>
          </p:nvSpPr>
          <p:spPr>
            <a:xfrm rot="1758000">
              <a:off x="2437920" y="49896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文本框 86152"/>
            <p:cNvSpPr/>
            <p:nvPr/>
          </p:nvSpPr>
          <p:spPr>
            <a:xfrm>
              <a:off x="2997360" y="5029200"/>
              <a:ext cx="314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文本框 86153"/>
            <p:cNvSpPr/>
            <p:nvPr/>
          </p:nvSpPr>
          <p:spPr>
            <a:xfrm>
              <a:off x="2592360" y="5019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图片 86159" descr="Picture1"/>
            <p:cNvPicPr/>
            <p:nvPr/>
          </p:nvPicPr>
          <p:blipFill>
            <a:blip r:embed="rId1"/>
            <a:stretch/>
          </p:blipFill>
          <p:spPr>
            <a:xfrm>
              <a:off x="2514600" y="502920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86165"/>
          <p:cNvGrpSpPr/>
          <p:nvPr/>
        </p:nvGrpSpPr>
        <p:grpSpPr>
          <a:xfrm>
            <a:off x="2333160" y="4068360"/>
            <a:ext cx="4372560" cy="912240"/>
            <a:chOff x="2333160" y="4068360"/>
            <a:chExt cx="4372560" cy="912240"/>
          </a:xfrm>
        </p:grpSpPr>
        <p:sp>
          <p:nvSpPr>
            <p:cNvPr id="156" name="圆角矩形 86140"/>
            <p:cNvSpPr/>
            <p:nvPr/>
          </p:nvSpPr>
          <p:spPr>
            <a:xfrm>
              <a:off x="2749680" y="425448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00">
                    <a:alpha val="40000"/>
                  </a:srgbClr>
                </a:gs>
              </a:gsLst>
              <a:lin ang="0"/>
            </a:gradFill>
            <a:ln w="38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椭圆 86142"/>
            <p:cNvSpPr/>
            <p:nvPr/>
          </p:nvSpPr>
          <p:spPr>
            <a:xfrm rot="1758000">
              <a:off x="2437920" y="421164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文本框 86144"/>
            <p:cNvSpPr/>
            <p:nvPr/>
          </p:nvSpPr>
          <p:spPr>
            <a:xfrm>
              <a:off x="3138480" y="428292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文本框 86145"/>
            <p:cNvSpPr/>
            <p:nvPr/>
          </p:nvSpPr>
          <p:spPr>
            <a:xfrm>
              <a:off x="2592360" y="423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图片 86160" descr="Picture1"/>
            <p:cNvPicPr/>
            <p:nvPr/>
          </p:nvPicPr>
          <p:blipFill>
            <a:blip r:embed="rId2"/>
            <a:stretch/>
          </p:blipFill>
          <p:spPr>
            <a:xfrm>
              <a:off x="2514600" y="427824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86167"/>
          <p:cNvGrpSpPr/>
          <p:nvPr/>
        </p:nvGrpSpPr>
        <p:grpSpPr>
          <a:xfrm>
            <a:off x="2333160" y="3285720"/>
            <a:ext cx="4372560" cy="912240"/>
            <a:chOff x="2333160" y="3285720"/>
            <a:chExt cx="4372560" cy="912240"/>
          </a:xfrm>
        </p:grpSpPr>
        <p:sp>
          <p:nvSpPr>
            <p:cNvPr id="162" name="圆角矩形 86132"/>
            <p:cNvSpPr/>
            <p:nvPr/>
          </p:nvSpPr>
          <p:spPr>
            <a:xfrm>
              <a:off x="2749680" y="347184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椭圆 86135"/>
            <p:cNvSpPr/>
            <p:nvPr/>
          </p:nvSpPr>
          <p:spPr>
            <a:xfrm rot="1758000">
              <a:off x="2437920" y="34290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文本框 86137"/>
            <p:cNvSpPr/>
            <p:nvPr/>
          </p:nvSpPr>
          <p:spPr>
            <a:xfrm>
              <a:off x="3138480" y="350028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文本框 86138"/>
            <p:cNvSpPr/>
            <p:nvPr/>
          </p:nvSpPr>
          <p:spPr>
            <a:xfrm>
              <a:off x="2592360" y="34592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图片 86161" descr="Picture1"/>
            <p:cNvPicPr/>
            <p:nvPr/>
          </p:nvPicPr>
          <p:blipFill>
            <a:blip r:embed="rId3"/>
            <a:stretch/>
          </p:blipFill>
          <p:spPr>
            <a:xfrm>
              <a:off x="2514600" y="347328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组合 86168"/>
          <p:cNvGrpSpPr/>
          <p:nvPr/>
        </p:nvGrpSpPr>
        <p:grpSpPr>
          <a:xfrm>
            <a:off x="2333160" y="2476080"/>
            <a:ext cx="4372560" cy="934200"/>
            <a:chOff x="2333160" y="2476080"/>
            <a:chExt cx="4372560" cy="934200"/>
          </a:xfrm>
        </p:grpSpPr>
        <p:sp>
          <p:nvSpPr>
            <p:cNvPr id="168" name="圆角矩形 86043"/>
            <p:cNvSpPr/>
            <p:nvPr/>
          </p:nvSpPr>
          <p:spPr>
            <a:xfrm>
              <a:off x="2749680" y="266220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00">
                    <a:alpha val="40000"/>
                  </a:srgbClr>
                </a:gs>
              </a:gsLst>
              <a:lin ang="0"/>
            </a:gradFill>
            <a:ln w="38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椭圆 86044"/>
            <p:cNvSpPr/>
            <p:nvPr/>
          </p:nvSpPr>
          <p:spPr>
            <a:xfrm rot="1758000">
              <a:off x="2458800" y="2641680"/>
              <a:ext cx="74916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椭圆 86045"/>
            <p:cNvSpPr/>
            <p:nvPr/>
          </p:nvSpPr>
          <p:spPr>
            <a:xfrm rot="1758000">
              <a:off x="2437920" y="261936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文本框 86047"/>
            <p:cNvSpPr/>
            <p:nvPr/>
          </p:nvSpPr>
          <p:spPr>
            <a:xfrm>
              <a:off x="3138480" y="269064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文本框 86048"/>
            <p:cNvSpPr/>
            <p:nvPr/>
          </p:nvSpPr>
          <p:spPr>
            <a:xfrm>
              <a:off x="2592360" y="2646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3" name="图片 86162" descr="Picture1"/>
            <p:cNvPicPr/>
            <p:nvPr/>
          </p:nvPicPr>
          <p:blipFill>
            <a:blip r:embed="rId4"/>
            <a:stretch/>
          </p:blipFill>
          <p:spPr>
            <a:xfrm>
              <a:off x="2514600" y="268128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合 86170"/>
          <p:cNvGrpSpPr/>
          <p:nvPr/>
        </p:nvGrpSpPr>
        <p:grpSpPr>
          <a:xfrm>
            <a:off x="2333160" y="1685520"/>
            <a:ext cx="4372560" cy="934200"/>
            <a:chOff x="2333160" y="1685520"/>
            <a:chExt cx="4372560" cy="934200"/>
          </a:xfrm>
        </p:grpSpPr>
        <p:sp>
          <p:nvSpPr>
            <p:cNvPr id="175" name="圆角矩形 86035"/>
            <p:cNvSpPr/>
            <p:nvPr/>
          </p:nvSpPr>
          <p:spPr>
            <a:xfrm>
              <a:off x="2749680" y="1871640"/>
              <a:ext cx="3956040" cy="51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d77bf">
                    <a:alpha val="50196"/>
                  </a:srgbClr>
                </a:gs>
              </a:gsLst>
              <a:lin ang="0"/>
            </a:gradFill>
            <a:ln w="38160">
              <a:solidFill>
                <a:srgbClr val="6d7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椭圆 86037"/>
            <p:cNvSpPr/>
            <p:nvPr/>
          </p:nvSpPr>
          <p:spPr>
            <a:xfrm rot="1758000">
              <a:off x="2458800" y="1851120"/>
              <a:ext cx="74916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椭圆 86038"/>
            <p:cNvSpPr/>
            <p:nvPr/>
          </p:nvSpPr>
          <p:spPr>
            <a:xfrm rot="1758000">
              <a:off x="2437920" y="1828800"/>
              <a:ext cx="749520" cy="62532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323758"/>
                </a:gs>
              </a:gsLst>
              <a:lin ang="3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文本框 86040"/>
            <p:cNvSpPr/>
            <p:nvPr/>
          </p:nvSpPr>
          <p:spPr>
            <a:xfrm>
              <a:off x="3138480" y="1900080"/>
              <a:ext cx="31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文本框 86041"/>
            <p:cNvSpPr/>
            <p:nvPr/>
          </p:nvSpPr>
          <p:spPr>
            <a:xfrm>
              <a:off x="2592360" y="1859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图片 86163" descr="Picture1"/>
            <p:cNvPicPr/>
            <p:nvPr/>
          </p:nvPicPr>
          <p:blipFill>
            <a:blip r:embed="rId5"/>
            <a:stretch/>
          </p:blipFill>
          <p:spPr>
            <a:xfrm>
              <a:off x="2514600" y="1890720"/>
              <a:ext cx="379440" cy="38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45C6-5E92-4C98-816F-ED33536C20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2590560" y="491940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7"/>
                </a:solidFill>
                <a:latin typeface="Arial"/>
              </a:rPr>
              <a:t>Click to edit company slogan </a:t>
            </a:r>
            <a:endParaRPr b="1" lang="en-US" sz="14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659" name="矩形 93188"/>
          <p:cNvSpPr txBox="1"/>
          <p:nvPr/>
        </p:nvSpPr>
        <p:spPr>
          <a:xfrm>
            <a:off x="2743200" y="3962520"/>
            <a:ext cx="4952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669900"/>
                  </a:solidFill>
                  <a:round/>
                </a:ln>
                <a:gradFill rotWithShape="0">
                  <a:gsLst>
                    <a:gs pos="0">
                      <a:srgbClr val="ffffe7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2a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1" lang="en-US" sz="2000" spc="1" strike="noStrike">
              <a:ln w="28440">
                <a:solidFill>
                  <a:srgbClr val="669900"/>
                </a:solidFill>
                <a:round/>
              </a:ln>
              <a:gradFill rotWithShape="0">
                <a:gsLst>
                  <a:gs pos="0">
                    <a:srgbClr val="ffffe7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002a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8840" y="1601640"/>
            <a:ext cx="7824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002a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6e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a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d77b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26"/>
              </a:spcBef>
              <a:buClr>
                <a:srgbClr val="6d77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2a00"/>
              </a:solidFill>
              <a:latin typeface="Arial"/>
            </a:endParaRPr>
          </a:p>
        </p:txBody>
      </p:sp>
      <p:sp>
        <p:nvSpPr>
          <p:cNvPr id="183" name="文本框 8199"/>
          <p:cNvSpPr/>
          <p:nvPr/>
        </p:nvSpPr>
        <p:spPr>
          <a:xfrm>
            <a:off x="213372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组合 67603"/>
          <p:cNvGrpSpPr/>
          <p:nvPr/>
        </p:nvGrpSpPr>
        <p:grpSpPr>
          <a:xfrm>
            <a:off x="1143000" y="3352680"/>
            <a:ext cx="2286000" cy="2667240"/>
            <a:chOff x="1143000" y="3352680"/>
            <a:chExt cx="2286000" cy="2667240"/>
          </a:xfrm>
        </p:grpSpPr>
        <p:sp>
          <p:nvSpPr>
            <p:cNvPr id="186" name="圆角矩形 67588"/>
            <p:cNvSpPr/>
            <p:nvPr/>
          </p:nvSpPr>
          <p:spPr>
            <a:xfrm>
              <a:off x="114300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文本框 67589"/>
            <p:cNvSpPr/>
            <p:nvPr/>
          </p:nvSpPr>
          <p:spPr>
            <a:xfrm>
              <a:off x="1238400" y="355284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任意多边形 67590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9e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67591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组合 67605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91" name="组合 67593"/>
            <p:cNvGrpSpPr/>
            <p:nvPr/>
          </p:nvGrpSpPr>
          <p:grpSpPr>
            <a:xfrm>
              <a:off x="3048120" y="1628640"/>
              <a:ext cx="2998440" cy="1601640"/>
              <a:chOff x="3048120" y="1628640"/>
              <a:chExt cx="2998440" cy="1601640"/>
            </a:xfrm>
          </p:grpSpPr>
          <p:grpSp>
            <p:nvGrpSpPr>
              <p:cNvPr id="192" name="组合 67594"/>
              <p:cNvGrpSpPr/>
              <p:nvPr/>
            </p:nvGrpSpPr>
            <p:grpSpPr>
              <a:xfrm>
                <a:off x="3048120" y="1771560"/>
                <a:ext cx="2998440" cy="1458720"/>
                <a:chOff x="3048120" y="1771560"/>
                <a:chExt cx="2998440" cy="1458720"/>
              </a:xfrm>
            </p:grpSpPr>
            <p:sp>
              <p:nvSpPr>
                <p:cNvPr id="193" name="椭圆 67595"/>
                <p:cNvSpPr/>
                <p:nvPr/>
              </p:nvSpPr>
              <p:spPr>
                <a:xfrm>
                  <a:off x="3080880" y="181800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6e23"/>
                    </a:gs>
                    <a:gs pos="100000">
                      <a:srgbClr val="5135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67596"/>
                <p:cNvSpPr/>
                <p:nvPr/>
              </p:nvSpPr>
              <p:spPr>
                <a:xfrm>
                  <a:off x="3048120" y="17715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bf9e"/>
                    </a:gs>
                    <a:gs pos="100000">
                      <a:srgbClr val="a76e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椭圆 67597"/>
              <p:cNvSpPr/>
              <p:nvPr/>
            </p:nvSpPr>
            <p:spPr>
              <a:xfrm>
                <a:off x="3189600" y="162864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323758"/>
                  </a:gs>
                  <a:gs pos="100000">
                    <a:srgbClr val="6d77b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椭圆 67598"/>
              <p:cNvSpPr/>
              <p:nvPr/>
            </p:nvSpPr>
            <p:spPr>
              <a:xfrm>
                <a:off x="3224520" y="163656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6d77bf">
                      <a:alpha val="0"/>
                    </a:srgbClr>
                  </a:gs>
                  <a:gs pos="100000">
                    <a:srgbClr val="ccd0e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椭圆 67599"/>
              <p:cNvSpPr/>
              <p:nvPr/>
            </p:nvSpPr>
            <p:spPr>
              <a:xfrm>
                <a:off x="3251520" y="164952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565e97"/>
                  </a:gs>
                  <a:gs pos="100000">
                    <a:srgbClr val="6d77bf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椭圆 67600"/>
              <p:cNvSpPr/>
              <p:nvPr/>
            </p:nvSpPr>
            <p:spPr>
              <a:xfrm>
                <a:off x="3383280" y="167652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d77bf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文本框 67601"/>
            <p:cNvSpPr/>
            <p:nvPr/>
          </p:nvSpPr>
          <p:spPr>
            <a:xfrm>
              <a:off x="3882960" y="182880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组合 67604"/>
          <p:cNvGrpSpPr/>
          <p:nvPr/>
        </p:nvGrpSpPr>
        <p:grpSpPr>
          <a:xfrm>
            <a:off x="5562720" y="3352680"/>
            <a:ext cx="2286000" cy="2667240"/>
            <a:chOff x="5562720" y="3352680"/>
            <a:chExt cx="2286000" cy="2667240"/>
          </a:xfrm>
        </p:grpSpPr>
        <p:sp>
          <p:nvSpPr>
            <p:cNvPr id="201" name="圆角矩形 67586"/>
            <p:cNvSpPr/>
            <p:nvPr/>
          </p:nvSpPr>
          <p:spPr>
            <a:xfrm>
              <a:off x="5562720" y="3352680"/>
              <a:ext cx="2286000" cy="266724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7240"/>
                <a:gd name="textAreaBottom" fmla="*/ 2555640 h 2667240"/>
              </a:gdLst>
              <a:ahLst/>
              <a:rect l="textAreaLeft" t="textAreaTop" r="textAreaRight" b="textAreaBottom"/>
              <a:pathLst>
                <a:path w="21600" h="25202">
                  <a:moveTo>
                    <a:pt x="3600" y="0"/>
                  </a:moveTo>
                  <a:arcTo wR="3600" hR="3600" stAng="16200000" swAng="-5400000"/>
                  <a:lnTo>
                    <a:pt x="0" y="21602"/>
                  </a:lnTo>
                  <a:arcTo wR="3600" hR="3600" stAng="10800000" swAng="-5400000"/>
                  <a:lnTo>
                    <a:pt x="18000" y="252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文本框 67602"/>
            <p:cNvSpPr/>
            <p:nvPr/>
          </p:nvSpPr>
          <p:spPr>
            <a:xfrm>
              <a:off x="5715000" y="35812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任意多边形 67592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76e23"/>
              </a:gs>
              <a:gs pos="100000">
                <a:srgbClr val="e3d1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组合 103447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06" name="任意多边形 103427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椭圆 103428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椭圆 103429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椭圆 103430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椭圆 103431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椭圆 103432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椭圆 103433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a76e23"/>
                </a:gs>
                <a:gs pos="100000">
                  <a:srgbClr val="3a26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椭圆 103434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d77bf"/>
                </a:gs>
                <a:gs pos="100000">
                  <a:srgbClr val="2225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椭圆 103435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4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椭圆 103436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椭圆 103437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145232"/>
                </a:gs>
                <a:gs pos="100000">
                  <a:srgbClr val="071c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103438"/>
            <p:cNvSpPr/>
            <p:nvPr/>
          </p:nvSpPr>
          <p:spPr>
            <a:xfrm>
              <a:off x="180432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103439"/>
            <p:cNvSpPr/>
            <p:nvPr/>
          </p:nvSpPr>
          <p:spPr>
            <a:xfrm>
              <a:off x="404100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文本框 103440"/>
            <p:cNvSpPr/>
            <p:nvPr/>
          </p:nvSpPr>
          <p:spPr>
            <a:xfrm>
              <a:off x="667008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文本框 103441"/>
            <p:cNvSpPr/>
            <p:nvPr/>
          </p:nvSpPr>
          <p:spPr>
            <a:xfrm>
              <a:off x="505872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文本框 103442"/>
            <p:cNvSpPr/>
            <p:nvPr/>
          </p:nvSpPr>
          <p:spPr>
            <a:xfrm>
              <a:off x="25869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文本框 103443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a00"/>
                  </a:solidFill>
                  <a:latin typeface="Arial"/>
                  <a:ea typeface="Arial"/>
                </a:rPr>
                <a:t>Cycle nam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24" name="直接连接符 103444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26" name="直接箭头连接符 103445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2a00"/>
              </a:solidFill>
              <a:round/>
            </a:ln>
          </p:spPr>
        </p:cxnSp>
        <p:sp>
          <p:nvSpPr>
            <p:cNvPr id="227" name="文本框 103446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组合 6963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30" name="圆柱形 69635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圆柱形 69636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柱形 69637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文本框 69638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文本框 69639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文本框 69640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左箭头 69641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圆角矩形 69642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文本框 69643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圆角矩形 69644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文本框 69645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右箭头 69646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圆柱形 69647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上箭头 69648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文本框 69649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圆柱形 69650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3310"/>
                </a:gs>
                <a:gs pos="50000">
                  <a:srgbClr val="a76e23"/>
                </a:gs>
                <a:gs pos="100000">
                  <a:srgbClr val="4d331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文本框 69651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下箭头 69652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组合 70658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50" name="组合 70659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51" name="上箭头 70660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上箭头 70661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上箭头 70662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1e1e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椭圆 70663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椭圆 70664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椭圆 70665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76e2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椭圆 70666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椭圆 70667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a3c13"/>
                  </a:gs>
                  <a:gs pos="50000">
                    <a:srgbClr val="a76e23"/>
                  </a:gs>
                  <a:gs pos="100000">
                    <a:srgbClr val="5a3c1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椭圆 70668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圆柱形 70669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圆柱形 70670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圆柱形 70671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2617"/>
                </a:gs>
                <a:gs pos="50000">
                  <a:srgbClr val="145232"/>
                </a:gs>
                <a:gs pos="100000">
                  <a:srgbClr val="0926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圆柱形 70672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圆柱形 70673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圆柱形 70674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758"/>
                </a:gs>
                <a:gs pos="50000">
                  <a:srgbClr val="6d77bf"/>
                </a:gs>
                <a:gs pos="100000">
                  <a:srgbClr val="3237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70675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圆角矩形 70676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70677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文本框 70678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文本框 70679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文本框 70680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文本框 70681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文本框 70682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组合 98333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76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77" name="直接连接符 98306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80" name="直接连接符 98307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83" name="直接连接符 98308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86" name="直接连接符 98309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89" name="直接连接符 98310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92" name="直接连接符 98311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95" name="直接连接符 98312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98" name="直接连接符 98313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301" name="直接连接符 98314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2a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文本框 98315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文本框 98316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文本框 98317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文本框 98318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a00"/>
                  </a:solidFill>
                  <a:latin typeface="Verdana"/>
                  <a:ea typeface="Arial"/>
                </a:rPr>
                <a:t>Add Your Tex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组合 98319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308" name="任意多边形 98320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4700"/>
                  </a:gs>
                  <a:gs pos="5000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任意多边形 98321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任意多边形 98322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3310"/>
                  </a:gs>
                  <a:gs pos="50000">
                    <a:srgbClr val="a76e23"/>
                  </a:gs>
                  <a:gs pos="100000">
                    <a:srgbClr val="4d331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任意多边形 98323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a76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任意多边形 98324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2617"/>
                  </a:gs>
                  <a:gs pos="50000">
                    <a:srgbClr val="145232"/>
                  </a:gs>
                  <a:gs pos="100000">
                    <a:srgbClr val="09261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任意多边形 98325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任意多边形 98326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任意多边形 98327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矩形 98328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4a6f00"/>
                  </a:gs>
                  <a:gs pos="50000">
                    <a:srgbClr val="669900"/>
                  </a:gs>
                  <a:gs pos="100000">
                    <a:srgbClr val="4a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矩形 98329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795019"/>
                  </a:gs>
                  <a:gs pos="50000">
                    <a:srgbClr val="a76e23"/>
                  </a:gs>
                  <a:gs pos="100000">
                    <a:srgbClr val="79501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任意多边形 98330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145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矩形 98331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0f3b24"/>
                  </a:gs>
                  <a:gs pos="50000">
                    <a:srgbClr val="145232"/>
                  </a:gs>
                  <a:gs pos="100000">
                    <a:srgbClr val="0f3b2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矩形 98332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818181"/>
                  </a:gs>
                  <a:gs pos="50000">
                    <a:srgbClr val="b2b2b2"/>
                  </a:gs>
                  <a:gs pos="100000">
                    <a:srgbClr val="81818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文本框 8199"/>
          <p:cNvSpPr/>
          <p:nvPr/>
        </p:nvSpPr>
        <p:spPr>
          <a:xfrm>
            <a:off x="2666880" y="533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a76e2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右箭头 72706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84"/>
            </a:avLst>
          </a:prstGeom>
          <a:gradFill rotWithShape="0">
            <a:gsLst>
              <a:gs pos="0">
                <a:srgbClr val="ffffff"/>
              </a:gs>
              <a:gs pos="100000">
                <a:srgbClr val="6d77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圆角矩形 72707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00"/>
              </a:gs>
              <a:gs pos="100000">
                <a:srgbClr val="94b84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圆角矩形 72708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圆角矩形 72709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76e23"/>
              </a:gs>
              <a:gs pos="100000">
                <a:srgbClr val="c29a6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圆角矩形 72710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  <a:ea typeface="Arial"/>
              </a:rPr>
              <a:t>Add You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  <a:ea typeface="Arial"/>
              </a:rPr>
              <a:t>Ti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57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