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34EE-1044-4C05-9C4D-E82D183E5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D0CD-713A-42E1-A1FB-9E50978F6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4559-148A-4610-A6D7-B3A611A25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8972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5404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2576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8972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5404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48A8-6FAA-488D-AC64-B82B4EE10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E230E-C4C8-4910-A238-3911F74C1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ED80E-F9FC-4A32-BAD4-D3749FD42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CF322-ECB1-4DA2-8B6D-B461152CA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A4014-3C7B-45E4-8720-60DFEBFAA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D1D00-CB89-48D0-BDB8-3BFF3816C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914040" y="2057040"/>
            <a:ext cx="77216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6FD50-D0D7-4C62-B700-CB6386BD5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4C01B-1A16-45D9-8309-5C1DC7DF5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18FF-9EAE-43DC-8C13-D2BF74CB4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6B5B7-2541-4247-B9B1-98DC75B8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83A11-6CB5-4466-B068-5B644EE84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72F85-C7E3-437B-8956-5D61923BD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99A78-DA0C-41FF-834C-C3F10429A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8972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5404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62576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78972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5404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9AEC7-1059-4C33-B253-084FDCF74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EFB3-D755-4FE3-A135-B58479696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C294-B6BB-4DE8-836E-EE3C47256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46AB-ECD6-4703-B58A-230E9C74B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040" y="2057040"/>
            <a:ext cx="77216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DBAF-B98B-4379-971A-3F8345B41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9B37-6088-41D6-9EEA-7396E741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E8F8-515A-4897-A163-B7D4A180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AC6C-E698-4D16-8CF0-2AC468D1A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C1C59-A7A5-4587-83E1-34FF89D8538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24636-0A12-4FD1-99D2-4717A4B93A1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17e1b"/>
                </a:solidFill>
                <a:latin typeface="Times New Roman"/>
                <a:ea typeface="隶书"/>
              </a:rPr>
              <a:t>规范管理是搞好《德育》读本实验的关键</a:t>
            </a:r>
            <a:br>
              <a:rPr sz="6000"/>
            </a:b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76520" y="47239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XXX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市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XXX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中学课题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efc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21304"/>
                </a:solidFill>
                <a:latin typeface="Times New Roman"/>
              </a:rPr>
              <a:t>（一）建立机构、明确职责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440" y="137160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1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Times New Roman"/>
              </a:rPr>
              <a:t>为了搞好《德育》读本教学，我们构建了四级网络系统，做到层级管理，职责明确，组织落实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efc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0"/>
            <a:ext cx="9143640" cy="6858000"/>
            <a:chOff x="0" y="0"/>
            <a:chExt cx="9143640" cy="6858000"/>
          </a:xfrm>
        </p:grpSpPr>
        <p:grpSp>
          <p:nvGrpSpPr>
            <p:cNvPr id="95" name=""/>
            <p:cNvGrpSpPr/>
            <p:nvPr/>
          </p:nvGrpSpPr>
          <p:grpSpPr>
            <a:xfrm>
              <a:off x="7920" y="4320"/>
              <a:ext cx="9125640" cy="6848280"/>
              <a:chOff x="7920" y="4320"/>
              <a:chExt cx="9125640" cy="6848280"/>
            </a:xfrm>
          </p:grpSpPr>
          <p:grpSp>
            <p:nvGrpSpPr>
              <p:cNvPr id="96" name=""/>
              <p:cNvGrpSpPr/>
              <p:nvPr/>
            </p:nvGrpSpPr>
            <p:grpSpPr>
              <a:xfrm>
                <a:off x="7920" y="4320"/>
                <a:ext cx="2359800" cy="821880"/>
                <a:chOff x="7920" y="4320"/>
                <a:chExt cx="2359800" cy="82188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126360" y="4320"/>
                  <a:ext cx="2122560" cy="82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机构名称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7920" y="4320"/>
                  <a:ext cx="2359800" cy="82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2368080" y="4320"/>
                <a:ext cx="1927440" cy="821880"/>
                <a:chOff x="2368080" y="4320"/>
                <a:chExt cx="1927440" cy="82188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2485800" y="4320"/>
                  <a:ext cx="1690920" cy="82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组成人员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2368080" y="4320"/>
                  <a:ext cx="1927440" cy="82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4296240" y="4320"/>
                <a:ext cx="4837320" cy="821880"/>
                <a:chOff x="4296240" y="4320"/>
                <a:chExt cx="4837320" cy="82188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4413960" y="4320"/>
                  <a:ext cx="4601520" cy="82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主  要  职  责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4296240" y="4320"/>
                  <a:ext cx="4837320" cy="82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" name=""/>
              <p:cNvGrpSpPr/>
              <p:nvPr/>
            </p:nvGrpSpPr>
            <p:grpSpPr>
              <a:xfrm>
                <a:off x="7920" y="826200"/>
                <a:ext cx="2359800" cy="1187280"/>
                <a:chOff x="7920" y="826200"/>
                <a:chExt cx="2359800" cy="118728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126360" y="826200"/>
                  <a:ext cx="212256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校级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德育课领导小组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7920" y="826200"/>
                  <a:ext cx="235980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2368080" y="826200"/>
                <a:ext cx="1927440" cy="1187280"/>
                <a:chOff x="2368080" y="826200"/>
                <a:chExt cx="1927440" cy="118728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2485800" y="826200"/>
                  <a:ext cx="169092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校长室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德育处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科研室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2368080" y="826200"/>
                  <a:ext cx="192744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4296240" y="826200"/>
                <a:ext cx="4837320" cy="1187280"/>
                <a:chOff x="4296240" y="826200"/>
                <a:chExt cx="4837320" cy="118728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4413960" y="826200"/>
                  <a:ext cx="460152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教学计划的制定与推进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教学过程的指导与检查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教学管理制度的制定与颁布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教学成果的考评与奖励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4296240" y="826200"/>
                  <a:ext cx="483732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7920" y="2013480"/>
                <a:ext cx="2359800" cy="1917000"/>
                <a:chOff x="7920" y="2013480"/>
                <a:chExt cx="2359800" cy="191700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126360" y="2013480"/>
                  <a:ext cx="2122560" cy="191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德育处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德育课教研组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7920" y="2013480"/>
                  <a:ext cx="2359800" cy="1917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2368080" y="2013480"/>
                <a:ext cx="1927440" cy="1917000"/>
                <a:chOff x="2368080" y="2013480"/>
                <a:chExt cx="1927440" cy="191700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2485800" y="2013480"/>
                  <a:ext cx="1690920" cy="191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主管校长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德育处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科研室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部分教师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2368080" y="2013480"/>
                  <a:ext cx="1927440" cy="1917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4296240" y="2013480"/>
                <a:ext cx="4837320" cy="1917000"/>
                <a:chOff x="4296240" y="2013480"/>
                <a:chExt cx="4837320" cy="191700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4413960" y="2013480"/>
                  <a:ext cx="4601520" cy="191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组织例会布置检查德育课计划执行情况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根据实际调控各年级教学进度与安排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培养典型、总结指导，推动教学深入发展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教学成果的组织、撰写、申报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4296240" y="2013480"/>
                  <a:ext cx="4837320" cy="1917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7920" y="3930840"/>
                <a:ext cx="2359800" cy="1551960"/>
                <a:chOff x="7920" y="3930840"/>
                <a:chExt cx="2359800" cy="155196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126360" y="3930840"/>
                  <a:ext cx="2122560" cy="155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年级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德育课备课组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7920" y="3930840"/>
                  <a:ext cx="2359800" cy="155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2368080" y="3930840"/>
                <a:ext cx="1927440" cy="1551960"/>
                <a:chOff x="2368080" y="3930840"/>
                <a:chExt cx="1927440" cy="155196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2485800" y="3930840"/>
                  <a:ext cx="1690920" cy="155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年级组长         本年级教师    德育分管人员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2368080" y="3930840"/>
                  <a:ext cx="1927440" cy="155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296240" y="3930840"/>
                <a:ext cx="4837320" cy="1551960"/>
                <a:chOff x="4296240" y="3930840"/>
                <a:chExt cx="4837320" cy="155196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413960" y="3930840"/>
                  <a:ext cx="4601520" cy="155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制定并落实年级德育课计划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组织教师集体备课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组织年级德育交流课，观摩课推荐评定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296240" y="3930840"/>
                  <a:ext cx="4837320" cy="155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7920" y="5482800"/>
                <a:ext cx="2359800" cy="1369800"/>
                <a:chOff x="7920" y="5482800"/>
                <a:chExt cx="2359800" cy="136980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26360" y="5482800"/>
                  <a:ext cx="2122560" cy="136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班级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德育课指导教师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7920" y="5482800"/>
                  <a:ext cx="2359800" cy="1369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2368080" y="5482800"/>
                <a:ext cx="1927440" cy="1369800"/>
                <a:chOff x="2368080" y="5482800"/>
                <a:chExt cx="1927440" cy="136980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2485800" y="5482800"/>
                  <a:ext cx="1690920" cy="136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各班主任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2368080" y="5482800"/>
                  <a:ext cx="1927440" cy="1369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4296240" y="5482800"/>
                <a:ext cx="4837320" cy="1369800"/>
                <a:chOff x="4296240" y="5482800"/>
                <a:chExt cx="4837320" cy="136980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4413960" y="5482800"/>
                  <a:ext cx="4601520" cy="136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根据年级计划，熟悉教材，拟定教案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组织指导学生做好课前准备工作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按时上课，保证教学质量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收集学生及家长意见并及时反馈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4296240" y="5482800"/>
                  <a:ext cx="4837320" cy="1369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1" name=""/>
            <p:cNvSpPr/>
            <p:nvPr/>
          </p:nvSpPr>
          <p:spPr>
            <a:xfrm>
              <a:off x="0" y="0"/>
              <a:ext cx="9143640" cy="68580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efc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21304"/>
                </a:solidFill>
                <a:latin typeface="Times New Roman"/>
              </a:rPr>
              <a:t>（二）教学活动、突出特色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44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600" spc="-1" strike="noStrike" u="sng">
                <a:solidFill>
                  <a:srgbClr val="008000"/>
                </a:solidFill>
                <a:uFillTx/>
                <a:latin typeface="Times New Roman"/>
              </a:rPr>
              <a:t>一条主线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即在读本教学中始终贯穿“发挥教师主导作用和学生主体作用相结合”这条主线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600" spc="-1" strike="noStrike" u="sng">
                <a:solidFill>
                  <a:srgbClr val="008000"/>
                </a:solidFill>
                <a:uFillTx/>
                <a:latin typeface="Times New Roman"/>
              </a:rPr>
              <a:t>四个环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即教师主导作用的发挥，要围绕四个环节来进行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3600" spc="-1" strike="noStrike" u="sng">
                <a:solidFill>
                  <a:srgbClr val="660066"/>
                </a:solidFill>
                <a:uFillTx/>
                <a:latin typeface="Times New Roman"/>
              </a:rPr>
              <a:t>五个特点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即学生主体作用的发挥，在德育课教学中，要充分体现在五个方面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" action="ppaction://hlinkshowjump?jump=nextslide"/>
          </p:cNvPr>
          <p:cNvSpPr/>
          <p:nvPr/>
        </p:nvSpPr>
        <p:spPr>
          <a:xfrm>
            <a:off x="7315200" y="40384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3794"/>
                </a:moveTo>
                <a:lnTo>
                  <a:pt x="19343" y="10800"/>
                </a:lnTo>
                <a:lnTo>
                  <a:pt x="5330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五个特点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4191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体现全员教育的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体现自我教育的特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体现动态教育的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体现形象教育的特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体现主动教育的特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52480" y="5257800"/>
            <a:ext cx="838440" cy="609480"/>
          </a:xfrm>
          <a:custGeom>
            <a:avLst/>
            <a:gdLst>
              <a:gd name="textAreaLeft" fmla="*/ 39240 w 838440"/>
              <a:gd name="textAreaRight" fmla="*/ 799200 w 838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11356" y="10800"/>
                </a:moveTo>
                <a:lnTo>
                  <a:pt x="21861" y="3794"/>
                </a:lnTo>
                <a:lnTo>
                  <a:pt x="21861" y="17806"/>
                </a:lnTo>
                <a:close/>
              </a:path>
              <a:path fill="darken" w="29710" h="21600">
                <a:moveTo>
                  <a:pt x="7848" y="3794"/>
                </a:moveTo>
                <a:lnTo>
                  <a:pt x="9511" y="3794"/>
                </a:lnTo>
                <a:lnTo>
                  <a:pt x="9511" y="17806"/>
                </a:lnTo>
                <a:lnTo>
                  <a:pt x="7848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efc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Times New Roman"/>
              </a:rPr>
              <a:t>（三）多方反馈、注重实效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  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学生反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 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 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家长反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教师反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  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学校反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efc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Times New Roman"/>
              </a:rPr>
              <a:t>（四）健全制度、确保落实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确定《德育》读本课在学校课程体系中的法定地位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集体备课制度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听课制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《德育》课时津贴制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奖励制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800"/>
            </a:br>
            <a:r>
              <a:rPr b="0" lang="zh-CN" sz="8800" spc="-1" strike="noStrike">
                <a:solidFill>
                  <a:srgbClr val="221304"/>
                </a:solidFill>
                <a:latin typeface="Times New Roman"/>
              </a:rPr>
              <a:t>    </a:t>
            </a:r>
            <a:r>
              <a:rPr b="1" lang="zh-CN" sz="8800" spc="-1" strike="noStrike">
                <a:solidFill>
                  <a:srgbClr val="ff0000"/>
                </a:solidFill>
                <a:latin typeface="Times New Roman"/>
              </a:rPr>
              <a:t>谢谢大家</a:t>
            </a:r>
            <a:r>
              <a:rPr b="0" lang="zh-CN" sz="8800" spc="-1" strike="noStrike">
                <a:solidFill>
                  <a:srgbClr val="ff0000"/>
                </a:solidFill>
                <a:latin typeface="Times New Roman"/>
              </a:rPr>
              <a:t>！</a:t>
            </a:r>
            <a:endParaRPr b="0" lang="en-US" sz="88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规范 管理</cp:keywords>
  <dc:language>en-US</dc:language>
  <cp:lastModifiedBy/>
  <cp:revision>0</cp:revision>
  <dc:subject/>
  <dc:title/>
</cp:coreProperties>
</file>