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69D-B31C-4E1B-B51C-080186C9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1F0-98BA-4638-9943-5034BFBC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38E-E971-4AB7-ADA4-2F9C1FEB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ECBD-C81A-410A-9FA1-340F0045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4D09-F29D-4FD2-8B3A-6F52A134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AED9-14CD-40D0-9D35-80D44EAA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7501-5FA2-4D20-9542-8FF8DEF6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0824-1997-410C-B056-255A71D4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8ED1-B56E-4D9C-B84A-B4147352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7B0E-F6E2-43E7-9EC5-C5F73834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BCC6-FC60-449F-8F96-747E3FC9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D63-3224-4611-8B12-BDFEB8E6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C281-1C34-44FD-82D3-6248C36D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A804-D8D1-450E-8420-BFC8ADF2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20F3-A3C9-4AA2-BB05-8E0131A0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3273-8359-46FB-946D-1B107D78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CACD-B9E9-47DC-84DB-B9F1219A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230-50CF-4CC4-9B15-FCE76195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7E6-0C44-479B-9DF1-0B9EE098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CA3-F56B-49BF-98DD-5F525DE4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724-7D7B-4B0D-9E95-46D002C7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9E8-525C-47F1-9279-705C77E8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18D-73E0-42B8-A3FC-71E82BAE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75B-E057-48B4-A22D-00E6AD4B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CCAD-4307-40D6-9645-894EC6D78C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4C41-ECB2-44D1-8256-78AAB69D1C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高级财务管理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节  企业集团组织形式及本质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企业集团定义：是由多个法人构成的不具备法人资格的企业联合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企业集团本质特征：资源聚集整合优势和管理协同优势，具体来说有四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、企业集团成功的基础：优势的产业发展线与高效率的管理控制线的相互依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971440"/>
            <a:ext cx="7848720" cy="29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节企业集团财务管理特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一、集团财务管理主体及特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主体：包括母公司在内的若干不同阶层的成员企业，即多个主体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主体特征：一元中心下的多层级复合结构特征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集团财务管理目标及特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目标：在确保集团整体财务目标最大化的前提下，实现成员企业个体财务目标的最大化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特征：成员企业个体财务目标对集团整体财务目标在战略上的统合性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、集团财务管理客体及特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客体（对象）：集团及成员企业的资金运动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与单一法人资金运动的区别：在复杂程度、管理实现的手段、风险等方面的区别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、集团财务管理方式及特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方式：全面预算制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二章  企业集团治理结构与财务管理体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节  公司治理结构概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公司治理结构涵义与内容：是指一组联结并规范公司所有者、董事会、经营者、亚经营者、员工及其他利益者之间权、责、利关系的制度安排。包括产权制度、决策与督导制度、激励机制、组织结构、董事问责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基本模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外部人模式：以英美为代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内部人模式：以日韩、东南亚国家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节  企业集团治理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-1954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集团治理结构包括以下几方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股权控制结构：分为绝对控股和相对控股。拥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上股权的为绝对控股，，低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股权的为相对控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管理的集权与分权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129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“权”的涵义：指决策管理权，包括生产权、经营权、财务权及人事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129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“权”的五个层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11880" indent="-12996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是战略发展、股权控制与公司政策的制定、解释和调整权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11880" indent="-12996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是对第一层次产生重大影响的决策管理权及例外事项处置权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11880" indent="-12996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是对第一不构成重大影响的决策管理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11880" indent="-12996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四是一般的、日常的生产经营、财务与人事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11880" indent="-12996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五是成员企业自身内部职能部门的管理决策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129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集权与分权的本质：无论是集权与分权，第一和第二层次都独揽于总公司，区别在于对后面三个层次的集或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129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两者的比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、组织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129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企业集团组织结构的基本模式：了解六种模式及各自的利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此外还包括董事会职能、监事会职能、经营者权责、董事会问责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三节   企业集团财务管理体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财务管理体制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定义和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财务体制与管理体制特别是经营体制的差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财务体制趋向集权的原因：有三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财务管理体制的设计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以产权制度为依据的母子公司关系：依据两个原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独立责任原则和有限责任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充分体现财务管理的战略思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适应集团不同的组织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四节 企业集团财务组织与决策制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集团财务管理机构分为四个层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母公司董事会及财务权限：它是最高决策中心，主要是对各种政策的制定权和调整权；对高层财务人员的聘任、委派权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集团财务总部及权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、财务结算中心或财务公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财务结算中心：是隶属于母公司财务部的职能机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财务公司：是具有独立的法人资格的一个子公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两者的区别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四、子公司财务部及权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五、事业部财务机构：具双重身分：一是作为母公司财务部的派出机构，执行总部的战略政策，另一方面又作为事业部下属公司的领导和管理机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五节 财务控制制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控制的目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控制制度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责任预算制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财务报告制度：包括以下几方面：信息质量标准、报告标准、内容结构、组织程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财务总监委派制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财务 管理 概述</cp:keywords>
  <dc:language>en-US</dc:language>
  <cp:lastModifiedBy/>
  <cp:revision>0</cp:revision>
  <dc:subject/>
  <dc:title/>
</cp:coreProperties>
</file>