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6047-7791-4FCA-9180-C70A27DA2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5FF9-A4C4-4359-8C44-56E79D585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2058-55BC-4CD2-8352-968D013B7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2E9A-A51E-404E-82BD-86C10D746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57CB1-1DAA-4592-A879-C239C872B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B9C9D-D544-488F-92FE-70C33DDE6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04D4E-35FC-4A07-8391-8C1DC74BC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2AD9D-6889-42E9-8170-09B5D02B9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847F0-46D4-48D0-9DCC-8B8FA1C7A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99F3B-6AAE-465A-8418-855BD183F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F4512-37D3-4E93-A4F4-D30CAB005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5037-4095-4CD2-969C-EE46F1734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B4908-C6F9-4C83-8F7C-C13449ED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A0738-5A0A-45B5-9A3F-ADA3662F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765A3-FBA8-45A7-92F8-BD7A904BD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8A5E5-6873-43EA-B479-460C95FE6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5C5BB-C2CF-45E2-807B-1BDE3B480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F0AC-0EC8-4B15-AD28-842E65E82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71E0-6C6E-4A6E-9741-FA71114B4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CA23-208F-4D6B-A90A-9B6DCD8D8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113E-B387-45B0-886E-96AC18583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0107-9297-4A6B-A467-051C075B8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3E79-4CBA-4D46-9350-F901081C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37D1-0B88-4E62-8BD2-6D159952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Expbanna" descr=""/>
          <p:cNvPicPr/>
          <p:nvPr/>
        </p:nvPicPr>
        <p:blipFill>
          <a:blip r:embed="rId2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30BC7-DC02-4D2C-81E8-7EC1F5CB4A6C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EXPHORSA" descr=""/>
          <p:cNvPicPr/>
          <p:nvPr/>
        </p:nvPicPr>
        <p:blipFill>
          <a:blip r:embed="rId3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15197-8138-46A0-A87D-894F3DCC7366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8" name="Expbanna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EXPHORSA" descr=""/>
            <p:cNvPicPr/>
            <p:nvPr/>
          </p:nvPicPr>
          <p:blipFill>
            <a:blip r:embed="rId3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EXPHORSA" descr=""/>
          <p:cNvPicPr/>
          <p:nvPr/>
        </p:nvPicPr>
        <p:blipFill>
          <a:blip r:embed="rId4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3.png"/><Relationship Id="rId9" Type="http://schemas.openxmlformats.org/officeDocument/2006/relationships/image" Target="../media/image8.png"/><Relationship Id="rId10" Type="http://schemas.openxmlformats.org/officeDocument/2006/relationships/hyperlink" Target="E:\power_point\v2001chi\&#19979;&#20874;\&#35506;&#38988;18.ppt" TargetMode="External"/><Relationship Id="rId1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hyperlink" Target="269,14,&#22283;&#38555;&#36031;&#26131;&#21512;&#20316;&#32068;&#32340;" TargetMode="External"/><Relationship Id="rId8" Type="http://schemas.openxmlformats.org/officeDocument/2006/relationships/image" Target="../media/image3.png"/><Relationship Id="rId9" Type="http://schemas.openxmlformats.org/officeDocument/2006/relationships/hyperlink" Target="-1,15,&#26412;&#22320;&#21830;&#26371;" TargetMode="External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268,13,&#22283;&#38555;&#21270;&#30340;&#22256;&#38627;&#21644;&#20107;&#20808;&#30340;&#32771;&#24942;&#30340;&#22240;&#32032; &#8211; &#22806;&#22312;&#22240;&#32032;(&#20108;) - &#31478;&#29229;&#24773;&#35980;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3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E:\power_point\v2001chi\&#19979;&#20874;\&#35506;&#38988;17.ppt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3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448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國際市場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BD05584_" descr=""/>
          <p:cNvPicPr/>
          <p:nvPr/>
        </p:nvPicPr>
        <p:blipFill>
          <a:blip r:embed="rId1"/>
          <a:stretch/>
        </p:blipFill>
        <p:spPr>
          <a:xfrm>
            <a:off x="6934320" y="4038480"/>
            <a:ext cx="1865160" cy="2210040"/>
          </a:xfrm>
          <a:prstGeom prst="rect">
            <a:avLst/>
          </a:prstGeom>
          <a:ln w="0">
            <a:noFill/>
          </a:ln>
        </p:spPr>
      </p:pic>
      <p:pic>
        <p:nvPicPr>
          <p:cNvPr id="90" name="BD06662_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4419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82400"/>
                </a:solidFill>
                <a:latin typeface="華康行書體"/>
                <a:ea typeface="華康行書體"/>
              </a:rPr>
              <a:t>國際化的困難和事先的考慮的因素 – 外在因素</a:t>
            </a:r>
            <a:r>
              <a:rPr b="0" lang="en-US" sz="3600" spc="-1" strike="noStrike">
                <a:solidFill>
                  <a:srgbClr val="482400"/>
                </a:solidFill>
                <a:latin typeface="華康行書體"/>
                <a:ea typeface="華康行書體"/>
              </a:rPr>
              <a:t>(</a:t>
            </a:r>
            <a:r>
              <a:rPr b="0" lang="zh-CN" sz="3600" spc="-1" strike="noStrike">
                <a:solidFill>
                  <a:srgbClr val="482400"/>
                </a:solidFill>
                <a:latin typeface="華康行書體"/>
                <a:ea typeface="華康行書體"/>
              </a:rPr>
              <a:t>二</a:t>
            </a:r>
            <a:r>
              <a:rPr b="0" lang="en-US" sz="3600" spc="-1" strike="noStrike">
                <a:solidFill>
                  <a:srgbClr val="482400"/>
                </a:solidFill>
                <a:latin typeface="華康行書體"/>
                <a:ea typeface="華康行書體"/>
              </a:rPr>
              <a:t>) - </a:t>
            </a:r>
            <a:r>
              <a:rPr b="0" lang="zh-CN" sz="4400" spc="-1" strike="noStrike">
                <a:solidFill>
                  <a:srgbClr val="482400"/>
                </a:solidFill>
                <a:latin typeface="華康行書體"/>
                <a:ea typeface="華康行書體"/>
              </a:rPr>
              <a:t>政治障礙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360" y="1766520"/>
            <a:ext cx="784044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00"/>
                </a:solidFill>
                <a:uFillTx/>
                <a:latin typeface="華康行書體"/>
                <a:ea typeface="華康行書體"/>
              </a:rPr>
              <a:t>國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政治不穩，政黨傾軋，執政黨轉變頻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內戰 </a:t>
            </a:r>
            <a:r>
              <a:rPr b="0" lang="en-US" sz="28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/ </a:t>
            </a:r>
            <a:r>
              <a:rPr b="0" lang="zh-CN" sz="28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外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00"/>
                </a:solidFill>
                <a:uFillTx/>
                <a:latin typeface="華康行書體"/>
                <a:ea typeface="華康行書體"/>
              </a:rPr>
              <a:t>國際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教派之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盟敵關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意氣之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00"/>
                </a:solidFill>
                <a:uFillTx/>
                <a:latin typeface="華康行書體"/>
                <a:ea typeface="華康行書體"/>
              </a:rPr>
              <a:t>對貿易帶來的不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993300"/>
                </a:solidFill>
                <a:uFillTx/>
                <a:latin typeface="華康行書體"/>
                <a:ea typeface="華康行書體"/>
                <a:hlinkClick r:id="rId10"/>
              </a:rPr>
              <a:t>關稅、配額、禁運、外匯管制、最惠國特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82400"/>
                </a:solidFill>
                <a:latin typeface="華康行書體"/>
                <a:ea typeface="華康行書體"/>
              </a:rPr>
              <a:t>國際化的困難和事先的考慮的因素 – 外在因素</a:t>
            </a:r>
            <a:r>
              <a:rPr b="0" lang="en-US" sz="3600" spc="-1" strike="noStrike">
                <a:solidFill>
                  <a:srgbClr val="482400"/>
                </a:solidFill>
                <a:latin typeface="華康行書體"/>
                <a:ea typeface="華康行書體"/>
              </a:rPr>
              <a:t>(</a:t>
            </a:r>
            <a:r>
              <a:rPr b="0" lang="zh-CN" sz="3600" spc="-1" strike="noStrike">
                <a:solidFill>
                  <a:srgbClr val="482400"/>
                </a:solidFill>
                <a:latin typeface="華康行書體"/>
                <a:ea typeface="華康行書體"/>
              </a:rPr>
              <a:t>三</a:t>
            </a:r>
            <a:r>
              <a:rPr b="0" lang="en-US" sz="3600" spc="-1" strike="noStrike">
                <a:solidFill>
                  <a:srgbClr val="482400"/>
                </a:solidFill>
                <a:latin typeface="華康行書體"/>
                <a:ea typeface="華康行書體"/>
              </a:rPr>
              <a:t>) - </a:t>
            </a:r>
            <a:r>
              <a:rPr b="0" lang="zh-CN" sz="4400" spc="-1" strike="noStrike">
                <a:solidFill>
                  <a:srgbClr val="482400"/>
                </a:solidFill>
                <a:latin typeface="華康行書體"/>
                <a:ea typeface="華康行書體"/>
              </a:rPr>
              <a:t>經濟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經濟發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人口分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基本建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經濟開發程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通貨膨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利率、匯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自由貿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集資能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82400"/>
                </a:solidFill>
                <a:latin typeface="華康行書體"/>
                <a:ea typeface="華康行書體"/>
              </a:rPr>
              <a:t>國際化的困難和事先的考慮的因素 – 外在因素</a:t>
            </a:r>
            <a:r>
              <a:rPr b="0" lang="en-US" sz="3600" spc="-1" strike="noStrike">
                <a:solidFill>
                  <a:srgbClr val="482400"/>
                </a:solidFill>
                <a:latin typeface="華康行書體"/>
                <a:ea typeface="華康行書體"/>
              </a:rPr>
              <a:t>(</a:t>
            </a:r>
            <a:r>
              <a:rPr b="0" lang="zh-CN" sz="3600" spc="-1" strike="noStrike">
                <a:solidFill>
                  <a:srgbClr val="482400"/>
                </a:solidFill>
                <a:latin typeface="華康行書體"/>
                <a:ea typeface="華康行書體"/>
              </a:rPr>
              <a:t>四</a:t>
            </a:r>
            <a:r>
              <a:rPr b="0" lang="en-US" sz="3600" spc="-1" strike="noStrike">
                <a:solidFill>
                  <a:srgbClr val="482400"/>
                </a:solidFill>
                <a:latin typeface="華康行書體"/>
                <a:ea typeface="華康行書體"/>
              </a:rPr>
              <a:t>) - </a:t>
            </a:r>
            <a:r>
              <a:rPr b="0" lang="zh-CN" sz="4400" spc="-1" strike="noStrike">
                <a:solidFill>
                  <a:srgbClr val="482400"/>
                </a:solidFill>
                <a:latin typeface="華康行書體"/>
                <a:ea typeface="華康行書體"/>
              </a:rPr>
              <a:t>分配網絡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由生產至消費者手中的途徑是否合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由供應商至目標消費者的路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當地的運輸網絡是否發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其他基建配套的配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82400"/>
                </a:solidFill>
                <a:latin typeface="華康行書體"/>
                <a:ea typeface="華康行書體"/>
              </a:rPr>
              <a:t>國際化的困難和事先的考慮的因素 – 外在因素</a:t>
            </a:r>
            <a:r>
              <a:rPr b="0" lang="en-US" sz="3600" spc="-1" strike="noStrike">
                <a:solidFill>
                  <a:srgbClr val="482400"/>
                </a:solidFill>
                <a:latin typeface="華康行書體"/>
                <a:ea typeface="華康行書體"/>
              </a:rPr>
              <a:t>(</a:t>
            </a:r>
            <a:r>
              <a:rPr b="0" lang="zh-CN" sz="3600" spc="-1" strike="noStrike">
                <a:solidFill>
                  <a:srgbClr val="482400"/>
                </a:solidFill>
                <a:latin typeface="華康行書體"/>
                <a:ea typeface="華康行書體"/>
              </a:rPr>
              <a:t>五</a:t>
            </a:r>
            <a:r>
              <a:rPr b="0" lang="en-US" sz="3600" spc="-1" strike="noStrike">
                <a:solidFill>
                  <a:srgbClr val="482400"/>
                </a:solidFill>
                <a:latin typeface="華康行書體"/>
                <a:ea typeface="華康行書體"/>
              </a:rPr>
              <a:t>) - </a:t>
            </a:r>
            <a:r>
              <a:rPr b="0" lang="zh-CN" sz="4400" spc="-1" strike="noStrike">
                <a:solidFill>
                  <a:srgbClr val="482400"/>
                </a:solidFill>
                <a:latin typeface="華康行書體"/>
                <a:ea typeface="華康行書體"/>
              </a:rPr>
              <a:t>競爭情貌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反獨佔法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公平貿易法、商業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對外商的支援 </a:t>
            </a:r>
            <a:r>
              <a:rPr b="0" lang="en-US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/ </a:t>
            </a: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防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傾銷意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消費者保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3300"/>
                </a:solidFill>
                <a:uFillTx/>
                <a:latin typeface="華康行書體"/>
                <a:ea typeface="華康行書體"/>
                <a:hlinkClick r:id="rId7"/>
              </a:rPr>
              <a:t>國際連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3300"/>
                </a:solidFill>
                <a:uFillTx/>
                <a:latin typeface="華康行書體"/>
                <a:ea typeface="華康行書體"/>
                <a:hlinkClick r:id="rId9"/>
              </a:rPr>
              <a:t>本地商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993300"/>
                </a:solidFill>
                <a:uFillTx/>
                <a:latin typeface="華康行書體"/>
                <a:ea typeface="華康行書體"/>
                <a:hlinkClick r:id="rId1"/>
              </a:rPr>
              <a:t>國際貿易合作組織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世界貿易組織 </a:t>
            </a:r>
            <a:r>
              <a:rPr b="0" lang="en-US" sz="28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(World Trade Organiz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歐洲共同體 </a:t>
            </a:r>
            <a:r>
              <a:rPr b="0" lang="en-US" sz="28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(European Economic Communi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北美洲自由貿易協議 </a:t>
            </a:r>
            <a:r>
              <a:rPr b="0" lang="en-US" sz="28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(North America Free Trade Agreem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經濟合作及發展組織 </a:t>
            </a:r>
            <a:r>
              <a:rPr b="0" lang="en-US" sz="28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(Organization for Economic Co-operation and Development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石油輸出國組織 </a:t>
            </a:r>
            <a:r>
              <a:rPr b="0" lang="en-US" sz="28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(Organization of Petroleum Exporting Countri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國際貨幣基金會 </a:t>
            </a:r>
            <a:r>
              <a:rPr b="0" lang="en-US" sz="28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(International Monetary Fun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82400"/>
                </a:solidFill>
                <a:latin typeface="華康行書體"/>
                <a:ea typeface="華康行書體"/>
              </a:rPr>
              <a:t>國際化的困難和事先的考慮的因素 – 內在因素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2000" y="1766880"/>
            <a:ext cx="7548480" cy="46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除其他企業因素外，在管理角度上要考慮以下幾點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本身結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子機構在母機構內的角色，在結構圖何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其控制的寬緊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控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雙方關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權力中央 </a:t>
            </a:r>
            <a:r>
              <a:rPr b="0" lang="en-US" sz="24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/ </a:t>
            </a:r>
            <a:r>
              <a:rPr b="0" lang="zh-CN" sz="24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地方分權的限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權力下放至甚麼程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完全獨立 </a:t>
            </a:r>
            <a:r>
              <a:rPr b="0" lang="en-US" sz="20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/ </a:t>
            </a:r>
            <a:r>
              <a:rPr b="0" lang="zh-CN" sz="20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企業一個獨立部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無法規可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建基於信任與雙方了解程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82400"/>
                </a:solidFill>
                <a:latin typeface="華康行書體"/>
                <a:ea typeface="華康行書體"/>
              </a:rPr>
              <a:t>危害國際貿易的情勢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國家利益高於個別經濟利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貿易國家之間的不信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戰略國防考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宗教不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個別行業利益重於國際經貿關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保護初生工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反國際貿易一體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82400"/>
                </a:solidFill>
                <a:latin typeface="華康行書體"/>
                <a:ea typeface="華康行書體"/>
              </a:rPr>
              <a:t>國際貿易勢不可擋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6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高科技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商品本身的構成已國際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全球消費口味趨向統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全球運輸發展一日千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資金流向無彊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競爭已是國際化，生產地方化的生存空間愈來愈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相對優勢將在於生產特殊化而不在於機會成本的比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華康行書體"/>
              <a:ea typeface="華康行書體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2743200" y="1752480"/>
            <a:ext cx="4417920" cy="4113360"/>
            <a:chOff x="2743200" y="1752480"/>
            <a:chExt cx="4417920" cy="4113360"/>
          </a:xfrm>
        </p:grpSpPr>
        <p:pic>
          <p:nvPicPr>
            <p:cNvPr id="125" name="BD06662_" descr=""/>
            <p:cNvPicPr/>
            <p:nvPr/>
          </p:nvPicPr>
          <p:blipFill>
            <a:blip r:embed="rId1"/>
            <a:stretch/>
          </p:blipFill>
          <p:spPr>
            <a:xfrm>
              <a:off x="2743200" y="1752480"/>
              <a:ext cx="4417920" cy="411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 txBox="1"/>
            <p:nvPr/>
          </p:nvSpPr>
          <p:spPr>
            <a:xfrm>
              <a:off x="2743200" y="1752480"/>
              <a:ext cx="4417920" cy="411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buSzPct val="10000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7318440" y="5181480"/>
            <a:ext cx="1003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華康綜藝體"/>
              </a:rPr>
              <a:t>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82400"/>
                </a:solidFill>
                <a:latin typeface="華康行書體"/>
                <a:ea typeface="華康行書體"/>
              </a:rPr>
              <a:t>貿易的存在理論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比較優勢 </a:t>
            </a:r>
            <a:r>
              <a:rPr b="0" lang="en-US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(David Ricard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國際貿易的實際需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走向國際化的型式層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國際化的困難和事先的考慮的元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危害國際貿易的情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國際貿易勢不可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82400"/>
                </a:solidFill>
                <a:latin typeface="華康行書體"/>
                <a:ea typeface="華康行書體"/>
              </a:rPr>
              <a:t>國際貿易可以成立的條件考慮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3300"/>
                </a:solidFill>
                <a:uFillTx/>
                <a:latin typeface="華康行書體"/>
                <a:ea typeface="華康行書體"/>
                <a:hlinkClick r:id="rId2"/>
              </a:rPr>
              <a:t>Ricardo’s 貿易理論 – 比較優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生產專業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交易成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生產單位層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運輸 – 路程、交通工具、關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利率 – 固定</a:t>
            </a:r>
            <a:r>
              <a:rPr b="0" lang="en-US" sz="24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浮動，通貨物價指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匯率 – 浮動 </a:t>
            </a:r>
            <a:r>
              <a:rPr b="0" lang="en-US" sz="24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/ </a:t>
            </a:r>
            <a:r>
              <a:rPr b="0" lang="zh-CN" sz="24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掛釣 </a:t>
            </a:r>
            <a:r>
              <a:rPr b="0" lang="en-US" sz="24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/ </a:t>
            </a:r>
            <a:r>
              <a:rPr b="0" lang="zh-CN" sz="24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固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國家層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貿易平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國際收支平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國際勢力平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82400"/>
                </a:solidFill>
                <a:latin typeface="華康行書體"/>
                <a:ea typeface="華康行書體"/>
              </a:rPr>
              <a:t>從國家角度看貿易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可以較低代價獲取相同性質的商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提高國民就業、生活享受和滿足慾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提高生產質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隨著商品活動影響資源和生產技術作國際性移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82400"/>
                </a:solidFill>
                <a:latin typeface="華康行書體"/>
                <a:ea typeface="華康行書體"/>
              </a:rPr>
              <a:t>為何「我」要走向國際化？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1640" y="1752480"/>
            <a:ext cx="7777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增加營業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業務長期增長及盈利前景的合理期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提高市場地位、佔有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提高政治地位，提高與政府議價的能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本身生產過餘，或想達到規模生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延長商品的成長</a:t>
            </a:r>
            <a:r>
              <a:rPr b="0" lang="en-US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成熟週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嘗試將雞蛋分別放在不同籃子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提升本地</a:t>
            </a:r>
            <a:r>
              <a:rPr b="0" lang="en-US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當地科技發展和經濟發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82400"/>
                </a:solidFill>
                <a:latin typeface="華康行書體"/>
                <a:ea typeface="華康行書體"/>
              </a:rPr>
              <a:t>走向國際化的型式層面</a:t>
            </a:r>
            <a:r>
              <a:rPr b="0" lang="en-US" sz="4400" spc="-1" strike="noStrike">
                <a:solidFill>
                  <a:srgbClr val="482400"/>
                </a:solidFill>
                <a:latin typeface="華康行書體"/>
                <a:ea typeface="華康行書體"/>
              </a:rPr>
              <a:t>(</a:t>
            </a:r>
            <a:r>
              <a:rPr b="0" lang="zh-CN" sz="4400" spc="-1" strike="noStrike">
                <a:solidFill>
                  <a:srgbClr val="482400"/>
                </a:solidFill>
                <a:latin typeface="華康行書體"/>
                <a:ea typeface="華康行書體"/>
              </a:rPr>
              <a:t>一</a:t>
            </a:r>
            <a:r>
              <a:rPr b="0" lang="en-US" sz="4400" spc="-1" strike="noStrike">
                <a:solidFill>
                  <a:srgbClr val="482400"/>
                </a:solidFill>
                <a:latin typeface="華康行書體"/>
                <a:ea typeface="華康行書體"/>
              </a:rPr>
              <a:t>)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半直接出口 – 貨品加工 </a:t>
            </a:r>
            <a:r>
              <a:rPr b="0" lang="en-US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/ </a:t>
            </a: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來料加工 </a:t>
            </a:r>
            <a:r>
              <a:rPr b="0" lang="en-US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/ </a:t>
            </a: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只提供貨品其中一個生產環節服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直接出口 – 生產貨品直接出口，須有專人處理出口事宜，資本額要求較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代理 </a:t>
            </a:r>
            <a:r>
              <a:rPr b="0" lang="en-US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/ </a:t>
            </a: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特許經營 – 將生產</a:t>
            </a:r>
            <a:r>
              <a:rPr b="0" lang="en-US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分銷權</a:t>
            </a:r>
            <a:r>
              <a:rPr b="0" lang="en-US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牌子、商標</a:t>
            </a:r>
            <a:r>
              <a:rPr b="0" lang="en-US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批予外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成立外圍銷售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82400"/>
                </a:solidFill>
                <a:latin typeface="華康行書體"/>
                <a:ea typeface="華康行書體"/>
              </a:rPr>
              <a:t>走向國際化的型式層面</a:t>
            </a:r>
            <a:r>
              <a:rPr b="0" lang="en-US" sz="4400" spc="-1" strike="noStrike">
                <a:solidFill>
                  <a:srgbClr val="482400"/>
                </a:solidFill>
                <a:latin typeface="華康行書體"/>
                <a:ea typeface="華康行書體"/>
              </a:rPr>
              <a:t>(</a:t>
            </a:r>
            <a:r>
              <a:rPr b="0" lang="zh-CN" sz="4400" spc="-1" strike="noStrike">
                <a:solidFill>
                  <a:srgbClr val="482400"/>
                </a:solidFill>
                <a:latin typeface="華康行書體"/>
                <a:ea typeface="華康行書體"/>
              </a:rPr>
              <a:t>二</a:t>
            </a:r>
            <a:r>
              <a:rPr b="0" lang="en-US" sz="4400" spc="-1" strike="noStrike">
                <a:solidFill>
                  <a:srgbClr val="482400"/>
                </a:solidFill>
                <a:latin typeface="華康行書體"/>
                <a:ea typeface="華康行書體"/>
              </a:rPr>
              <a:t>)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成立分行或附屬公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可獨資或與當地企業</a:t>
            </a:r>
            <a:r>
              <a:rPr b="0" lang="en-US" sz="28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政府合作，分擔成本、風險、管理和利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成立生產單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在原產當地出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運回原資本國出售 </a:t>
            </a:r>
            <a:r>
              <a:rPr b="0" lang="en-US" sz="24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outsour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以貨易貨，物物交換，屬雙向貿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買方只有有限外匯，只能以貨物代替貨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82400"/>
                </a:solidFill>
                <a:latin typeface="華康行書體"/>
                <a:ea typeface="華康行書體"/>
              </a:rPr>
              <a:t>國際化的困難和事先的考慮的因素 – 外在因素</a:t>
            </a:r>
            <a:r>
              <a:rPr b="0" lang="en-US" sz="3600" spc="-1" strike="noStrike">
                <a:solidFill>
                  <a:srgbClr val="482400"/>
                </a:solidFill>
                <a:latin typeface="華康行書體"/>
                <a:ea typeface="華康行書體"/>
              </a:rPr>
              <a:t>(</a:t>
            </a:r>
            <a:r>
              <a:rPr b="0" lang="zh-CN" sz="3600" spc="-1" strike="noStrike">
                <a:solidFill>
                  <a:srgbClr val="482400"/>
                </a:solidFill>
                <a:latin typeface="華康行書體"/>
                <a:ea typeface="華康行書體"/>
              </a:rPr>
              <a:t>一</a:t>
            </a:r>
            <a:r>
              <a:rPr b="0" lang="en-US" sz="3600" spc="-1" strike="noStrike">
                <a:solidFill>
                  <a:srgbClr val="482400"/>
                </a:solidFill>
                <a:latin typeface="華康行書體"/>
                <a:ea typeface="華康行書體"/>
              </a:rPr>
              <a:t>)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作為一個新鮮人，對當地市場的文化、社會生活習慣、政治、經濟、分銷網絡、競爭狀態、媒體與市場資訊等等一概無知，這是相當危險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先觀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與當地合適單位洽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派出先頭部隊，初步探測市場反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82400"/>
                </a:solidFill>
                <a:latin typeface="華康行書體"/>
                <a:ea typeface="華康行書體"/>
              </a:rPr>
              <a:t>國際化的困難和事先的考慮的因素 – 外在因素</a:t>
            </a:r>
            <a:r>
              <a:rPr b="0" lang="en-US" sz="3600" spc="-1" strike="noStrike">
                <a:solidFill>
                  <a:srgbClr val="482400"/>
                </a:solidFill>
                <a:latin typeface="華康行書體"/>
                <a:ea typeface="華康行書體"/>
              </a:rPr>
              <a:t>(</a:t>
            </a:r>
            <a:r>
              <a:rPr b="0" lang="zh-CN" sz="3600" spc="-1" strike="noStrike">
                <a:solidFill>
                  <a:srgbClr val="482400"/>
                </a:solidFill>
                <a:latin typeface="華康行書體"/>
                <a:ea typeface="華康行書體"/>
              </a:rPr>
              <a:t>二</a:t>
            </a:r>
            <a:r>
              <a:rPr b="0" lang="en-US" sz="3600" spc="-1" strike="noStrike">
                <a:solidFill>
                  <a:srgbClr val="482400"/>
                </a:solidFill>
                <a:latin typeface="華康行書體"/>
                <a:ea typeface="華康行書體"/>
              </a:rPr>
              <a:t>) - </a:t>
            </a:r>
            <a:r>
              <a:rPr b="0" lang="zh-CN" sz="4400" spc="-1" strike="noStrike">
                <a:solidFill>
                  <a:srgbClr val="482400"/>
                </a:solidFill>
                <a:latin typeface="華康行書體"/>
                <a:ea typeface="華康行書體"/>
              </a:rPr>
              <a:t>文化障礙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不同生活環境生活孕育了不同的生活習慣，生活模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社會價值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宗教態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消費習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教育結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語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国际 市场</cp:keywords>
  <dc:language>en-US</dc:language>
  <cp:lastModifiedBy/>
  <cp:revision>0</cp:revision>
  <dc:subject/>
  <dc:title/>
</cp:coreProperties>
</file>