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E0C0-2253-447B-AB57-92B995E9B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705C-A752-412F-9E9B-92598D0D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9FE3-A573-4952-B4B5-54F3525B7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5FF9-B164-4F07-A5CA-DBBA5245B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3343-1128-4B28-A088-F04C828CE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7810-30AD-49BE-A70E-BFF836FE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D9F8-BF03-43B0-8274-A0505304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59EB-4E49-4B05-9D05-3EB25F4C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4FC4-03D5-49AE-8961-2EC9EE91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646E-F6E3-445B-865D-5BBFEE1C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1D7B-D4A2-4E8D-AD7F-B7334303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4820-F538-4510-8AC1-90184DAE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309E-656B-4C99-AD0B-5C564417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F632-A765-4A67-9C5E-A4CACB45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7D43-ABBD-47A5-A3AA-8605F0BF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44FA-2847-49CE-A381-D5BDB3E2F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CB83-4C3C-4928-8ECF-19E15430C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627B-FCA3-47CA-9150-C46B2C93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67BA-43BF-4317-8C3C-90014D19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B5F2-E765-42EF-8388-F772D5EC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852A-CFD9-4616-A85A-642DCA68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9A78-051B-4CA0-A769-F5B28BE0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AE94-EEC0-41FF-92B2-53932450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7BA1-72B6-4F14-8CCB-D82B2482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BF70-0BEE-4E3D-BB3C-2395A881D26C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7B99-F792-4368-B1C2-293D01C88D45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68360" y="392040"/>
            <a:ext cx="649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華康粗圓體"/>
              </a:rPr>
              <a:t>架構生活型態行銷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79480" y="1752480"/>
            <a:ext cx="2771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ffffff"/>
                </a:solidFill>
                <a:latin typeface="Times New Roman"/>
              </a:rPr>
              <a:t>新世代行銷的三個要件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66960" y="2682720"/>
            <a:ext cx="7651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一、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消費者的屬地主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二、以消費者自己的生活概念與主張來界定市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三、消費者情感認同點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380880"/>
            <a:ext cx="8763120" cy="60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第三構面：消費觀－－購物及理財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－我們從消費者生活觀，瞭解消費者性格，藉以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　造商品個性，企劃了新世代商品，這些都只是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　品和消費者的影射。好比阿雅的ㄘㄨㄚˋ冰舞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　，她掌握了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世代的「外顯型」消費特性，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　愛美麗百分百，顚覆性別主張個性化的生活觀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　以及熱中媒體效應的特質加以運作。 消費觀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　就是商品如何進入消費者心中的管道，如何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　獲消費者的關鍵點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018880" y="282600"/>
            <a:ext cx="529992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第四構面：傳播觀－－媒體及偶像偏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　－在消費者有限而媒體飽和現象中，取得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　　先進入與接觸的傳播機會，就顯得相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　　重要了。媒體使用原則，第一必須要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　　擇使用什麼媒體（傳播媒體特性）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　　第二步選擇節目類型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1760" y="217440"/>
            <a:ext cx="8720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－－如何瞭解消費者的傳播觀，來確立媒體的使用類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型，一個是從消費者的媒體接觸型態，是本土（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國／台語）、洋化（電影／歌曲）、是娛樂（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藝／八卦）、知識（時事／財經）；另一方是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像偏好，是反應性格個性的投射，可選擇節目的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性，或製作節目廣告的調性，提供更為精確的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播策略，在有限的時間下，找到最大的傳播共鳴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90520" y="1027080"/>
            <a:ext cx="8720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－－消費者情感認同是由族群定位、生活觀、消費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、傳播觀所組合而成，由族群定位來表示各族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個性特徵差異性，生活觀來滿足他們的心理需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（調性），消費觀提供商品滿足度（商品性），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播觀兼具傳播（溝通）的特點及表現調性，長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可以構建整合性的品牌情感認同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74160" y="4096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架構生活型態行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452960" y="1844640"/>
            <a:ext cx="5717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－－從世代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(generation)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的觀點來看生活型態，就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把消費者轉化成生活者的概念，並加以探索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心理、商品消費行為、常做的活動、媒體偏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型態．．．．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00240" y="871560"/>
            <a:ext cx="649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</a:rPr>
              <a:t>新世代生活型態概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00240" y="220680"/>
            <a:ext cx="649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</a:rPr>
              <a:t>如何產生生活概念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6120" y="865080"/>
            <a:ext cx="84819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－－數量化理論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主要在分析主成份分析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(compon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及因子分析（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factor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），用數量化理論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來透視消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費者的生活型態，可以清楚地找出分離變項的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要因子，及變項間的類似度關係，以相關的關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將各變項重新排列，找到消費者態度的相似距離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遠近，用以解釋消費者屬性，及內含的主要區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因素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620640"/>
            <a:ext cx="8481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－－找概念有兩個步驟，一是從十字軸找出主要的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個因素（判斷各變項投射在軸的狀況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， 第二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從變項的類似度找出解釋概念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912400" y="42876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</a:rPr>
              <a:t>世代行銷的主要概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0840" y="1405080"/>
            <a:ext cx="8481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－－在定位圖上可以看出消費者在生活上、心理上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消費上、傳播上的種種表現，歸納出他們的主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概念。 時間和經驗是影響生活型態很重要的因素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以世代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(generation)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稱之，在生活概念上也呈現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同的意義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19720" y="24300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imes New Roman"/>
              </a:rPr>
              <a:t>生活概念：活動力＆知性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09960" y="1093680"/>
            <a:ext cx="44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圖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3-1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、各世代生活概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962520"/>
            <a:ext cx="76201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52920" y="1752480"/>
            <a:ext cx="0" cy="4937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14120" y="1676520"/>
            <a:ext cx="83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TW" sz="1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zh-TW" sz="1600" spc="-1" strike="noStrike">
                <a:solidFill>
                  <a:srgbClr val="ffffff"/>
                </a:solidFill>
                <a:latin typeface="Times New Roman"/>
              </a:rPr>
              <a:t>世代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72200" y="57150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TW" sz="16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TW" sz="1600" spc="-1" strike="noStrike">
                <a:solidFill>
                  <a:srgbClr val="ffffff"/>
                </a:solidFill>
                <a:latin typeface="Times New Roman"/>
              </a:rPr>
              <a:t>世代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579132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TW" sz="1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TW" sz="1600" spc="-1" strike="noStrike">
                <a:solidFill>
                  <a:srgbClr val="ffffff"/>
                </a:solidFill>
                <a:latin typeface="Times New Roman"/>
              </a:rPr>
              <a:t>世代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18288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．化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91040" y="1762200"/>
            <a:ext cx="97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TW" sz="1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TW" sz="1600" spc="-1" strike="noStrike">
                <a:solidFill>
                  <a:srgbClr val="ffffff"/>
                </a:solidFill>
                <a:latin typeface="Times New Roman"/>
              </a:rPr>
              <a:t>世代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13400" y="632304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Times New Roman"/>
              </a:rPr>
              <a:t>．２活動力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00440" y="2028960"/>
            <a:ext cx="97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．郵輪旅遊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4191120"/>
            <a:ext cx="97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TW" sz="1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zh-TW" sz="1600" spc="-1" strike="noStrike">
                <a:solidFill>
                  <a:srgbClr val="ffffff"/>
                </a:solidFill>
                <a:latin typeface="Times New Roman"/>
              </a:rPr>
              <a:t>世代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2286000"/>
            <a:ext cx="97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．機車兜風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57640" y="27907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．音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26668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．看專業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48320" y="28954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．打工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38480" y="30481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．逛街購物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38280" y="3048120"/>
            <a:ext cx="97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S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24382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．照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19720" y="21337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48120" y="22953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．產品展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90920" y="1752480"/>
            <a:ext cx="2838240" cy="1800360"/>
          </a:xfrm>
          <a:prstGeom prst="ellipse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2096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．交際舞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29400" y="1523880"/>
            <a:ext cx="2133720" cy="1219320"/>
          </a:xfrm>
          <a:prstGeom prst="ellipse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16765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．有氧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20574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．汽車兜風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2362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．烹飪美食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10080" y="26668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．商展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304812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．國內旅遊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33526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．自助旅遊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29400" y="3505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．海外旅遊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05520" y="35812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．看電視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24280" y="33526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．逛夜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27560" y="34592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．聊天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36576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．烤肉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29718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．電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66880" y="34290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TV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36576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．看休閒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97560" y="38624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．散步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29400" y="39625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．宗教信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2354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．爬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39625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．打麻將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91520" y="525780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．泡老人茶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294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．種花盆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96080" y="38862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Times New Roman"/>
              </a:rPr>
              <a:t>．１知性力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95680" y="40068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．寵物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95680" y="42670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．看藝術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8148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．編織插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45720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．書畫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50292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．演講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52578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．釣魚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05720" y="55627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．國劇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14960" y="51958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．下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30800" y="54547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．書法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38480" y="49528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．才藝班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10200" y="4287960"/>
            <a:ext cx="3028680" cy="1884240"/>
          </a:xfrm>
          <a:prstGeom prst="ellipse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5181480"/>
            <a:ext cx="73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．社團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5410080"/>
            <a:ext cx="73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．拼圖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5638680"/>
            <a:ext cx="73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．集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05320" y="601992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．電子寵物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457200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．語文補習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42670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．演唱會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62320" y="40384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．吃零食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62320" y="4419720"/>
            <a:ext cx="609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．玩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　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　器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51040" y="50036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．算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81080" y="53341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．騎單車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54864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．玩模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76520" y="49528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．打電玩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4197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．漫畫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TV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95280" y="40384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66680" y="31240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．上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1760" y="3129120"/>
            <a:ext cx="2374920" cy="1523880"/>
          </a:xfrm>
          <a:prstGeom prst="ellipse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4419720"/>
            <a:ext cx="2743200" cy="1904760"/>
          </a:xfrm>
          <a:prstGeom prst="ellipse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982880" y="53352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imes New Roman"/>
              </a:rPr>
              <a:t>心理概念：朋友＆家庭＆生活慾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33440" y="430200"/>
            <a:ext cx="82929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例子～吳念真的傳播效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 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人本的溝通方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本土的情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母語的串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(4)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強調商品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226600" y="5335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imes New Roman"/>
              </a:rPr>
              <a:t>消費概念：實在性＆表徵性＆經濟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800000" y="45720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imes New Roman"/>
              </a:rPr>
              <a:t>傳播概念：文化＆知識＆娛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05120" y="48744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圖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2-1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．生活型態行銷架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33440" y="1231920"/>
            <a:ext cx="8397720" cy="5119560"/>
            <a:chOff x="433440" y="1231920"/>
            <a:chExt cx="8397720" cy="5119560"/>
          </a:xfrm>
        </p:grpSpPr>
        <p:sp>
          <p:nvSpPr>
            <p:cNvPr id="97" name=""/>
            <p:cNvSpPr/>
            <p:nvPr/>
          </p:nvSpPr>
          <p:spPr>
            <a:xfrm>
              <a:off x="2952720" y="1509840"/>
              <a:ext cx="3429000" cy="10666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ff"/>
                  </a:solidFill>
                  <a:latin typeface="Times New Roman"/>
                </a:rPr>
                <a:t>生活市場區隔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ff"/>
                  </a:solidFill>
                  <a:latin typeface="Times New Roman"/>
                </a:rPr>
                <a:t>Life Mark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249800" y="2695680"/>
              <a:ext cx="914400" cy="45720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66960" y="3219480"/>
              <a:ext cx="2124360" cy="82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ff"/>
                  </a:solidFill>
                  <a:latin typeface="Times New Roman"/>
                </a:rPr>
                <a:t>族群定位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ff"/>
                  </a:solidFill>
                  <a:latin typeface="Times New Roman"/>
                </a:rPr>
                <a:t>Position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28720" y="4929120"/>
              <a:ext cx="1576440" cy="82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ff"/>
                  </a:solidFill>
                  <a:latin typeface="Times New Roman"/>
                </a:rPr>
                <a:t>生活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ff"/>
                  </a:solidFill>
                  <a:latin typeface="Times New Roman"/>
                </a:rPr>
                <a:t>（調性）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76240" y="3156120"/>
              <a:ext cx="1905120" cy="847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ff"/>
                  </a:solidFill>
                  <a:latin typeface="Times New Roman"/>
                </a:rPr>
                <a:t>本地化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ff"/>
                  </a:solidFill>
                  <a:latin typeface="Times New Roman"/>
                </a:rPr>
                <a:t>Loc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07080" y="3176640"/>
              <a:ext cx="1905120" cy="8478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ff"/>
                  </a:solidFill>
                  <a:latin typeface="Times New Roman"/>
                </a:rPr>
                <a:t>本地化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ff"/>
                  </a:solidFill>
                  <a:latin typeface="Times New Roman"/>
                </a:rPr>
                <a:t>Loc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95760" y="3298680"/>
              <a:ext cx="731520" cy="547920"/>
            </a:xfrm>
            <a:prstGeom prst="rightArrow">
              <a:avLst>
                <a:gd name="adj1" fmla="val 50000"/>
                <a:gd name="adj2" fmla="val 3337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0800000">
              <a:off x="5822640" y="3319200"/>
              <a:ext cx="731880" cy="547560"/>
            </a:xfrm>
            <a:prstGeom prst="rightArrow">
              <a:avLst>
                <a:gd name="adj1" fmla="val 50000"/>
                <a:gd name="adj2" fmla="val 33416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409840" y="4051440"/>
              <a:ext cx="2255760" cy="79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24560" y="4070520"/>
              <a:ext cx="0" cy="793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45080" y="4051440"/>
              <a:ext cx="2073240" cy="852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2960" y="4929120"/>
              <a:ext cx="1576440" cy="82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ff"/>
                  </a:solidFill>
                  <a:latin typeface="Times New Roman"/>
                </a:rPr>
                <a:t>消費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ff"/>
                  </a:solidFill>
                  <a:latin typeface="Times New Roman"/>
                </a:rPr>
                <a:t>（商品性）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37200" y="4929120"/>
              <a:ext cx="1576440" cy="82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ff"/>
                  </a:solidFill>
                  <a:latin typeface="Times New Roman"/>
                </a:rPr>
                <a:t>傳播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ff"/>
                  </a:solidFill>
                  <a:latin typeface="Times New Roman"/>
                </a:rPr>
                <a:t>（溝通性）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3440" y="1231920"/>
              <a:ext cx="8397720" cy="511956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96720" y="706320"/>
            <a:ext cx="860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一、消費主義：最符合本土（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LOCAL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）消費者情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　　　　　－發掘本地消費者的情感因素，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　　　　　　是最符合消費者需要的行銷趨勢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00240" y="2438280"/>
            <a:ext cx="7848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98680" y="547560"/>
            <a:ext cx="60800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二、生活概念：檢視生活型態發掘市場方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　　　　　－新世代行銷也就是藉著瞭解大環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　　　　　的消費者生活型態，區隔出不同族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　　　　　的生活概念，從這些概念中，整理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　　　　　未來企業的經營概念，到商品概念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　　　　　到行銷概念的策略思考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72880" y="717480"/>
            <a:ext cx="853452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三、情感認同：找到消費者情感認同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(PERCEP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　　　　　－因更深一層的消費者生活背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　　　　　　因素，進而產生的消費特性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　　　　　　生活主張的差異性，往往是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　　　　　　商們所亟思瞭解的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592360" y="609480"/>
            <a:ext cx="4066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ffffff"/>
                </a:solidFill>
                <a:latin typeface="Times New Roman"/>
              </a:rPr>
              <a:t>掌握生活型態行銷概念的四大構面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9880" y="1905120"/>
            <a:ext cx="85741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Times New Roman"/>
              </a:rPr>
              <a:t>第一構面：族群定位（</a:t>
            </a:r>
            <a:r>
              <a:rPr b="0" lang="zh-TW" sz="3000" spc="-1" strike="noStrike">
                <a:solidFill>
                  <a:srgbClr val="ffffff"/>
                </a:solidFill>
                <a:latin typeface="Times New Roman"/>
              </a:rPr>
              <a:t>CLUSTER POSITIONING</a:t>
            </a:r>
            <a:r>
              <a:rPr b="0" lang="zh-TW" sz="3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Times New Roman"/>
              </a:rPr>
              <a:t>第二構面：生活觀　（心理與興趣嗜好）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Times New Roman"/>
              </a:rPr>
              <a:t>第三構面：消費觀　（購物及理財）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Times New Roman"/>
              </a:rPr>
              <a:t>第四構面：傳播觀　（媒體及偶像偏好）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66680" y="304920"/>
            <a:ext cx="6651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第一構面：族群定位（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CLUSTER POSITIONING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　　　－「什麼樣的人」是你的目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　　　　族群定位（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POSITIONING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）是綜合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　　　　了消費者的生活、消費及媒體，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　　　　以因素分析，同時給予各族群一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　　　　概念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457200"/>
            <a:ext cx="8001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第二構面：生活觀－－心理與興趣嗜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　－生活的觀感大約可分成幾個階段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　　第一階段：知識、朋友及外表的階段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　　第二階段：金錢人生目標規劃的階段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　　第三階段：權力地位名利的階段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　　第四階段：家庭和諧美感的階段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　　　　第五階段：健康親情歸於平淡的階段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生活 形态 行销</cp:keywords>
  <dc:language>en-US</dc:language>
  <cp:lastModifiedBy/>
  <cp:revision>0</cp:revision>
  <dc:subject/>
  <dc:title/>
</cp:coreProperties>
</file>