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121-80BA-455B-AB98-2B1662CA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FC7-918B-4FE6-B1B2-07AE078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3DA-E6FF-48C6-9E3B-4F79713C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D74-87BB-452F-9306-C4DEF030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D11E-037B-4149-B5FF-72005D48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AD8F-242B-4AE4-970F-24937AE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5B80-CC2A-492C-9B57-706C085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6FD-C04A-4FE8-A608-BF910894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74CC-0040-4E3D-8242-54A3FF8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035-7731-4824-97A8-FA1C7BF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352-9A04-4F86-B8A0-EDA18F3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054-3E05-4795-A1D5-363A3F2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373E-5247-487C-BE5D-E2C63AE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9B2C-AB31-400D-ADB6-16BBF9B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325D-F274-41AF-9E78-E577851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D242-0B3C-44F5-BDE0-026C74F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346-D587-4FE7-9117-45DA454B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655-A064-4291-A3BB-4C5B1D5B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019-479D-4D61-B63D-7968FF6F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83F-A7FA-43A3-83A9-CB25D41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4AD-6914-435A-BE30-827A66F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70D-C9EC-42B6-94EB-901E7D0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BA0-D5A6-4C3F-82E9-CC61A5F8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B70-E908-4EC2-80FE-B33BD3B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F8B-C517-4406-8FED-F71AF75DC676}" type="slidenum">
              <a:rPr b="0" lang="zh-TW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2754-86D9-4315-A335-F3998A21FF2C}" type="slidenum">
              <a:rPr b="0" lang="zh-TW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世界</cp:keywords>
  <dc:language>en-US</dc:language>
  <cp:lastModifiedBy/>
  <cp:revision>0</cp:revision>
  <dc:subject/>
  <dc:title/>
</cp:coreProperties>
</file>