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732-4C28-4257-9CDE-38F724EF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DE9-41FD-4347-A31B-B324EA38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481-4AC7-4212-8F7A-F1AA8B1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744-9661-401A-BA88-89B9C30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1BB-64AF-4009-AF96-9D59EA8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C4F-34DC-487F-B040-36E250C2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F23-60D7-4C5A-848C-9A6F67F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FEFE-726D-441A-8562-AF7F801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68A-9DC4-4043-BED6-36BBF02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CAA-03C7-418D-A742-C4760A6F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939-B8C5-4219-89AA-6752D113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C52-133A-490A-A8BC-3FE0EA0B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417680" y="406440"/>
            <a:ext cx="10928160" cy="1429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"/>
          <p:cNvSpPr/>
          <p:nvPr/>
        </p:nvSpPr>
        <p:spPr>
          <a:xfrm>
            <a:off x="16560" y="189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2"/>
          <a:stretch/>
        </p:blipFill>
        <p:spPr>
          <a:xfrm>
            <a:off x="768240" y="1440"/>
            <a:ext cx="649440" cy="594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"/>
          <p:cNvSpPr/>
          <p:nvPr/>
        </p:nvSpPr>
        <p:spPr>
          <a:xfrm rot="10800000">
            <a:off x="-360" y="6670080"/>
            <a:ext cx="12195000" cy="1429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2E5-EAC4-4B44-8F7B-AB365A594C3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BB7D-26F4-4487-92DF-7630629C35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 rot="1512000">
            <a:off x="10845360" y="129960"/>
            <a:ext cx="142092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7208" t="57688" r="2767" b="0"/>
          <a:stretch/>
        </p:blipFill>
        <p:spPr>
          <a:xfrm>
            <a:off x="3000240" y="5078520"/>
            <a:ext cx="6626520" cy="22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2767" t="0" r="7208" b="57688"/>
          <a:stretch/>
        </p:blipFill>
        <p:spPr>
          <a:xfrm>
            <a:off x="3146400" y="1341360"/>
            <a:ext cx="6407280" cy="2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0" t="7208" r="57688" b="2767"/>
          <a:stretch/>
        </p:blipFill>
        <p:spPr>
          <a:xfrm>
            <a:off x="2857680" y="1486080"/>
            <a:ext cx="128520" cy="38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rcRect l="0" t="7208" r="57688" b="2767"/>
          <a:stretch/>
        </p:blipFill>
        <p:spPr>
          <a:xfrm flipH="1">
            <a:off x="9553320" y="1486080"/>
            <a:ext cx="88920" cy="3816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307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80"/>
          <p:cNvSpPr/>
          <p:nvPr/>
        </p:nvSpPr>
        <p:spPr>
          <a:xfrm>
            <a:off x="2879280" y="1846440"/>
            <a:ext cx="65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科技企业节能环保工作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9" descr=""/>
          <p:cNvPicPr/>
          <p:nvPr/>
        </p:nvPicPr>
        <p:blipFill>
          <a:blip r:embed="rId1"/>
          <a:stretch/>
        </p:blipFill>
        <p:spPr>
          <a:xfrm>
            <a:off x="1344600" y="2422440"/>
            <a:ext cx="2460600" cy="2448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rcRect l="7208" t="57688" r="2767" b="0"/>
          <a:stretch/>
        </p:blipFill>
        <p:spPr>
          <a:xfrm>
            <a:off x="4281480" y="5295960"/>
            <a:ext cx="6624720" cy="222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3"/>
          <a:srcRect l="2767" t="0" r="7208" b="57688"/>
          <a:stretch/>
        </p:blipFill>
        <p:spPr>
          <a:xfrm>
            <a:off x="4425840" y="1557360"/>
            <a:ext cx="6408720" cy="21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4"/>
          <a:srcRect l="0" t="7208" r="57688" b="2767"/>
          <a:stretch/>
        </p:blipFill>
        <p:spPr>
          <a:xfrm>
            <a:off x="4137120" y="1701720"/>
            <a:ext cx="129960" cy="38163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5"/>
          <a:srcRect l="0" t="7208" r="57688" b="2767"/>
          <a:stretch/>
        </p:blipFill>
        <p:spPr>
          <a:xfrm flipH="1">
            <a:off x="10834200" y="1701720"/>
            <a:ext cx="87480" cy="38163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2" descr=""/>
          <p:cNvPicPr/>
          <p:nvPr/>
        </p:nvPicPr>
        <p:blipFill>
          <a:blip r:embed="rId6"/>
          <a:stretch/>
        </p:blipFill>
        <p:spPr>
          <a:xfrm>
            <a:off x="8185320" y="4005360"/>
            <a:ext cx="3225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2440" y="3489480"/>
            <a:ext cx="2055960" cy="12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0400" y="3489480"/>
            <a:ext cx="2055960" cy="123840"/>
          </a:xfrm>
          <a:prstGeom prst="rect">
            <a:avLst/>
          </a:prstGeom>
          <a:ln w="0">
            <a:noFill/>
          </a:ln>
        </p:spPr>
      </p:pic>
      <p:sp>
        <p:nvSpPr>
          <p:cNvPr id="93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9" descr=""/>
          <p:cNvPicPr/>
          <p:nvPr/>
        </p:nvPicPr>
        <p:blipFill>
          <a:blip r:embed="rId4"/>
          <a:stretch/>
        </p:blipFill>
        <p:spPr>
          <a:xfrm rot="173400">
            <a:off x="2301480" y="2590560"/>
            <a:ext cx="1028880" cy="8744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4022640" y="2525760"/>
            <a:ext cx="2160720" cy="1440"/>
            <a:chOff x="4022640" y="2525760"/>
            <a:chExt cx="2160720" cy="1440"/>
          </a:xfrm>
        </p:grpSpPr>
        <p:sp>
          <p:nvSpPr>
            <p:cNvPr id="104" name="直接连接符 94"/>
            <p:cNvSpPr/>
            <p:nvPr/>
          </p:nvSpPr>
          <p:spPr>
            <a:xfrm>
              <a:off x="4022640" y="2525760"/>
              <a:ext cx="216072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022640" y="2525760"/>
              <a:ext cx="216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83360" y="2525760"/>
            <a:ext cx="2305080" cy="1440"/>
            <a:chOff x="6183360" y="2525760"/>
            <a:chExt cx="2305080" cy="1440"/>
          </a:xfrm>
        </p:grpSpPr>
        <p:sp>
          <p:nvSpPr>
            <p:cNvPr id="107" name="直接连接符 95"/>
            <p:cNvSpPr/>
            <p:nvPr/>
          </p:nvSpPr>
          <p:spPr>
            <a:xfrm>
              <a:off x="6183360" y="2525760"/>
              <a:ext cx="230508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6183360" y="25257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488440" y="2525760"/>
            <a:ext cx="2232000" cy="1440"/>
            <a:chOff x="8488440" y="2525760"/>
            <a:chExt cx="2232000" cy="1440"/>
          </a:xfrm>
        </p:grpSpPr>
        <p:sp>
          <p:nvSpPr>
            <p:cNvPr id="110" name="直接连接符 96"/>
            <p:cNvSpPr/>
            <p:nvPr/>
          </p:nvSpPr>
          <p:spPr>
            <a:xfrm>
              <a:off x="84884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4884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790640" y="2525760"/>
            <a:ext cx="2232000" cy="1440"/>
            <a:chOff x="1790640" y="2525760"/>
            <a:chExt cx="2232000" cy="1440"/>
          </a:xfrm>
        </p:grpSpPr>
        <p:sp>
          <p:nvSpPr>
            <p:cNvPr id="113" name="直接连接符 93"/>
            <p:cNvSpPr/>
            <p:nvPr/>
          </p:nvSpPr>
          <p:spPr>
            <a:xfrm>
              <a:off x="17906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17906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10040" y="4365720"/>
            <a:ext cx="2158920" cy="360"/>
            <a:chOff x="4010040" y="4365720"/>
            <a:chExt cx="2158920" cy="360"/>
          </a:xfrm>
        </p:grpSpPr>
        <p:sp>
          <p:nvSpPr>
            <p:cNvPr id="116" name="直接连接符 111"/>
            <p:cNvSpPr/>
            <p:nvPr/>
          </p:nvSpPr>
          <p:spPr>
            <a:xfrm>
              <a:off x="4010040" y="4365720"/>
              <a:ext cx="215892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010040" y="4365720"/>
              <a:ext cx="21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68960" y="4365720"/>
            <a:ext cx="2305080" cy="360"/>
            <a:chOff x="6168960" y="4365720"/>
            <a:chExt cx="2305080" cy="360"/>
          </a:xfrm>
        </p:grpSpPr>
        <p:sp>
          <p:nvSpPr>
            <p:cNvPr id="119" name="直接连接符 112"/>
            <p:cNvSpPr/>
            <p:nvPr/>
          </p:nvSpPr>
          <p:spPr>
            <a:xfrm>
              <a:off x="6168960" y="4365720"/>
              <a:ext cx="230508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6168960" y="436572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474040" y="4365720"/>
            <a:ext cx="2232000" cy="360"/>
            <a:chOff x="8474040" y="4365720"/>
            <a:chExt cx="2232000" cy="360"/>
          </a:xfrm>
        </p:grpSpPr>
        <p:sp>
          <p:nvSpPr>
            <p:cNvPr id="122" name="直接连接符 113"/>
            <p:cNvSpPr/>
            <p:nvPr/>
          </p:nvSpPr>
          <p:spPr>
            <a:xfrm>
              <a:off x="8474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8474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778040" y="4365720"/>
            <a:ext cx="2232000" cy="360"/>
            <a:chOff x="1778040" y="4365720"/>
            <a:chExt cx="2232000" cy="360"/>
          </a:xfrm>
        </p:grpSpPr>
        <p:sp>
          <p:nvSpPr>
            <p:cNvPr id="125" name="直接连接符 114"/>
            <p:cNvSpPr/>
            <p:nvPr/>
          </p:nvSpPr>
          <p:spPr>
            <a:xfrm>
              <a:off x="1778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1778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2440" y="3489480"/>
            <a:ext cx="2055960" cy="123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0400" y="3489480"/>
            <a:ext cx="2055960" cy="123840"/>
          </a:xfrm>
          <a:prstGeom prst="rect">
            <a:avLst/>
          </a:prstGeom>
          <a:ln w="0">
            <a:noFill/>
          </a:ln>
        </p:spPr>
      </p:pic>
      <p:sp>
        <p:nvSpPr>
          <p:cNvPr id="131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9" descr=""/>
          <p:cNvPicPr/>
          <p:nvPr/>
        </p:nvPicPr>
        <p:blipFill>
          <a:blip r:embed="rId4"/>
          <a:stretch/>
        </p:blipFill>
        <p:spPr>
          <a:xfrm rot="173400">
            <a:off x="4317480" y="2590560"/>
            <a:ext cx="1028880" cy="87444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022640" y="2525760"/>
            <a:ext cx="2160720" cy="1440"/>
            <a:chOff x="4022640" y="2525760"/>
            <a:chExt cx="2160720" cy="1440"/>
          </a:xfrm>
        </p:grpSpPr>
        <p:sp>
          <p:nvSpPr>
            <p:cNvPr id="142" name="直接连接符 94"/>
            <p:cNvSpPr/>
            <p:nvPr/>
          </p:nvSpPr>
          <p:spPr>
            <a:xfrm>
              <a:off x="4022640" y="2525760"/>
              <a:ext cx="216072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022640" y="2525760"/>
              <a:ext cx="2160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83360" y="2525760"/>
            <a:ext cx="2305080" cy="1440"/>
            <a:chOff x="6183360" y="2525760"/>
            <a:chExt cx="2305080" cy="1440"/>
          </a:xfrm>
        </p:grpSpPr>
        <p:sp>
          <p:nvSpPr>
            <p:cNvPr id="145" name="直接连接符 95"/>
            <p:cNvSpPr/>
            <p:nvPr/>
          </p:nvSpPr>
          <p:spPr>
            <a:xfrm>
              <a:off x="6183360" y="2525760"/>
              <a:ext cx="230508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6183360" y="25257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8488440" y="2525760"/>
            <a:ext cx="2232000" cy="1440"/>
            <a:chOff x="8488440" y="2525760"/>
            <a:chExt cx="2232000" cy="1440"/>
          </a:xfrm>
        </p:grpSpPr>
        <p:sp>
          <p:nvSpPr>
            <p:cNvPr id="148" name="直接连接符 96"/>
            <p:cNvSpPr/>
            <p:nvPr/>
          </p:nvSpPr>
          <p:spPr>
            <a:xfrm>
              <a:off x="84884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84884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790640" y="2525760"/>
            <a:ext cx="2232000" cy="1440"/>
            <a:chOff x="1790640" y="2525760"/>
            <a:chExt cx="2232000" cy="1440"/>
          </a:xfrm>
        </p:grpSpPr>
        <p:sp>
          <p:nvSpPr>
            <p:cNvPr id="151" name="直接连接符 93"/>
            <p:cNvSpPr/>
            <p:nvPr/>
          </p:nvSpPr>
          <p:spPr>
            <a:xfrm>
              <a:off x="1790640" y="2525760"/>
              <a:ext cx="2232000" cy="1440"/>
            </a:xfrm>
            <a:prstGeom prst="line">
              <a:avLst/>
            </a:prstGeom>
            <a:ln w="4428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1790640" y="2525760"/>
              <a:ext cx="223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10040" y="4365720"/>
            <a:ext cx="2158920" cy="360"/>
            <a:chOff x="4010040" y="4365720"/>
            <a:chExt cx="2158920" cy="360"/>
          </a:xfrm>
        </p:grpSpPr>
        <p:sp>
          <p:nvSpPr>
            <p:cNvPr id="154" name="直接连接符 111"/>
            <p:cNvSpPr/>
            <p:nvPr/>
          </p:nvSpPr>
          <p:spPr>
            <a:xfrm>
              <a:off x="4010040" y="4365720"/>
              <a:ext cx="215892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010040" y="4365720"/>
              <a:ext cx="2158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168960" y="4365720"/>
            <a:ext cx="2305080" cy="360"/>
            <a:chOff x="6168960" y="4365720"/>
            <a:chExt cx="2305080" cy="360"/>
          </a:xfrm>
        </p:grpSpPr>
        <p:sp>
          <p:nvSpPr>
            <p:cNvPr id="157" name="直接连接符 112"/>
            <p:cNvSpPr/>
            <p:nvPr/>
          </p:nvSpPr>
          <p:spPr>
            <a:xfrm>
              <a:off x="6168960" y="4365720"/>
              <a:ext cx="230508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168960" y="436572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8474040" y="4365720"/>
            <a:ext cx="2232000" cy="360"/>
            <a:chOff x="8474040" y="4365720"/>
            <a:chExt cx="2232000" cy="360"/>
          </a:xfrm>
        </p:grpSpPr>
        <p:sp>
          <p:nvSpPr>
            <p:cNvPr id="160" name="直接连接符 113"/>
            <p:cNvSpPr/>
            <p:nvPr/>
          </p:nvSpPr>
          <p:spPr>
            <a:xfrm>
              <a:off x="8474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8474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778040" y="4365720"/>
            <a:ext cx="2232000" cy="360"/>
            <a:chOff x="1778040" y="4365720"/>
            <a:chExt cx="2232000" cy="360"/>
          </a:xfrm>
        </p:grpSpPr>
        <p:sp>
          <p:nvSpPr>
            <p:cNvPr id="163" name="直接连接符 114"/>
            <p:cNvSpPr/>
            <p:nvPr/>
          </p:nvSpPr>
          <p:spPr>
            <a:xfrm>
              <a:off x="1778040" y="4365720"/>
              <a:ext cx="2232000" cy="0"/>
            </a:xfrm>
            <a:prstGeom prst="line">
              <a:avLst/>
            </a:prstGeom>
            <a:ln w="12600">
              <a:solidFill>
                <a:srgbClr val="92d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778040" y="4365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任意多边形 62"/>
          <p:cNvSpPr/>
          <p:nvPr/>
        </p:nvSpPr>
        <p:spPr>
          <a:xfrm>
            <a:off x="1994040" y="1471680"/>
            <a:ext cx="2301840" cy="17240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67"/>
          <p:cNvSpPr/>
          <p:nvPr/>
        </p:nvSpPr>
        <p:spPr>
          <a:xfrm>
            <a:off x="4944960" y="1486080"/>
            <a:ext cx="2305080" cy="17222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任意多边形 72"/>
          <p:cNvSpPr/>
          <p:nvPr/>
        </p:nvSpPr>
        <p:spPr>
          <a:xfrm>
            <a:off x="7826400" y="1486080"/>
            <a:ext cx="2303280" cy="172224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89"/>
          <p:cNvSpPr/>
          <p:nvPr/>
        </p:nvSpPr>
        <p:spPr>
          <a:xfrm>
            <a:off x="2036880" y="3776760"/>
            <a:ext cx="2303280" cy="17208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任意多边形 90"/>
          <p:cNvSpPr/>
          <p:nvPr/>
        </p:nvSpPr>
        <p:spPr>
          <a:xfrm>
            <a:off x="4944960" y="3801960"/>
            <a:ext cx="2305080" cy="17226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91"/>
          <p:cNvSpPr/>
          <p:nvPr/>
        </p:nvSpPr>
        <p:spPr>
          <a:xfrm>
            <a:off x="7897680" y="3718080"/>
            <a:ext cx="2303640" cy="17208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57"/>
          <p:cNvSpPr/>
          <p:nvPr/>
        </p:nvSpPr>
        <p:spPr>
          <a:xfrm>
            <a:off x="2008080" y="1270080"/>
            <a:ext cx="146376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77"/>
          <p:cNvSpPr/>
          <p:nvPr/>
        </p:nvSpPr>
        <p:spPr>
          <a:xfrm>
            <a:off x="4944960" y="1257480"/>
            <a:ext cx="171288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84"/>
          <p:cNvSpPr/>
          <p:nvPr/>
        </p:nvSpPr>
        <p:spPr>
          <a:xfrm>
            <a:off x="7826400" y="1257480"/>
            <a:ext cx="171144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88"/>
          <p:cNvSpPr/>
          <p:nvPr/>
        </p:nvSpPr>
        <p:spPr>
          <a:xfrm>
            <a:off x="2057400" y="3546360"/>
            <a:ext cx="1463760" cy="4590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92"/>
          <p:cNvSpPr/>
          <p:nvPr/>
        </p:nvSpPr>
        <p:spPr>
          <a:xfrm>
            <a:off x="4944960" y="3573360"/>
            <a:ext cx="1712880" cy="4590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99"/>
          <p:cNvSpPr/>
          <p:nvPr/>
        </p:nvSpPr>
        <p:spPr>
          <a:xfrm>
            <a:off x="7897680" y="3489480"/>
            <a:ext cx="1712880" cy="457200"/>
          </a:xfrm>
          <a:prstGeom prst="pie">
            <a:avLst/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1273320" y="1125360"/>
            <a:ext cx="5014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818240" y="2371680"/>
            <a:ext cx="1440" cy="2338560"/>
            <a:chOff x="4818240" y="2371680"/>
            <a:chExt cx="1440" cy="2338560"/>
          </a:xfrm>
        </p:grpSpPr>
        <p:sp>
          <p:nvSpPr>
            <p:cNvPr id="181" name="Line 11"/>
            <p:cNvSpPr/>
            <p:nvPr/>
          </p:nvSpPr>
          <p:spPr>
            <a:xfrm>
              <a:off x="4818240" y="2371680"/>
              <a:ext cx="14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818240" y="2371680"/>
              <a:ext cx="14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572160" y="2371680"/>
            <a:ext cx="1800" cy="2338560"/>
            <a:chOff x="6572160" y="2371680"/>
            <a:chExt cx="1800" cy="2338560"/>
          </a:xfrm>
        </p:grpSpPr>
        <p:sp>
          <p:nvSpPr>
            <p:cNvPr id="184" name="Line 12"/>
            <p:cNvSpPr/>
            <p:nvPr/>
          </p:nvSpPr>
          <p:spPr>
            <a:xfrm>
              <a:off x="6572160" y="2371680"/>
              <a:ext cx="180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572160" y="2371680"/>
              <a:ext cx="180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315280" y="2371680"/>
            <a:ext cx="3240" cy="2338560"/>
            <a:chOff x="8315280" y="2371680"/>
            <a:chExt cx="3240" cy="2338560"/>
          </a:xfrm>
        </p:grpSpPr>
        <p:sp>
          <p:nvSpPr>
            <p:cNvPr id="187" name="Line 13"/>
            <p:cNvSpPr/>
            <p:nvPr/>
          </p:nvSpPr>
          <p:spPr>
            <a:xfrm>
              <a:off x="8315280" y="2371680"/>
              <a:ext cx="32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8315280" y="2371680"/>
              <a:ext cx="32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56"/>
          <p:cNvSpPr/>
          <p:nvPr/>
        </p:nvSpPr>
        <p:spPr>
          <a:xfrm>
            <a:off x="36302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538272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71384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8900640" y="47642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3429000" y="4576680"/>
            <a:ext cx="506520" cy="14472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5175360" y="4235400"/>
            <a:ext cx="503280" cy="48420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6902280" y="3760920"/>
            <a:ext cx="506520" cy="96048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8631360" y="3630600"/>
            <a:ext cx="504720" cy="110484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3927600" y="3527280"/>
            <a:ext cx="492120" cy="119880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5670720" y="3713040"/>
            <a:ext cx="50616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7416720" y="3137040"/>
            <a:ext cx="492120" cy="159048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9145440" y="3430440"/>
            <a:ext cx="495360" cy="130032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3985920" y="3228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3490560" y="4264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5661000" y="3352680"/>
            <a:ext cx="5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5230440" y="39243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7391520" y="279864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6970320" y="3440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9134640" y="302580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8723160" y="33415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129120" y="1913040"/>
            <a:ext cx="1440" cy="2820960"/>
            <a:chOff x="3129120" y="1913040"/>
            <a:chExt cx="1440" cy="2820960"/>
          </a:xfrm>
        </p:grpSpPr>
        <p:sp>
          <p:nvSpPr>
            <p:cNvPr id="210" name="Line 8"/>
            <p:cNvSpPr/>
            <p:nvPr/>
          </p:nvSpPr>
          <p:spPr>
            <a:xfrm>
              <a:off x="3129120" y="1913040"/>
              <a:ext cx="1440" cy="282096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129120" y="1913040"/>
              <a:ext cx="1440" cy="282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19400" y="4731840"/>
            <a:ext cx="6838920" cy="360"/>
            <a:chOff x="3119400" y="4731840"/>
            <a:chExt cx="6838920" cy="360"/>
          </a:xfrm>
        </p:grpSpPr>
        <p:sp>
          <p:nvSpPr>
            <p:cNvPr id="213" name="Line 8"/>
            <p:cNvSpPr/>
            <p:nvPr/>
          </p:nvSpPr>
          <p:spPr>
            <a:xfrm>
              <a:off x="3119400" y="4732200"/>
              <a:ext cx="6838920" cy="0"/>
            </a:xfrm>
            <a:prstGeom prst="line">
              <a:avLst/>
            </a:prstGeom>
            <a:ln w="25560">
              <a:solidFill>
                <a:srgbClr val="c0c0c0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6538680" y="1312560"/>
              <a:ext cx="360" cy="683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矩形 27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任意多边形 31"/>
          <p:cNvSpPr/>
          <p:nvPr/>
        </p:nvSpPr>
        <p:spPr>
          <a:xfrm>
            <a:off x="2114640" y="1125360"/>
            <a:ext cx="1895400" cy="45900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同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8" descr=""/>
          <p:cNvPicPr/>
          <p:nvPr/>
        </p:nvPicPr>
        <p:blipFill>
          <a:blip r:embed="rId1"/>
          <a:stretch/>
        </p:blipFill>
        <p:spPr>
          <a:xfrm>
            <a:off x="984240" y="1054080"/>
            <a:ext cx="9367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96"/>
          <p:cNvSpPr/>
          <p:nvPr/>
        </p:nvSpPr>
        <p:spPr>
          <a:xfrm>
            <a:off x="498960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96"/>
          <p:cNvSpPr/>
          <p:nvPr/>
        </p:nvSpPr>
        <p:spPr>
          <a:xfrm>
            <a:off x="7580160" y="2781360"/>
            <a:ext cx="2117880" cy="21337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62">
                <a:moveTo>
                  <a:pt x="805" y="0"/>
                </a:moveTo>
                <a:arcTo wR="805" hR="805" stAng="16200000" swAng="-5400000"/>
                <a:lnTo>
                  <a:pt x="0" y="20957"/>
                </a:lnTo>
                <a:arcTo wR="805" hR="805" stAng="10800000" swAng="-5400000"/>
                <a:lnTo>
                  <a:pt x="20795" y="21762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96"/>
          <p:cNvSpPr/>
          <p:nvPr/>
        </p:nvSpPr>
        <p:spPr>
          <a:xfrm>
            <a:off x="239724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8"/>
          <p:cNvSpPr/>
          <p:nvPr/>
        </p:nvSpPr>
        <p:spPr>
          <a:xfrm>
            <a:off x="525636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9"/>
          <p:cNvSpPr/>
          <p:nvPr/>
        </p:nvSpPr>
        <p:spPr>
          <a:xfrm>
            <a:off x="525636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8"/>
          <p:cNvSpPr/>
          <p:nvPr/>
        </p:nvSpPr>
        <p:spPr>
          <a:xfrm>
            <a:off x="7907400" y="3367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29"/>
          <p:cNvSpPr/>
          <p:nvPr/>
        </p:nvSpPr>
        <p:spPr>
          <a:xfrm>
            <a:off x="7907400" y="38149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"/>
          <p:cNvGrpSpPr/>
          <p:nvPr/>
        </p:nvGrpSpPr>
        <p:grpSpPr>
          <a:xfrm>
            <a:off x="7464600" y="2073240"/>
            <a:ext cx="2303280" cy="750600"/>
            <a:chOff x="7464600" y="2073240"/>
            <a:chExt cx="2303280" cy="750600"/>
          </a:xfrm>
        </p:grpSpPr>
        <p:grpSp>
          <p:nvGrpSpPr>
            <p:cNvPr id="227" name="组合 57"/>
            <p:cNvGrpSpPr/>
            <p:nvPr/>
          </p:nvGrpSpPr>
          <p:grpSpPr>
            <a:xfrm>
              <a:off x="7464600" y="2073240"/>
              <a:ext cx="2303280" cy="696960"/>
              <a:chOff x="7464600" y="2073240"/>
              <a:chExt cx="2303280" cy="696960"/>
            </a:xfrm>
          </p:grpSpPr>
          <p:sp>
            <p:nvSpPr>
              <p:cNvPr id="228" name="AutoShape 3"/>
              <p:cNvSpPr/>
              <p:nvPr/>
            </p:nvSpPr>
            <p:spPr>
              <a:xfrm>
                <a:off x="7464600" y="207324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3"/>
              <p:cNvSpPr/>
              <p:nvPr/>
            </p:nvSpPr>
            <p:spPr>
              <a:xfrm>
                <a:off x="7464600" y="216036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9"/>
            <p:cNvSpPr/>
            <p:nvPr/>
          </p:nvSpPr>
          <p:spPr>
            <a:xfrm>
              <a:off x="8202960" y="228708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22"/>
            <p:cNvSpPr/>
            <p:nvPr/>
          </p:nvSpPr>
          <p:spPr>
            <a:xfrm>
              <a:off x="7535520" y="2751840"/>
              <a:ext cx="216036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4"/>
          <p:cNvGrpSpPr/>
          <p:nvPr/>
        </p:nvGrpSpPr>
        <p:grpSpPr>
          <a:xfrm>
            <a:off x="4873680" y="2101680"/>
            <a:ext cx="2303280" cy="760320"/>
            <a:chOff x="4873680" y="2101680"/>
            <a:chExt cx="2303280" cy="760320"/>
          </a:xfrm>
        </p:grpSpPr>
        <p:grpSp>
          <p:nvGrpSpPr>
            <p:cNvPr id="233" name="组合 57"/>
            <p:cNvGrpSpPr/>
            <p:nvPr/>
          </p:nvGrpSpPr>
          <p:grpSpPr>
            <a:xfrm>
              <a:off x="4873680" y="2101680"/>
              <a:ext cx="2303280" cy="697680"/>
              <a:chOff x="4873680" y="2101680"/>
              <a:chExt cx="2303280" cy="697680"/>
            </a:xfrm>
          </p:grpSpPr>
          <p:sp>
            <p:nvSpPr>
              <p:cNvPr id="234" name="AutoShape 3"/>
              <p:cNvSpPr/>
              <p:nvPr/>
            </p:nvSpPr>
            <p:spPr>
              <a:xfrm>
                <a:off x="487368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"/>
              <p:cNvSpPr/>
              <p:nvPr/>
            </p:nvSpPr>
            <p:spPr>
              <a:xfrm>
                <a:off x="487368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Text Box 229"/>
            <p:cNvSpPr/>
            <p:nvPr/>
          </p:nvSpPr>
          <p:spPr>
            <a:xfrm>
              <a:off x="5612040" y="231552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22"/>
            <p:cNvSpPr/>
            <p:nvPr/>
          </p:nvSpPr>
          <p:spPr>
            <a:xfrm>
              <a:off x="4949640" y="2790000"/>
              <a:ext cx="216000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228"/>
          <p:cNvSpPr/>
          <p:nvPr/>
        </p:nvSpPr>
        <p:spPr>
          <a:xfrm>
            <a:off x="266400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9"/>
          <p:cNvSpPr/>
          <p:nvPr/>
        </p:nvSpPr>
        <p:spPr>
          <a:xfrm>
            <a:off x="266400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9"/>
          <p:cNvGrpSpPr/>
          <p:nvPr/>
        </p:nvGrpSpPr>
        <p:grpSpPr>
          <a:xfrm>
            <a:off x="2281320" y="2101680"/>
            <a:ext cx="2303280" cy="760320"/>
            <a:chOff x="2281320" y="2101680"/>
            <a:chExt cx="2303280" cy="760320"/>
          </a:xfrm>
        </p:grpSpPr>
        <p:grpSp>
          <p:nvGrpSpPr>
            <p:cNvPr id="241" name="组合 57"/>
            <p:cNvGrpSpPr/>
            <p:nvPr/>
          </p:nvGrpSpPr>
          <p:grpSpPr>
            <a:xfrm>
              <a:off x="2281320" y="2101680"/>
              <a:ext cx="2303280" cy="697680"/>
              <a:chOff x="2281320" y="2101680"/>
              <a:chExt cx="2303280" cy="697680"/>
            </a:xfrm>
          </p:grpSpPr>
          <p:sp>
            <p:nvSpPr>
              <p:cNvPr id="242" name="AutoShape 3"/>
              <p:cNvSpPr/>
              <p:nvPr/>
            </p:nvSpPr>
            <p:spPr>
              <a:xfrm>
                <a:off x="228132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AutoShape 3"/>
              <p:cNvSpPr/>
              <p:nvPr/>
            </p:nvSpPr>
            <p:spPr>
              <a:xfrm>
                <a:off x="228132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Text Box 229"/>
            <p:cNvSpPr/>
            <p:nvPr/>
          </p:nvSpPr>
          <p:spPr>
            <a:xfrm>
              <a:off x="3019680" y="2315520"/>
              <a:ext cx="823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22"/>
            <p:cNvSpPr/>
            <p:nvPr/>
          </p:nvSpPr>
          <p:spPr>
            <a:xfrm>
              <a:off x="2357280" y="2790000"/>
              <a:ext cx="2160000" cy="7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1" descr=""/>
          <p:cNvPicPr/>
          <p:nvPr/>
        </p:nvPicPr>
        <p:blipFill>
          <a:blip r:embed="rId1"/>
          <a:stretch/>
        </p:blipFill>
        <p:spPr>
          <a:xfrm>
            <a:off x="1560600" y="2062080"/>
            <a:ext cx="672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9"/>
          <p:cNvGrpSpPr/>
          <p:nvPr/>
        </p:nvGrpSpPr>
        <p:grpSpPr>
          <a:xfrm>
            <a:off x="480960" y="1412640"/>
            <a:ext cx="11285640" cy="4105440"/>
            <a:chOff x="480960" y="1412640"/>
            <a:chExt cx="11285640" cy="4105440"/>
          </a:xfrm>
        </p:grpSpPr>
        <p:pic>
          <p:nvPicPr>
            <p:cNvPr id="252" name="Picture 2" descr="环保回收主题图标合辑图片"/>
            <p:cNvPicPr/>
            <p:nvPr/>
          </p:nvPicPr>
          <p:blipFill>
            <a:blip r:embed="rId1"/>
            <a:srcRect l="0" t="76306" r="70166" b="0"/>
            <a:stretch/>
          </p:blipFill>
          <p:spPr>
            <a:xfrm>
              <a:off x="3433320" y="1629000"/>
              <a:ext cx="4478400" cy="374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5305680" y="1413000"/>
              <a:ext cx="360000" cy="432000"/>
              <a:chOff x="5305680" y="1413000"/>
              <a:chExt cx="360000" cy="432000"/>
            </a:xfrm>
          </p:grpSpPr>
          <p:sp>
            <p:nvSpPr>
              <p:cNvPr id="254" name="直接连接符 2"/>
              <p:cNvSpPr/>
              <p:nvPr/>
            </p:nvSpPr>
            <p:spPr>
              <a:xfrm flipH="1" flipV="1">
                <a:off x="5305680" y="1413000"/>
                <a:ext cx="360000" cy="432000"/>
              </a:xfrm>
              <a:prstGeom prst="line">
                <a:avLst/>
              </a:prstGeom>
              <a:ln w="9360">
                <a:solidFill>
                  <a:srgbClr val="92d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5305680" y="1413000"/>
                <a:ext cx="36000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598560" y="1413000"/>
              <a:ext cx="1728000" cy="360"/>
              <a:chOff x="3598560" y="1413000"/>
              <a:chExt cx="1728000" cy="360"/>
            </a:xfrm>
          </p:grpSpPr>
          <p:sp>
            <p:nvSpPr>
              <p:cNvPr id="257" name="直接连接符 4"/>
              <p:cNvSpPr/>
              <p:nvPr/>
            </p:nvSpPr>
            <p:spPr>
              <a:xfrm flipH="1">
                <a:off x="3598560" y="1413000"/>
                <a:ext cx="1728000" cy="0"/>
              </a:xfrm>
              <a:prstGeom prst="line">
                <a:avLst/>
              </a:prstGeom>
              <a:ln w="9360">
                <a:solidFill>
                  <a:srgbClr val="92d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3598560" y="1413000"/>
                <a:ext cx="172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529680" y="4582080"/>
              <a:ext cx="648000" cy="720000"/>
              <a:chOff x="6529680" y="4582080"/>
              <a:chExt cx="648000" cy="720000"/>
            </a:xfrm>
          </p:grpSpPr>
          <p:sp>
            <p:nvSpPr>
              <p:cNvPr id="260" name="直接连接符 8"/>
              <p:cNvSpPr/>
              <p:nvPr/>
            </p:nvSpPr>
            <p:spPr>
              <a:xfrm flipH="1" flipV="1">
                <a:off x="6529680" y="4582080"/>
                <a:ext cx="648000" cy="72000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 rot="10800000">
                <a:off x="6529680" y="4582080"/>
                <a:ext cx="648000" cy="72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177680" y="5302080"/>
              <a:ext cx="1368000" cy="360"/>
              <a:chOff x="7177680" y="5302080"/>
              <a:chExt cx="1368000" cy="360"/>
            </a:xfrm>
          </p:grpSpPr>
          <p:sp>
            <p:nvSpPr>
              <p:cNvPr id="263" name="直接连接符 9"/>
              <p:cNvSpPr/>
              <p:nvPr/>
            </p:nvSpPr>
            <p:spPr>
              <a:xfrm flipH="1">
                <a:off x="7177680" y="5302080"/>
                <a:ext cx="136800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7177680" y="5302080"/>
                <a:ext cx="136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AutoShape 196"/>
            <p:cNvSpPr/>
            <p:nvPr/>
          </p:nvSpPr>
          <p:spPr>
            <a:xfrm>
              <a:off x="480960" y="1413000"/>
              <a:ext cx="3292560" cy="4105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4105080"/>
                <a:gd name="textAreaBottom" fmla="*/ 4069440 h 4105080"/>
              </a:gdLst>
              <a:ahLst/>
              <a:rect l="textAreaLeft" t="textAreaTop" r="textAreaRight" b="textAreaBottom"/>
              <a:pathLst>
                <a:path w="21600" h="26930">
                  <a:moveTo>
                    <a:pt x="805" y="0"/>
                  </a:moveTo>
                  <a:arcTo wR="805" hR="805" stAng="16200000" swAng="-5400000"/>
                  <a:lnTo>
                    <a:pt x="0" y="26125"/>
                  </a:lnTo>
                  <a:arcTo wR="805" hR="805" stAng="10800000" swAng="-5400000"/>
                  <a:lnTo>
                    <a:pt x="20795" y="26930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afdc7e"/>
                </a:gs>
              </a:gsLst>
              <a:lin ang="13500000"/>
            </a:gra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96"/>
            <p:cNvSpPr/>
            <p:nvPr/>
          </p:nvSpPr>
          <p:spPr>
            <a:xfrm rot="10800000">
              <a:off x="8474040" y="1412640"/>
              <a:ext cx="3292560" cy="3961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3961080"/>
                <a:gd name="textAreaBottom" fmla="*/ 3925440 h 3961080"/>
              </a:gdLst>
              <a:ahLst/>
              <a:rect l="textAreaLeft" t="textAreaTop" r="textAreaRight" b="textAreaBottom"/>
              <a:pathLst>
                <a:path w="21600" h="25985">
                  <a:moveTo>
                    <a:pt x="805" y="0"/>
                  </a:moveTo>
                  <a:arcTo wR="805" hR="805" stAng="16200000" swAng="-5400000"/>
                  <a:lnTo>
                    <a:pt x="0" y="25180"/>
                  </a:lnTo>
                  <a:arcTo wR="805" hR="805" stAng="10800000" swAng="-5400000"/>
                  <a:lnTo>
                    <a:pt x="20795" y="25985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afdc7e"/>
                </a:gs>
              </a:gsLst>
              <a:lin ang="2700000"/>
            </a:gra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8"/>
          <p:cNvSpPr/>
          <p:nvPr/>
        </p:nvSpPr>
        <p:spPr>
          <a:xfrm>
            <a:off x="9266400" y="2320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8"/>
          <p:cNvSpPr/>
          <p:nvPr/>
        </p:nvSpPr>
        <p:spPr>
          <a:xfrm>
            <a:off x="9266400" y="2752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8"/>
          <p:cNvSpPr/>
          <p:nvPr/>
        </p:nvSpPr>
        <p:spPr>
          <a:xfrm>
            <a:off x="9266400" y="3184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8"/>
          <p:cNvSpPr/>
          <p:nvPr/>
        </p:nvSpPr>
        <p:spPr>
          <a:xfrm>
            <a:off x="9266400" y="3544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8"/>
          <p:cNvSpPr/>
          <p:nvPr/>
        </p:nvSpPr>
        <p:spPr>
          <a:xfrm>
            <a:off x="1200240" y="2422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8"/>
          <p:cNvSpPr/>
          <p:nvPr/>
        </p:nvSpPr>
        <p:spPr>
          <a:xfrm>
            <a:off x="1200240" y="2854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8"/>
          <p:cNvSpPr/>
          <p:nvPr/>
        </p:nvSpPr>
        <p:spPr>
          <a:xfrm>
            <a:off x="1200240" y="3286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8"/>
          <p:cNvSpPr/>
          <p:nvPr/>
        </p:nvSpPr>
        <p:spPr>
          <a:xfrm>
            <a:off x="1200240" y="364500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9235"/>
          <p:cNvSpPr/>
          <p:nvPr/>
        </p:nvSpPr>
        <p:spPr>
          <a:xfrm>
            <a:off x="1057320" y="981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39"/>
          <p:cNvSpPr/>
          <p:nvPr/>
        </p:nvSpPr>
        <p:spPr>
          <a:xfrm rot="661800">
            <a:off x="2476080" y="1477440"/>
            <a:ext cx="620640" cy="2146320"/>
          </a:xfrm>
          <a:custGeom>
            <a:avLst/>
            <a:gdLst/>
            <a:ahLst/>
            <a:rect l="l" t="t" r="r" b="b"/>
            <a:pathLst>
              <a:path w="621907" h="496919">
                <a:moveTo>
                  <a:pt x="204864" y="363808"/>
                </a:moveTo>
                <a:lnTo>
                  <a:pt x="0" y="496919"/>
                </a:lnTo>
                <a:cubicBezTo>
                  <a:pt x="6419" y="457819"/>
                  <a:pt x="39367" y="348450"/>
                  <a:pt x="55942" y="292607"/>
                </a:cubicBezTo>
                <a:cubicBezTo>
                  <a:pt x="66517" y="205962"/>
                  <a:pt x="65340" y="234967"/>
                  <a:pt x="65850" y="205493"/>
                </a:cubicBezTo>
                <a:cubicBezTo>
                  <a:pt x="62838" y="138060"/>
                  <a:pt x="55153" y="70838"/>
                  <a:pt x="49804" y="3511"/>
                </a:cubicBezTo>
                <a:lnTo>
                  <a:pt x="616755" y="0"/>
                </a:lnTo>
                <a:cubicBezTo>
                  <a:pt x="661023" y="52159"/>
                  <a:pt x="406872" y="248992"/>
                  <a:pt x="358020" y="303683"/>
                </a:cubicBezTo>
                <a:cubicBezTo>
                  <a:pt x="309168" y="358374"/>
                  <a:pt x="246850" y="445470"/>
                  <a:pt x="247225" y="446713"/>
                </a:cubicBez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1753560" y="982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21"/>
          <p:cNvGrpSpPr/>
          <p:nvPr/>
        </p:nvGrpSpPr>
        <p:grpSpPr>
          <a:xfrm>
            <a:off x="264960" y="3151440"/>
            <a:ext cx="2951280" cy="3477960"/>
            <a:chOff x="264960" y="3151440"/>
            <a:chExt cx="2951280" cy="3477960"/>
          </a:xfrm>
        </p:grpSpPr>
        <p:sp>
          <p:nvSpPr>
            <p:cNvPr id="280" name="椭圆 3"/>
            <p:cNvSpPr/>
            <p:nvPr/>
          </p:nvSpPr>
          <p:spPr>
            <a:xfrm>
              <a:off x="330480" y="6366960"/>
              <a:ext cx="2798280" cy="262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图片 1" descr=""/>
            <p:cNvPicPr/>
            <p:nvPr/>
          </p:nvPicPr>
          <p:blipFill>
            <a:blip r:embed="rId1"/>
            <a:srcRect l="0" t="-4988" r="0" b="0"/>
            <a:stretch/>
          </p:blipFill>
          <p:spPr>
            <a:xfrm>
              <a:off x="264960" y="3807360"/>
              <a:ext cx="29512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椭圆 4"/>
            <p:cNvSpPr/>
            <p:nvPr/>
          </p:nvSpPr>
          <p:spPr>
            <a:xfrm rot="9833400">
              <a:off x="860400" y="3936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8"/>
            <p:cNvSpPr/>
            <p:nvPr/>
          </p:nvSpPr>
          <p:spPr>
            <a:xfrm rot="9833400">
              <a:off x="122580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9"/>
            <p:cNvSpPr/>
            <p:nvPr/>
          </p:nvSpPr>
          <p:spPr>
            <a:xfrm rot="9833400">
              <a:off x="161928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0"/>
            <p:cNvSpPr/>
            <p:nvPr/>
          </p:nvSpPr>
          <p:spPr>
            <a:xfrm rot="9833400">
              <a:off x="1947240" y="39344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11"/>
            <p:cNvSpPr/>
            <p:nvPr/>
          </p:nvSpPr>
          <p:spPr>
            <a:xfrm rot="9833400">
              <a:off x="1553760" y="40654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12"/>
            <p:cNvSpPr/>
            <p:nvPr/>
          </p:nvSpPr>
          <p:spPr>
            <a:xfrm rot="9833400">
              <a:off x="1488240" y="36720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3"/>
            <p:cNvSpPr/>
            <p:nvPr/>
          </p:nvSpPr>
          <p:spPr>
            <a:xfrm rot="9833400">
              <a:off x="50436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14"/>
            <p:cNvSpPr/>
            <p:nvPr/>
          </p:nvSpPr>
          <p:spPr>
            <a:xfrm rot="9833400">
              <a:off x="1094400" y="36061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15"/>
            <p:cNvSpPr/>
            <p:nvPr/>
          </p:nvSpPr>
          <p:spPr>
            <a:xfrm rot="9833400">
              <a:off x="220968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6"/>
            <p:cNvSpPr/>
            <p:nvPr/>
          </p:nvSpPr>
          <p:spPr>
            <a:xfrm rot="9833400">
              <a:off x="1947240" y="35406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17"/>
            <p:cNvSpPr/>
            <p:nvPr/>
          </p:nvSpPr>
          <p:spPr>
            <a:xfrm rot="9833400">
              <a:off x="1553760" y="32781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18"/>
            <p:cNvSpPr/>
            <p:nvPr/>
          </p:nvSpPr>
          <p:spPr>
            <a:xfrm rot="9833400">
              <a:off x="700920" y="34750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19"/>
            <p:cNvSpPr/>
            <p:nvPr/>
          </p:nvSpPr>
          <p:spPr>
            <a:xfrm rot="9833400">
              <a:off x="1094400" y="32126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9"/>
          <p:cNvGrpSpPr/>
          <p:nvPr/>
        </p:nvGrpSpPr>
        <p:grpSpPr>
          <a:xfrm>
            <a:off x="1402920" y="2631960"/>
            <a:ext cx="3044880" cy="2547720"/>
            <a:chOff x="1402920" y="2631960"/>
            <a:chExt cx="3044880" cy="2547720"/>
          </a:xfrm>
        </p:grpSpPr>
        <p:sp>
          <p:nvSpPr>
            <p:cNvPr id="296" name="矩形 28"/>
            <p:cNvSpPr/>
            <p:nvPr/>
          </p:nvSpPr>
          <p:spPr>
            <a:xfrm rot="2167800">
              <a:off x="2866320" y="4420440"/>
              <a:ext cx="1651320" cy="300960"/>
            </a:xfrm>
            <a:custGeom>
              <a:avLst/>
              <a:gdLst/>
              <a:ahLst/>
              <a:rect l="l" t="t" r="r" b="b"/>
              <a:pathLst>
                <a:path w="1651238" h="301310">
                  <a:moveTo>
                    <a:pt x="35923" y="58593"/>
                  </a:moveTo>
                  <a:lnTo>
                    <a:pt x="1651238" y="0"/>
                  </a:lnTo>
                  <a:lnTo>
                    <a:pt x="1651238" y="301310"/>
                  </a:lnTo>
                  <a:lnTo>
                    <a:pt x="0" y="262236"/>
                  </a:lnTo>
                  <a:cubicBezTo>
                    <a:pt x="45840" y="69689"/>
                    <a:pt x="21626" y="172792"/>
                    <a:pt x="35923" y="58593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23"/>
            <p:cNvSpPr/>
            <p:nvPr/>
          </p:nvSpPr>
          <p:spPr>
            <a:xfrm rot="509400">
              <a:off x="1509840" y="2752920"/>
              <a:ext cx="1760400" cy="1582920"/>
            </a:xfrm>
            <a:prstGeom prst="ellipse">
              <a:avLst/>
            </a:prstGeom>
            <a:noFill/>
            <a:ln w="93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30"/>
          <p:cNvSpPr/>
          <p:nvPr/>
        </p:nvSpPr>
        <p:spPr>
          <a:xfrm>
            <a:off x="2928960" y="3213000"/>
            <a:ext cx="216000" cy="432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34"/>
          <p:cNvSpPr/>
          <p:nvPr/>
        </p:nvSpPr>
        <p:spPr>
          <a:xfrm>
            <a:off x="2928960" y="3213000"/>
            <a:ext cx="144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96"/>
          <p:cNvSpPr/>
          <p:nvPr/>
        </p:nvSpPr>
        <p:spPr>
          <a:xfrm rot="10800000">
            <a:off x="4728960" y="1125000"/>
            <a:ext cx="7272360" cy="5545440"/>
          </a:xfrm>
          <a:prstGeom prst="roundRect">
            <a:avLst>
              <a:gd name="adj" fmla="val 3727"/>
            </a:avLst>
          </a:prstGeom>
          <a:gradFill rotWithShape="0">
            <a:gsLst>
              <a:gs pos="0">
                <a:srgbClr val="f2f2f2"/>
              </a:gs>
              <a:gs pos="100000">
                <a:srgbClr val="afdc7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6"/>
          <p:cNvSpPr/>
          <p:nvPr/>
        </p:nvSpPr>
        <p:spPr>
          <a:xfrm>
            <a:off x="2733840" y="1168560"/>
            <a:ext cx="1850760" cy="604800"/>
          </a:xfrm>
          <a:custGeom>
            <a:avLst/>
            <a:gdLst/>
            <a:ahLst/>
            <a:rect l="l" t="t" r="r" b="b"/>
            <a:pathLst>
              <a:path w="1851114" h="605656">
                <a:moveTo>
                  <a:pt x="457314" y="0"/>
                </a:moveTo>
                <a:lnTo>
                  <a:pt x="1851114" y="101600"/>
                </a:lnTo>
                <a:lnTo>
                  <a:pt x="1851114" y="605656"/>
                </a:lnTo>
                <a:lnTo>
                  <a:pt x="0" y="296093"/>
                </a:lnTo>
                <a:lnTo>
                  <a:pt x="457314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等腰三角形 38"/>
          <p:cNvSpPr/>
          <p:nvPr/>
        </p:nvSpPr>
        <p:spPr>
          <a:xfrm rot="19945800">
            <a:off x="4178160" y="1088640"/>
            <a:ext cx="936720" cy="6476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任意多边形 43"/>
          <p:cNvSpPr/>
          <p:nvPr/>
        </p:nvSpPr>
        <p:spPr>
          <a:xfrm>
            <a:off x="5234040" y="1197000"/>
            <a:ext cx="1895400" cy="45864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8"/>
          <p:cNvSpPr/>
          <p:nvPr/>
        </p:nvSpPr>
        <p:spPr>
          <a:xfrm>
            <a:off x="7466040" y="2349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8"/>
          <p:cNvSpPr/>
          <p:nvPr/>
        </p:nvSpPr>
        <p:spPr>
          <a:xfrm>
            <a:off x="7466040" y="2781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8"/>
          <p:cNvSpPr/>
          <p:nvPr/>
        </p:nvSpPr>
        <p:spPr>
          <a:xfrm>
            <a:off x="7466040" y="32130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28"/>
          <p:cNvSpPr/>
          <p:nvPr/>
        </p:nvSpPr>
        <p:spPr>
          <a:xfrm>
            <a:off x="7466040" y="357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43C7-0EAF-4910-A8E5-D4B151DF24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8:0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5-12-12T07:19:29Z</dcterms:modified>
  <cp:revision>1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Version">
    <vt:r8>1</vt:r8>
  </property>
</Properties>
</file>