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D6C-481A-4F75-99B5-0DFA5574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BF89-699D-4A03-9169-2474E20D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5361-4938-48C3-82E9-5D8BF01D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B56-D284-4F1F-8657-EF703320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A01E-BF96-4E88-B61F-59CB8D2C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7517-FF9E-4467-B803-41597A24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3B63-4727-4BFF-A221-7634A797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F6CD-1BEC-43B4-9852-B8FB2C41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5DF3-44D1-4F18-8453-467403C8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3864-8A66-4CE8-8910-322EF893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A376-9FFA-46D6-A375-9D55BED6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2FE-5468-4971-B3DB-0E74B860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51D9-9A62-4C57-8E70-53AF849B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F1DB-7F19-4B4D-8DE0-DA6355DD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C678-307D-4981-A998-EB5306FB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822C-DAF1-4E89-B881-F98351F0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AF57-8597-4D00-AB75-4727A149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98C-3F27-4702-9DE7-8636932F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5C4-C10F-44BD-9FFF-D8D287D7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A22-8FEF-42C2-B08E-72C36EAF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0A8-E044-4D38-A17B-8DF815DA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0D9-D026-4B07-A69F-C95E7822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C03-6940-43F4-8DE4-050E251C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262-583E-4799-AE8B-CC9C9B49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8C06-AB49-421A-8417-79B224596AA8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9600" cy="6543720"/>
            <a:chOff x="151920" y="313920"/>
            <a:chExt cx="84960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960" y="3165120"/>
              <a:ext cx="895320" cy="847440"/>
            </a:xfrm>
            <a:prstGeom prst="parallelogram">
              <a:avLst>
                <a:gd name="adj" fmla="val 5594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960" y="4107960"/>
              <a:ext cx="895320" cy="847440"/>
            </a:xfrm>
            <a:prstGeom prst="parallelogram">
              <a:avLst>
                <a:gd name="adj" fmla="val 5594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7440" y="504936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2120" y="5990760"/>
              <a:ext cx="885960" cy="847800"/>
            </a:xfrm>
            <a:prstGeom prst="parallelogram">
              <a:avLst>
                <a:gd name="adj" fmla="val 5533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960" y="337680"/>
              <a:ext cx="895320" cy="847440"/>
            </a:xfrm>
            <a:prstGeom prst="parallelogram">
              <a:avLst>
                <a:gd name="adj" fmla="val 5594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7440" y="127440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7440" y="222048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2800" y="0"/>
            <a:ext cx="27468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423720" y="1681200"/>
            <a:ext cx="293760" cy="4910040"/>
            <a:chOff x="423720" y="1681200"/>
            <a:chExt cx="293760" cy="4910040"/>
          </a:xfrm>
        </p:grpSpPr>
        <p:sp>
          <p:nvSpPr>
            <p:cNvPr id="16" name=""/>
            <p:cNvSpPr/>
            <p:nvPr/>
          </p:nvSpPr>
          <p:spPr>
            <a:xfrm>
              <a:off x="423720" y="1681200"/>
              <a:ext cx="293760" cy="27468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1c6d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4760" y="1913040"/>
              <a:ext cx="189360" cy="46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484200" y="1660680"/>
            <a:ext cx="9057960" cy="274320"/>
            <a:chOff x="484200" y="1660680"/>
            <a:chExt cx="9057960" cy="274320"/>
          </a:xfrm>
        </p:grpSpPr>
        <p:sp>
          <p:nvSpPr>
            <p:cNvPr id="19" name=""/>
            <p:cNvSpPr/>
            <p:nvPr/>
          </p:nvSpPr>
          <p:spPr>
            <a:xfrm>
              <a:off x="9237600" y="1660680"/>
              <a:ext cx="304560" cy="27432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1c6d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84200" y="1724040"/>
              <a:ext cx="87534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150840" y="0"/>
            <a:ext cx="850680" cy="6858000"/>
            <a:chOff x="150840" y="0"/>
            <a:chExt cx="850680" cy="6858000"/>
          </a:xfrm>
        </p:grpSpPr>
        <p:sp>
          <p:nvSpPr>
            <p:cNvPr id="22" name=""/>
            <p:cNvSpPr/>
            <p:nvPr/>
          </p:nvSpPr>
          <p:spPr>
            <a:xfrm rot="16200000">
              <a:off x="129960" y="3636720"/>
              <a:ext cx="895320" cy="847440"/>
            </a:xfrm>
            <a:prstGeom prst="parallelogram">
              <a:avLst>
                <a:gd name="adj" fmla="val 5594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9240" y="4580280"/>
              <a:ext cx="896760" cy="847440"/>
            </a:xfrm>
            <a:prstGeom prst="parallelogram">
              <a:avLst>
                <a:gd name="adj" fmla="val 5603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8520" y="552240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9240" y="805320"/>
              <a:ext cx="896760" cy="847440"/>
            </a:xfrm>
            <a:prstGeom prst="parallelogram">
              <a:avLst>
                <a:gd name="adj" fmla="val 5603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6200000">
              <a:off x="128520" y="174744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6200000">
              <a:off x="128520" y="269352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55520" y="0"/>
              <a:ext cx="84600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50840" y="6445080"/>
              <a:ext cx="72684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4A4F-761B-4BF9-81EE-39BECB81E1D2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51920" y="313920"/>
            <a:ext cx="849600" cy="6543720"/>
            <a:chOff x="151920" y="313920"/>
            <a:chExt cx="849600" cy="6543720"/>
          </a:xfrm>
        </p:grpSpPr>
        <p:sp>
          <p:nvSpPr>
            <p:cNvPr id="74" name=""/>
            <p:cNvSpPr/>
            <p:nvPr/>
          </p:nvSpPr>
          <p:spPr>
            <a:xfrm flipH="1" rot="5400000">
              <a:off x="129960" y="3165120"/>
              <a:ext cx="895320" cy="847440"/>
            </a:xfrm>
            <a:prstGeom prst="parallelogram">
              <a:avLst>
                <a:gd name="adj" fmla="val 5594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29960" y="4107960"/>
              <a:ext cx="895320" cy="847440"/>
            </a:xfrm>
            <a:prstGeom prst="parallelogram">
              <a:avLst>
                <a:gd name="adj" fmla="val 5594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7440" y="504936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32120" y="5990760"/>
              <a:ext cx="885960" cy="847800"/>
            </a:xfrm>
            <a:prstGeom prst="parallelogram">
              <a:avLst>
                <a:gd name="adj" fmla="val 5533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9960" y="337680"/>
              <a:ext cx="895320" cy="847440"/>
            </a:xfrm>
            <a:prstGeom prst="parallelogram">
              <a:avLst>
                <a:gd name="adj" fmla="val 5594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5400000">
              <a:off x="127440" y="127440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5400000">
              <a:off x="127440" y="222048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42800" y="0"/>
            <a:ext cx="27468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23720" y="2697120"/>
            <a:ext cx="293760" cy="4160880"/>
            <a:chOff x="423720" y="2697120"/>
            <a:chExt cx="293760" cy="4160880"/>
          </a:xfrm>
        </p:grpSpPr>
        <p:sp>
          <p:nvSpPr>
            <p:cNvPr id="84" name=""/>
            <p:cNvSpPr/>
            <p:nvPr/>
          </p:nvSpPr>
          <p:spPr>
            <a:xfrm>
              <a:off x="423720" y="2697120"/>
              <a:ext cx="293760" cy="27468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1c6d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4760" y="2700360"/>
              <a:ext cx="160560" cy="41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84200" y="2697120"/>
            <a:ext cx="9057960" cy="274320"/>
            <a:chOff x="484200" y="2697120"/>
            <a:chExt cx="9057960" cy="274320"/>
          </a:xfrm>
        </p:grpSpPr>
        <p:sp>
          <p:nvSpPr>
            <p:cNvPr id="87" name=""/>
            <p:cNvSpPr/>
            <p:nvPr/>
          </p:nvSpPr>
          <p:spPr>
            <a:xfrm>
              <a:off x="9237600" y="2697120"/>
              <a:ext cx="304560" cy="27432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1c6d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4200" y="2760480"/>
              <a:ext cx="87534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0840" y="0"/>
            <a:ext cx="850680" cy="6858000"/>
            <a:chOff x="150840" y="0"/>
            <a:chExt cx="850680" cy="6858000"/>
          </a:xfrm>
        </p:grpSpPr>
        <p:sp>
          <p:nvSpPr>
            <p:cNvPr id="90" name=""/>
            <p:cNvSpPr/>
            <p:nvPr/>
          </p:nvSpPr>
          <p:spPr>
            <a:xfrm rot="16200000">
              <a:off x="129960" y="3636720"/>
              <a:ext cx="895320" cy="847440"/>
            </a:xfrm>
            <a:prstGeom prst="parallelogram">
              <a:avLst>
                <a:gd name="adj" fmla="val 5594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9240" y="4580280"/>
              <a:ext cx="896760" cy="847440"/>
            </a:xfrm>
            <a:prstGeom prst="parallelogram">
              <a:avLst>
                <a:gd name="adj" fmla="val 5603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128520" y="552240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129240" y="805320"/>
              <a:ext cx="896760" cy="847440"/>
            </a:xfrm>
            <a:prstGeom prst="parallelogram">
              <a:avLst>
                <a:gd name="adj" fmla="val 5603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128520" y="174744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6200000">
              <a:off x="128520" y="269352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5520" y="0"/>
              <a:ext cx="84600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0840" y="6445080"/>
              <a:ext cx="72684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10854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華康勘亭流"/>
              </a:rPr>
              <a:t>危機管理之診斷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1943280"/>
            <a:ext cx="7772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一、危機之性質             四、危機之管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一）危機的定義           （一）危機預測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二）企業危機的徵兆       （二）危機的遏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三）危機的階段           （三）危機的應變計畫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四）成長之危機           （四）危機之處理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                           </a:t>
            </a: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五）危機爆發後之作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二、危機之警覺             五、危機管理之診斷要點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一）危機管理的意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二）企業危機之成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三）家族企業之危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三、企業危機之偵測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一）財務指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二）企業功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三）組織構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華康勘亭流"/>
              </a:rPr>
              <a:t>危 機 管 理 之 意 義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危機管理係基於危機意識，分析內、外因素，訂定周詳計畫，以及早發現危機、解決危機、預防危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涵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一）危機潛在存於經營的過程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二）危機管理為例行工作而不是例外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      </a:t>
            </a: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28548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華康勘亭流"/>
              </a:rPr>
              <a:t>危機管理之診斷要點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5345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一、管理者價值觀之正確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二、現金預測與資金規畫之制度建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三、金融機構之關係與客戶之信用管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四、重要決策事前之評估與敏感性分析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五、各種企業功能之密切配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六、建立有效之資訊系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七、企業文化之建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八、建立危機意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九、內、外環境變化之適應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十、定期實施企業診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華康勘亭流"/>
              </a:rPr>
              <a:t>組 織 之 偵 測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一、組織各級幹部輕忽管理的重要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二、主管獨斷決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三、員工漫不經心，對工作投入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四、經營者奢靡浮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五、組織結構僵化或變動過於頻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華康勘亭流"/>
              </a:rPr>
              <a:t>危 機 管 理 之 診 斷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2044440"/>
            <a:ext cx="380988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一、危機之性質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一）危機的定義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二）企業危機的徵兆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三）危機的階段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四）成長之危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二、危機之警覺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一）危機管理的意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二）企業危機之成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三）家族企業之危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三、企業危機之偵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一）財務指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二）企業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三）組織構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81480" y="2044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四、危機之管理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一）危機預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二）企業危機的徵兆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三）危機的應變計畫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四）危機之處理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五）危機爆發後之作業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五危機管理之診斷要點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財 務 指 標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一、獲利力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二、安定力不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三、活動力下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四、成長力轉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五、生產力劇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六、營運資金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企業功能之危機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--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人事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一、員工離職率遽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二、主要幹部離職未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三、員工年齡結構偏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四、忽略在職教育訓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五、領導方式劇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企業功能之危機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--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研發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一、研發目標與企業目標背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二、未有新產品之研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三、專案無人負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四、研發人員減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五、研發部門裁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企業功能之危機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--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生產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一、機器老舊、生產效率低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二、存貨急增或劇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三、不良品急增或大量退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四、盲目接單或降價傾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五、製程混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企業功能之危機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--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行銷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一、經銷商急遽減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二、市場佔有率下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三、客戶集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四、無售後服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五、促銷條件奇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企業功能之危機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--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財務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一、借款由銀行轉向民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二、未發股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三、經營者忙於調頭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四、付款條件惡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五、無持續投資之規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華康勘亭流"/>
              </a:rPr>
              <a:t>成 長 之 危 機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一、領導危機    </a:t>
            </a: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Crisis of  Lead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二、自主性危機  </a:t>
            </a: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Crisis of Aut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三、控制性危機  </a:t>
            </a: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Crisis of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四、僵化危機    </a:t>
            </a: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Crisis of Red T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五、心身疲憊    </a:t>
            </a: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Crisis of Tire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危机 管理 诊断</cp:keywords>
  <dc:language>en-US</dc:language>
  <cp:lastModifiedBy/>
  <cp:revision>0</cp:revision>
  <dc:subject/>
  <dc:title/>
</cp:coreProperties>
</file>