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953-844C-4DC2-B5BF-7A692740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CA2-F11F-40C5-A5E2-7E2644B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9EB-F549-40C4-9CB9-752C577E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8B2-9950-4906-B3A1-34FBDA29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361-235C-4A1F-B179-4F7E780C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EAB5-6152-40CC-ACE4-48AE6F7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94FD-098A-4BE2-81E2-21EE61EF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37B8-88F6-495B-82C1-E11318D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16C7-5E86-4154-9C68-4A690FBB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8E6B-EC82-440F-9556-4E4EE8C9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ED5-F096-4E70-909A-3F2FBAC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380-9F8B-4E6E-8FBB-2534555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1A7B-4CD5-4143-9959-9E4F2DE4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E700-788B-4916-A43D-DB45873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2EB8-1710-4AE6-A1F9-98D07DB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7C3B-B7D6-49CD-92DA-1E96D31C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95E-747E-4864-A05E-F7D2C120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C4E-ACBD-4F29-BF1D-3B2A4C5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3C1-D61B-451D-ABAD-5D68EDCC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EB7-C7D9-4D5A-B2AF-85F342D9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9E0-6111-4FCE-9F57-1C5ABD39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067-E168-4B0F-A1DD-5B8C08E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642-53CD-4A90-94BB-355E537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082-E217-424C-9D1A-BD88309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7C4-B5BD-45BD-950A-D69741F3EE64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69D-DDD5-442B-BF18-46AFD355396E}" type="slidenum">
              <a:rPr b="0" lang="zh-TW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貿法導論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糾紛之調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通常先是透過外交途徑解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法庭在實際上有其侷限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並非每個國家都願意承認國際法庭之管轄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縱接受有時亦附加限制條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私法（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rivate international law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其實是法律衝突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多被誤以為是另一套有別於公法的法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並無一既存且被普遍接受的規範私經濟法規體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主要包含三領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選擇適用法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選擇管轄法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判決的承認與執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商法之歷史發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西元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00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前，羅得法，其中即有關於共同海損之規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古希臘，雅典習慣法中出現「海商借貸」規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羅馬法有市民法、萬民法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在十至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世紀隨封建國家興起，造成法律無法統一，乃由商人組成特別法庭，將商事習慣編纂成各種商事習慣法典，即所謂「商人法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7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世紀後集權國家興起，乃將商人法吸納確立本國民商法體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主要的法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大陸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社會主義國家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伊斯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英美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比較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研究各國法律之差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比較各內國法與國際法則間之異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使從事跨國商務之當事人更瞭解其所受管轄之法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使經營風險更易掌握，促進國際商務環境的透明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私法的發展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儘管內國法內容仍存有差異，如產品責任問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但基於國際商務發展之需要，有趨向齊一之趨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投資法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亦屬國際比較法的重要課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比較各國投資法規的差異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稅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利潤匯回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外匯管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自製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經營控制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組織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聯合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N Conference on Trade and Development (UNCTA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.UN Commission on International Trade Law(UNCITR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International Institute for the Unification of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ivate Law(UNIDROI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*Hague Conference on Private International La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不列敦森林制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F(International Monetary Fun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BRD(International Bank For Reconstruction and Develop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ATT(General Agreement on Tariff and Tra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幾個金融性國際組織之比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MF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（不管貧、富），主在住其維持收支平衡和金融穩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BRD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：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，條件較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DA(International Development Association):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國家，條件較寬，主要為貧窮國家（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NP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低於＄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410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FC(International Finance Corporation):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對象為開發中國家之企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企業經營環境的變遷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ATT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與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TO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所帶來之國際化風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競爭的日趨白熱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區域主義的崛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商務的法制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交易標的與方式的改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分工態勢的愈趨頻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其他國際組織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ECD(Organization for Economic Cooperation and Develop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CC(International Chamber of Commerc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企業的自我調適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加強對國際法規的瞭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調整組織結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產品、技術研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改善交易與經營管理方式、技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合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提升競爭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何謂國際法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定義為何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是否真有國際法的存在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又從何去瞭解國際法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的定義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係者普遍為國際社會所接受的規則（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u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多數將其解釋為是國際公法，係乃公法性質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係指一種規範國際社會中之所有國家成員間的規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形式即如條約、公約或是一些國際組織的章程（如聯合國憲章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的法源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國際條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習慣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法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條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可以是多邊、雙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其內容可以是單一主題亦可是廣泛性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簽字國應以誠信執行、遵守條約之約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構成條約無效之條件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情勢變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違反一般國際法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條約對於商務之影響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透過對各會員國之內國立法對於企業、個人權義造成極為重要的影響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如租稅、物資生產及交易限制（化武相關之生產、監控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</a:rPr>
              <a:t>可能造成國家集團間之對抗（如海事公約，造成開發國家與開發中國家間的對抗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Times New Roman"/>
              </a:rPr>
              <a:t>國際法庭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成立，係承襲國聯時代之永久國際法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由聯合國大會和安理會選舉之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位法官組成，任期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在實際適用上之侷限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當事人是國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判決僅對當事人具約束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須當事人願意接受管轄為前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須當事人願意誠實遵守判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国贸法 导论</cp:keywords>
  <dc:language>en-US</dc:language>
  <cp:lastModifiedBy/>
  <cp:revision>0</cp:revision>
  <dc:subject/>
  <dc:title/>
</cp:coreProperties>
</file>