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5715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B1D0-1427-4F44-98B3-1179F5EE6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06828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1AEB-B62B-478E-BFF6-E07458A8A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95C2-94C3-4E81-833B-A9DCF66DB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4BDE-8E3D-48CC-BD34-AD5CDB877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09FB8-6E67-4AF1-9AA1-48BD2BDC1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B97EF-FDF3-4E11-A612-1498C62E4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21E46-2148-44B3-A056-810AE2F43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78897-ECF7-4000-A740-841B4489D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8B614-4AA8-4A26-B758-7FE58C7B0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83AC2-4E48-40A8-B033-C1C9A5725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78203-06C3-4E52-B909-EB61042BA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C81B-609B-491E-BFC5-A100E45F3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F0AA2-E047-44B3-94F3-9B1BDC167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C3FC9-BE93-47D3-A160-75ED3C9D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06828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46EC2-C505-4833-8AC6-931842E17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1AA85-2F56-4A8F-8547-DA9835238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97567-9429-4D76-A37C-4113D7BCE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64052-F1EF-424E-A8F8-FB676AA47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72929-437B-4567-BFFB-3ADE4B2DA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19F77-859C-485A-A3DF-8ED092692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8FDAA-2665-47D9-B6CD-C37A8081D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D2C2B-B172-43E1-B1A7-CE9333465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1308-BCE5-41D4-AB2D-42167B18D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5EA62-59AE-4C57-91A1-CA3AF6DED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DEA3C-B6B1-46E9-AACF-A235F6B1D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7242C-4240-4453-8E3F-B193C91F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3CC9D-880A-47A3-844E-B4F41CC3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06828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DA4BB-0AB5-4D31-9CE0-16E28A999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20745-B243-4C67-B9AE-6ACC94DF0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A4476-27B7-43F6-A9CE-6B3A2F856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8FA65-3C22-4581-81E5-A5461CAFB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0F5E4-0393-45AA-9166-3F300783D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C284E-AE36-40B9-A9AF-DA766B807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1CB1-F34E-4F01-9F18-6451B5D2D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7422E-49EE-42AB-B914-6170280A2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5DBFB-C61E-4A5D-A263-34407BC34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61BE3-4137-48A3-8B14-8DB814820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680DA-61EA-4685-99C6-648776113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C1886-511F-47EC-87AB-9690EAD78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440A4-7267-4372-9764-55EDA474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06828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ACD10-10CF-4B6D-A2A7-91CC239B8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E54FE-3E4B-46F9-BCE5-F63F66EE1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A2AFF-33CF-4443-8C2C-D44147B40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FB95-860C-4C5F-8FC3-48E4F0D3E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65D9-B276-4613-99B0-F722E7D67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DA3D-D178-4231-BF10-B217CD5DE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9B6E-38F0-4A3A-BF47-B806D8124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F3BD-851E-41BA-9A1E-490446861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5297400"/>
            <a:ext cx="2133360" cy="30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5297400"/>
            <a:ext cx="2895120" cy="302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5297400"/>
            <a:ext cx="2133360" cy="30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8845917-D04C-4101-8459-157B364A2260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240" cy="3771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5297400"/>
            <a:ext cx="2133360" cy="30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297400"/>
            <a:ext cx="2895120" cy="302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5297400"/>
            <a:ext cx="2133360" cy="30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A46402E-7D46-49DB-A806-3B5FC6853F6D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000080"/>
            <a:ext cx="4038120" cy="2828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body"/>
          </p:nvPr>
        </p:nvSpPr>
        <p:spPr>
          <a:xfrm>
            <a:off x="4648320" y="1000080"/>
            <a:ext cx="4038120" cy="2828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57200" y="5297400"/>
            <a:ext cx="2133360" cy="30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3124080" y="5297400"/>
            <a:ext cx="2895120" cy="302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6553080" y="5297400"/>
            <a:ext cx="2133360" cy="30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39882ED-EA87-458D-83B0-D70DB95FD887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dt" idx="10"/>
          </p:nvPr>
        </p:nvSpPr>
        <p:spPr>
          <a:xfrm>
            <a:off x="457200" y="5204520"/>
            <a:ext cx="2133360" cy="396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7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7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17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11"/>
          </p:nvPr>
        </p:nvSpPr>
        <p:spPr>
          <a:xfrm>
            <a:off x="3124080" y="5204520"/>
            <a:ext cx="2895120" cy="396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12"/>
          </p:nvPr>
        </p:nvSpPr>
        <p:spPr>
          <a:xfrm>
            <a:off x="6553080" y="5204520"/>
            <a:ext cx="2133360" cy="396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7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A3CBFCD-AFD9-4F4E-BDC1-71734056D3C8}" type="slidenum">
              <a:rPr b="0" lang="en-US" sz="117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17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367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body"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6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6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6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6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6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179640" y="3258000"/>
            <a:ext cx="5112360" cy="729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>
              <a:lnSpc>
                <a:spcPct val="100000"/>
              </a:lnSpc>
              <a:spcBef>
                <a:spcPts val="720"/>
              </a:spcBef>
              <a:tabLst>
                <a:tab algn="l" pos="0"/>
              </a:tabLst>
            </a:pPr>
            <a:r>
              <a:rPr b="0" lang="zh-CN" sz="3600" spc="-1" strike="noStrike">
                <a:solidFill>
                  <a:srgbClr val="ffc000"/>
                </a:solidFill>
                <a:latin typeface="汉真广标"/>
                <a:ea typeface="汉真广标"/>
              </a:rPr>
              <a:t>自我介绍</a:t>
            </a:r>
            <a:r>
              <a:rPr b="0" lang="en-US" sz="3600" spc="-151" strike="noStrike">
                <a:solidFill>
                  <a:srgbClr val="ffffff"/>
                </a:solidFill>
                <a:latin typeface="汉真广标"/>
                <a:ea typeface="汉真广标"/>
              </a:rPr>
              <a:t>Power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副标题 2"/>
          <p:cNvSpPr/>
          <p:nvPr/>
        </p:nvSpPr>
        <p:spPr>
          <a:xfrm>
            <a:off x="251640" y="4050360"/>
            <a:ext cx="5424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241"/>
              </a:spcBef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适用于竞聘，会议及相关类别的幻灯片制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6012000" y="4650480"/>
            <a:ext cx="647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行业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节日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优秀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Word</a:t>
            </a: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9200" y="179280"/>
            <a:ext cx="1428480" cy="356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C:\Users\lidan\Desktop\1.png"/>
          <p:cNvPicPr/>
          <p:nvPr/>
        </p:nvPicPr>
        <p:blipFill>
          <a:blip r:embed="rId2"/>
          <a:stretch/>
        </p:blipFill>
        <p:spPr>
          <a:xfrm>
            <a:off x="1785960" y="1571760"/>
            <a:ext cx="5327280" cy="539280"/>
          </a:xfrm>
          <a:prstGeom prst="rect">
            <a:avLst/>
          </a:prstGeom>
          <a:ln w="9525">
            <a:noFill/>
          </a:ln>
        </p:spPr>
      </p:pic>
      <p:sp>
        <p:nvSpPr>
          <p:cNvPr id="170" name="TextBox 3"/>
          <p:cNvSpPr/>
          <p:nvPr/>
        </p:nvSpPr>
        <p:spPr>
          <a:xfrm>
            <a:off x="3429000" y="1643040"/>
            <a:ext cx="20314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" descr="C:\Users\lidan\Desktop\1.png"/>
          <p:cNvPicPr/>
          <p:nvPr/>
        </p:nvPicPr>
        <p:blipFill>
          <a:blip r:embed="rId3"/>
          <a:stretch/>
        </p:blipFill>
        <p:spPr>
          <a:xfrm>
            <a:off x="1785960" y="2286000"/>
            <a:ext cx="5327280" cy="539280"/>
          </a:xfrm>
          <a:prstGeom prst="rect">
            <a:avLst/>
          </a:prstGeom>
          <a:ln w="9525">
            <a:noFill/>
          </a:ln>
        </p:spPr>
      </p:pic>
      <p:pic>
        <p:nvPicPr>
          <p:cNvPr id="172" name="Picture 2" descr="C:\Users\lidan\Desktop\1.png"/>
          <p:cNvPicPr/>
          <p:nvPr/>
        </p:nvPicPr>
        <p:blipFill>
          <a:blip r:embed="rId4"/>
          <a:stretch/>
        </p:blipFill>
        <p:spPr>
          <a:xfrm>
            <a:off x="1785960" y="3032280"/>
            <a:ext cx="5327280" cy="539280"/>
          </a:xfrm>
          <a:prstGeom prst="rect">
            <a:avLst/>
          </a:prstGeom>
          <a:ln w="9525">
            <a:noFill/>
          </a:ln>
        </p:spPr>
      </p:pic>
      <p:pic>
        <p:nvPicPr>
          <p:cNvPr id="173" name="Picture 2" descr="C:\Users\lidan\Desktop\1.png"/>
          <p:cNvPicPr/>
          <p:nvPr/>
        </p:nvPicPr>
        <p:blipFill>
          <a:blip r:embed="rId5"/>
          <a:stretch/>
        </p:blipFill>
        <p:spPr>
          <a:xfrm>
            <a:off x="1785960" y="3780000"/>
            <a:ext cx="5327280" cy="539280"/>
          </a:xfrm>
          <a:prstGeom prst="rect">
            <a:avLst/>
          </a:prstGeom>
          <a:ln w="9525">
            <a:noFill/>
          </a:ln>
        </p:spPr>
      </p:pic>
      <p:sp>
        <p:nvSpPr>
          <p:cNvPr id="174" name="TextBox 8"/>
          <p:cNvSpPr/>
          <p:nvPr/>
        </p:nvSpPr>
        <p:spPr>
          <a:xfrm>
            <a:off x="3429000" y="2344680"/>
            <a:ext cx="20314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9"/>
          <p:cNvSpPr/>
          <p:nvPr/>
        </p:nvSpPr>
        <p:spPr>
          <a:xfrm>
            <a:off x="3429000" y="3087720"/>
            <a:ext cx="20314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0"/>
          <p:cNvSpPr/>
          <p:nvPr/>
        </p:nvSpPr>
        <p:spPr>
          <a:xfrm>
            <a:off x="3429000" y="3844800"/>
            <a:ext cx="20314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Box 3"/>
          <p:cNvSpPr/>
          <p:nvPr/>
        </p:nvSpPr>
        <p:spPr>
          <a:xfrm>
            <a:off x="488880" y="173160"/>
            <a:ext cx="729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人简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857160" y="857160"/>
            <a:ext cx="6714720" cy="4214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10243e"/>
                </a:solidFill>
                <a:latin typeface="微软雅黑"/>
                <a:ea typeface="微软雅黑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10243e"/>
                </a:solidFill>
                <a:latin typeface="微软雅黑"/>
                <a:ea typeface="微软雅黑"/>
              </a:rPr>
              <a:t>     </a:t>
            </a:r>
            <a:r>
              <a:rPr b="0" lang="zh-CN" sz="1800" spc="-1" strike="noStrike">
                <a:solidFill>
                  <a:srgbClr val="10243e"/>
                </a:solidFill>
                <a:latin typeface="微软雅黑"/>
                <a:ea typeface="微软雅黑"/>
              </a:rPr>
              <a:t>本人刘</a:t>
            </a:r>
            <a:r>
              <a:rPr b="0" lang="en-US" sz="1800" spc="-1" strike="noStrike">
                <a:solidFill>
                  <a:srgbClr val="10243e"/>
                </a:solidFill>
                <a:latin typeface="微软雅黑"/>
                <a:ea typeface="微软雅黑"/>
              </a:rPr>
              <a:t>X</a:t>
            </a:r>
            <a:r>
              <a:rPr b="0" lang="zh-CN" sz="1800" spc="-1" strike="noStrike">
                <a:solidFill>
                  <a:srgbClr val="10243e"/>
                </a:solidFill>
                <a:latin typeface="微软雅黑"/>
                <a:ea typeface="微软雅黑"/>
              </a:rPr>
              <a:t>，性别男，汉族人，于</a:t>
            </a:r>
            <a:r>
              <a:rPr b="0" lang="en-US" sz="1800" spc="-1" strike="noStrike">
                <a:solidFill>
                  <a:srgbClr val="10243e"/>
                </a:solidFill>
                <a:latin typeface="微软雅黑"/>
                <a:ea typeface="微软雅黑"/>
              </a:rPr>
              <a:t>1979</a:t>
            </a:r>
            <a:r>
              <a:rPr b="0" lang="zh-CN" sz="1800" spc="-1" strike="noStrike">
                <a:solidFill>
                  <a:srgbClr val="10243e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10243e"/>
                </a:solidFill>
                <a:latin typeface="微软雅黑"/>
                <a:ea typeface="微软雅黑"/>
              </a:rPr>
              <a:t>5</a:t>
            </a:r>
            <a:r>
              <a:rPr b="0" lang="zh-CN" sz="1800" spc="-1" strike="noStrike">
                <a:solidFill>
                  <a:srgbClr val="10243e"/>
                </a:solidFill>
                <a:latin typeface="微软雅黑"/>
                <a:ea typeface="微软雅黑"/>
              </a:rPr>
              <a:t>月</a:t>
            </a:r>
            <a:r>
              <a:rPr b="0" lang="en-US" sz="1800" spc="-1" strike="noStrike">
                <a:solidFill>
                  <a:srgbClr val="10243e"/>
                </a:solidFill>
                <a:latin typeface="微软雅黑"/>
                <a:ea typeface="微软雅黑"/>
              </a:rPr>
              <a:t>23</a:t>
            </a:r>
            <a:r>
              <a:rPr b="0" lang="zh-CN" sz="1800" spc="-1" strike="noStrike">
                <a:solidFill>
                  <a:srgbClr val="10243e"/>
                </a:solidFill>
                <a:latin typeface="微软雅黑"/>
                <a:ea typeface="微软雅黑"/>
              </a:rPr>
              <a:t>日出生在柳州市的一个干部小家庭。系湖南商学院信息工程与信息管理系九八级自考班的学生，现担任本系自考部的团总支书记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Proficiency in AutoCAD drawing software, Pro / E software, Photoshop software, to use word, excel and software to operate independently and in a timely and efficient comple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Box 4"/>
          <p:cNvSpPr/>
          <p:nvPr/>
        </p:nvSpPr>
        <p:spPr>
          <a:xfrm>
            <a:off x="282600" y="173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内容占位符 7"/>
          <p:cNvSpPr/>
          <p:nvPr/>
        </p:nvSpPr>
        <p:spPr>
          <a:xfrm>
            <a:off x="4071960" y="1357200"/>
            <a:ext cx="3771720" cy="2828520"/>
          </a:xfrm>
          <a:prstGeom prst="snip2DiagRect">
            <a:avLst>
              <a:gd name="adj1" fmla="val 0"/>
              <a:gd name="adj2" fmla="val 16667"/>
            </a:avLst>
          </a:prstGeom>
          <a:blipFill rotWithShape="0">
            <a:blip r:embed="rId2"/>
            <a:srcRect/>
            <a:stretch/>
          </a:blipFill>
          <a:ln cap="sq" w="88900">
            <a:solidFill>
              <a:srgbClr val="ffffff"/>
            </a:solidFill>
            <a:miter/>
          </a:ln>
          <a:effectLst>
            <a:outerShdw algn="tl" blurRad="88920" rotWithShape="0">
              <a:srgbClr val="000000">
                <a:alpha val="45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" descr="C:\Users\lidan\Desktop\未标题-3.png"/>
          <p:cNvPicPr/>
          <p:nvPr/>
        </p:nvPicPr>
        <p:blipFill>
          <a:blip r:embed="rId3"/>
          <a:stretch/>
        </p:blipFill>
        <p:spPr>
          <a:xfrm>
            <a:off x="217800" y="1084320"/>
            <a:ext cx="4105080" cy="642600"/>
          </a:xfrm>
          <a:prstGeom prst="rect">
            <a:avLst/>
          </a:prstGeom>
          <a:ln w="9525">
            <a:noFill/>
          </a:ln>
        </p:spPr>
      </p:pic>
      <p:sp>
        <p:nvSpPr>
          <p:cNvPr id="182" name="TextBox 10"/>
          <p:cNvSpPr/>
          <p:nvPr/>
        </p:nvSpPr>
        <p:spPr>
          <a:xfrm>
            <a:off x="960120" y="10843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9"/>
          <p:cNvSpPr/>
          <p:nvPr/>
        </p:nvSpPr>
        <p:spPr>
          <a:xfrm>
            <a:off x="64800" y="-9000"/>
            <a:ext cx="719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10243e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10243e"/>
                </a:solidFill>
                <a:latin typeface="Arial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10243e"/>
                </a:solidFill>
                <a:latin typeface="Arial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10243e"/>
                </a:solidFill>
                <a:latin typeface="Arial"/>
                <a:ea typeface="宋体"/>
              </a:rPr>
              <a:t>行业</a:t>
            </a:r>
            <a:r>
              <a:rPr b="0" lang="en-US" sz="100" spc="-1" strike="noStrike">
                <a:solidFill>
                  <a:srgbClr val="10243e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10243e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10243e"/>
                </a:solidFill>
                <a:latin typeface="Arial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10243e"/>
                </a:solidFill>
                <a:latin typeface="Arial"/>
                <a:ea typeface="宋体"/>
              </a:rPr>
              <a:t>节日</a:t>
            </a:r>
            <a:r>
              <a:rPr b="0" lang="en-US" sz="100" spc="-1" strike="noStrike">
                <a:solidFill>
                  <a:srgbClr val="10243e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10243e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10243e"/>
                </a:solidFill>
                <a:latin typeface="Arial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10243e"/>
                </a:solidFill>
                <a:latin typeface="Arial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10243e"/>
                </a:solidFill>
                <a:latin typeface="Arial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10243e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10243e"/>
                </a:solidFill>
                <a:latin typeface="Arial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10243e"/>
                </a:solidFill>
                <a:latin typeface="Arial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10243e"/>
                </a:solidFill>
                <a:latin typeface="Arial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10243e"/>
                </a:solidFill>
                <a:latin typeface="Arial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10243e"/>
                </a:solidFill>
                <a:latin typeface="Arial"/>
                <a:ea typeface="宋体"/>
              </a:rPr>
              <a:t>优秀</a:t>
            </a:r>
            <a:r>
              <a:rPr b="0" lang="en-US" sz="100" spc="-1" strike="noStrike">
                <a:solidFill>
                  <a:srgbClr val="10243e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10243e"/>
                </a:solidFill>
                <a:latin typeface="Arial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10243e"/>
                </a:solidFill>
                <a:latin typeface="Arial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10243e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10243e"/>
                </a:solidFill>
                <a:latin typeface="Arial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10243e"/>
                </a:solidFill>
                <a:latin typeface="Arial"/>
                <a:ea typeface="宋体"/>
              </a:rPr>
              <a:t>Word</a:t>
            </a:r>
            <a:r>
              <a:rPr b="0" lang="zh-CN" sz="100" spc="-1" strike="noStrike">
                <a:solidFill>
                  <a:srgbClr val="10243e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10243e"/>
                </a:solidFill>
                <a:latin typeface="Arial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10243e"/>
                </a:solidFill>
                <a:latin typeface="Arial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10243e"/>
                </a:solidFill>
                <a:latin typeface="Arial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10243e"/>
                </a:solidFill>
                <a:latin typeface="Arial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10243e"/>
                </a:solidFill>
                <a:latin typeface="Arial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10243e"/>
                </a:solidFill>
                <a:latin typeface="Arial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10243e"/>
                </a:solidFill>
                <a:latin typeface="Arial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10243e"/>
                </a:solidFill>
                <a:latin typeface="Arial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10243e"/>
                </a:solidFill>
                <a:latin typeface="Arial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10243e"/>
                </a:solidFill>
                <a:latin typeface="Arial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10243e"/>
                </a:solidFill>
                <a:latin typeface="Arial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10243e"/>
                </a:solidFill>
                <a:latin typeface="Arial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10243e"/>
                </a:solidFill>
                <a:latin typeface="Arial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10243e"/>
                </a:solidFill>
                <a:latin typeface="Arial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副标题 2"/>
          <p:cNvSpPr/>
          <p:nvPr/>
        </p:nvSpPr>
        <p:spPr>
          <a:xfrm>
            <a:off x="157320" y="3429000"/>
            <a:ext cx="398592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tabLst>
                <a:tab algn="l" pos="0"/>
              </a:tabLst>
            </a:pPr>
            <a:r>
              <a:rPr b="0" lang="en-US" sz="3600" spc="-15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THE ENG THAN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Group 2"/>
          <p:cNvGrpSpPr/>
          <p:nvPr/>
        </p:nvGrpSpPr>
        <p:grpSpPr>
          <a:xfrm>
            <a:off x="762120" y="0"/>
            <a:ext cx="7055280" cy="5714640"/>
            <a:chOff x="762120" y="0"/>
            <a:chExt cx="7055280" cy="5714640"/>
          </a:xfrm>
        </p:grpSpPr>
        <p:sp>
          <p:nvSpPr>
            <p:cNvPr id="186" name="矩形 4"/>
            <p:cNvSpPr/>
            <p:nvPr/>
          </p:nvSpPr>
          <p:spPr>
            <a:xfrm>
              <a:off x="1271880" y="0"/>
              <a:ext cx="5659560" cy="59796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34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en-US" sz="334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34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en-US" sz="334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334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762120" y="1428840"/>
              <a:ext cx="7055280" cy="42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Box 7">
              <a:hlinkClick r:id="rId3"/>
            </p:cNvPr>
            <p:cNvSpPr/>
            <p:nvPr/>
          </p:nvSpPr>
          <p:spPr>
            <a:xfrm rot="20926800">
              <a:off x="2361240" y="2964960"/>
              <a:ext cx="3889080" cy="10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</a:pPr>
              <a:r>
                <a:rPr b="1" lang="zh-CN" sz="266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en-US" sz="266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66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266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www.</a:t>
              </a:r>
              <a:r>
                <a:rPr b="1" lang="en-US" sz="266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eeppt</a:t>
              </a:r>
              <a:r>
                <a:rPr b="1" lang="en-US" sz="266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6"/>
                </a:rPr>
                <a:t>.com</a:t>
              </a:r>
              <a:endParaRPr b="0" lang="en-US" sz="266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默认设计模板">
  <a:themeElements>
    <a:clrScheme name="默认设计模板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cfdef3"/>
      </a:accent1>
      <a:accent2>
        <a:srgbClr val="333399"/>
      </a:accent2>
      <a:accent3>
        <a:srgbClr val="ffffff"/>
      </a:accent3>
      <a:accent4>
        <a:srgbClr val="000000"/>
      </a:accent4>
      <a:accent5>
        <a:srgbClr val="e4ecf8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  <Words>310</Words>
  <Paragraphs>3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6T03:37:13Z</dcterms:created>
  <dc:creator>lidan</dc:creator>
  <dc:description/>
  <dc:language>en-US</dc:language>
  <cp:lastModifiedBy>a</cp:lastModifiedBy>
  <dcterms:modified xsi:type="dcterms:W3CDTF">2015-02-09T02:59:57Z</dcterms:modified>
  <cp:revision>37</cp:revision>
  <dc:subject/>
  <dc:title>自我介绍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16:10)</vt:lpwstr>
  </property>
  <property fmtid="{D5CDD505-2E9C-101B-9397-08002B2CF9AE}" pid="3" name="Slides">
    <vt:r8>6</vt:r8>
  </property>
</Properties>
</file>