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B712-57DA-40F2-A56E-B906B1E5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3DF3-1902-459D-A509-3FD660AC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FA7-2C90-409A-B5FE-BAEC02BF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9A5-4C25-4DB9-A8AC-7491EB17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214F-9C9F-4F69-B64F-731CA1D5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0CFA-E5C9-44CD-B0F5-1CC147AA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74EE-C5E7-41F2-8336-344D5445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84F9-2CC1-4792-8AF8-A867813C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4A2D-8282-4939-A15D-970020A5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D7B9-244C-496E-9CAA-222E6A29B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0F3-C0BA-4999-9AFE-7F76628B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F84-997C-4849-B3EC-8059630C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C321-E438-44CF-8483-9972D9DC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38F8-AF60-4D4B-B714-4685EED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0E23-68DE-44DB-803A-F561578E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311DC-548E-4042-AE7D-6996C50E9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160A-2061-4B1D-9C0C-0E496F63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06802-A83A-4D5B-BAE9-60208F94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9F4E8-7C70-4DFA-824E-B0EA7974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C721-7CE0-445D-8D49-B58C479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5D015-5D6D-40A6-83CF-7C335C8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12688-7E6B-4B64-B137-063A0C1F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4C4-4363-4CF4-82E3-56F2531A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236B-1139-46ED-8F23-702C166C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A36D8-5F59-42A3-9E04-B299B4E6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F3077-79F6-4966-923A-5776B96A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C3B4-7AD4-4F6B-A76D-3FDE179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00AD-9854-49AD-A99C-3F44D3FA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1F5B7-4192-4DC6-93CF-5A8077F0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124B2-D4FE-4B2D-9F36-4D1337AE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8CFBE-429E-4F25-A75D-7C20F172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C9F3-FEB7-47F2-87B3-FAC6E669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F89A-E06C-43F8-BDA4-2E8A9CB70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A6A4-B5E3-4A79-9912-DBD59AFC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07AF0-B069-44BE-985F-8A7E4384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A9BA-E9DB-431F-85C5-5C7F88D8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DA7B8-323B-46D4-B737-EA1EE59A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01804-FE00-4F3D-A04E-81D4D199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B0249-5EFF-43FF-A053-8D72505A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E50E-58E2-4288-A275-6F65093E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6AE5-94A3-4EC5-94C9-ACE5F2D0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1BAA-3F9A-406C-8D51-4E7A9D48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9D996-6AC0-449F-8471-775A6B41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A8B1A-1875-419C-BD7A-9829B680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52D-9339-460B-A541-19B29794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4C93B-B6C4-4F7E-917E-6218AAA4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182D-1490-4BD3-95B8-3D6FDF33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1982C-5795-49F0-AC2F-017DAD61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FDC18-ACAA-4FD0-A7F9-C90C819A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1BAC8-66E7-4F8E-837F-B1D11A34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A2F5D-1DEF-4A45-947B-430803ED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CB11A-FB2F-4EBF-AEA7-D745CA47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54A2D-A417-411F-8C0B-2DA199E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2AC65-8258-44D1-AC8A-36448884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EB1AB-AE05-4A92-8F0B-5250A188D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28240"/>
            <a:ext cx="8001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8F7-1692-4FD4-AEAA-4F69C266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480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53440" y="114264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26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8480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553440" y="4088160"/>
            <a:ext cx="25761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738E6-0FA3-4171-BE52-DE82CE2C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A80E-0507-4A88-AFBE-A36DD5C1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42320" y="408816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CA9B-E25C-4159-9B40-A8625346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8144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42320" y="1142640"/>
            <a:ext cx="3904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4088160"/>
            <a:ext cx="8001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0DEF-BF8C-4D8C-BA92-A7770A2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1120-B8F3-45C9-AFAF-4D37E069BECC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1034" descr="Z:\newtek\_backgrounds_1.02\Tim\powerpoint templates\61-80\planet_corporate\elements\spinning_globe.gif"/>
          <p:cNvPicPr/>
          <p:nvPr/>
        </p:nvPicPr>
        <p:blipFill>
          <a:blip r:embed="rId3"/>
          <a:stretch/>
        </p:blipFill>
        <p:spPr>
          <a:xfrm>
            <a:off x="7238880" y="4800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0A70-2209-4D7C-AC38-FCAC1E9D3386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图片 1034" descr="Z:\newtek\_backgrounds_1.02\Tim\powerpoint templates\61-80\planet_corporate\elements\spinning_globe.gif"/>
          <p:cNvPicPr/>
          <p:nvPr/>
        </p:nvPicPr>
        <p:blipFill>
          <a:blip r:embed="rId3"/>
          <a:stretch/>
        </p:blipFill>
        <p:spPr>
          <a:xfrm>
            <a:off x="7238880" y="48006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6DD5-670B-4175-988D-465FB354040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B54A-74DD-4F17-9F97-A2E743FE0F1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F046-DF8D-4C9C-BD21-2FD5525F9144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8C35-1DBB-4369-9E14-C5B58D58B3AF}" type="slidenum">
              <a:rPr b="0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727000" y="266364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公司企业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Impact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666520" y="36576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742840" y="2666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666520" y="36576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42640" y="11426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42840" y="2666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Transitional Pa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666520" y="365760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Franklin Gothic Demi"/>
              </a:rPr>
              <a:t>Your Subtitle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3209A-5671-4703-A6F5-0DEF931A8F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42840" y="2666880"/>
            <a:ext cx="617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El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11272" descr="Z:\newtek\_backgrounds_1.02\Tim\powerpoint templates\61-80\planet_corporate\planet_corporate_prt.jpg"/>
          <p:cNvPicPr/>
          <p:nvPr/>
        </p:nvPicPr>
        <p:blipFill>
          <a:blip r:embed="rId1"/>
          <a:stretch/>
        </p:blipFill>
        <p:spPr>
          <a:xfrm>
            <a:off x="6846840" y="51055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1273" descr="Z:\newtek\_backgrounds_1.02\Tim\powerpoint templates\61-80\planet_corporate\planet_corporate_qx.jpg"/>
          <p:cNvPicPr/>
          <p:nvPr/>
        </p:nvPicPr>
        <p:blipFill>
          <a:blip r:embed="rId2"/>
          <a:stretch/>
        </p:blipFill>
        <p:spPr>
          <a:xfrm>
            <a:off x="152280" y="51055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1274" descr="Z:\newtek\_backgrounds_1.02\Tim\powerpoint templates\61-80\planet_corporate\planet_corporate_sld.jpg"/>
          <p:cNvPicPr/>
          <p:nvPr/>
        </p:nvPicPr>
        <p:blipFill>
          <a:blip r:embed="rId3"/>
          <a:stretch/>
        </p:blipFill>
        <p:spPr>
          <a:xfrm>
            <a:off x="2384280" y="51055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275" descr="Z:\newtek\_backgrounds_1.02\Tim\powerpoint templates\61-80\planet_corporate\planet_corporate_trs.jpg"/>
          <p:cNvPicPr/>
          <p:nvPr/>
        </p:nvPicPr>
        <p:blipFill>
          <a:blip r:embed="rId4"/>
          <a:stretch/>
        </p:blipFill>
        <p:spPr>
          <a:xfrm>
            <a:off x="4614840" y="5105520"/>
            <a:ext cx="2144880" cy="16081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1278" descr="Z:\newtek\_backgrounds_1.02\Tim\powerpoint templates\61-80\planet_corporate\elements\spinning_globe.gif"/>
          <p:cNvPicPr/>
          <p:nvPr/>
        </p:nvPicPr>
        <p:blipFill>
          <a:blip r:embed="rId5"/>
          <a:stretch/>
        </p:blipFill>
        <p:spPr>
          <a:xfrm>
            <a:off x="6553080" y="3049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3T14:21:5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3:37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