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6F7F-235C-42D3-8A0F-2835EE6B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6FA4-5876-4F83-BA3B-23B8B029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8F00-DC74-452C-BE5A-A62EFDA5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A2ED-0E6B-43BD-94E1-2725B5FA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A18-C8E6-4B34-8E59-E962353F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4388-3B76-4A8E-9C16-9EE05ED5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175-2DA7-4E6A-B155-9285D442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657F-DF1A-4BF7-9F4C-B8CAB33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CA9B-EBA7-4B15-BB31-1C34DD50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5763-BE39-4FA5-898F-361541E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68AE-8F7A-4731-B305-7829BCEA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A09E-CB63-4CD0-8422-36ABDF54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127B-2C0E-46C0-8E53-4A86296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AED5-E00A-4F0E-9C43-1C3C3E2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0B0B-4DA9-4CE7-9B5E-C10F3C35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3AE2-78A8-4821-AB9B-CD64CC79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37C6-2C84-43B8-8467-7C1345B8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F053B-66F3-48AF-8648-7EE3620C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58EA6-ECE8-4AC7-AE6E-4F72557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ED407-1438-480F-A60E-DBD7186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BDF92-A22E-43ED-919F-B47CF363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6A643-AAEF-4283-AA2F-E489537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84B4-AE63-48BA-9805-1106B3D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BE829-2608-4475-8A21-037116AF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6A8E0-8B3D-4836-BFB2-C96671E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BE942-53C6-484E-AB54-B542222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0EE90-14DA-4602-B101-4AD6FA4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ADFB1-5507-4254-A6D4-E5C8F19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8D866-59DC-4EA1-8E45-113F75DC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DE33D-2A33-433B-9771-41F472EE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33CD-C425-4770-9639-E3381A5B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1DBA-D065-42F6-9DA4-E1877BE7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EF4D-C9E8-4B7F-B2A4-1A0BAD9D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3847-3AA1-4B46-B8DC-28DF4EE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B9BE-D9F0-4B24-9B34-832795C4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2BF9-B042-4118-B83B-6C82F42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91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矩形 1156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" name="任意多边形 1149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矩形 1150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67c5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B263-B904-457F-AED7-0B61044740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矩形 1195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14240" y="-7920"/>
            <a:ext cx="360" cy="1143000"/>
            <a:chOff x="714240" y="-7920"/>
            <a:chExt cx="360" cy="1143000"/>
          </a:xfrm>
        </p:grpSpPr>
        <p:sp>
          <p:nvSpPr>
            <p:cNvPr id="11" name="直接连接符 1183"/>
            <p:cNvSpPr/>
            <p:nvPr/>
          </p:nvSpPr>
          <p:spPr>
            <a:xfrm>
              <a:off x="714240" y="-7920"/>
              <a:ext cx="0" cy="114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714240" y="-792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-1440" y="357120"/>
            <a:ext cx="1073160" cy="360"/>
            <a:chOff x="-1440" y="357120"/>
            <a:chExt cx="1073160" cy="360"/>
          </a:xfrm>
        </p:grpSpPr>
        <p:sp>
          <p:nvSpPr>
            <p:cNvPr id="14" name="直接连接符 1186"/>
            <p:cNvSpPr/>
            <p:nvPr/>
          </p:nvSpPr>
          <p:spPr>
            <a:xfrm>
              <a:off x="-1440" y="357120"/>
              <a:ext cx="1073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-1440" y="357120"/>
              <a:ext cx="107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3240" y="728640"/>
            <a:ext cx="9140760" cy="360"/>
            <a:chOff x="3240" y="728640"/>
            <a:chExt cx="9140760" cy="360"/>
          </a:xfrm>
        </p:grpSpPr>
        <p:sp>
          <p:nvSpPr>
            <p:cNvPr id="17" name="直接连接符 1187"/>
            <p:cNvSpPr/>
            <p:nvPr/>
          </p:nvSpPr>
          <p:spPr>
            <a:xfrm>
              <a:off x="3240" y="728640"/>
              <a:ext cx="9140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" name=""/>
            <p:cNvSpPr txBox="1"/>
            <p:nvPr/>
          </p:nvSpPr>
          <p:spPr>
            <a:xfrm>
              <a:off x="3240" y="728640"/>
              <a:ext cx="914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58920" y="-22320"/>
            <a:ext cx="360" cy="1155960"/>
            <a:chOff x="358920" y="-22320"/>
            <a:chExt cx="360" cy="1155960"/>
          </a:xfrm>
        </p:grpSpPr>
        <p:sp>
          <p:nvSpPr>
            <p:cNvPr id="20" name="直接连接符 1188"/>
            <p:cNvSpPr/>
            <p:nvPr/>
          </p:nvSpPr>
          <p:spPr>
            <a:xfrm>
              <a:off x="358920" y="-22320"/>
              <a:ext cx="0" cy="115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" name=""/>
            <p:cNvSpPr txBox="1"/>
            <p:nvPr/>
          </p:nvSpPr>
          <p:spPr>
            <a:xfrm>
              <a:off x="358920" y="-22320"/>
              <a:ext cx="360" cy="115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A1E5-9FE6-44BE-8417-3A4CBAD45CE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135B-59E0-45C7-BBAD-0A2E3A52AA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3343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0" name="矩形 3323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1" name="矩形 3340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2" name="矩形 3325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3" name="矩形 3328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4" name="矩形 3330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309840" y="905040"/>
            <a:ext cx="360" cy="5190840"/>
            <a:chOff x="3309840" y="905040"/>
            <a:chExt cx="360" cy="5190840"/>
          </a:xfrm>
        </p:grpSpPr>
        <p:sp>
          <p:nvSpPr>
            <p:cNvPr id="106" name="直接连接符 3334"/>
            <p:cNvSpPr/>
            <p:nvPr/>
          </p:nvSpPr>
          <p:spPr>
            <a:xfrm>
              <a:off x="3309840" y="905040"/>
              <a:ext cx="0" cy="5190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309840" y="905040"/>
              <a:ext cx="360" cy="519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08" name="矩形 3329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2590920"/>
            <a:ext cx="4952880" cy="360"/>
            <a:chOff x="0" y="2590920"/>
            <a:chExt cx="4952880" cy="360"/>
          </a:xfrm>
        </p:grpSpPr>
        <p:sp>
          <p:nvSpPr>
            <p:cNvPr id="110" name="直接连接符 3336"/>
            <p:cNvSpPr/>
            <p:nvPr/>
          </p:nvSpPr>
          <p:spPr>
            <a:xfrm>
              <a:off x="0" y="2590920"/>
              <a:ext cx="4952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0" y="259092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320" y="4302000"/>
            <a:ext cx="4949640" cy="360"/>
            <a:chOff x="22320" y="4302000"/>
            <a:chExt cx="4949640" cy="360"/>
          </a:xfrm>
        </p:grpSpPr>
        <p:sp>
          <p:nvSpPr>
            <p:cNvPr id="113" name="直接连接符 3337"/>
            <p:cNvSpPr/>
            <p:nvPr/>
          </p:nvSpPr>
          <p:spPr>
            <a:xfrm>
              <a:off x="22320" y="4302000"/>
              <a:ext cx="4949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2320" y="4302000"/>
              <a:ext cx="49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66800" y="838080"/>
            <a:ext cx="360" cy="5257800"/>
            <a:chOff x="1666800" y="838080"/>
            <a:chExt cx="360" cy="5257800"/>
          </a:xfrm>
        </p:grpSpPr>
        <p:sp>
          <p:nvSpPr>
            <p:cNvPr id="116" name="直接连接符 3333"/>
            <p:cNvSpPr/>
            <p:nvPr/>
          </p:nvSpPr>
          <p:spPr>
            <a:xfrm>
              <a:off x="1666800" y="838080"/>
              <a:ext cx="0" cy="5257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666800" y="838080"/>
              <a:ext cx="36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78440" y="2190240"/>
            <a:ext cx="4178160" cy="19080"/>
            <a:chOff x="4978440" y="2190240"/>
            <a:chExt cx="4178160" cy="19080"/>
          </a:xfrm>
        </p:grpSpPr>
        <p:sp>
          <p:nvSpPr>
            <p:cNvPr id="119" name="直接连接符 3344"/>
            <p:cNvSpPr/>
            <p:nvPr/>
          </p:nvSpPr>
          <p:spPr>
            <a:xfrm flipV="1">
              <a:off x="4978440" y="2190240"/>
              <a:ext cx="4178160" cy="190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10800000">
              <a:off x="4978440" y="2189880"/>
              <a:ext cx="41781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78440" y="5568480"/>
            <a:ext cx="4178160" cy="19080"/>
            <a:chOff x="4978440" y="5568480"/>
            <a:chExt cx="4178160" cy="19080"/>
          </a:xfrm>
        </p:grpSpPr>
        <p:sp>
          <p:nvSpPr>
            <p:cNvPr id="122" name="直接连接符 3345"/>
            <p:cNvSpPr/>
            <p:nvPr/>
          </p:nvSpPr>
          <p:spPr>
            <a:xfrm flipV="1">
              <a:off x="4978440" y="5568480"/>
              <a:ext cx="4178160" cy="190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 rot="10800000">
              <a:off x="4978440" y="5568480"/>
              <a:ext cx="41781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4" name="矩形 3342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" name="文本框 3085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" name="矩形 3352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67c5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8F9-13A3-4C6D-BBDE-73EC2614F8D2}" type="slidenum">
              <a: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6019920" y="53179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hemeGallery </a:t>
            </a:r>
            <a:r>
              <a:rPr b="1" lang="en-US" sz="4000" spc="-1" strike="noStrike">
                <a:solidFill>
                  <a:srgbClr val="30311d"/>
                </a:solidFill>
                <a:latin typeface="Arial"/>
                <a:ea typeface="宋体"/>
              </a:rPr>
              <a:t>PowerTemp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70" name="图片 73736" descr="ff"/>
          <p:cNvPicPr/>
          <p:nvPr/>
        </p:nvPicPr>
        <p:blipFill>
          <a:blip r:embed="rId1"/>
          <a:stretch/>
        </p:blipFill>
        <p:spPr>
          <a:xfrm>
            <a:off x="6843600" y="4572000"/>
            <a:ext cx="757440" cy="8128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0311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0311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116000" y="117360"/>
            <a:ext cx="74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Arial"/>
              </a:rPr>
              <a:t>国外餐饮企业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右箭头 223234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0" name="文本框 223235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1" name="圆角矩形 223236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662" name="组合 223237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663" name="圆角矩形 223238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acf67"/>
                </a:gs>
                <a:gs pos="100000">
                  <a:srgbClr val="fef5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64" name="右箭头 223239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65" name="组合 223240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666" name="圆角矩形 223241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54b0c"/>
                </a:gs>
                <a:gs pos="100000">
                  <a:srgbClr val="e9d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67" name="右箭头 223242"/>
            <p:cNvSpPr/>
            <p:nvPr/>
          </p:nvSpPr>
          <p:spPr>
            <a:xfrm>
              <a:off x="31147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68" name="组合 223243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669" name="圆角矩形 223244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67c57"/>
                </a:gs>
                <a:gs pos="100000">
                  <a:srgbClr val="f6e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70" name="右箭头 223245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671" name="文本框 223246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2" name="文本框 223247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3" name="文本框 223248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椭圆 224258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d67c5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6" name="椭圆 224259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91597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7" name="椭圆 224260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facf6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660760" y="2579400"/>
            <a:ext cx="1149120" cy="833400"/>
            <a:chOff x="2660760" y="2579400"/>
            <a:chExt cx="1149120" cy="833400"/>
          </a:xfrm>
        </p:grpSpPr>
        <p:sp>
          <p:nvSpPr>
            <p:cNvPr id="679" name="直接连接符 224261"/>
            <p:cNvSpPr/>
            <p:nvPr/>
          </p:nvSpPr>
          <p:spPr>
            <a:xfrm flipH="1" flipV="1">
              <a:off x="2660760" y="2579400"/>
              <a:ext cx="1149120" cy="83340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 rot="10800000">
              <a:off x="2660760" y="2579400"/>
              <a:ext cx="1149120" cy="83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165640" y="2612880"/>
            <a:ext cx="1217520" cy="765360"/>
            <a:chOff x="5165640" y="2612880"/>
            <a:chExt cx="1217520" cy="765360"/>
          </a:xfrm>
        </p:grpSpPr>
        <p:sp>
          <p:nvSpPr>
            <p:cNvPr id="682" name="直接连接符 224262"/>
            <p:cNvSpPr/>
            <p:nvPr/>
          </p:nvSpPr>
          <p:spPr>
            <a:xfrm flipV="1">
              <a:off x="5165640" y="2612880"/>
              <a:ext cx="1217520" cy="76536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 rot="10800000">
              <a:off x="5165640" y="2612880"/>
              <a:ext cx="1217520" cy="76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66800" y="4562640"/>
            <a:ext cx="25920" cy="1042920"/>
            <a:chOff x="4366800" y="4562640"/>
            <a:chExt cx="25920" cy="1042920"/>
          </a:xfrm>
        </p:grpSpPr>
        <p:sp>
          <p:nvSpPr>
            <p:cNvPr id="685" name="直接连接符 224263"/>
            <p:cNvSpPr/>
            <p:nvPr/>
          </p:nvSpPr>
          <p:spPr>
            <a:xfrm flipH="1">
              <a:off x="4366800" y="456264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4367160" y="456264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687" name="矩形 224264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8" name="文本框 224265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67c57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9" name="文本框 224266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facf67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0" name="文本框 224267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54b0c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1" name="文本框 224268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2" name="文本框 224269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3" name="文本框 224270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椭圆 225295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54b0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7" name="圆角矩形 225296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8" name="圆角矩形 225297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9" name="圆角矩形 225298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0" name="圆角矩形 225299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1" name="圆角矩形 225300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2" name="矩形 225301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3" name="矩形 225302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4" name="矩形 225303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5" name="矩形 225304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6" name="矩形 225305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7" name="矩形 225306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8" name="矩形 225307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9" name="矩形 225308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0" name="矩形 225309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1" name="矩形 225310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2" name="矩形 225311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圆角矩形 226306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5" name="任意多边形 226307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d67c5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6" name="矩形 226308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7" name="文本框 226309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8" name="圆角矩形 226310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9" name="任意多边形 226311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acf6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0" name="矩形 226312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1" name="文本框 226313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2" name="圆角矩形 226314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3" name="任意多边形 226315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4" name="矩形 226316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5" name="文本框 226317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26" name="组合 226318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727" name="圆角矩形 226319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28" name="圆角矩形 226320"/>
            <p:cNvSpPr/>
            <p:nvPr/>
          </p:nvSpPr>
          <p:spPr>
            <a:xfrm>
              <a:off x="3451320" y="18176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cf67">
                    <a:alpha val="90196"/>
                  </a:srgbClr>
                </a:gs>
                <a:gs pos="50000">
                  <a:srgbClr val="fdefcc"/>
                </a:gs>
                <a:gs pos="100000">
                  <a:srgbClr val="facf67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29" name="矩形 226321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30" name="组合 226322"/>
          <p:cNvGrpSpPr/>
          <p:nvPr/>
        </p:nvGrpSpPr>
        <p:grpSpPr>
          <a:xfrm>
            <a:off x="6149880" y="1787400"/>
            <a:ext cx="2384640" cy="538200"/>
            <a:chOff x="6149880" y="1787400"/>
            <a:chExt cx="2384640" cy="538200"/>
          </a:xfrm>
        </p:grpSpPr>
        <p:sp>
          <p:nvSpPr>
            <p:cNvPr id="731" name="圆角矩形 226323"/>
            <p:cNvSpPr/>
            <p:nvPr/>
          </p:nvSpPr>
          <p:spPr>
            <a:xfrm>
              <a:off x="61498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32" name="圆角矩形 226324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4b0c">
                    <a:alpha val="90196"/>
                  </a:srgbClr>
                </a:gs>
                <a:gs pos="50000">
                  <a:srgbClr val="dbc2ad"/>
                </a:gs>
                <a:gs pos="100000">
                  <a:srgbClr val="954b0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33" name="矩形 226325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34" name="组合 226326"/>
          <p:cNvGrpSpPr/>
          <p:nvPr/>
        </p:nvGrpSpPr>
        <p:grpSpPr>
          <a:xfrm>
            <a:off x="730080" y="1787400"/>
            <a:ext cx="2384640" cy="538200"/>
            <a:chOff x="730080" y="1787400"/>
            <a:chExt cx="2384640" cy="538200"/>
          </a:xfrm>
        </p:grpSpPr>
        <p:sp>
          <p:nvSpPr>
            <p:cNvPr id="735" name="圆角矩形 226327"/>
            <p:cNvSpPr/>
            <p:nvPr/>
          </p:nvSpPr>
          <p:spPr>
            <a:xfrm>
              <a:off x="7300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2d1f"/>
                </a:gs>
                <a:gs pos="50000">
                  <a:srgbClr val="d67c57"/>
                </a:gs>
                <a:gs pos="100000">
                  <a:srgbClr val="4d2d1f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36" name="圆角矩形 226328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7c57">
                    <a:alpha val="90196"/>
                  </a:srgbClr>
                </a:gs>
                <a:gs pos="50000">
                  <a:srgbClr val="f1d3c6"/>
                </a:gs>
                <a:gs pos="100000">
                  <a:srgbClr val="d67c57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37" name="矩形 226329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8" name="等腰三角形 226330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67c5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9" name="等腰三角形 226331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0" name="等腰三角形 226332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54b0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组合 227330"/>
          <p:cNvGrpSpPr/>
          <p:nvPr/>
        </p:nvGrpSpPr>
        <p:grpSpPr>
          <a:xfrm>
            <a:off x="2324880" y="1933560"/>
            <a:ext cx="4218480" cy="4162320"/>
            <a:chOff x="2324880" y="1933560"/>
            <a:chExt cx="4218480" cy="4162320"/>
          </a:xfrm>
        </p:grpSpPr>
        <p:sp>
          <p:nvSpPr>
            <p:cNvPr id="743" name="等腰三角形 227331"/>
            <p:cNvSpPr/>
            <p:nvPr/>
          </p:nvSpPr>
          <p:spPr>
            <a:xfrm rot="10800000">
              <a:off x="3816000" y="504324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91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4" name="等腰三角形 227332"/>
            <p:cNvSpPr/>
            <p:nvPr/>
          </p:nvSpPr>
          <p:spPr>
            <a:xfrm>
              <a:off x="3833640" y="193356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acf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5" name="等腰三角形 227333"/>
            <p:cNvSpPr/>
            <p:nvPr/>
          </p:nvSpPr>
          <p:spPr>
            <a:xfrm rot="7186200">
              <a:off x="5193000" y="424728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facf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6" name="等腰三角形 227334"/>
            <p:cNvSpPr/>
            <p:nvPr/>
          </p:nvSpPr>
          <p:spPr>
            <a:xfrm rot="3597000">
              <a:off x="5189400" y="2713680"/>
              <a:ext cx="1192320" cy="1050840"/>
            </a:xfrm>
            <a:prstGeom prst="triangle">
              <a:avLst>
                <a:gd name="adj" fmla="val 50000"/>
              </a:avLst>
            </a:prstGeom>
            <a:solidFill>
              <a:srgbClr val="91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7" name="等腰三角形 227335"/>
            <p:cNvSpPr/>
            <p:nvPr/>
          </p:nvSpPr>
          <p:spPr>
            <a:xfrm rot="14374200">
              <a:off x="2484000" y="425592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acf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8" name="等腰三角形 227336"/>
            <p:cNvSpPr/>
            <p:nvPr/>
          </p:nvSpPr>
          <p:spPr>
            <a:xfrm rot="17985000">
              <a:off x="2487960" y="270936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91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3159000" y="5429160"/>
              <a:ext cx="1182600" cy="360"/>
              <a:chOff x="3159000" y="5429160"/>
              <a:chExt cx="1182600" cy="360"/>
            </a:xfrm>
          </p:grpSpPr>
          <p:sp>
            <p:nvSpPr>
              <p:cNvPr id="750" name="直接连接符 227337"/>
              <p:cNvSpPr/>
              <p:nvPr/>
            </p:nvSpPr>
            <p:spPr>
              <a:xfrm>
                <a:off x="3159000" y="5429160"/>
                <a:ext cx="118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3159000" y="5429160"/>
                <a:ext cx="118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752" name="矩形 227338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3" name="矩形 227339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4" name="矩形 227340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5" name="矩形 227341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6" name="矩形 227342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7" name="矩形 227343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8" name="六边形 227344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181320" y="5457960"/>
            <a:ext cx="1228680" cy="360"/>
            <a:chOff x="3181320" y="5457960"/>
            <a:chExt cx="1228680" cy="360"/>
          </a:xfrm>
        </p:grpSpPr>
        <p:sp>
          <p:nvSpPr>
            <p:cNvPr id="760" name="直接连接符 227345"/>
            <p:cNvSpPr/>
            <p:nvPr/>
          </p:nvSpPr>
          <p:spPr>
            <a:xfrm>
              <a:off x="3181320" y="545796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3181320" y="545796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16200" y="2451240"/>
            <a:ext cx="1229040" cy="360"/>
            <a:chOff x="4516200" y="2451240"/>
            <a:chExt cx="1229040" cy="360"/>
          </a:xfrm>
        </p:grpSpPr>
        <p:sp>
          <p:nvSpPr>
            <p:cNvPr id="763" name="直接连接符 227346"/>
            <p:cNvSpPr/>
            <p:nvPr/>
          </p:nvSpPr>
          <p:spPr>
            <a:xfrm flipH="1">
              <a:off x="4516200" y="245124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4516560" y="245124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65" name="文本框 227347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103480" y="3286080"/>
            <a:ext cx="1228680" cy="360"/>
            <a:chOff x="2103480" y="3286080"/>
            <a:chExt cx="1228680" cy="360"/>
          </a:xfrm>
        </p:grpSpPr>
        <p:sp>
          <p:nvSpPr>
            <p:cNvPr id="767" name="直接连接符 227348"/>
            <p:cNvSpPr/>
            <p:nvPr/>
          </p:nvSpPr>
          <p:spPr>
            <a:xfrm>
              <a:off x="2103480" y="328608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2103480" y="328608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103480" y="4705200"/>
            <a:ext cx="1228680" cy="360"/>
            <a:chOff x="2103480" y="4705200"/>
            <a:chExt cx="1228680" cy="360"/>
          </a:xfrm>
        </p:grpSpPr>
        <p:sp>
          <p:nvSpPr>
            <p:cNvPr id="770" name="直接连接符 227349"/>
            <p:cNvSpPr/>
            <p:nvPr/>
          </p:nvSpPr>
          <p:spPr>
            <a:xfrm>
              <a:off x="2103480" y="4705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2103480" y="47052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744880" y="3303720"/>
            <a:ext cx="1229040" cy="360"/>
            <a:chOff x="5744880" y="3303720"/>
            <a:chExt cx="1229040" cy="360"/>
          </a:xfrm>
        </p:grpSpPr>
        <p:sp>
          <p:nvSpPr>
            <p:cNvPr id="773" name="直接连接符 227350"/>
            <p:cNvSpPr/>
            <p:nvPr/>
          </p:nvSpPr>
          <p:spPr>
            <a:xfrm flipH="1">
              <a:off x="5744880" y="3303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5745240" y="33037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744880" y="4675320"/>
            <a:ext cx="1229040" cy="360"/>
            <a:chOff x="5744880" y="4675320"/>
            <a:chExt cx="1229040" cy="360"/>
          </a:xfrm>
        </p:grpSpPr>
        <p:sp>
          <p:nvSpPr>
            <p:cNvPr id="776" name="直接连接符 227351"/>
            <p:cNvSpPr/>
            <p:nvPr/>
          </p:nvSpPr>
          <p:spPr>
            <a:xfrm flipH="1">
              <a:off x="5744880" y="4675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5745240" y="46753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78" name="圆角矩形 227354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54b0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54b0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9" name="圆角矩形 227355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67c5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任意多边形 229446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a78a45">
                  <a:alpha val="12156"/>
                </a:srgbClr>
              </a:gs>
              <a:gs pos="50000">
                <a:srgbClr val="facf67"/>
              </a:gs>
              <a:gs pos="100000">
                <a:srgbClr val="a78a45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2" name="椭圆 229447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d67c57"/>
              </a:gs>
              <a:gs pos="100000">
                <a:srgbClr val="884f37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3" name="圆角矩形 229448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cf6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4" name="圆角矩形 229449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bfeae"/>
              </a:gs>
              <a:gs pos="100000">
                <a:srgbClr val="fcfffa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5" name="圆角矩形 229450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cf6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6" name="圆角矩形 229451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bfeae"/>
              </a:gs>
              <a:gs pos="100000">
                <a:srgbClr val="fcfffa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7" name="圆角矩形 229452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cf6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8" name="文本框 229453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椭圆 231426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1" name="任意多边形 231427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2" name="任意多边形 231428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54b0c"/>
              </a:gs>
              <a:gs pos="100000">
                <a:srgbClr val="d2b39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3" name="任意多边形 231429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caaec0"/>
              </a:gs>
              <a:gs pos="100000">
                <a:srgbClr val="9159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4" name="任意多边形 231430"/>
          <p:cNvSpPr/>
          <p:nvPr/>
        </p:nvSpPr>
        <p:spPr>
          <a:xfrm rot="16200000">
            <a:off x="221760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d67c57"/>
              </a:gs>
              <a:gs pos="100000">
                <a:srgbClr val="eec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5" name="文本框 231431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6" name="文本框 231432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857840" y="3884760"/>
            <a:ext cx="360" cy="115920"/>
            <a:chOff x="4857840" y="3884760"/>
            <a:chExt cx="360" cy="115920"/>
          </a:xfrm>
        </p:grpSpPr>
        <p:sp>
          <p:nvSpPr>
            <p:cNvPr id="798" name="直接连接符 231433"/>
            <p:cNvSpPr/>
            <p:nvPr/>
          </p:nvSpPr>
          <p:spPr>
            <a:xfrm>
              <a:off x="485784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485784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4443480" y="4143240"/>
            <a:ext cx="360" cy="69840"/>
            <a:chOff x="4443480" y="4143240"/>
            <a:chExt cx="360" cy="69840"/>
          </a:xfrm>
        </p:grpSpPr>
        <p:sp>
          <p:nvSpPr>
            <p:cNvPr id="801" name="直接连接符 231434"/>
            <p:cNvSpPr/>
            <p:nvPr/>
          </p:nvSpPr>
          <p:spPr>
            <a:xfrm>
              <a:off x="444348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444348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2200320" y="3635280"/>
            <a:ext cx="1014480" cy="830520"/>
            <a:chOff x="2200320" y="3635280"/>
            <a:chExt cx="1014480" cy="830520"/>
          </a:xfrm>
        </p:grpSpPr>
        <p:sp>
          <p:nvSpPr>
            <p:cNvPr id="804" name="直接连接符 231435"/>
            <p:cNvSpPr/>
            <p:nvPr/>
          </p:nvSpPr>
          <p:spPr>
            <a:xfrm flipH="1">
              <a:off x="2200320" y="3635280"/>
              <a:ext cx="1014480" cy="83052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220032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06" name="任意多边形 231436"/>
          <p:cNvSpPr/>
          <p:nvPr/>
        </p:nvSpPr>
        <p:spPr>
          <a:xfrm rot="16200000">
            <a:off x="223992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06a35"/>
              </a:gs>
              <a:gs pos="100000">
                <a:srgbClr val="facf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7" name="任意多边形 231437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8" name="任意多边形 231438"/>
          <p:cNvSpPr/>
          <p:nvPr/>
        </p:nvSpPr>
        <p:spPr>
          <a:xfrm rot="16200000">
            <a:off x="225360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facf67"/>
              </a:gs>
              <a:gs pos="100000">
                <a:srgbClr val="dcb6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9" name="文本框 231439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cxnSp>
        <p:nvCxnSpPr>
          <p:cNvPr id="810" name="肘形连接符 231440"/>
          <p:cNvCxnSpPr>
            <a:endCxn id="809" idx="3"/>
          </p:cNvCxnSpPr>
          <p:nvPr/>
        </p:nvCxnSpPr>
        <p:spPr>
          <a:xfrm flipH="1">
            <a:off x="3631680" y="2179800"/>
            <a:ext cx="241704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1" name="肘形连接符 231441"/>
          <p:cNvCxnSpPr>
            <a:endCxn id="796" idx="3"/>
          </p:cNvCxnSpPr>
          <p:nvPr/>
        </p:nvCxnSpPr>
        <p:spPr>
          <a:xfrm flipH="1" flipV="1">
            <a:off x="4974840" y="3596760"/>
            <a:ext cx="122616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2" name="文本框 231442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3" name="矩形 231443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14" name="组合 231444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815" name="任意多边形 231445"/>
            <p:cNvSpPr/>
            <p:nvPr/>
          </p:nvSpPr>
          <p:spPr>
            <a:xfrm>
              <a:off x="616788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6" name="矩形 231446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facf67"/>
                </a:gs>
                <a:gs pos="100000">
                  <a:srgbClr val="c5a3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17" name="组合 231447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818" name="任意多边形 231448"/>
            <p:cNvSpPr/>
            <p:nvPr/>
          </p:nvSpPr>
          <p:spPr>
            <a:xfrm>
              <a:off x="616788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9" name="矩形 231449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54b0c"/>
                </a:gs>
                <a:gs pos="100000">
                  <a:srgbClr val="753b0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20" name="组合 231450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821" name="任意多边形 231451"/>
            <p:cNvSpPr/>
            <p:nvPr/>
          </p:nvSpPr>
          <p:spPr>
            <a:xfrm>
              <a:off x="616788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22" name="矩形 231452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1597e"/>
                </a:gs>
                <a:gs pos="100000">
                  <a:srgbClr val="7246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23" name="组合 231453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824" name="任意多边形 231454"/>
            <p:cNvSpPr/>
            <p:nvPr/>
          </p:nvSpPr>
          <p:spPr>
            <a:xfrm>
              <a:off x="986400" y="54291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25" name="矩形 231455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d67c57"/>
                </a:gs>
                <a:gs pos="100000">
                  <a:srgbClr val="a962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cxnSp>
        <p:nvCxnSpPr>
          <p:cNvPr id="826" name="肘形连接符 231456"/>
          <p:cNvCxnSpPr/>
          <p:nvPr/>
        </p:nvCxnSpPr>
        <p:spPr>
          <a:xfrm flipH="1" flipV="1">
            <a:off x="452376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肘形连接符 231457"/>
          <p:cNvCxnSpPr/>
          <p:nvPr/>
        </p:nvCxnSpPr>
        <p:spPr>
          <a:xfrm flipV="1">
            <a:off x="2895120" y="4160520"/>
            <a:ext cx="25812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矩形 231458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9" name="矩形 231459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30" name="矩形 231460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31" name="组合 231461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832" name="组合 231462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833" name="任意多边形 231463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34" name="椭圆 231464"/>
              <p:cNvSpPr/>
              <p:nvPr/>
            </p:nvSpPr>
            <p:spPr>
              <a:xfrm>
                <a:off x="204336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835" name="任意多边形 231465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6" name="任意多边形 231466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7" name="椭圆 231467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8" name="任意多边形 231468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39" name="组合 231469"/>
            <p:cNvGrpSpPr/>
            <p:nvPr/>
          </p:nvGrpSpPr>
          <p:grpSpPr>
            <a:xfrm>
              <a:off x="2028600" y="2155680"/>
              <a:ext cx="345600" cy="359280"/>
              <a:chOff x="2028600" y="2155680"/>
              <a:chExt cx="345600" cy="359280"/>
            </a:xfrm>
          </p:grpSpPr>
          <p:grpSp>
            <p:nvGrpSpPr>
              <p:cNvPr id="840" name="组合 231470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841" name="新月形 231471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2" name="新月形 231472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3" name="新月形 231473"/>
                <p:cNvSpPr/>
                <p:nvPr/>
              </p:nvSpPr>
              <p:spPr>
                <a:xfrm flipH="1" rot="13928400">
                  <a:off x="213264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4" name="新月形 231474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组合 231475"/>
              <p:cNvGrpSpPr/>
              <p:nvPr/>
            </p:nvGrpSpPr>
            <p:grpSpPr>
              <a:xfrm>
                <a:off x="2028600" y="2177640"/>
                <a:ext cx="272160" cy="337320"/>
                <a:chOff x="2028600" y="2177640"/>
                <a:chExt cx="272160" cy="337320"/>
              </a:xfrm>
            </p:grpSpPr>
            <p:sp>
              <p:nvSpPr>
                <p:cNvPr id="846" name="新月形 231476"/>
                <p:cNvSpPr/>
                <p:nvPr/>
              </p:nvSpPr>
              <p:spPr>
                <a:xfrm flipH="1" rot="13687200">
                  <a:off x="212544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7" name="新月形 231477"/>
                <p:cNvSpPr/>
                <p:nvPr/>
              </p:nvSpPr>
              <p:spPr>
                <a:xfrm flipH="1" rot="12871200">
                  <a:off x="209556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8" name="新月形 231478"/>
                <p:cNvSpPr/>
                <p:nvPr/>
              </p:nvSpPr>
              <p:spPr>
                <a:xfrm flipH="1" rot="12576000">
                  <a:off x="208440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9" name="新月形 231479"/>
                <p:cNvSpPr/>
                <p:nvPr/>
              </p:nvSpPr>
              <p:spPr>
                <a:xfrm flipH="1" rot="12043800">
                  <a:off x="207360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组合 231480"/>
            <p:cNvGrpSpPr/>
            <p:nvPr/>
          </p:nvGrpSpPr>
          <p:grpSpPr>
            <a:xfrm>
              <a:off x="1849320" y="2691720"/>
              <a:ext cx="429480" cy="517320"/>
              <a:chOff x="1849320" y="2691720"/>
              <a:chExt cx="429480" cy="517320"/>
            </a:xfrm>
          </p:grpSpPr>
          <p:grpSp>
            <p:nvGrpSpPr>
              <p:cNvPr id="851" name="组合 231481"/>
              <p:cNvGrpSpPr/>
              <p:nvPr/>
            </p:nvGrpSpPr>
            <p:grpSpPr>
              <a:xfrm>
                <a:off x="1849320" y="2691720"/>
                <a:ext cx="429480" cy="404280"/>
                <a:chOff x="1849320" y="2691720"/>
                <a:chExt cx="429480" cy="404280"/>
              </a:xfrm>
            </p:grpSpPr>
            <p:sp>
              <p:nvSpPr>
                <p:cNvPr id="852" name="新月形 231482"/>
                <p:cNvSpPr/>
                <p:nvPr/>
              </p:nvSpPr>
              <p:spPr>
                <a:xfrm flipH="1" rot="14424600">
                  <a:off x="204588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3" name="新月形 231483"/>
                <p:cNvSpPr/>
                <p:nvPr/>
              </p:nvSpPr>
              <p:spPr>
                <a:xfrm flipH="1" rot="13608600">
                  <a:off x="199368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4" name="新月形 231484"/>
                <p:cNvSpPr/>
                <p:nvPr/>
              </p:nvSpPr>
              <p:spPr>
                <a:xfrm flipH="1" rot="13313400">
                  <a:off x="196920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5" name="新月形 231485"/>
                <p:cNvSpPr/>
                <p:nvPr/>
              </p:nvSpPr>
              <p:spPr>
                <a:xfrm flipH="1" rot="12781200">
                  <a:off x="194148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组合 231486"/>
              <p:cNvGrpSpPr/>
              <p:nvPr/>
            </p:nvGrpSpPr>
            <p:grpSpPr>
              <a:xfrm>
                <a:off x="1850400" y="2719800"/>
                <a:ext cx="308160" cy="489240"/>
                <a:chOff x="1850400" y="2719800"/>
                <a:chExt cx="308160" cy="489240"/>
              </a:xfrm>
            </p:grpSpPr>
            <p:sp>
              <p:nvSpPr>
                <p:cNvPr id="857" name="新月形 231487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8" name="新月形 231488"/>
                <p:cNvSpPr/>
                <p:nvPr/>
              </p:nvSpPr>
              <p:spPr>
                <a:xfrm flipH="1" rot="12256200">
                  <a:off x="192204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9" name="新月形 231489"/>
                <p:cNvSpPr/>
                <p:nvPr/>
              </p:nvSpPr>
              <p:spPr>
                <a:xfrm flipH="1" rot="11960400">
                  <a:off x="190872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60" name="新月形 231490"/>
                <p:cNvSpPr/>
                <p:nvPr/>
              </p:nvSpPr>
              <p:spPr>
                <a:xfrm flipH="1" rot="11428200">
                  <a:off x="189684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1" name="矩形 231491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62" name="组合 231492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863" name="组合 231493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864" name="任意多边形 231494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5" name="椭圆 231495"/>
              <p:cNvSpPr/>
              <p:nvPr/>
            </p:nvSpPr>
            <p:spPr>
              <a:xfrm>
                <a:off x="151020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866" name="任意多边形 231496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82117"/>
                </a:gs>
                <a:gs pos="100000">
                  <a:srgbClr val="d67c5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67" name="任意多边形 231497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67c57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68" name="椭圆 231498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84631"/>
                </a:gs>
                <a:gs pos="50000">
                  <a:srgbClr val="d67c57"/>
                </a:gs>
                <a:gs pos="100000">
                  <a:srgbClr val="7846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69" name="任意多边形 231499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67c57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70" name="组合 231500"/>
            <p:cNvGrpSpPr/>
            <p:nvPr/>
          </p:nvGrpSpPr>
          <p:grpSpPr>
            <a:xfrm>
              <a:off x="1495080" y="2155680"/>
              <a:ext cx="345960" cy="359640"/>
              <a:chOff x="1495080" y="2155680"/>
              <a:chExt cx="345960" cy="359640"/>
            </a:xfrm>
          </p:grpSpPr>
          <p:grpSp>
            <p:nvGrpSpPr>
              <p:cNvPr id="871" name="组合 231501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872" name="新月形 231502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3" name="新月形 231503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4" name="新月形 231504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5" name="新月形 231505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组合 231506"/>
              <p:cNvGrpSpPr/>
              <p:nvPr/>
            </p:nvGrpSpPr>
            <p:grpSpPr>
              <a:xfrm>
                <a:off x="1495080" y="2177640"/>
                <a:ext cx="272520" cy="337680"/>
                <a:chOff x="1495080" y="2177640"/>
                <a:chExt cx="272520" cy="337680"/>
              </a:xfrm>
            </p:grpSpPr>
            <p:sp>
              <p:nvSpPr>
                <p:cNvPr id="877" name="新月形 231507"/>
                <p:cNvSpPr/>
                <p:nvPr/>
              </p:nvSpPr>
              <p:spPr>
                <a:xfrm flipH="1" rot="13687200">
                  <a:off x="159228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8" name="新月形 231508"/>
                <p:cNvSpPr/>
                <p:nvPr/>
              </p:nvSpPr>
              <p:spPr>
                <a:xfrm flipH="1" rot="12871200">
                  <a:off x="156204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9" name="新月形 231509"/>
                <p:cNvSpPr/>
                <p:nvPr/>
              </p:nvSpPr>
              <p:spPr>
                <a:xfrm flipH="1" rot="12576000">
                  <a:off x="155088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0" name="新月形 231510"/>
                <p:cNvSpPr/>
                <p:nvPr/>
              </p:nvSpPr>
              <p:spPr>
                <a:xfrm flipH="1" rot="12043800">
                  <a:off x="154008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1" name="组合 231511"/>
            <p:cNvGrpSpPr/>
            <p:nvPr/>
          </p:nvGrpSpPr>
          <p:grpSpPr>
            <a:xfrm>
              <a:off x="1315800" y="2691720"/>
              <a:ext cx="429480" cy="517320"/>
              <a:chOff x="1315800" y="2691720"/>
              <a:chExt cx="429480" cy="517320"/>
            </a:xfrm>
          </p:grpSpPr>
          <p:grpSp>
            <p:nvGrpSpPr>
              <p:cNvPr id="882" name="组合 231512"/>
              <p:cNvGrpSpPr/>
              <p:nvPr/>
            </p:nvGrpSpPr>
            <p:grpSpPr>
              <a:xfrm>
                <a:off x="1315800" y="2691720"/>
                <a:ext cx="429480" cy="404280"/>
                <a:chOff x="1315800" y="2691720"/>
                <a:chExt cx="429480" cy="404280"/>
              </a:xfrm>
            </p:grpSpPr>
            <p:sp>
              <p:nvSpPr>
                <p:cNvPr id="883" name="新月形 231513"/>
                <p:cNvSpPr/>
                <p:nvPr/>
              </p:nvSpPr>
              <p:spPr>
                <a:xfrm flipH="1" rot="14424600">
                  <a:off x="151236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4" name="新月形 231514"/>
                <p:cNvSpPr/>
                <p:nvPr/>
              </p:nvSpPr>
              <p:spPr>
                <a:xfrm flipH="1" rot="13608600">
                  <a:off x="146016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5" name="新月形 231515"/>
                <p:cNvSpPr/>
                <p:nvPr/>
              </p:nvSpPr>
              <p:spPr>
                <a:xfrm flipH="1" rot="13313400">
                  <a:off x="143568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6" name="新月形 231516"/>
                <p:cNvSpPr/>
                <p:nvPr/>
              </p:nvSpPr>
              <p:spPr>
                <a:xfrm flipH="1" rot="12781200">
                  <a:off x="140796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组合 231517"/>
              <p:cNvGrpSpPr/>
              <p:nvPr/>
            </p:nvGrpSpPr>
            <p:grpSpPr>
              <a:xfrm>
                <a:off x="1316880" y="2719800"/>
                <a:ext cx="308160" cy="489240"/>
                <a:chOff x="1316880" y="2719800"/>
                <a:chExt cx="308160" cy="489240"/>
              </a:xfrm>
            </p:grpSpPr>
            <p:sp>
              <p:nvSpPr>
                <p:cNvPr id="888" name="新月形 231518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9" name="新月形 231519"/>
                <p:cNvSpPr/>
                <p:nvPr/>
              </p:nvSpPr>
              <p:spPr>
                <a:xfrm flipH="1" rot="12256200">
                  <a:off x="138852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90" name="新月形 231520"/>
                <p:cNvSpPr/>
                <p:nvPr/>
              </p:nvSpPr>
              <p:spPr>
                <a:xfrm flipH="1" rot="11960400">
                  <a:off x="137520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91" name="新月形 231521"/>
                <p:cNvSpPr/>
                <p:nvPr/>
              </p:nvSpPr>
              <p:spPr>
                <a:xfrm flipH="1" rot="11428200">
                  <a:off x="136332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2" name="矩形 231522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任意多边形 233512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95" name="组合 233513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896" name="椭圆 233514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97" name="椭圆 233515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98" name="椭圆 233516"/>
            <p:cNvSpPr/>
            <p:nvPr/>
          </p:nvSpPr>
          <p:spPr>
            <a:xfrm>
              <a:off x="2867760" y="2700360"/>
              <a:ext cx="358344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99" name="立方体 233517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0" name="立方体 233518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a35e42"/>
              </a:gs>
              <a:gs pos="100000">
                <a:srgbClr val="d67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1" name="立方体 233519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2" name="立方体 233520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7d4d6d"/>
              </a:gs>
              <a:gs pos="100000">
                <a:srgbClr val="9159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3" name="立方体 233521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4" name="立方体 233522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8b359"/>
              </a:gs>
              <a:gs pos="100000">
                <a:srgbClr val="facf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5" name="矩形 233523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6" name="矩形 233524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7" name="矩形 233525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8" name="矩形 233526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9" name="矩形 233527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0" name="矩形 233528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911" name="图片 233529" descr="circuler_1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912" name="椭圆 233530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3" name="文本框 233531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270338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916" name="任意多边形 270339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7" name="任意多边形 270340"/>
            <p:cNvSpPr/>
            <p:nvPr/>
          </p:nvSpPr>
          <p:spPr>
            <a:xfrm>
              <a:off x="3647520" y="2438280"/>
              <a:ext cx="361944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8" name="任意多边形 270341"/>
            <p:cNvSpPr/>
            <p:nvPr/>
          </p:nvSpPr>
          <p:spPr>
            <a:xfrm>
              <a:off x="2019240" y="2834640"/>
              <a:ext cx="1977840" cy="20134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19" name="组合 270342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920" name="任意多边形 270343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746030"/>
                </a:gs>
                <a:gs pos="100000">
                  <a:srgbClr val="fac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1" name="任意多边形 270344"/>
            <p:cNvSpPr/>
            <p:nvPr/>
          </p:nvSpPr>
          <p:spPr>
            <a:xfrm>
              <a:off x="3594960" y="2362320"/>
              <a:ext cx="367164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67c57"/>
                </a:gs>
                <a:gs pos="100000">
                  <a:srgbClr val="6339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2" name="任意多边形 270345"/>
            <p:cNvSpPr/>
            <p:nvPr/>
          </p:nvSpPr>
          <p:spPr>
            <a:xfrm>
              <a:off x="1943280" y="274824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954b0c"/>
                </a:gs>
                <a:gs pos="100000">
                  <a:srgbClr val="b27c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23" name="线形标注 2(带强调线) 270346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4" name="线形标注 2(带强调线) 270347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facf67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5" name="线形标注 2(带强调线) 270348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矩形 238608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1597e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9" name="矩形 238609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cf67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0" name="矩形 238610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1597e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1" name="矩形 238611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cf67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2" name="矩形 238612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1597e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3680" y="2814480"/>
            <a:ext cx="8294400" cy="360"/>
            <a:chOff x="463680" y="2814480"/>
            <a:chExt cx="8294400" cy="360"/>
          </a:xfrm>
        </p:grpSpPr>
        <p:sp>
          <p:nvSpPr>
            <p:cNvPr id="934" name="直接连接符 238613"/>
            <p:cNvSpPr/>
            <p:nvPr/>
          </p:nvSpPr>
          <p:spPr>
            <a:xfrm>
              <a:off x="463680" y="281448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463680" y="281448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463680" y="3405240"/>
            <a:ext cx="8294400" cy="360"/>
            <a:chOff x="463680" y="3405240"/>
            <a:chExt cx="8294400" cy="360"/>
          </a:xfrm>
        </p:grpSpPr>
        <p:sp>
          <p:nvSpPr>
            <p:cNvPr id="937" name="直接连接符 238614"/>
            <p:cNvSpPr/>
            <p:nvPr/>
          </p:nvSpPr>
          <p:spPr>
            <a:xfrm>
              <a:off x="463680" y="340524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463680" y="340524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463680" y="4081320"/>
            <a:ext cx="8294400" cy="360"/>
            <a:chOff x="463680" y="4081320"/>
            <a:chExt cx="8294400" cy="360"/>
          </a:xfrm>
        </p:grpSpPr>
        <p:sp>
          <p:nvSpPr>
            <p:cNvPr id="940" name="直接连接符 238615"/>
            <p:cNvSpPr/>
            <p:nvPr/>
          </p:nvSpPr>
          <p:spPr>
            <a:xfrm>
              <a:off x="463680" y="408132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463680" y="408132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63680" y="4784760"/>
            <a:ext cx="8294400" cy="360"/>
            <a:chOff x="463680" y="4784760"/>
            <a:chExt cx="8294400" cy="360"/>
          </a:xfrm>
        </p:grpSpPr>
        <p:sp>
          <p:nvSpPr>
            <p:cNvPr id="943" name="直接连接符 238616"/>
            <p:cNvSpPr/>
            <p:nvPr/>
          </p:nvSpPr>
          <p:spPr>
            <a:xfrm>
              <a:off x="463680" y="478476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463680" y="478476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45" name="组合 238617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946" name="圆柱形 238618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a4b25"/>
                </a:gs>
                <a:gs pos="50000">
                  <a:srgbClr val="facf67"/>
                </a:gs>
                <a:gs pos="100000">
                  <a:srgbClr val="5a4b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7" name="椭圆 238619"/>
            <p:cNvSpPr/>
            <p:nvPr/>
          </p:nvSpPr>
          <p:spPr>
            <a:xfrm>
              <a:off x="2730600" y="46346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d6733"/>
                </a:gs>
                <a:gs pos="100000">
                  <a:srgbClr val="facf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48" name="组合 238620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949" name="圆柱形 238621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13247"/>
                </a:gs>
                <a:gs pos="50000">
                  <a:srgbClr val="91597e"/>
                </a:gs>
                <a:gs pos="100000">
                  <a:srgbClr val="5132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50" name="椭圆 238622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513247"/>
                </a:gs>
                <a:gs pos="100000">
                  <a:srgbClr val="9159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51" name="组合 238623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952" name="圆柱形 238624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c743a"/>
                </a:gs>
                <a:gs pos="50000">
                  <a:srgbClr val="facf67"/>
                </a:gs>
                <a:gs pos="100000">
                  <a:srgbClr val="8c74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53" name="椭圆 238625"/>
            <p:cNvSpPr/>
            <p:nvPr/>
          </p:nvSpPr>
          <p:spPr>
            <a:xfrm>
              <a:off x="3244680" y="3321000"/>
              <a:ext cx="2364120" cy="466560"/>
            </a:xfrm>
            <a:prstGeom prst="ellipse">
              <a:avLst/>
            </a:prstGeom>
            <a:gradFill rotWithShape="0">
              <a:gsLst>
                <a:gs pos="0">
                  <a:srgbClr val="8c743a"/>
                </a:gs>
                <a:gs pos="100000">
                  <a:srgbClr val="facf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54" name="组合 238626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955" name="圆柱形 238627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603b53"/>
                </a:gs>
                <a:gs pos="50000">
                  <a:srgbClr val="91597e"/>
                </a:gs>
                <a:gs pos="100000">
                  <a:srgbClr val="603b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56" name="椭圆 238628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6f4460"/>
                </a:gs>
                <a:gs pos="100000">
                  <a:srgbClr val="9159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57" name="圆柱形 238629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8" name="矩形 238630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9" name="矩形 238631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0" name="矩形 238632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1" name="矩形 238633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2" name="矩形 238634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3" name="文本框 238635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4" name="文本框 238636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5" name="文本框 238637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6" name="文本框 238638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7" name="文本框 238639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8" name="文本框 238640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9" name="文本框 238641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0" name="文本框 238642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1" name="文本框 238643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2" name="文本框 238644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3" name="矩形 238645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组合 212012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75" name="圆角矩形 212013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67c57"/>
                </a:gs>
                <a:gs pos="50000">
                  <a:srgbClr val="f6e3db"/>
                </a:gs>
                <a:gs pos="100000">
                  <a:srgbClr val="d67c5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76" name="菱形 212014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67c5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77" name="文本框 212015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78" name="文本框 212016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79" name="组合 212017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80" name="圆角矩形 212018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cf67"/>
                </a:gs>
                <a:gs pos="50000">
                  <a:srgbClr val="fef5df"/>
                </a:gs>
                <a:gs pos="100000">
                  <a:srgbClr val="facf6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1" name="菱形 212019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facf6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2" name="文本框 212020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3" name="文本框 212021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84" name="组合 212022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85" name="圆角矩形 212023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4b0c"/>
                </a:gs>
                <a:gs pos="50000">
                  <a:srgbClr val="e9d9cc"/>
                </a:gs>
                <a:gs pos="100000">
                  <a:srgbClr val="954b0c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6" name="菱形 212024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54b0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7" name="文本框 212025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8" name="文本框 212026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89" name="组合 212027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90" name="圆角矩形 212028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597e"/>
                </a:gs>
                <a:gs pos="50000">
                  <a:srgbClr val="e8dce4"/>
                </a:gs>
                <a:gs pos="100000">
                  <a:srgbClr val="91597e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1" name="菱形 212029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159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2" name="文本框 212030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3" name="文本框 212031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8B37-E3B8-4768-82C9-21203C059811}" type="slidenum">
              <a:rPr b="0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800240" y="22093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11d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9" name="矩形 59394"/>
          <p:cNvSpPr txBox="1"/>
          <p:nvPr/>
        </p:nvSpPr>
        <p:spPr>
          <a:xfrm>
            <a:off x="5105520" y="25909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d67c57"/>
                    </a:gs>
                    <a:gs pos="100000">
                      <a:srgbClr val="facf67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d67c57"/>
                  </a:gs>
                  <a:gs pos="100000">
                    <a:srgbClr val="facf67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411480">
              <a:spcBef>
                <a:spcPts val="649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11d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30311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任意多边形 260098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facf67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8" name="任意多边形 260099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facf67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9" name="矩形 260100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0" name="矩形 260101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1" name="任意多边形 260102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2" name="任意多边形 260103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3" name="圆角矩形 260104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819d"/>
              </a:gs>
              <a:gs pos="50000">
                <a:srgbClr val="91597e"/>
              </a:gs>
              <a:gs pos="100000">
                <a:srgbClr val="ac81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4" name="圆角矩形 260105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c80"/>
              </a:gs>
              <a:gs pos="50000">
                <a:srgbClr val="d67c57"/>
              </a:gs>
              <a:gs pos="100000">
                <a:srgbClr val="e09c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圆角矩形 215042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07" name="组合 215043"/>
          <p:cNvGrpSpPr/>
          <p:nvPr/>
        </p:nvGrpSpPr>
        <p:grpSpPr>
          <a:xfrm>
            <a:off x="838080" y="2286000"/>
            <a:ext cx="1838520" cy="3309840"/>
            <a:chOff x="838080" y="2286000"/>
            <a:chExt cx="1838520" cy="3309840"/>
          </a:xfrm>
        </p:grpSpPr>
        <p:sp>
          <p:nvSpPr>
            <p:cNvPr id="208" name="圆角矩形 215044"/>
            <p:cNvSpPr/>
            <p:nvPr/>
          </p:nvSpPr>
          <p:spPr>
            <a:xfrm>
              <a:off x="83808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acf67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9" name="圆角矩形 215045"/>
            <p:cNvSpPr/>
            <p:nvPr/>
          </p:nvSpPr>
          <p:spPr>
            <a:xfrm>
              <a:off x="914400" y="2323800"/>
              <a:ext cx="168768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acf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10" name="组合 215046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211" name="圆角矩形 215047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67c57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2" name="圆角矩形 215048"/>
            <p:cNvSpPr/>
            <p:nvPr/>
          </p:nvSpPr>
          <p:spPr>
            <a:xfrm>
              <a:off x="3703680" y="232380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67c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13" name="组合 215049"/>
          <p:cNvGrpSpPr/>
          <p:nvPr/>
        </p:nvGrpSpPr>
        <p:grpSpPr>
          <a:xfrm>
            <a:off x="6467400" y="2286000"/>
            <a:ext cx="1838520" cy="3309840"/>
            <a:chOff x="6467400" y="2286000"/>
            <a:chExt cx="1838520" cy="3309840"/>
          </a:xfrm>
        </p:grpSpPr>
        <p:sp>
          <p:nvSpPr>
            <p:cNvPr id="214" name="圆角矩形 215050"/>
            <p:cNvSpPr/>
            <p:nvPr/>
          </p:nvSpPr>
          <p:spPr>
            <a:xfrm>
              <a:off x="646740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acf67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5" name="圆角矩形 215051"/>
            <p:cNvSpPr/>
            <p:nvPr/>
          </p:nvSpPr>
          <p:spPr>
            <a:xfrm>
              <a:off x="6543720" y="233352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acf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16" name="文本框 215052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7" name="文本框 215053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8" name="文本框 215054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19" name="组合 215055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220" name="组合 215056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221" name="椭圆 215057"/>
              <p:cNvSpPr/>
              <p:nvPr/>
            </p:nvSpPr>
            <p:spPr>
              <a:xfrm>
                <a:off x="31734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2" name="椭圆 215058"/>
              <p:cNvSpPr/>
              <p:nvPr/>
            </p:nvSpPr>
            <p:spPr>
              <a:xfrm>
                <a:off x="32742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3" name="椭圆 215059"/>
              <p:cNvSpPr/>
              <p:nvPr/>
            </p:nvSpPr>
            <p:spPr>
              <a:xfrm>
                <a:off x="33753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4" name="椭圆 215060"/>
              <p:cNvSpPr/>
              <p:nvPr/>
            </p:nvSpPr>
            <p:spPr>
              <a:xfrm>
                <a:off x="32742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5" name="椭圆 215061"/>
              <p:cNvSpPr/>
              <p:nvPr/>
            </p:nvSpPr>
            <p:spPr>
              <a:xfrm>
                <a:off x="31734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26" name="组合 215062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227" name="椭圆 215063"/>
              <p:cNvSpPr/>
              <p:nvPr/>
            </p:nvSpPr>
            <p:spPr>
              <a:xfrm>
                <a:off x="29718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8" name="椭圆 215064"/>
              <p:cNvSpPr/>
              <p:nvPr/>
            </p:nvSpPr>
            <p:spPr>
              <a:xfrm>
                <a:off x="30726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9" name="椭圆 215065"/>
              <p:cNvSpPr/>
              <p:nvPr/>
            </p:nvSpPr>
            <p:spPr>
              <a:xfrm>
                <a:off x="31737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0" name="椭圆 215066"/>
              <p:cNvSpPr/>
              <p:nvPr/>
            </p:nvSpPr>
            <p:spPr>
              <a:xfrm>
                <a:off x="30726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1" name="椭圆 215067"/>
              <p:cNvSpPr/>
              <p:nvPr/>
            </p:nvSpPr>
            <p:spPr>
              <a:xfrm>
                <a:off x="29718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组合 215068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233" name="组合 215069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234" name="椭圆 215070"/>
              <p:cNvSpPr/>
              <p:nvPr/>
            </p:nvSpPr>
            <p:spPr>
              <a:xfrm>
                <a:off x="59166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5" name="椭圆 215071"/>
              <p:cNvSpPr/>
              <p:nvPr/>
            </p:nvSpPr>
            <p:spPr>
              <a:xfrm>
                <a:off x="60174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6" name="椭圆 215072"/>
              <p:cNvSpPr/>
              <p:nvPr/>
            </p:nvSpPr>
            <p:spPr>
              <a:xfrm>
                <a:off x="61185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7" name="椭圆 215073"/>
              <p:cNvSpPr/>
              <p:nvPr/>
            </p:nvSpPr>
            <p:spPr>
              <a:xfrm>
                <a:off x="60174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8" name="椭圆 215074"/>
              <p:cNvSpPr/>
              <p:nvPr/>
            </p:nvSpPr>
            <p:spPr>
              <a:xfrm>
                <a:off x="59166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215075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240" name="椭圆 215076"/>
              <p:cNvSpPr/>
              <p:nvPr/>
            </p:nvSpPr>
            <p:spPr>
              <a:xfrm>
                <a:off x="57150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1" name="椭圆 215077"/>
              <p:cNvSpPr/>
              <p:nvPr/>
            </p:nvSpPr>
            <p:spPr>
              <a:xfrm>
                <a:off x="58158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2" name="椭圆 215078"/>
              <p:cNvSpPr/>
              <p:nvPr/>
            </p:nvSpPr>
            <p:spPr>
              <a:xfrm>
                <a:off x="59169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3" name="椭圆 215079"/>
              <p:cNvSpPr/>
              <p:nvPr/>
            </p:nvSpPr>
            <p:spPr>
              <a:xfrm>
                <a:off x="58158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4" name="椭圆 215080"/>
              <p:cNvSpPr/>
              <p:nvPr/>
            </p:nvSpPr>
            <p:spPr>
              <a:xfrm>
                <a:off x="57150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文本框 215081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圆角矩形 269314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48" name="圆角矩形 269315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49" name="圆角矩形 269316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0" name="圆角矩形 269317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1" name="圆角矩形 269318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2" name="任意多边形 269319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91597e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3" name="圆角矩形 269320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4" name="任意多边形 269321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54b0c"/>
          </a:solidFill>
          <a:ln w="9360">
            <a:solidFill>
              <a:srgbClr val="c0c0c0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5" name="圆角矩形 269322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6" name="圆角矩形 269323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7" name="任意多边形 269324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8" name="任意多边形 269325"/>
          <p:cNvSpPr/>
          <p:nvPr/>
        </p:nvSpPr>
        <p:spPr>
          <a:xfrm>
            <a:off x="6127920" y="45036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d67c57"/>
          </a:solidFill>
          <a:ln w="9360">
            <a:solidFill>
              <a:srgbClr val="d67c57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9" name="文本框 269326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0" name="文本框 269327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1" name="文本框 269328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2" name="文本框 269329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3" name="椭圆 269330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64" name="图片 269331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65" name="任意多边形 269332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d67c57">
              <a:alpha val="50000"/>
            </a:srgbClr>
          </a:solidFill>
          <a:ln w="9360">
            <a:solidFill>
              <a:srgbClr val="d67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6" name="任意多边形 269333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7" name="任意多边形 269334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9159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68" name="组合 269335"/>
          <p:cNvGrpSpPr/>
          <p:nvPr/>
        </p:nvGrpSpPr>
        <p:grpSpPr>
          <a:xfrm>
            <a:off x="2783880" y="2987280"/>
            <a:ext cx="1884600" cy="1776600"/>
            <a:chOff x="2783880" y="2987280"/>
            <a:chExt cx="1884600" cy="1776600"/>
          </a:xfrm>
        </p:grpSpPr>
        <p:sp>
          <p:nvSpPr>
            <p:cNvPr id="269" name="新月形 269336"/>
            <p:cNvSpPr/>
            <p:nvPr/>
          </p:nvSpPr>
          <p:spPr>
            <a:xfrm flipV="1" rot="19510800">
              <a:off x="3224880" y="294336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0" name="新月形 269337"/>
            <p:cNvSpPr/>
            <p:nvPr/>
          </p:nvSpPr>
          <p:spPr>
            <a:xfrm flipV="1" rot="18694800">
              <a:off x="3391560" y="316440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1" name="新月形 269338"/>
            <p:cNvSpPr/>
            <p:nvPr/>
          </p:nvSpPr>
          <p:spPr>
            <a:xfrm flipV="1" rot="18399600">
              <a:off x="3513600" y="326592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2" name="新月形 269339"/>
            <p:cNvSpPr/>
            <p:nvPr/>
          </p:nvSpPr>
          <p:spPr>
            <a:xfrm flipV="1" rot="17867400">
              <a:off x="3663000" y="338184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73" name="任意多边形 269340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4" name="椭圆 269341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5" name="文本框 269342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11d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6" name="文本框 269343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7" name="文本框 269344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8" name="文本框 269345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9" name="矩形 269346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597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0" name="矩形 269347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1" name="矩形 269348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4b0c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2" name="矩形 269349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7c57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83" name="组合 269350"/>
          <p:cNvGrpSpPr/>
          <p:nvPr/>
        </p:nvGrpSpPr>
        <p:grpSpPr>
          <a:xfrm>
            <a:off x="4241520" y="1308600"/>
            <a:ext cx="1823760" cy="1508400"/>
            <a:chOff x="4241520" y="1308600"/>
            <a:chExt cx="1823760" cy="1508400"/>
          </a:xfrm>
        </p:grpSpPr>
        <p:grpSp>
          <p:nvGrpSpPr>
            <p:cNvPr id="284" name="组合 269351"/>
            <p:cNvGrpSpPr/>
            <p:nvPr/>
          </p:nvGrpSpPr>
          <p:grpSpPr>
            <a:xfrm>
              <a:off x="4639680" y="1308600"/>
              <a:ext cx="1425600" cy="1508400"/>
              <a:chOff x="4639680" y="1308600"/>
              <a:chExt cx="1425600" cy="1508400"/>
            </a:xfrm>
          </p:grpSpPr>
          <p:sp>
            <p:nvSpPr>
              <p:cNvPr id="285" name="新月形 269352"/>
              <p:cNvSpPr/>
              <p:nvPr/>
            </p:nvSpPr>
            <p:spPr>
              <a:xfrm flipV="1" rot="8983800">
                <a:off x="5454000" y="15019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6" name="新月形 269353"/>
              <p:cNvSpPr/>
              <p:nvPr/>
            </p:nvSpPr>
            <p:spPr>
              <a:xfrm flipV="1" rot="8167800">
                <a:off x="5334840" y="131616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7" name="新月形 269354"/>
              <p:cNvSpPr/>
              <p:nvPr/>
            </p:nvSpPr>
            <p:spPr>
              <a:xfrm flipV="1" rot="7872600">
                <a:off x="5243760" y="12265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8" name="新月形 269355"/>
              <p:cNvSpPr/>
              <p:nvPr/>
            </p:nvSpPr>
            <p:spPr>
              <a:xfrm flipV="1" rot="7340400">
                <a:off x="5132520" y="112428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269356"/>
            <p:cNvGrpSpPr/>
            <p:nvPr/>
          </p:nvGrpSpPr>
          <p:grpSpPr>
            <a:xfrm>
              <a:off x="4241520" y="1316520"/>
              <a:ext cx="1742760" cy="1050120"/>
              <a:chOff x="4241520" y="1316520"/>
              <a:chExt cx="1742760" cy="1050120"/>
            </a:xfrm>
          </p:grpSpPr>
          <p:sp>
            <p:nvSpPr>
              <p:cNvPr id="290" name="新月形 269357"/>
              <p:cNvSpPr/>
              <p:nvPr/>
            </p:nvSpPr>
            <p:spPr>
              <a:xfrm flipV="1" rot="7630800">
                <a:off x="5215680" y="118080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1" name="新月形 269358"/>
              <p:cNvSpPr/>
              <p:nvPr/>
            </p:nvSpPr>
            <p:spPr>
              <a:xfrm flipV="1" rot="6814800">
                <a:off x="5034240" y="1053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2" name="新月形 269359"/>
              <p:cNvSpPr/>
              <p:nvPr/>
            </p:nvSpPr>
            <p:spPr>
              <a:xfrm flipV="1" rot="6519600">
                <a:off x="4915800" y="1006200"/>
                <a:ext cx="2980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3" name="新月形 269360"/>
              <p:cNvSpPr/>
              <p:nvPr/>
            </p:nvSpPr>
            <p:spPr>
              <a:xfrm flipV="1" rot="5987400">
                <a:off x="4773240" y="954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任意多边形 258050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960640" y="2714760"/>
            <a:ext cx="3648240" cy="3147840"/>
            <a:chOff x="2960640" y="2714760"/>
            <a:chExt cx="3648240" cy="3147840"/>
          </a:xfrm>
        </p:grpSpPr>
        <p:sp>
          <p:nvSpPr>
            <p:cNvPr id="298" name="直接连接符 258051"/>
            <p:cNvSpPr/>
            <p:nvPr/>
          </p:nvSpPr>
          <p:spPr>
            <a:xfrm>
              <a:off x="2960640" y="271476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2960640" y="271476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06560" y="2638440"/>
            <a:ext cx="3648240" cy="3147840"/>
            <a:chOff x="2806560" y="2638440"/>
            <a:chExt cx="3648240" cy="3147840"/>
          </a:xfrm>
        </p:grpSpPr>
        <p:sp>
          <p:nvSpPr>
            <p:cNvPr id="301" name="直接连接符 258052"/>
            <p:cNvSpPr/>
            <p:nvPr/>
          </p:nvSpPr>
          <p:spPr>
            <a:xfrm flipH="1">
              <a:off x="2806560" y="263844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806560" y="263844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03" name="椭圆 258053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fdefcc"/>
              </a:gs>
              <a:gs pos="100000">
                <a:srgbClr val="facf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4" name="椭圆 258054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5" name="新月形 258055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6" name="新月形 258056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7" name="椭圆 258057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8" name="新月形 258058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9" name="新月形 258059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0" name="新月形 258060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1" name="新月形 258061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2" name="任意多边形 258062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3" name="矩形 258063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4" name="文本框 258064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5" name="文本框 258065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6" name="矩形 258066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7" name="矩形 258067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8" name="矩形 258068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19" name="组合 258069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20" name="组合 258070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21" name="椭圆 258071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2" name="椭圆 258072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3" name="椭圆 258073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4" name="椭圆 258074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5" name="椭圆 258075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26" name="椭圆 258076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对象 221287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29" name="对象 221288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30" name="矩形 221289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1" name="矩形 221290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2" name="矩形 221291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33" name="组合 221292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34" name="椭圆 221293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5" name="椭圆 221294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6" name="椭圆 221295"/>
            <p:cNvSpPr/>
            <p:nvPr/>
          </p:nvSpPr>
          <p:spPr>
            <a:xfrm>
              <a:off x="1510920" y="468972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7" name="椭圆 221296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378440" y="4851720"/>
              <a:ext cx="360" cy="133200"/>
              <a:chOff x="1378440" y="4851720"/>
              <a:chExt cx="360" cy="133200"/>
            </a:xfrm>
          </p:grpSpPr>
          <p:sp>
            <p:nvSpPr>
              <p:cNvPr id="339" name="直接连接符 221297"/>
              <p:cNvSpPr/>
              <p:nvPr/>
            </p:nvSpPr>
            <p:spPr>
              <a:xfrm>
                <a:off x="1378440" y="485172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1378440" y="485172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414080" y="4739760"/>
              <a:ext cx="108000" cy="32040"/>
              <a:chOff x="1414080" y="4739760"/>
              <a:chExt cx="108000" cy="32040"/>
            </a:xfrm>
          </p:grpSpPr>
          <p:sp>
            <p:nvSpPr>
              <p:cNvPr id="342" name="直接连接符 221298"/>
              <p:cNvSpPr/>
              <p:nvPr/>
            </p:nvSpPr>
            <p:spPr>
              <a:xfrm flipV="1">
                <a:off x="1414440" y="473976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 rot="10800000">
                <a:off x="1414080" y="473976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482480" y="4635360"/>
              <a:ext cx="42120" cy="57600"/>
              <a:chOff x="1482480" y="4635360"/>
              <a:chExt cx="42120" cy="57600"/>
            </a:xfrm>
          </p:grpSpPr>
          <p:sp>
            <p:nvSpPr>
              <p:cNvPr id="345" name="直接连接符 221299"/>
              <p:cNvSpPr/>
              <p:nvPr/>
            </p:nvSpPr>
            <p:spPr>
              <a:xfrm flipH="1" flipV="1">
                <a:off x="1482480" y="463536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 rot="10800000">
                <a:off x="1482480" y="463536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47" name="椭圆 221300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8" name="椭圆 221301"/>
            <p:cNvSpPr/>
            <p:nvPr/>
          </p:nvSpPr>
          <p:spPr>
            <a:xfrm>
              <a:off x="1562040" y="48290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561320" y="4758120"/>
              <a:ext cx="17640" cy="83160"/>
              <a:chOff x="1561320" y="4758120"/>
              <a:chExt cx="17640" cy="83160"/>
            </a:xfrm>
          </p:grpSpPr>
          <p:sp>
            <p:nvSpPr>
              <p:cNvPr id="350" name="直接连接符 221302"/>
              <p:cNvSpPr/>
              <p:nvPr/>
            </p:nvSpPr>
            <p:spPr>
              <a:xfrm>
                <a:off x="1561320" y="4758120"/>
                <a:ext cx="17640" cy="8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1561320" y="4758120"/>
                <a:ext cx="17640" cy="8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582920" y="4664160"/>
              <a:ext cx="53280" cy="46440"/>
              <a:chOff x="1582920" y="4664160"/>
              <a:chExt cx="53280" cy="46440"/>
            </a:xfrm>
          </p:grpSpPr>
          <p:sp>
            <p:nvSpPr>
              <p:cNvPr id="353" name="直接连接符 221303"/>
              <p:cNvSpPr/>
              <p:nvPr/>
            </p:nvSpPr>
            <p:spPr>
              <a:xfrm flipV="1">
                <a:off x="1582920" y="46641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 rot="10800000">
                <a:off x="1582920" y="46641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55" name="椭圆 221304"/>
            <p:cNvSpPr/>
            <p:nvPr/>
          </p:nvSpPr>
          <p:spPr>
            <a:xfrm>
              <a:off x="1266840" y="468612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96360" y="4728960"/>
              <a:ext cx="42840" cy="43200"/>
              <a:chOff x="1296360" y="4728960"/>
              <a:chExt cx="42840" cy="43200"/>
            </a:xfrm>
          </p:grpSpPr>
          <p:sp>
            <p:nvSpPr>
              <p:cNvPr id="357" name="直接连接符 221305"/>
              <p:cNvSpPr/>
              <p:nvPr/>
            </p:nvSpPr>
            <p:spPr>
              <a:xfrm>
                <a:off x="1296360" y="472896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1296360" y="472896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498320" y="4867920"/>
              <a:ext cx="78480" cy="21960"/>
              <a:chOff x="1498320" y="4867920"/>
              <a:chExt cx="78480" cy="21960"/>
            </a:xfrm>
          </p:grpSpPr>
          <p:sp>
            <p:nvSpPr>
              <p:cNvPr id="360" name="直接连接符 221306"/>
              <p:cNvSpPr/>
              <p:nvPr/>
            </p:nvSpPr>
            <p:spPr>
              <a:xfrm flipH="1">
                <a:off x="1498320" y="486792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1498680" y="486792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62" name="椭圆 221307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607760" y="4877280"/>
              <a:ext cx="17640" cy="21600"/>
              <a:chOff x="1607760" y="4877280"/>
              <a:chExt cx="17640" cy="21600"/>
            </a:xfrm>
          </p:grpSpPr>
          <p:sp>
            <p:nvSpPr>
              <p:cNvPr id="364" name="直接连接符 221308"/>
              <p:cNvSpPr/>
              <p:nvPr/>
            </p:nvSpPr>
            <p:spPr>
              <a:xfrm>
                <a:off x="1607760" y="487728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1607760" y="487728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66" name="椭圆 221309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67" name="组合 221310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68" name="椭圆 221311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69" name="椭圆 221312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0" name="椭圆 221313"/>
            <p:cNvSpPr/>
            <p:nvPr/>
          </p:nvSpPr>
          <p:spPr>
            <a:xfrm>
              <a:off x="6141600" y="467568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1" name="椭圆 221314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009120" y="4837680"/>
              <a:ext cx="360" cy="133200"/>
              <a:chOff x="6009120" y="4837680"/>
              <a:chExt cx="360" cy="133200"/>
            </a:xfrm>
          </p:grpSpPr>
          <p:sp>
            <p:nvSpPr>
              <p:cNvPr id="373" name="直接连接符 221315"/>
              <p:cNvSpPr/>
              <p:nvPr/>
            </p:nvSpPr>
            <p:spPr>
              <a:xfrm>
                <a:off x="6009120" y="483768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009120" y="483768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044760" y="4725720"/>
              <a:ext cx="108000" cy="32040"/>
              <a:chOff x="6044760" y="4725720"/>
              <a:chExt cx="108000" cy="32040"/>
            </a:xfrm>
          </p:grpSpPr>
          <p:sp>
            <p:nvSpPr>
              <p:cNvPr id="376" name="直接连接符 221316"/>
              <p:cNvSpPr/>
              <p:nvPr/>
            </p:nvSpPr>
            <p:spPr>
              <a:xfrm flipV="1">
                <a:off x="6045120" y="472572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6044760" y="472572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113160" y="4621320"/>
              <a:ext cx="42120" cy="57600"/>
              <a:chOff x="6113160" y="4621320"/>
              <a:chExt cx="42120" cy="57600"/>
            </a:xfrm>
          </p:grpSpPr>
          <p:sp>
            <p:nvSpPr>
              <p:cNvPr id="379" name="直接连接符 221317"/>
              <p:cNvSpPr/>
              <p:nvPr/>
            </p:nvSpPr>
            <p:spPr>
              <a:xfrm flipH="1" flipV="1">
                <a:off x="6113160" y="462132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 rot="10800000">
                <a:off x="6113160" y="462132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81" name="椭圆 221318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82" name="椭圆 221319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192000" y="4744080"/>
              <a:ext cx="17640" cy="82800"/>
              <a:chOff x="6192000" y="4744080"/>
              <a:chExt cx="17640" cy="82800"/>
            </a:xfrm>
          </p:grpSpPr>
          <p:sp>
            <p:nvSpPr>
              <p:cNvPr id="384" name="直接连接符 221320"/>
              <p:cNvSpPr/>
              <p:nvPr/>
            </p:nvSpPr>
            <p:spPr>
              <a:xfrm>
                <a:off x="6192000" y="4744080"/>
                <a:ext cx="17640" cy="82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6192000" y="4744080"/>
                <a:ext cx="17640" cy="8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213600" y="4649760"/>
              <a:ext cx="53280" cy="46440"/>
              <a:chOff x="6213600" y="4649760"/>
              <a:chExt cx="53280" cy="46440"/>
            </a:xfrm>
          </p:grpSpPr>
          <p:sp>
            <p:nvSpPr>
              <p:cNvPr id="387" name="直接连接符 221321"/>
              <p:cNvSpPr/>
              <p:nvPr/>
            </p:nvSpPr>
            <p:spPr>
              <a:xfrm flipV="1">
                <a:off x="6213600" y="46497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 rot="10800000">
                <a:off x="6213600" y="46497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89" name="椭圆 221322"/>
            <p:cNvSpPr/>
            <p:nvPr/>
          </p:nvSpPr>
          <p:spPr>
            <a:xfrm>
              <a:off x="5897520" y="467208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927040" y="4714920"/>
              <a:ext cx="42840" cy="43200"/>
              <a:chOff x="5927040" y="4714920"/>
              <a:chExt cx="42840" cy="43200"/>
            </a:xfrm>
          </p:grpSpPr>
          <p:sp>
            <p:nvSpPr>
              <p:cNvPr id="391" name="直接连接符 221323"/>
              <p:cNvSpPr/>
              <p:nvPr/>
            </p:nvSpPr>
            <p:spPr>
              <a:xfrm>
                <a:off x="5927040" y="471492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5927040" y="471492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129000" y="4853880"/>
              <a:ext cx="78480" cy="21960"/>
              <a:chOff x="6129000" y="4853880"/>
              <a:chExt cx="78480" cy="21960"/>
            </a:xfrm>
          </p:grpSpPr>
          <p:sp>
            <p:nvSpPr>
              <p:cNvPr id="394" name="直接连接符 221324"/>
              <p:cNvSpPr/>
              <p:nvPr/>
            </p:nvSpPr>
            <p:spPr>
              <a:xfrm flipH="1">
                <a:off x="6129000" y="485388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6129360" y="485388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96" name="椭圆 221325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238440" y="4863240"/>
              <a:ext cx="17640" cy="21600"/>
              <a:chOff x="6238440" y="4863240"/>
              <a:chExt cx="17640" cy="21600"/>
            </a:xfrm>
          </p:grpSpPr>
          <p:sp>
            <p:nvSpPr>
              <p:cNvPr id="398" name="直接连接符 221326"/>
              <p:cNvSpPr/>
              <p:nvPr/>
            </p:nvSpPr>
            <p:spPr>
              <a:xfrm>
                <a:off x="6238440" y="486324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>
                <a:off x="6238440" y="486324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400" name="椭圆 221327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401" name="组合 221328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02" name="任意多边形 221329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3" name="任意多边形 221330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4" name="任意多边形 221331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094840" y="4650480"/>
              <a:ext cx="49320" cy="1800"/>
              <a:chOff x="2094840" y="4650480"/>
              <a:chExt cx="49320" cy="1800"/>
            </a:xfrm>
          </p:grpSpPr>
          <p:sp>
            <p:nvSpPr>
              <p:cNvPr id="406" name="直接连接符 221332"/>
              <p:cNvSpPr/>
              <p:nvPr/>
            </p:nvSpPr>
            <p:spPr>
              <a:xfrm flipV="1">
                <a:off x="2094840" y="46504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 rot="21490800">
                <a:off x="2094480" y="46508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096280" y="4690080"/>
              <a:ext cx="49320" cy="1800"/>
              <a:chOff x="2096280" y="4690080"/>
              <a:chExt cx="49320" cy="1800"/>
            </a:xfrm>
          </p:grpSpPr>
          <p:sp>
            <p:nvSpPr>
              <p:cNvPr id="409" name="直接连接符 221333"/>
              <p:cNvSpPr/>
              <p:nvPr/>
            </p:nvSpPr>
            <p:spPr>
              <a:xfrm flipV="1">
                <a:off x="2096280" y="4690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 rot="21490800">
                <a:off x="2095920" y="4690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097360" y="4725720"/>
              <a:ext cx="49320" cy="1800"/>
              <a:chOff x="2097360" y="4725720"/>
              <a:chExt cx="49320" cy="1800"/>
            </a:xfrm>
          </p:grpSpPr>
          <p:sp>
            <p:nvSpPr>
              <p:cNvPr id="412" name="直接连接符 221334"/>
              <p:cNvSpPr/>
              <p:nvPr/>
            </p:nvSpPr>
            <p:spPr>
              <a:xfrm flipV="1">
                <a:off x="2097360" y="472572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 rot="21490800">
                <a:off x="2097000" y="472608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98440" y="4763880"/>
              <a:ext cx="49320" cy="1800"/>
              <a:chOff x="2098440" y="4763880"/>
              <a:chExt cx="49320" cy="1800"/>
            </a:xfrm>
          </p:grpSpPr>
          <p:sp>
            <p:nvSpPr>
              <p:cNvPr id="415" name="直接连接符 221335"/>
              <p:cNvSpPr/>
              <p:nvPr/>
            </p:nvSpPr>
            <p:spPr>
              <a:xfrm flipV="1">
                <a:off x="2098440" y="47638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 rot="21490800">
                <a:off x="2098080" y="47642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099520" y="4798080"/>
              <a:ext cx="49320" cy="1800"/>
              <a:chOff x="2099520" y="4798080"/>
              <a:chExt cx="49320" cy="1800"/>
            </a:xfrm>
          </p:grpSpPr>
          <p:sp>
            <p:nvSpPr>
              <p:cNvPr id="418" name="直接连接符 221336"/>
              <p:cNvSpPr/>
              <p:nvPr/>
            </p:nvSpPr>
            <p:spPr>
              <a:xfrm flipV="1">
                <a:off x="2099520" y="4798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 rot="21490800">
                <a:off x="2099160" y="4798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102040" y="4812840"/>
              <a:ext cx="26280" cy="1440"/>
              <a:chOff x="2102040" y="4812840"/>
              <a:chExt cx="26280" cy="1440"/>
            </a:xfrm>
          </p:grpSpPr>
          <p:sp>
            <p:nvSpPr>
              <p:cNvPr id="421" name="直接连接符 221337"/>
              <p:cNvSpPr/>
              <p:nvPr/>
            </p:nvSpPr>
            <p:spPr>
              <a:xfrm flipV="1">
                <a:off x="2102040" y="48128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 rot="21490800">
                <a:off x="2101680" y="48132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102040" y="4821120"/>
              <a:ext cx="26280" cy="1440"/>
              <a:chOff x="2102040" y="4821120"/>
              <a:chExt cx="26280" cy="1440"/>
            </a:xfrm>
          </p:grpSpPr>
          <p:sp>
            <p:nvSpPr>
              <p:cNvPr id="424" name="直接连接符 221338"/>
              <p:cNvSpPr/>
              <p:nvPr/>
            </p:nvSpPr>
            <p:spPr>
              <a:xfrm flipV="1">
                <a:off x="2102040" y="482112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 rot="21490800">
                <a:off x="2101680" y="48214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102400" y="4832640"/>
              <a:ext cx="26280" cy="1440"/>
              <a:chOff x="2102400" y="4832640"/>
              <a:chExt cx="26280" cy="1440"/>
            </a:xfrm>
          </p:grpSpPr>
          <p:sp>
            <p:nvSpPr>
              <p:cNvPr id="427" name="直接连接符 221339"/>
              <p:cNvSpPr/>
              <p:nvPr/>
            </p:nvSpPr>
            <p:spPr>
              <a:xfrm flipV="1">
                <a:off x="2102400" y="48326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 rot="21490800">
                <a:off x="2102040" y="48330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100600" y="4771440"/>
              <a:ext cx="26280" cy="1440"/>
              <a:chOff x="2100600" y="4771440"/>
              <a:chExt cx="26280" cy="1440"/>
            </a:xfrm>
          </p:grpSpPr>
          <p:sp>
            <p:nvSpPr>
              <p:cNvPr id="430" name="直接连接符 221340"/>
              <p:cNvSpPr/>
              <p:nvPr/>
            </p:nvSpPr>
            <p:spPr>
              <a:xfrm flipV="1">
                <a:off x="2100600" y="47714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 rot="21490800">
                <a:off x="2100240" y="47718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100960" y="4780080"/>
              <a:ext cx="26280" cy="1440"/>
              <a:chOff x="2100960" y="4780080"/>
              <a:chExt cx="26280" cy="1440"/>
            </a:xfrm>
          </p:grpSpPr>
          <p:sp>
            <p:nvSpPr>
              <p:cNvPr id="433" name="直接连接符 221341"/>
              <p:cNvSpPr/>
              <p:nvPr/>
            </p:nvSpPr>
            <p:spPr>
              <a:xfrm flipV="1">
                <a:off x="2100960" y="478008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 rot="21490800">
                <a:off x="2100600" y="4780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101320" y="4791240"/>
              <a:ext cx="26280" cy="1440"/>
              <a:chOff x="2101320" y="4791240"/>
              <a:chExt cx="26280" cy="1440"/>
            </a:xfrm>
          </p:grpSpPr>
          <p:sp>
            <p:nvSpPr>
              <p:cNvPr id="436" name="直接连接符 221342"/>
              <p:cNvSpPr/>
              <p:nvPr/>
            </p:nvSpPr>
            <p:spPr>
              <a:xfrm flipV="1">
                <a:off x="2101320" y="47912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 rot="21490800">
                <a:off x="2100960" y="47916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099520" y="4733640"/>
              <a:ext cx="26280" cy="1080"/>
              <a:chOff x="2099520" y="4733640"/>
              <a:chExt cx="26280" cy="1080"/>
            </a:xfrm>
          </p:grpSpPr>
          <p:sp>
            <p:nvSpPr>
              <p:cNvPr id="439" name="直接连接符 221343"/>
              <p:cNvSpPr/>
              <p:nvPr/>
            </p:nvSpPr>
            <p:spPr>
              <a:xfrm flipV="1">
                <a:off x="2099520" y="47336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 rot="21490800">
                <a:off x="2099160" y="4733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099520" y="4741920"/>
              <a:ext cx="26280" cy="1080"/>
              <a:chOff x="2099520" y="4741920"/>
              <a:chExt cx="26280" cy="1080"/>
            </a:xfrm>
          </p:grpSpPr>
          <p:sp>
            <p:nvSpPr>
              <p:cNvPr id="442" name="直接连接符 221344"/>
              <p:cNvSpPr/>
              <p:nvPr/>
            </p:nvSpPr>
            <p:spPr>
              <a:xfrm flipV="1">
                <a:off x="2099520" y="47419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 rot="21490800">
                <a:off x="2099160" y="47419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099880" y="4753440"/>
              <a:ext cx="26280" cy="1080"/>
              <a:chOff x="2099880" y="4753440"/>
              <a:chExt cx="26280" cy="1080"/>
            </a:xfrm>
          </p:grpSpPr>
          <p:sp>
            <p:nvSpPr>
              <p:cNvPr id="445" name="直接连接符 221345"/>
              <p:cNvSpPr/>
              <p:nvPr/>
            </p:nvSpPr>
            <p:spPr>
              <a:xfrm flipV="1">
                <a:off x="2099880" y="47534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 rot="21490800">
                <a:off x="2099520" y="4753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098440" y="4699440"/>
              <a:ext cx="26280" cy="1080"/>
              <a:chOff x="2098440" y="4699440"/>
              <a:chExt cx="26280" cy="1080"/>
            </a:xfrm>
          </p:grpSpPr>
          <p:sp>
            <p:nvSpPr>
              <p:cNvPr id="448" name="直接连接符 221346"/>
              <p:cNvSpPr/>
              <p:nvPr/>
            </p:nvSpPr>
            <p:spPr>
              <a:xfrm flipV="1">
                <a:off x="2098440" y="46994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 rot="21490800">
                <a:off x="2098080" y="4699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098440" y="4708080"/>
              <a:ext cx="26280" cy="1080"/>
              <a:chOff x="2098440" y="4708080"/>
              <a:chExt cx="26280" cy="1080"/>
            </a:xfrm>
          </p:grpSpPr>
          <p:sp>
            <p:nvSpPr>
              <p:cNvPr id="451" name="直接连接符 221347"/>
              <p:cNvSpPr/>
              <p:nvPr/>
            </p:nvSpPr>
            <p:spPr>
              <a:xfrm flipV="1">
                <a:off x="2098440" y="470808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 rot="21490800">
                <a:off x="2098080" y="47080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98800" y="4719240"/>
              <a:ext cx="26280" cy="1080"/>
              <a:chOff x="2098800" y="4719240"/>
              <a:chExt cx="26280" cy="1080"/>
            </a:xfrm>
          </p:grpSpPr>
          <p:sp>
            <p:nvSpPr>
              <p:cNvPr id="454" name="直接连接符 221348"/>
              <p:cNvSpPr/>
              <p:nvPr/>
            </p:nvSpPr>
            <p:spPr>
              <a:xfrm flipV="1">
                <a:off x="2098800" y="47192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 rot="21490800">
                <a:off x="2098440" y="47192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097000" y="4659840"/>
              <a:ext cx="26280" cy="1080"/>
              <a:chOff x="2097000" y="4659840"/>
              <a:chExt cx="26280" cy="1080"/>
            </a:xfrm>
          </p:grpSpPr>
          <p:sp>
            <p:nvSpPr>
              <p:cNvPr id="457" name="直接连接符 221349"/>
              <p:cNvSpPr/>
              <p:nvPr/>
            </p:nvSpPr>
            <p:spPr>
              <a:xfrm flipV="1">
                <a:off x="2097000" y="46598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 rot="21490800">
                <a:off x="2096640" y="46598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097360" y="4668120"/>
              <a:ext cx="26280" cy="1080"/>
              <a:chOff x="2097360" y="4668120"/>
              <a:chExt cx="26280" cy="1080"/>
            </a:xfrm>
          </p:grpSpPr>
          <p:sp>
            <p:nvSpPr>
              <p:cNvPr id="460" name="直接连接符 221350"/>
              <p:cNvSpPr/>
              <p:nvPr/>
            </p:nvSpPr>
            <p:spPr>
              <a:xfrm flipV="1">
                <a:off x="2097360" y="46681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 rot="21490800">
                <a:off x="2097000" y="46681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097720" y="4679640"/>
              <a:ext cx="26280" cy="1080"/>
              <a:chOff x="2097720" y="4679640"/>
              <a:chExt cx="26280" cy="1080"/>
            </a:xfrm>
          </p:grpSpPr>
          <p:sp>
            <p:nvSpPr>
              <p:cNvPr id="463" name="直接连接符 221351"/>
              <p:cNvSpPr/>
              <p:nvPr/>
            </p:nvSpPr>
            <p:spPr>
              <a:xfrm flipV="1">
                <a:off x="2097720" y="46796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 rot="21490800">
                <a:off x="2097360" y="4679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132640" y="4442400"/>
              <a:ext cx="5760" cy="137520"/>
              <a:chOff x="2132640" y="4442400"/>
              <a:chExt cx="5760" cy="137520"/>
            </a:xfrm>
          </p:grpSpPr>
          <p:sp>
            <p:nvSpPr>
              <p:cNvPr id="466" name="直接连接符 221352"/>
              <p:cNvSpPr/>
              <p:nvPr/>
            </p:nvSpPr>
            <p:spPr>
              <a:xfrm>
                <a:off x="2132640" y="4442400"/>
                <a:ext cx="5760" cy="13716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 rot="21490800">
                <a:off x="2134800" y="4442040"/>
                <a:ext cx="1440" cy="13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125080" y="4586040"/>
              <a:ext cx="29880" cy="1440"/>
              <a:chOff x="2125080" y="4586040"/>
              <a:chExt cx="29880" cy="1440"/>
            </a:xfrm>
          </p:grpSpPr>
          <p:sp>
            <p:nvSpPr>
              <p:cNvPr id="469" name="直接连接符 221353"/>
              <p:cNvSpPr/>
              <p:nvPr/>
            </p:nvSpPr>
            <p:spPr>
              <a:xfrm flipV="1">
                <a:off x="2125080" y="4586400"/>
                <a:ext cx="2988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 rot="21490800">
                <a:off x="2124720" y="4586400"/>
                <a:ext cx="2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组合 221354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72" name="任意多边形 221355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73" name="任意多边形 221356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74" name="任意多边形 221357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6726600" y="4680720"/>
              <a:ext cx="45720" cy="1800"/>
              <a:chOff x="6726600" y="4680720"/>
              <a:chExt cx="45720" cy="1800"/>
            </a:xfrm>
          </p:grpSpPr>
          <p:sp>
            <p:nvSpPr>
              <p:cNvPr id="476" name="直接连接符 221358"/>
              <p:cNvSpPr/>
              <p:nvPr/>
            </p:nvSpPr>
            <p:spPr>
              <a:xfrm flipV="1">
                <a:off x="6726600" y="46807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 rot="21490800">
                <a:off x="6726240" y="46810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27680" y="4717800"/>
              <a:ext cx="45720" cy="1800"/>
              <a:chOff x="6727680" y="4717800"/>
              <a:chExt cx="45720" cy="1800"/>
            </a:xfrm>
          </p:grpSpPr>
          <p:sp>
            <p:nvSpPr>
              <p:cNvPr id="479" name="直接连接符 221359"/>
              <p:cNvSpPr/>
              <p:nvPr/>
            </p:nvSpPr>
            <p:spPr>
              <a:xfrm flipV="1">
                <a:off x="6727680" y="471780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 rot="21490800">
                <a:off x="6727320" y="471816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728760" y="4751280"/>
              <a:ext cx="45720" cy="1800"/>
              <a:chOff x="6728760" y="4751280"/>
              <a:chExt cx="45720" cy="1800"/>
            </a:xfrm>
          </p:grpSpPr>
          <p:sp>
            <p:nvSpPr>
              <p:cNvPr id="482" name="直接连接符 221360"/>
              <p:cNvSpPr/>
              <p:nvPr/>
            </p:nvSpPr>
            <p:spPr>
              <a:xfrm flipV="1">
                <a:off x="6728760" y="4751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 rot="21490800">
                <a:off x="6728400" y="4751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729840" y="4787280"/>
              <a:ext cx="45720" cy="1800"/>
              <a:chOff x="6729840" y="4787280"/>
              <a:chExt cx="45720" cy="1800"/>
            </a:xfrm>
          </p:grpSpPr>
          <p:sp>
            <p:nvSpPr>
              <p:cNvPr id="485" name="直接连接符 221361"/>
              <p:cNvSpPr/>
              <p:nvPr/>
            </p:nvSpPr>
            <p:spPr>
              <a:xfrm flipV="1">
                <a:off x="6729840" y="4787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 rot="21490800">
                <a:off x="6729480" y="4787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6730920" y="4819320"/>
              <a:ext cx="45720" cy="1800"/>
              <a:chOff x="6730920" y="4819320"/>
              <a:chExt cx="45720" cy="1800"/>
            </a:xfrm>
          </p:grpSpPr>
          <p:sp>
            <p:nvSpPr>
              <p:cNvPr id="488" name="直接连接符 221362"/>
              <p:cNvSpPr/>
              <p:nvPr/>
            </p:nvSpPr>
            <p:spPr>
              <a:xfrm flipV="1">
                <a:off x="6730920" y="48193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 rot="21490800">
                <a:off x="6730560" y="48196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733080" y="4833000"/>
              <a:ext cx="24480" cy="1080"/>
              <a:chOff x="6733080" y="4833000"/>
              <a:chExt cx="24480" cy="1080"/>
            </a:xfrm>
          </p:grpSpPr>
          <p:sp>
            <p:nvSpPr>
              <p:cNvPr id="491" name="直接连接符 221363"/>
              <p:cNvSpPr/>
              <p:nvPr/>
            </p:nvSpPr>
            <p:spPr>
              <a:xfrm flipV="1">
                <a:off x="6733080" y="48330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 rot="21490800">
                <a:off x="6732720" y="48330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733440" y="4840920"/>
              <a:ext cx="24480" cy="1080"/>
              <a:chOff x="6733440" y="4840920"/>
              <a:chExt cx="24480" cy="1080"/>
            </a:xfrm>
          </p:grpSpPr>
          <p:sp>
            <p:nvSpPr>
              <p:cNvPr id="494" name="直接连接符 221364"/>
              <p:cNvSpPr/>
              <p:nvPr/>
            </p:nvSpPr>
            <p:spPr>
              <a:xfrm flipV="1">
                <a:off x="6733440" y="48409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21490800">
                <a:off x="6733080" y="48409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6733800" y="4851360"/>
              <a:ext cx="24480" cy="1080"/>
              <a:chOff x="6733800" y="4851360"/>
              <a:chExt cx="24480" cy="1080"/>
            </a:xfrm>
          </p:grpSpPr>
          <p:sp>
            <p:nvSpPr>
              <p:cNvPr id="497" name="直接连接符 221365"/>
              <p:cNvSpPr/>
              <p:nvPr/>
            </p:nvSpPr>
            <p:spPr>
              <a:xfrm flipV="1">
                <a:off x="6733800" y="485136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 rot="21490800">
                <a:off x="6733440" y="4851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6732000" y="4794120"/>
              <a:ext cx="24480" cy="1080"/>
              <a:chOff x="6732000" y="4794120"/>
              <a:chExt cx="24480" cy="1080"/>
            </a:xfrm>
          </p:grpSpPr>
          <p:sp>
            <p:nvSpPr>
              <p:cNvPr id="500" name="直接连接符 221366"/>
              <p:cNvSpPr/>
              <p:nvPr/>
            </p:nvSpPr>
            <p:spPr>
              <a:xfrm flipV="1">
                <a:off x="6732000" y="47941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 rot="21490800">
                <a:off x="6731640" y="47941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732000" y="4802400"/>
              <a:ext cx="24480" cy="1080"/>
              <a:chOff x="6732000" y="4802400"/>
              <a:chExt cx="24480" cy="1080"/>
            </a:xfrm>
          </p:grpSpPr>
          <p:sp>
            <p:nvSpPr>
              <p:cNvPr id="503" name="直接连接符 221367"/>
              <p:cNvSpPr/>
              <p:nvPr/>
            </p:nvSpPr>
            <p:spPr>
              <a:xfrm flipV="1">
                <a:off x="6732000" y="4802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 rot="21490800">
                <a:off x="6731640" y="4802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6732360" y="4812840"/>
              <a:ext cx="24480" cy="1080"/>
              <a:chOff x="6732360" y="4812840"/>
              <a:chExt cx="24480" cy="1080"/>
            </a:xfrm>
          </p:grpSpPr>
          <p:sp>
            <p:nvSpPr>
              <p:cNvPr id="506" name="直接连接符 221368"/>
              <p:cNvSpPr/>
              <p:nvPr/>
            </p:nvSpPr>
            <p:spPr>
              <a:xfrm flipV="1">
                <a:off x="6732360" y="4812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 rot="21490800">
                <a:off x="6732000" y="4812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6730560" y="4758120"/>
              <a:ext cx="24480" cy="1440"/>
              <a:chOff x="6730560" y="4758120"/>
              <a:chExt cx="24480" cy="1440"/>
            </a:xfrm>
          </p:grpSpPr>
          <p:sp>
            <p:nvSpPr>
              <p:cNvPr id="509" name="直接连接符 221369"/>
              <p:cNvSpPr/>
              <p:nvPr/>
            </p:nvSpPr>
            <p:spPr>
              <a:xfrm flipV="1">
                <a:off x="6730560" y="47581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 rot="21490800">
                <a:off x="6730200" y="47584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730920" y="4766400"/>
              <a:ext cx="24480" cy="1080"/>
              <a:chOff x="6730920" y="4766400"/>
              <a:chExt cx="24480" cy="1080"/>
            </a:xfrm>
          </p:grpSpPr>
          <p:sp>
            <p:nvSpPr>
              <p:cNvPr id="512" name="直接连接符 221370"/>
              <p:cNvSpPr/>
              <p:nvPr/>
            </p:nvSpPr>
            <p:spPr>
              <a:xfrm flipV="1">
                <a:off x="6730920" y="4766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 rot="21490800">
                <a:off x="6730560" y="4766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731280" y="4776840"/>
              <a:ext cx="24480" cy="1080"/>
              <a:chOff x="6731280" y="4776840"/>
              <a:chExt cx="24480" cy="1080"/>
            </a:xfrm>
          </p:grpSpPr>
          <p:sp>
            <p:nvSpPr>
              <p:cNvPr id="515" name="直接连接符 221371"/>
              <p:cNvSpPr/>
              <p:nvPr/>
            </p:nvSpPr>
            <p:spPr>
              <a:xfrm flipV="1">
                <a:off x="6731280" y="4776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 rot="21490800">
                <a:off x="6730920" y="4776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729840" y="4726440"/>
              <a:ext cx="24480" cy="1440"/>
              <a:chOff x="6729840" y="4726440"/>
              <a:chExt cx="24480" cy="1440"/>
            </a:xfrm>
          </p:grpSpPr>
          <p:sp>
            <p:nvSpPr>
              <p:cNvPr id="518" name="直接连接符 221372"/>
              <p:cNvSpPr/>
              <p:nvPr/>
            </p:nvSpPr>
            <p:spPr>
              <a:xfrm flipV="1">
                <a:off x="6729840" y="472644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 rot="21490800">
                <a:off x="6729480" y="47268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6729840" y="4734360"/>
              <a:ext cx="24480" cy="1440"/>
              <a:chOff x="6729840" y="4734360"/>
              <a:chExt cx="24480" cy="1440"/>
            </a:xfrm>
          </p:grpSpPr>
          <p:sp>
            <p:nvSpPr>
              <p:cNvPr id="521" name="直接连接符 221373"/>
              <p:cNvSpPr/>
              <p:nvPr/>
            </p:nvSpPr>
            <p:spPr>
              <a:xfrm flipV="1">
                <a:off x="6729840" y="473436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 rot="21490800">
                <a:off x="6729480" y="47347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730200" y="4744800"/>
              <a:ext cx="24480" cy="1440"/>
              <a:chOff x="6730200" y="4744800"/>
              <a:chExt cx="24480" cy="1440"/>
            </a:xfrm>
          </p:grpSpPr>
          <p:sp>
            <p:nvSpPr>
              <p:cNvPr id="524" name="直接连接符 221374"/>
              <p:cNvSpPr/>
              <p:nvPr/>
            </p:nvSpPr>
            <p:spPr>
              <a:xfrm flipV="1">
                <a:off x="6730200" y="47448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 rot="21490800">
                <a:off x="6729840" y="47451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6728400" y="4689000"/>
              <a:ext cx="24480" cy="1440"/>
              <a:chOff x="6728400" y="4689000"/>
              <a:chExt cx="24480" cy="1440"/>
            </a:xfrm>
          </p:grpSpPr>
          <p:sp>
            <p:nvSpPr>
              <p:cNvPr id="527" name="直接连接符 221375"/>
              <p:cNvSpPr/>
              <p:nvPr/>
            </p:nvSpPr>
            <p:spPr>
              <a:xfrm flipV="1">
                <a:off x="6728400" y="46890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 rot="21490800">
                <a:off x="6728040" y="4689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6728760" y="4696920"/>
              <a:ext cx="24480" cy="1440"/>
              <a:chOff x="6728760" y="4696920"/>
              <a:chExt cx="24480" cy="1440"/>
            </a:xfrm>
          </p:grpSpPr>
          <p:sp>
            <p:nvSpPr>
              <p:cNvPr id="530" name="直接连接符 221376"/>
              <p:cNvSpPr/>
              <p:nvPr/>
            </p:nvSpPr>
            <p:spPr>
              <a:xfrm flipV="1">
                <a:off x="6728760" y="46969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 rot="21490800">
                <a:off x="6728400" y="46972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6729120" y="4707720"/>
              <a:ext cx="24480" cy="1440"/>
              <a:chOff x="6729120" y="4707720"/>
              <a:chExt cx="24480" cy="1440"/>
            </a:xfrm>
          </p:grpSpPr>
          <p:sp>
            <p:nvSpPr>
              <p:cNvPr id="533" name="直接连接符 221377"/>
              <p:cNvSpPr/>
              <p:nvPr/>
            </p:nvSpPr>
            <p:spPr>
              <a:xfrm flipV="1">
                <a:off x="6729120" y="47077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 rot="21490800">
                <a:off x="6728760" y="47080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761160" y="4484880"/>
              <a:ext cx="5760" cy="129240"/>
              <a:chOff x="6761160" y="4484880"/>
              <a:chExt cx="5760" cy="129240"/>
            </a:xfrm>
          </p:grpSpPr>
          <p:sp>
            <p:nvSpPr>
              <p:cNvPr id="536" name="直接连接符 221378"/>
              <p:cNvSpPr/>
              <p:nvPr/>
            </p:nvSpPr>
            <p:spPr>
              <a:xfrm>
                <a:off x="6761160" y="4484880"/>
                <a:ext cx="5760" cy="129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 rot="21490800">
                <a:off x="6762960" y="4484520"/>
                <a:ext cx="1440" cy="12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753960" y="4620240"/>
              <a:ext cx="27720" cy="1080"/>
              <a:chOff x="6753960" y="4620240"/>
              <a:chExt cx="27720" cy="1080"/>
            </a:xfrm>
          </p:grpSpPr>
          <p:sp>
            <p:nvSpPr>
              <p:cNvPr id="539" name="直接连接符 221379"/>
              <p:cNvSpPr/>
              <p:nvPr/>
            </p:nvSpPr>
            <p:spPr>
              <a:xfrm flipV="1">
                <a:off x="6753960" y="4620240"/>
                <a:ext cx="2772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 rot="21490800">
                <a:off x="6753600" y="4620240"/>
                <a:ext cx="2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541" name="组合 221380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542" name="任意多边形 221381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3" name="椭圆 221382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4" name="任意多边形 221383"/>
            <p:cNvSpPr/>
            <p:nvPr/>
          </p:nvSpPr>
          <p:spPr>
            <a:xfrm>
              <a:off x="3471120" y="4654080"/>
              <a:ext cx="294120" cy="37116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5" name="椭圆 221384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546" name="组合 221385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547" name="任意多边形 221386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8" name="椭圆 221387"/>
            <p:cNvSpPr/>
            <p:nvPr/>
          </p:nvSpPr>
          <p:spPr>
            <a:xfrm flipH="1">
              <a:off x="790812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9" name="任意多边形 221388"/>
            <p:cNvSpPr/>
            <p:nvPr/>
          </p:nvSpPr>
          <p:spPr>
            <a:xfrm>
              <a:off x="8117280" y="4649040"/>
              <a:ext cx="299160" cy="36504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50" name="椭圆 221389"/>
            <p:cNvSpPr/>
            <p:nvPr/>
          </p:nvSpPr>
          <p:spPr>
            <a:xfrm>
              <a:off x="8228160" y="4557240"/>
              <a:ext cx="7920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551" name="组合 221390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552" name="组合 221391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553" name="任意多边形 221392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4" name="任意多边形 221393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5" name="任意多边形 221394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6" name="任意多边形 221395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7" name="任意多边形 221396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58" name="组合 221397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559" name="任意多边形 221398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0" name="任意多边形 221399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1" name="任意多边形 221400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2" name="任意多边形 221401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3" name="任意多边形 221402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64" name="组合 221403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565" name="任意多边形 221404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6" name="任意多边形 221405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7" name="任意多边形 221406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8" name="任意多边形 221407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9" name="任意多边形 221408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组合 221409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571" name="组合 221410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572" name="任意多边形 221411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3" name="任意多边形 221412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4" name="任意多边形 221413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5" name="任意多边形 221414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6" name="任意多边形 221415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77" name="组合 221416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578" name="任意多边形 221417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9" name="任意多边形 221418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0" name="任意多边形 221419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1" name="任意多边形 221420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2" name="任意多边形 221421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83" name="组合 221422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584" name="任意多边形 221423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5" name="任意多边形 221424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6" name="任意多边形 221425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7" name="任意多边形 221426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8" name="任意多边形 221427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任意多边形 222269"/>
          <p:cNvSpPr/>
          <p:nvPr/>
        </p:nvSpPr>
        <p:spPr>
          <a:xfrm rot="18900000">
            <a:off x="3224160" y="2617560"/>
            <a:ext cx="2454480" cy="245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0311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1" name="矩形 222270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2" name="矩形 222271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3" name="矩形 222272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4" name="矩形 222273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595" name="图片 222274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596" name="椭圆 222275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facf6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597" name="图片 222276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598" name="椭圆 222277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599" name="图片 222278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600" name="椭圆 222279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facf6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601" name="图片 222280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602" name="椭圆 222281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3" name="文本框 222282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604" name="组合 222283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605" name="椭圆 222284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3064320" y="2170080"/>
              <a:ext cx="360" cy="358560"/>
              <a:chOff x="3064320" y="2170080"/>
              <a:chExt cx="360" cy="358560"/>
            </a:xfrm>
          </p:grpSpPr>
          <p:sp>
            <p:nvSpPr>
              <p:cNvPr id="607" name="直接连接符 222285"/>
              <p:cNvSpPr/>
              <p:nvPr/>
            </p:nvSpPr>
            <p:spPr>
              <a:xfrm>
                <a:off x="3064320" y="2170080"/>
                <a:ext cx="0" cy="358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3064320" y="2170080"/>
                <a:ext cx="360" cy="35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882880" y="2349360"/>
              <a:ext cx="360360" cy="360"/>
              <a:chOff x="2882880" y="2349360"/>
              <a:chExt cx="360360" cy="360"/>
            </a:xfrm>
          </p:grpSpPr>
          <p:sp>
            <p:nvSpPr>
              <p:cNvPr id="610" name="直接连接符 222286"/>
              <p:cNvSpPr/>
              <p:nvPr/>
            </p:nvSpPr>
            <p:spPr>
              <a:xfrm>
                <a:off x="2882880" y="2349360"/>
                <a:ext cx="360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2882880" y="23493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612" name="任意多边形 222287"/>
            <p:cNvSpPr/>
            <p:nvPr/>
          </p:nvSpPr>
          <p:spPr>
            <a:xfrm>
              <a:off x="3088440" y="2172240"/>
              <a:ext cx="7488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3" name="任意多边形 222288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4" name="任意多边形 222289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5" name="任意多边形 222290"/>
            <p:cNvSpPr/>
            <p:nvPr/>
          </p:nvSpPr>
          <p:spPr>
            <a:xfrm flipV="1" rot="16200000">
              <a:off x="3036960" y="21114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16" name="组合 222291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617" name="任意多边形 222292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8" name="任意多边形 222293"/>
            <p:cNvSpPr/>
            <p:nvPr/>
          </p:nvSpPr>
          <p:spPr>
            <a:xfrm>
              <a:off x="5709240" y="4857840"/>
              <a:ext cx="315000" cy="26424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9" name="任意多边形 222294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20" name="任意多边形 222295"/>
            <p:cNvSpPr/>
            <p:nvPr/>
          </p:nvSpPr>
          <p:spPr>
            <a:xfrm>
              <a:off x="5761080" y="4903200"/>
              <a:ext cx="324360" cy="21924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21" name="任意多边形 222296"/>
            <p:cNvSpPr/>
            <p:nvPr/>
          </p:nvSpPr>
          <p:spPr>
            <a:xfrm>
              <a:off x="562932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22" name="任意多边形 222297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638680" y="5052600"/>
              <a:ext cx="76320" cy="83520"/>
              <a:chOff x="5638680" y="5052600"/>
              <a:chExt cx="76320" cy="83520"/>
            </a:xfrm>
          </p:grpSpPr>
          <p:sp>
            <p:nvSpPr>
              <p:cNvPr id="624" name="直接连接符 222298"/>
              <p:cNvSpPr/>
              <p:nvPr/>
            </p:nvSpPr>
            <p:spPr>
              <a:xfrm flipV="1">
                <a:off x="5639040" y="5052600"/>
                <a:ext cx="75960" cy="8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 rot="10800000">
                <a:off x="5638680" y="5052600"/>
                <a:ext cx="75960" cy="8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5649120" y="5118840"/>
              <a:ext cx="115200" cy="38880"/>
              <a:chOff x="5649120" y="5118840"/>
              <a:chExt cx="115200" cy="38880"/>
            </a:xfrm>
          </p:grpSpPr>
          <p:sp>
            <p:nvSpPr>
              <p:cNvPr id="627" name="直接连接符 222299"/>
              <p:cNvSpPr/>
              <p:nvPr/>
            </p:nvSpPr>
            <p:spPr>
              <a:xfrm flipV="1">
                <a:off x="5649120" y="5118840"/>
                <a:ext cx="11520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 rot="10800000">
                <a:off x="5649120" y="5118840"/>
                <a:ext cx="115200" cy="3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629" name="椭圆 222300"/>
            <p:cNvSpPr/>
            <p:nvPr/>
          </p:nvSpPr>
          <p:spPr>
            <a:xfrm rot="1507200">
              <a:off x="6007320" y="4826520"/>
              <a:ext cx="4968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30" name="组合 222301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631" name="圆角矩形 222302"/>
            <p:cNvSpPr/>
            <p:nvPr/>
          </p:nvSpPr>
          <p:spPr>
            <a:xfrm>
              <a:off x="296244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32" name="圆角矩形 222303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33" name="圆角矩形 222304"/>
            <p:cNvSpPr/>
            <p:nvPr/>
          </p:nvSpPr>
          <p:spPr>
            <a:xfrm>
              <a:off x="2982960" y="4806720"/>
              <a:ext cx="201960" cy="19332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3166920" y="5081760"/>
              <a:ext cx="61920" cy="360"/>
              <a:chOff x="3166920" y="5081760"/>
              <a:chExt cx="61920" cy="360"/>
            </a:xfrm>
          </p:grpSpPr>
          <p:sp>
            <p:nvSpPr>
              <p:cNvPr id="635" name="直接连接符 222305"/>
              <p:cNvSpPr/>
              <p:nvPr/>
            </p:nvSpPr>
            <p:spPr>
              <a:xfrm flipH="1">
                <a:off x="3166920" y="5081760"/>
                <a:ext cx="61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3167280" y="5081760"/>
                <a:ext cx="6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058200" y="4856400"/>
              <a:ext cx="102240" cy="360"/>
              <a:chOff x="3058200" y="4856400"/>
              <a:chExt cx="102240" cy="360"/>
            </a:xfrm>
          </p:grpSpPr>
          <p:sp>
            <p:nvSpPr>
              <p:cNvPr id="638" name="直接连接符 222306"/>
              <p:cNvSpPr/>
              <p:nvPr/>
            </p:nvSpPr>
            <p:spPr>
              <a:xfrm flipH="1">
                <a:off x="3058200" y="4856400"/>
                <a:ext cx="1022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3058200" y="4856400"/>
                <a:ext cx="10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084480" y="4882680"/>
              <a:ext cx="62640" cy="360"/>
              <a:chOff x="3084480" y="4882680"/>
              <a:chExt cx="62640" cy="360"/>
            </a:xfrm>
          </p:grpSpPr>
          <p:sp>
            <p:nvSpPr>
              <p:cNvPr id="641" name="直接连接符 222307"/>
              <p:cNvSpPr/>
              <p:nvPr/>
            </p:nvSpPr>
            <p:spPr>
              <a:xfrm flipH="1">
                <a:off x="3084480" y="4882680"/>
                <a:ext cx="62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3084480" y="4882680"/>
                <a:ext cx="6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101400" y="4964760"/>
              <a:ext cx="44640" cy="360"/>
              <a:chOff x="3101400" y="4964760"/>
              <a:chExt cx="44640" cy="360"/>
            </a:xfrm>
          </p:grpSpPr>
          <p:sp>
            <p:nvSpPr>
              <p:cNvPr id="644" name="直接连接符 222308"/>
              <p:cNvSpPr/>
              <p:nvPr/>
            </p:nvSpPr>
            <p:spPr>
              <a:xfrm flipH="1">
                <a:off x="3101400" y="4964760"/>
                <a:ext cx="44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3101400" y="4964760"/>
                <a:ext cx="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组合 222309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647" name="组合 222310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648" name="任意多边形 222311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30311d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49" name="任意多边形 222312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5617800" y="2282400"/>
                <a:ext cx="267120" cy="144720"/>
                <a:chOff x="5617800" y="2282400"/>
                <a:chExt cx="267120" cy="144720"/>
              </a:xfrm>
            </p:grpSpPr>
            <p:sp>
              <p:nvSpPr>
                <p:cNvPr id="651" name="直接连接符 222313"/>
                <p:cNvSpPr/>
                <p:nvPr/>
              </p:nvSpPr>
              <p:spPr>
                <a:xfrm>
                  <a:off x="5617800" y="2282400"/>
                  <a:ext cx="267120" cy="144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 txBox="1"/>
                <p:nvPr/>
              </p:nvSpPr>
              <p:spPr>
                <a:xfrm>
                  <a:off x="5617800" y="2282400"/>
                  <a:ext cx="26712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任意多边形 222314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311d">
                <a:alpha val="60000"/>
              </a:srgbClr>
            </a:solidFill>
            <a:ln w="1908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654" name="文本框 222315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5" name="文本框 222316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6" name="文本框 222317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7" name="文本框 222318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5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