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65273-6C36-42B6-9999-C754BB84C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2509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67A34-F760-4EA1-A967-75A8AA29A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509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4679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2B3C3-3BEF-47ED-8687-12C40C23C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33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8158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2509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33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8158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76695-A974-4532-AE1B-5FF9B15AD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0040A-D1E4-44A5-B2FA-25795584A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509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E9FE1-BA54-49A2-8D17-3815DC124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E3DBB-1C7A-45B1-B10B-CA72DCA1F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859EC-FE86-46FF-BD88-07D92A16B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887ED-71FC-4EBA-9C21-D59E052FB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50920" y="274680"/>
            <a:ext cx="684216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B909D-4695-4032-AD5F-C232CDE2D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509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8877D-C2B1-4195-AD8C-7593A1E5C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2509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0AD27-4AF4-41A5-A12B-ECE6EEAFB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4679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48527-DDEA-4956-8649-C76F0C2A2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509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EDF68-8539-4625-800E-4F6503D56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509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F675F-1003-496A-81B4-0FB3BA8EC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509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4679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20E70-D7FF-4443-B501-7CA83B5D8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0333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8158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509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0333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8158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CA703-DAAD-4920-AFC9-7C5075C69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650A95-BAF3-446B-8DC1-344079EEE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2509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753060-BCC5-4B43-9EF8-757827C0F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629C77-3FAF-467E-84AE-6C3C6C52E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E600EB-5F4D-478D-AD32-EFF652693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74B9A0-2E86-489D-B34A-F8B6F623B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5FFD5-1F82-4066-B618-7D32D1815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250920" y="274680"/>
            <a:ext cx="684216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2B5CA7-FA55-4697-A90E-5C2E6C724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2509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ACD9BE-2650-40E2-8F57-75466B5D5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4679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807449-1515-4054-B003-21B337724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2509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FA9B46-EE1F-4698-BDC1-AC039F294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2509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EDA09D-BDE3-43B4-84B8-86A7A6EF5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2509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4679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204511-9E47-40B4-B9B4-0A7DBD4D7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0333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8158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2509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0333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8158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B7F27F-1161-4650-A403-0F5E4DCD8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14C59-EEBA-4F25-98F7-A4264166F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78196-A0AD-412F-B095-3431EF8B0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50920" y="274680"/>
            <a:ext cx="684216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D7934-D246-4D09-ADD8-535751AF0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2509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5E16D-1FB0-47B4-AA68-A6AE68B2F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4679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CF7A9-1505-43BF-8A3E-E99288754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679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509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C2B97-468C-4A99-8F66-4A7981CE7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7236000" cy="1440000"/>
          </a:xfrm>
          <a:prstGeom prst="rect">
            <a:avLst/>
          </a:prstGeom>
          <a:gradFill rotWithShape="0">
            <a:gsLst>
              <a:gs pos="0">
                <a:srgbClr val="8693a3">
                  <a:alpha val="85098"/>
                </a:srgbClr>
              </a:gs>
              <a:gs pos="100000">
                <a:srgbClr val="8693a3">
                  <a:alpha val="8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509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A15BF-E740-472B-92A6-7C58C231D2D5}" type="datetime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2CCF3-A20A-4DEB-8BC1-2D1D36B60355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10" descr=""/>
          <p:cNvPicPr/>
          <p:nvPr/>
        </p:nvPicPr>
        <p:blipFill>
          <a:blip r:embed="rId2"/>
          <a:stretch/>
        </p:blipFill>
        <p:spPr>
          <a:xfrm>
            <a:off x="6983280" y="-12600"/>
            <a:ext cx="2160720" cy="1452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9CF11-16DD-486E-AE5F-62B89C2EC4FB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E3597-E5EC-4737-A343-EDD35DEE4E75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6"/>
          <p:cNvSpPr/>
          <p:nvPr/>
        </p:nvSpPr>
        <p:spPr>
          <a:xfrm>
            <a:off x="0" y="0"/>
            <a:ext cx="7236000" cy="1440000"/>
          </a:xfrm>
          <a:prstGeom prst="rect">
            <a:avLst/>
          </a:prstGeom>
          <a:gradFill rotWithShape="0">
            <a:gsLst>
              <a:gs pos="0">
                <a:srgbClr val="8693a3">
                  <a:alpha val="85098"/>
                </a:srgbClr>
              </a:gs>
              <a:gs pos="100000">
                <a:srgbClr val="8693a3">
                  <a:alpha val="8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10" descr=""/>
          <p:cNvPicPr/>
          <p:nvPr/>
        </p:nvPicPr>
        <p:blipFill>
          <a:blip r:embed="rId2"/>
          <a:stretch/>
        </p:blipFill>
        <p:spPr>
          <a:xfrm>
            <a:off x="6983280" y="-12600"/>
            <a:ext cx="2160720" cy="14526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0" descr=""/>
          <p:cNvPicPr/>
          <p:nvPr/>
        </p:nvPicPr>
        <p:blipFill>
          <a:blip r:embed="rId3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9"/>
          <p:cNvSpPr/>
          <p:nvPr/>
        </p:nvSpPr>
        <p:spPr>
          <a:xfrm>
            <a:off x="287280" y="189000"/>
            <a:ext cx="8569440" cy="1368360"/>
          </a:xfrm>
          <a:prstGeom prst="rect">
            <a:avLst/>
          </a:prstGeom>
          <a:gradFill rotWithShape="0">
            <a:gsLst>
              <a:gs pos="0">
                <a:srgbClr val="8693a3">
                  <a:alpha val="40000"/>
                </a:srgbClr>
              </a:gs>
              <a:gs pos="100000">
                <a:srgbClr val="8693a3">
                  <a:alpha val="6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2509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37E11-B118-487E-BE7A-65D08E096598}" type="datetime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EDBBA-CEAA-433C-9585-5878ACEC69AE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49440" y="244080"/>
            <a:ext cx="7772400" cy="72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Old Farm Windmill Templat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295280" y="966600"/>
            <a:ext cx="6400800" cy="47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00000"/>
                </a:solidFill>
                <a:latin typeface="Arial"/>
              </a:rPr>
              <a:t>Your n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文本框 1"/>
          <p:cNvSpPr/>
          <p:nvPr/>
        </p:nvSpPr>
        <p:spPr>
          <a:xfrm>
            <a:off x="1540440" y="1268280"/>
            <a:ext cx="5767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国外风车工作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模板打包下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xample Bullet Point Sli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06440" y="1663560"/>
            <a:ext cx="8229600" cy="43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Bullet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Bullet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Sub Bull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Sample Cha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Content Placeholder 3" descr=""/>
          <p:cNvPicPr/>
          <p:nvPr/>
        </p:nvPicPr>
        <p:blipFill>
          <a:blip r:embed="rId1"/>
          <a:stretch/>
        </p:blipFill>
        <p:spPr>
          <a:xfrm>
            <a:off x="901800" y="1790640"/>
            <a:ext cx="7340400" cy="394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olour sche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Rectangle 3"/>
          <p:cNvSpPr/>
          <p:nvPr/>
        </p:nvSpPr>
        <p:spPr>
          <a:xfrm>
            <a:off x="3571920" y="2863800"/>
            <a:ext cx="826920" cy="611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Rectangle 4"/>
          <p:cNvSpPr/>
          <p:nvPr/>
        </p:nvSpPr>
        <p:spPr>
          <a:xfrm>
            <a:off x="4648320" y="2863800"/>
            <a:ext cx="826920" cy="611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Rectangle 5"/>
          <p:cNvSpPr/>
          <p:nvPr/>
        </p:nvSpPr>
        <p:spPr>
          <a:xfrm>
            <a:off x="2519280" y="4478400"/>
            <a:ext cx="827280" cy="611280"/>
          </a:xfrm>
          <a:prstGeom prst="rect">
            <a:avLst/>
          </a:prstGeom>
          <a:solidFill>
            <a:srgbClr val="8693a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Rectangle 6"/>
          <p:cNvSpPr/>
          <p:nvPr/>
        </p:nvSpPr>
        <p:spPr>
          <a:xfrm>
            <a:off x="3587760" y="4478400"/>
            <a:ext cx="826920" cy="611280"/>
          </a:xfrm>
          <a:prstGeom prst="rect">
            <a:avLst/>
          </a:prstGeom>
          <a:solidFill>
            <a:srgbClr val="6ba7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4656240" y="4478400"/>
            <a:ext cx="826920" cy="611280"/>
          </a:xfrm>
          <a:prstGeom prst="rect">
            <a:avLst/>
          </a:prstGeom>
          <a:solidFill>
            <a:srgbClr val="0b6de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Rectangle 8"/>
          <p:cNvSpPr/>
          <p:nvPr/>
        </p:nvSpPr>
        <p:spPr>
          <a:xfrm>
            <a:off x="5726160" y="4478400"/>
            <a:ext cx="826920" cy="611280"/>
          </a:xfrm>
          <a:prstGeom prst="rect">
            <a:avLst/>
          </a:prstGeom>
          <a:solidFill>
            <a:srgbClr val="237df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Rectangle 9"/>
          <p:cNvSpPr/>
          <p:nvPr/>
        </p:nvSpPr>
        <p:spPr>
          <a:xfrm>
            <a:off x="5708520" y="2863800"/>
            <a:ext cx="827280" cy="611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Rectangle 10"/>
          <p:cNvSpPr/>
          <p:nvPr/>
        </p:nvSpPr>
        <p:spPr>
          <a:xfrm>
            <a:off x="2503440" y="2863800"/>
            <a:ext cx="827280" cy="611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Text Box 11"/>
          <p:cNvSpPr/>
          <p:nvPr/>
        </p:nvSpPr>
        <p:spPr>
          <a:xfrm>
            <a:off x="2285640" y="2224080"/>
            <a:ext cx="126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Text Box 12"/>
          <p:cNvSpPr/>
          <p:nvPr/>
        </p:nvSpPr>
        <p:spPr>
          <a:xfrm>
            <a:off x="3603960" y="2101680"/>
            <a:ext cx="76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ext &amp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Lin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xt Box 13"/>
          <p:cNvSpPr/>
          <p:nvPr/>
        </p:nvSpPr>
        <p:spPr>
          <a:xfrm>
            <a:off x="4553640" y="2224080"/>
            <a:ext cx="101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hadow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Text Box 14"/>
          <p:cNvSpPr/>
          <p:nvPr/>
        </p:nvSpPr>
        <p:spPr>
          <a:xfrm>
            <a:off x="5834520" y="2101680"/>
            <a:ext cx="57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itle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Text Box 15"/>
          <p:cNvSpPr/>
          <p:nvPr/>
        </p:nvSpPr>
        <p:spPr>
          <a:xfrm>
            <a:off x="2661840" y="3838680"/>
            <a:ext cx="543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Fil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 Box 16"/>
          <p:cNvSpPr/>
          <p:nvPr/>
        </p:nvSpPr>
        <p:spPr>
          <a:xfrm>
            <a:off x="3609360" y="3838680"/>
            <a:ext cx="8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ccen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 Box 17"/>
          <p:cNvSpPr/>
          <p:nvPr/>
        </p:nvSpPr>
        <p:spPr>
          <a:xfrm>
            <a:off x="4543560" y="3716280"/>
            <a:ext cx="1028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ccent &amp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yperlink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Text Box 18"/>
          <p:cNvSpPr/>
          <p:nvPr/>
        </p:nvSpPr>
        <p:spPr>
          <a:xfrm>
            <a:off x="5624640" y="3714840"/>
            <a:ext cx="1028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Follow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yperlink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文本框 8200"/>
          <p:cNvSpPr/>
          <p:nvPr/>
        </p:nvSpPr>
        <p:spPr>
          <a:xfrm>
            <a:off x="755640" y="170172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b6def"/>
                </a:solidFill>
                <a:uFillTx/>
                <a:latin typeface="Arial"/>
                <a:ea typeface="宋体"/>
                <a:hlinkClick r:id="rId1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9E761-0107-49C4-B735-1CDCECA01AAC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68421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icture sli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6840" y="1600200"/>
            <a:ext cx="4027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ullet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ullet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4" descr="IMG_9271"/>
          <p:cNvPicPr/>
          <p:nvPr/>
        </p:nvPicPr>
        <p:blipFill>
          <a:blip r:embed="rId1"/>
          <a:stretch/>
        </p:blipFill>
        <p:spPr>
          <a:xfrm>
            <a:off x="5256360" y="2205000"/>
            <a:ext cx="3097080" cy="3853080"/>
          </a:xfrm>
          <a:prstGeom prst="rect">
            <a:avLst/>
          </a:prstGeom>
          <a:ln w="57240">
            <a:solidFill>
              <a:srgbClr val="8693a3"/>
            </a:solidFill>
            <a:miter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1T11:56:50Z</dcterms:created>
  <dc:creator>幻灯片之家：www.eepp.com</dc:creator>
  <dc:description>幻灯片之家：www.eepp.com</dc:description>
  <cp:keywords>幻灯片之家：www.eepp.com</cp:keywords>
  <dc:language>en-US</dc:language>
  <cp:lastModifiedBy>pc</cp:lastModifiedBy>
  <dcterms:modified xsi:type="dcterms:W3CDTF">2015-12-12T07:08:48Z</dcterms:modified>
  <cp:revision>14</cp:revision>
  <dc:subject>幻灯片之家：www.eepp.com</dc:subject>
  <dc:title>幻灯片之家：www.eepp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00</vt:lpwstr>
  </property>
</Properties>
</file>