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63B3-4920-462B-87C7-8ACCA2CD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620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854880"/>
            <a:ext cx="7620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B32C-BF40-4AF1-922A-2F4915B8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61760" y="137124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85488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61760" y="385488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23C3-7CD7-41C5-93D5-FC4096C8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453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33360" y="1371240"/>
            <a:ext cx="2453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9880" y="1371240"/>
            <a:ext cx="2453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854880"/>
            <a:ext cx="2453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33360" y="3854880"/>
            <a:ext cx="2453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9880" y="3854880"/>
            <a:ext cx="2453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72B5-C8A7-4440-B1E3-21DE3B1B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8B82-A5EA-4011-B90D-DCE33510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371240"/>
            <a:ext cx="76201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C12D-6DBA-485A-9F76-E090E5BC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6201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682B-DDFF-4558-8A13-5694A283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7184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61760" y="1371240"/>
            <a:ext cx="37184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75F3-7701-4152-8097-6DF097C6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CB87-94A5-4ACE-B201-BA307C84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960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3EE1-468B-471C-A964-4D4FA473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61760" y="1371240"/>
            <a:ext cx="37184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85488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343D-2558-4631-8223-D5600DCF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371240"/>
            <a:ext cx="76201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3171-67E1-4B97-99E7-26BEE924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7184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37124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61760" y="385488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D772-C035-46C7-ABD4-1F06E406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37124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854880"/>
            <a:ext cx="7620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6130-6B78-4FAF-B3ED-60E5A4E3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620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854880"/>
            <a:ext cx="7620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606D-47F1-415D-8867-5C67EA92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37124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5488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361760" y="385488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DBEF-DC00-4691-A932-2CB84BD5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453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33360" y="1371240"/>
            <a:ext cx="2453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09880" y="1371240"/>
            <a:ext cx="2453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854880"/>
            <a:ext cx="2453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33360" y="3854880"/>
            <a:ext cx="2453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09880" y="3854880"/>
            <a:ext cx="2453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FC99-287B-42FD-8E7F-3932D9817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F812C-A64C-4C34-A70E-FC82B1935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371240"/>
            <a:ext cx="76201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6D98A-7F07-4BDF-96E7-78BB4A32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6201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662FA-0255-4A36-B8F3-C1DD106E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7184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361760" y="1371240"/>
            <a:ext cx="37184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84BAA-C1EA-41A0-B1D6-01310629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6E66B-91F6-47B0-A968-1660074F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6201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0845-0594-4A97-A232-271A3653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960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29174-FA27-40D1-A02E-4B05C87A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61760" y="1371240"/>
            <a:ext cx="37184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85488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1FD08-07D5-4E0C-913B-8F42A474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7184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361760" y="137124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361760" y="385488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627B7-A0B2-4884-84AD-2A9AF1ED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61760" y="137124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854880"/>
            <a:ext cx="7620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49D93-D282-47A4-95F3-A8BF458B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620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854880"/>
            <a:ext cx="7620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BB224-7F46-4CE8-89F8-D8762732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61760" y="137124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85488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361760" y="385488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1236E-CA8C-4972-9384-44B3C415F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453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33360" y="1371240"/>
            <a:ext cx="2453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09880" y="1371240"/>
            <a:ext cx="2453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854880"/>
            <a:ext cx="2453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033360" y="3854880"/>
            <a:ext cx="2453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09880" y="3854880"/>
            <a:ext cx="2453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FF986-4684-4F90-BD6C-99145E4B0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7184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61760" y="1371240"/>
            <a:ext cx="37184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7D6B-71A6-498F-9CB3-4EE5C993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72D2-3B87-43B5-81BC-96636AA5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960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A635-B235-47EC-A413-025594FA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1760" y="1371240"/>
            <a:ext cx="37184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85488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34C1-5EE7-4C20-95F8-E7B798F4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7184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1760" y="137124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61760" y="385488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4243-0999-4A31-9C90-84577ACF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61760" y="137124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854880"/>
            <a:ext cx="7620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9816-DFC6-46EA-A1F9-1A14E742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240"/>
            <a:ext cx="76201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1081-19AE-4BD1-89E9-06FD09DA94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8588-58AF-409A-AC9D-4BD84164A3A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BAC9-3126-4A5F-B8D7-EC69BCCB340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371240"/>
            <a:ext cx="76201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9DB8-0841-40B1-B78A-B4C1F0A96A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723920" y="2361960"/>
            <a:ext cx="3429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 Black"/>
              </a:rPr>
              <a:t>WIDER HALLWAYS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723920" y="5334120"/>
            <a:ext cx="3429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Your Subtitle Goes Her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1785600" y="533520"/>
            <a:ext cx="59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国外房屋装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YOUR TOPIC GOES HERE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371240"/>
            <a:ext cx="76201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Your Subtopics Go Her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R TOPIC GOES HERE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371240"/>
            <a:ext cx="76201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文本框 8199"/>
          <p:cNvSpPr/>
          <p:nvPr/>
        </p:nvSpPr>
        <p:spPr>
          <a:xfrm>
            <a:off x="762120" y="3581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38D8-3CFC-4CA2-B8E7-0328014C48D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2361960"/>
            <a:ext cx="4343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TRANSITIONAL PAG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05:25:1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8:23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