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D6D-6FA4-4DF6-97AE-3077FA1D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A28-52F5-45DC-B0E4-3D979A44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3BE-4CBD-4D45-9484-4E099D7D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454-C2D2-43AF-A53C-219EFE9F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8113-72AC-430D-A502-2D42EBE0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6626-2FD6-46EB-998E-E220BB96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2779-1B58-438B-A20D-724B7914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B2F6-510B-42AF-9540-198837ED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0149-168D-4163-9E38-48AE9B3C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2B45-1295-482A-9607-33AB1226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A894-B6DE-407B-ACF6-E2CDC841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433-E0F7-4B92-BD93-9A92C4F0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CC8A-D61B-4463-896A-4CC256F1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78F7-B9E7-4A0D-A833-3C8D956C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F4B0-88FA-427B-A04A-4E45BE18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3E40-E0F1-4B11-ADE3-F7300B43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596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840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596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840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2A7C-A825-4D9A-9013-CD4D4EA9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62617-83A1-4459-9999-7DFE6081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2F5C-1F1E-4759-A853-5ED0A1A6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D6E2-A3F7-4E9B-9FFC-730DF4AD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9A69-2EA1-47FF-B59B-E5FBA9B1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4D133-83F2-4145-9AE0-BC9A8B68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FE7-5342-4CD6-9A4E-214D65BB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08FD-310C-48D6-AFCD-83DA3F0A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7CC5-4A5E-4BF7-86F4-0EAD670C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E3F76-6919-4FBE-BC8D-C79D26AD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AEDB-05E0-47D9-A416-DC6A7734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ED8B1-6913-4C7A-962A-23F67D1A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3706-0363-42DB-A00B-CEC7BC8F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596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840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596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840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182A8-9561-43DE-A2AB-5FDDC822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EA0-1EA6-4DE3-A339-A15C2E58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382A-B917-4BA7-AC54-7E66E161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4B8-DE3D-4994-AB9E-93927275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1677-F777-413F-8053-77D06F36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F7B-952A-4543-A26A-10D9FDC0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7C3-E40B-4AED-92AC-2F848A6E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338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76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14840" indent="-338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53240" indent="-676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53240" indent="-676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53240" indent="-676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B2F4-C558-488E-83CF-6D7EC6E6C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187E-1E7A-4EDD-AF50-3A8681D279E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5112-3163-4A7A-85D3-0460B25FEE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338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76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14840" indent="-338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53240" indent="-676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53240" indent="-676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53240" indent="-676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0C97-ADE5-4464-B541-DA9BD3490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国外工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urostile"/>
              </a:rPr>
              <a:t>EXCHANGE MATR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rostile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294"/>
          <p:cNvSpPr/>
          <p:nvPr/>
        </p:nvSpPr>
        <p:spPr>
          <a:xfrm>
            <a:off x="685800" y="3200400"/>
            <a:ext cx="822960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199"/>
          <p:cNvSpPr/>
          <p:nvPr/>
        </p:nvSpPr>
        <p:spPr>
          <a:xfrm>
            <a:off x="1219320" y="4114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TIONAL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F9A3-DFF6-4499-BF00-AB00C3461FC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520" y="2209320"/>
            <a:ext cx="3657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urostile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内容占位符 15363" descr="exchange_pizzaz_qx"/>
          <p:cNvPicPr/>
          <p:nvPr/>
        </p:nvPicPr>
        <p:blipFill>
          <a:blip r:embed="rId1"/>
          <a:stretch/>
        </p:blipFill>
        <p:spPr>
          <a:xfrm>
            <a:off x="1577880" y="3048120"/>
            <a:ext cx="1949400" cy="1461960"/>
          </a:xfrm>
          <a:prstGeom prst="rect">
            <a:avLst/>
          </a:prstGeom>
          <a:ln w="0">
            <a:noFill/>
          </a:ln>
        </p:spPr>
      </p:pic>
      <p:pic>
        <p:nvPicPr>
          <p:cNvPr id="138" name="内容占位符 15365" descr="exchange_pizzaz_prt"/>
          <p:cNvPicPr/>
          <p:nvPr/>
        </p:nvPicPr>
        <p:blipFill>
          <a:blip r:embed="rId2"/>
          <a:stretch/>
        </p:blipFill>
        <p:spPr>
          <a:xfrm>
            <a:off x="5769000" y="3048120"/>
            <a:ext cx="1949400" cy="1461960"/>
          </a:xfrm>
          <a:prstGeom prst="rect">
            <a:avLst/>
          </a:prstGeom>
          <a:ln w="0">
            <a:noFill/>
          </a:ln>
        </p:spPr>
      </p:pic>
      <p:pic>
        <p:nvPicPr>
          <p:cNvPr id="139" name="内容占位符 15367" descr="exchange_pizzaz_sld"/>
          <p:cNvPicPr/>
          <p:nvPr/>
        </p:nvPicPr>
        <p:blipFill>
          <a:blip r:embed="rId3"/>
          <a:stretch/>
        </p:blipFill>
        <p:spPr>
          <a:xfrm>
            <a:off x="1576440" y="4662360"/>
            <a:ext cx="1950840" cy="1463760"/>
          </a:xfrm>
          <a:prstGeom prst="rect">
            <a:avLst/>
          </a:prstGeom>
          <a:ln w="0">
            <a:noFill/>
          </a:ln>
        </p:spPr>
      </p:pic>
      <p:pic>
        <p:nvPicPr>
          <p:cNvPr id="140" name="内容占位符 15369" descr="exchange_pizzaz_trs"/>
          <p:cNvPicPr/>
          <p:nvPr/>
        </p:nvPicPr>
        <p:blipFill>
          <a:blip r:embed="rId4"/>
          <a:stretch/>
        </p:blipFill>
        <p:spPr>
          <a:xfrm>
            <a:off x="5767560" y="4662360"/>
            <a:ext cx="19508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3:28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13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