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03B8-4F41-4F23-BBE5-2E6E6E303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6372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B5D6-3135-49FB-9100-ADD341AF0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837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63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63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AA42-08AB-484C-9B2D-4B2147D8E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8377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8377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637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637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637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B8A7-5526-4177-BA7D-1462F79C7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5492B-7904-49D4-9F6B-047AC4F28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8377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46E40-0FA4-4571-B74D-C1F821421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33631-EBB7-402C-AFA9-4672D9606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40158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837720"/>
            <a:ext cx="40158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0DD75-1808-40A6-ABDD-0B2ACD74B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76A80-26C4-430C-9970-9E8CC9FC2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371600" y="-36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B76E9-5E97-48F7-9453-A4C698123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837720"/>
            <a:ext cx="40158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63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7C069-6D8E-4728-B12C-42559C8C2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8377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13BF-C713-4692-8E0E-5B143B9E2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40158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837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663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C0948-90B0-4EAC-8FF6-69B863AAD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837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6372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4F4FA-FE7F-423C-93D1-4184AA0A8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66372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B7A6B-BCBC-451D-AC8C-4AB4B6680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837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663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663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306D5-616B-4CED-87C7-698F479C1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8377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8377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6637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6637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6637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8444C-1DCF-402E-9856-7E7EF219E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C8A52D-62E4-4F06-A3D6-3F3007C58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8377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5326D5-1CF2-4F1E-9FB1-6059B8F4D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88F18B-5B9C-4E9F-8464-C75271DAF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40158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837720"/>
            <a:ext cx="40158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1BBE6F-CA13-4286-88CD-C9866B63F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B736CF-EE20-449F-B9C6-1BCDCA04C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9590-0D6B-4147-B9EA-E7385454F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371600" y="-36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9FC363-0197-4625-BD40-F08125275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837720"/>
            <a:ext cx="40158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63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BDE02E-9F85-42AD-8B2D-56EE74A26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40158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837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663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30C4FE-73F9-42CE-80D0-68CF7EE4B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837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6372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F5CB09-F510-47E0-9A85-11053469D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66372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A0FB4A-0C91-4137-89B7-7AC94AB18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837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663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663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8E9445-DDFE-4DB2-B50C-ABA1BEA81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8377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8377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6637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6637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6637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E59325-EEEF-4E48-8B9B-1C00CE9DD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40158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837720"/>
            <a:ext cx="40158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0608-F206-4BB7-940E-268823D35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D3A0-EC36-4143-80E1-E4EF51601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71600" y="-36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5C27-A353-4EA6-B016-89862A136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837720"/>
            <a:ext cx="40158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63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0BD1-4FBC-43F2-B564-6DA2633B8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40158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837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63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7A52-070F-407E-9AF2-43C7080DD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837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6372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920F-4E20-4B75-876E-B8C4346F9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6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25.xml"/><Relationship Id="rId11" Type="http://schemas.openxmlformats.org/officeDocument/2006/relationships/slideLayout" Target="../slideLayouts/slideLayout26.xml"/><Relationship Id="rId12" Type="http://schemas.openxmlformats.org/officeDocument/2006/relationships/slideLayout" Target="../slideLayouts/slideLayout27.xml"/><Relationship Id="rId13" Type="http://schemas.openxmlformats.org/officeDocument/2006/relationships/slideLayout" Target="../slideLayouts/slideLayout28.xml"/><Relationship Id="rId14" Type="http://schemas.openxmlformats.org/officeDocument/2006/relationships/slideLayout" Target="../slideLayouts/slideLayout29.xml"/><Relationship Id="rId15" Type="http://schemas.openxmlformats.org/officeDocument/2006/relationships/slideLayout" Target="../slideLayouts/slideLayout30.xml"/><Relationship Id="rId16" Type="http://schemas.openxmlformats.org/officeDocument/2006/relationships/slideLayout" Target="../slideLayouts/slideLayout31.xml"/><Relationship Id="rId17" Type="http://schemas.openxmlformats.org/officeDocument/2006/relationships/slideLayout" Target="../slideLayouts/slideLayout32.xml"/><Relationship Id="rId18" Type="http://schemas.openxmlformats.org/officeDocument/2006/relationships/slideLayout" Target="../slideLayouts/slideLayout33.xml"/><Relationship Id="rId19" Type="http://schemas.openxmlformats.org/officeDocument/2006/relationships/slideLayout" Target="../slideLayouts/slideLayout34.xml"/><Relationship Id="rId20" Type="http://schemas.openxmlformats.org/officeDocument/2006/relationships/slideLayout" Target="../slideLayouts/slideLayout35.xml"/><Relationship Id="rId21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8377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0" y="0"/>
            <a:ext cx="9144000" cy="360"/>
            <a:chOff x="0" y="0"/>
            <a:chExt cx="9144000" cy="360"/>
          </a:xfrm>
        </p:grpSpPr>
        <p:sp>
          <p:nvSpPr>
            <p:cNvPr id="2" name="直接连接符 1030"/>
            <p:cNvSpPr/>
            <p:nvPr/>
          </p:nvSpPr>
          <p:spPr>
            <a:xfrm>
              <a:off x="0" y="0"/>
              <a:ext cx="9144000" cy="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 txBox="1"/>
            <p:nvPr/>
          </p:nvSpPr>
          <p:spPr>
            <a:xfrm>
              <a:off x="0" y="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任意多边形 1031"/>
          <p:cNvSpPr/>
          <p:nvPr/>
        </p:nvSpPr>
        <p:spPr>
          <a:xfrm>
            <a:off x="1295280" y="0"/>
            <a:ext cx="7842240" cy="609480"/>
          </a:xfrm>
          <a:custGeom>
            <a:avLst/>
            <a:gdLst/>
            <a:ahLst/>
            <a:rect l="l" t="t" r="r" b="b"/>
            <a:pathLst>
              <a:path w="4556" h="480">
                <a:moveTo>
                  <a:pt x="969" y="480"/>
                </a:moveTo>
                <a:lnTo>
                  <a:pt x="0" y="0"/>
                </a:lnTo>
                <a:lnTo>
                  <a:pt x="4556" y="0"/>
                </a:lnTo>
                <a:lnTo>
                  <a:pt x="4556" y="480"/>
                </a:lnTo>
                <a:lnTo>
                  <a:pt x="969" y="48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8954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Black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83310-B074-4BED-A0B8-BA6B4F900852}" type="slidenum">
              <a:rPr b="0" lang="zh-CN" sz="1400" spc="-1" strike="noStrike">
                <a:solidFill>
                  <a:srgbClr val="000000"/>
                </a:solidFill>
                <a:latin typeface="Arial Black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9A4CA-0A42-44CC-89A1-1A2D4F616C86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98457-992B-405B-8503-13D4E0BA39C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8377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8954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Black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A3DB3-1E7A-4A3B-9CE6-8B9031276711}" type="slidenum">
              <a:rPr b="0" lang="zh-CN" sz="1400" spc="-1" strike="noStrike">
                <a:solidFill>
                  <a:srgbClr val="000000"/>
                </a:solidFill>
                <a:latin typeface="Arial Black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0"/>
    <p:sldLayoutId id="2147483676" r:id="rId11"/>
    <p:sldLayoutId id="2147483677" r:id="rId12"/>
    <p:sldLayoutId id="2147483678" r:id="rId13"/>
    <p:sldLayoutId id="2147483679" r:id="rId14"/>
    <p:sldLayoutId id="2147483680" r:id="rId15"/>
    <p:sldLayoutId id="2147483681" r:id="rId16"/>
    <p:sldLayoutId id="2147483682" r:id="rId17"/>
    <p:sldLayoutId id="2147483683" r:id="rId18"/>
    <p:sldLayoutId id="2147483684" r:id="rId19"/>
    <p:sldLayoutId id="2147483685" r:id="rId20"/>
    <p:sldLayoutId id="2147483686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image" Target="../media/image1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"/>
          <p:cNvGrpSpPr/>
          <p:nvPr/>
        </p:nvGrpSpPr>
        <p:grpSpPr>
          <a:xfrm>
            <a:off x="0" y="4724280"/>
            <a:ext cx="9144000" cy="360"/>
            <a:chOff x="0" y="4724280"/>
            <a:chExt cx="9144000" cy="360"/>
          </a:xfrm>
        </p:grpSpPr>
        <p:sp>
          <p:nvSpPr>
            <p:cNvPr id="128" name="直接连接符 2051"/>
            <p:cNvSpPr/>
            <p:nvPr/>
          </p:nvSpPr>
          <p:spPr>
            <a:xfrm>
              <a:off x="0" y="4724280"/>
              <a:ext cx="9144000" cy="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 txBox="1"/>
            <p:nvPr/>
          </p:nvSpPr>
          <p:spPr>
            <a:xfrm>
              <a:off x="0" y="472428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" name="任意多边形 2052"/>
          <p:cNvSpPr/>
          <p:nvPr/>
        </p:nvSpPr>
        <p:spPr>
          <a:xfrm>
            <a:off x="1981080" y="4724280"/>
            <a:ext cx="7156440" cy="457200"/>
          </a:xfrm>
          <a:custGeom>
            <a:avLst/>
            <a:gdLst/>
            <a:ahLst/>
            <a:rect l="l" t="t" r="r" b="b"/>
            <a:pathLst>
              <a:path w="4556" h="480">
                <a:moveTo>
                  <a:pt x="969" y="480"/>
                </a:moveTo>
                <a:lnTo>
                  <a:pt x="0" y="0"/>
                </a:lnTo>
                <a:lnTo>
                  <a:pt x="4556" y="0"/>
                </a:lnTo>
                <a:lnTo>
                  <a:pt x="4556" y="480"/>
                </a:lnTo>
                <a:lnTo>
                  <a:pt x="969" y="48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743200" y="1066680"/>
            <a:ext cx="6019920" cy="263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urrencyOutline"/>
                <a:ea typeface="宋体"/>
              </a:rPr>
              <a:t>United States Economy and Cash Flow Templat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200400" y="4723920"/>
            <a:ext cx="59436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宋体"/>
              </a:rPr>
              <a:t>Your Subtitle Goes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0" y="4648320"/>
            <a:ext cx="9144000" cy="360"/>
            <a:chOff x="0" y="4648320"/>
            <a:chExt cx="9144000" cy="360"/>
          </a:xfrm>
        </p:grpSpPr>
        <p:sp>
          <p:nvSpPr>
            <p:cNvPr id="134" name="直接连接符 2053"/>
            <p:cNvSpPr/>
            <p:nvPr/>
          </p:nvSpPr>
          <p:spPr>
            <a:xfrm>
              <a:off x="0" y="4648320"/>
              <a:ext cx="9144000" cy="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 txBox="1"/>
            <p:nvPr/>
          </p:nvSpPr>
          <p:spPr>
            <a:xfrm>
              <a:off x="0" y="464832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文本框 1"/>
          <p:cNvSpPr/>
          <p:nvPr/>
        </p:nvSpPr>
        <p:spPr>
          <a:xfrm>
            <a:off x="1627200" y="620640"/>
            <a:ext cx="567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굴림"/>
              </a:rPr>
              <a:t>国外黄色背景报告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굴림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Your Topic Goes 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8377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Your subtopic goes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矩形 8198"/>
          <p:cNvSpPr/>
          <p:nvPr/>
        </p:nvSpPr>
        <p:spPr>
          <a:xfrm>
            <a:off x="0" y="4572000"/>
            <a:ext cx="914400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4343400"/>
            <a:ext cx="853416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urrencyOutline"/>
                <a:ea typeface="宋体"/>
              </a:rPr>
              <a:t>Transitional Sl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3200400" y="7162920"/>
            <a:ext cx="5943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000" spc="-1" strike="noStrike">
              <a:solidFill>
                <a:srgbClr val="ffffff"/>
              </a:solidFill>
              <a:latin typeface="Arial Black"/>
              <a:ea typeface="宋体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0" y="5181480"/>
            <a:ext cx="9144000" cy="360"/>
            <a:chOff x="0" y="5181480"/>
            <a:chExt cx="9144000" cy="360"/>
          </a:xfrm>
        </p:grpSpPr>
        <p:sp>
          <p:nvSpPr>
            <p:cNvPr id="144" name="直接连接符 8195"/>
            <p:cNvSpPr/>
            <p:nvPr/>
          </p:nvSpPr>
          <p:spPr>
            <a:xfrm>
              <a:off x="0" y="5181480"/>
              <a:ext cx="9144000" cy="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 txBox="1"/>
            <p:nvPr/>
          </p:nvSpPr>
          <p:spPr>
            <a:xfrm>
              <a:off x="0" y="518148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0" y="4495680"/>
            <a:ext cx="9144000" cy="360"/>
            <a:chOff x="0" y="4495680"/>
            <a:chExt cx="9144000" cy="360"/>
          </a:xfrm>
        </p:grpSpPr>
        <p:sp>
          <p:nvSpPr>
            <p:cNvPr id="147" name="直接连接符 8197"/>
            <p:cNvSpPr/>
            <p:nvPr/>
          </p:nvSpPr>
          <p:spPr>
            <a:xfrm>
              <a:off x="0" y="4495680"/>
              <a:ext cx="9144000" cy="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 txBox="1"/>
            <p:nvPr/>
          </p:nvSpPr>
          <p:spPr>
            <a:xfrm>
              <a:off x="0" y="449568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任意多边形 8199"/>
          <p:cNvSpPr/>
          <p:nvPr/>
        </p:nvSpPr>
        <p:spPr>
          <a:xfrm>
            <a:off x="6400800" y="5181480"/>
            <a:ext cx="2743200" cy="152640"/>
          </a:xfrm>
          <a:custGeom>
            <a:avLst/>
            <a:gdLst/>
            <a:ahLst/>
            <a:rect l="l" t="t" r="r" b="b"/>
            <a:pathLst>
              <a:path w="4556" h="480">
                <a:moveTo>
                  <a:pt x="969" y="480"/>
                </a:moveTo>
                <a:lnTo>
                  <a:pt x="0" y="0"/>
                </a:lnTo>
                <a:lnTo>
                  <a:pt x="4556" y="0"/>
                </a:lnTo>
                <a:lnTo>
                  <a:pt x="4556" y="480"/>
                </a:lnTo>
                <a:lnTo>
                  <a:pt x="969" y="48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任意多边形 8200"/>
          <p:cNvSpPr/>
          <p:nvPr/>
        </p:nvSpPr>
        <p:spPr>
          <a:xfrm rot="10800000">
            <a:off x="0" y="4343040"/>
            <a:ext cx="2743200" cy="152280"/>
          </a:xfrm>
          <a:custGeom>
            <a:avLst/>
            <a:gdLst/>
            <a:ahLst/>
            <a:rect l="l" t="t" r="r" b="b"/>
            <a:pathLst>
              <a:path w="4556" h="480">
                <a:moveTo>
                  <a:pt x="969" y="480"/>
                </a:moveTo>
                <a:lnTo>
                  <a:pt x="0" y="0"/>
                </a:lnTo>
                <a:lnTo>
                  <a:pt x="4556" y="0"/>
                </a:lnTo>
                <a:lnTo>
                  <a:pt x="4556" y="480"/>
                </a:lnTo>
                <a:lnTo>
                  <a:pt x="969" y="48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Your Topic Goes 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8377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Your subtopic goes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文本框 8199"/>
          <p:cNvSpPr/>
          <p:nvPr/>
        </p:nvSpPr>
        <p:spPr>
          <a:xfrm>
            <a:off x="1979640" y="386064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3"/>
              </a:rPr>
              <a:t>ppt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4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A32E5-4A90-4B6A-9DFB-0340E95EB0F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图片 7169" descr="100-Dollar"/>
          <p:cNvPicPr/>
          <p:nvPr/>
        </p:nvPicPr>
        <p:blipFill>
          <a:blip r:embed="rId1"/>
          <a:stretch/>
        </p:blipFill>
        <p:spPr>
          <a:xfrm>
            <a:off x="1219320" y="1828800"/>
            <a:ext cx="3606840" cy="1528920"/>
          </a:xfrm>
          <a:prstGeom prst="rect">
            <a:avLst/>
          </a:prstGeom>
          <a:ln w="0">
            <a:noFill/>
          </a:ln>
        </p:spPr>
      </p:pic>
      <p:pic>
        <p:nvPicPr>
          <p:cNvPr id="159" name="图片 7171" descr="printdrop"/>
          <p:cNvPicPr/>
          <p:nvPr/>
        </p:nvPicPr>
        <p:blipFill>
          <a:blip r:embed="rId2"/>
          <a:stretch/>
        </p:blipFill>
        <p:spPr>
          <a:xfrm>
            <a:off x="990720" y="3429000"/>
            <a:ext cx="3886200" cy="3106800"/>
          </a:xfrm>
          <a:prstGeom prst="rect">
            <a:avLst/>
          </a:prstGeom>
          <a:ln w="0">
            <a:noFill/>
          </a:ln>
        </p:spPr>
      </p:pic>
      <p:pic>
        <p:nvPicPr>
          <p:cNvPr id="160" name="图片 7172" descr="slidedrop"/>
          <p:cNvPicPr/>
          <p:nvPr/>
        </p:nvPicPr>
        <p:blipFill>
          <a:blip r:embed="rId3"/>
          <a:stretch/>
        </p:blipFill>
        <p:spPr>
          <a:xfrm>
            <a:off x="4952880" y="3429000"/>
            <a:ext cx="3886200" cy="3108240"/>
          </a:xfrm>
          <a:prstGeom prst="rect">
            <a:avLst/>
          </a:prstGeom>
          <a:ln w="0">
            <a:noFill/>
          </a:ln>
        </p:spPr>
      </p:pic>
      <p:grpSp>
        <p:nvGrpSpPr>
          <p:cNvPr id="161" name="组合 7175"/>
          <p:cNvGrpSpPr/>
          <p:nvPr/>
        </p:nvGrpSpPr>
        <p:grpSpPr>
          <a:xfrm>
            <a:off x="151920" y="304920"/>
            <a:ext cx="381240" cy="6172200"/>
            <a:chOff x="151920" y="304920"/>
            <a:chExt cx="381240" cy="6172200"/>
          </a:xfrm>
        </p:grpSpPr>
        <p:grpSp>
          <p:nvGrpSpPr>
            <p:cNvPr id="162" name=""/>
            <p:cNvGrpSpPr/>
            <p:nvPr/>
          </p:nvGrpSpPr>
          <p:grpSpPr>
            <a:xfrm>
              <a:off x="532800" y="304920"/>
              <a:ext cx="360" cy="6172200"/>
              <a:chOff x="532800" y="304920"/>
              <a:chExt cx="360" cy="6172200"/>
            </a:xfrm>
          </p:grpSpPr>
          <p:sp>
            <p:nvSpPr>
              <p:cNvPr id="163" name="直接连接符 7173"/>
              <p:cNvSpPr/>
              <p:nvPr/>
            </p:nvSpPr>
            <p:spPr>
              <a:xfrm>
                <a:off x="533160" y="304920"/>
                <a:ext cx="0" cy="6172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 txBox="1"/>
              <p:nvPr/>
            </p:nvSpPr>
            <p:spPr>
              <a:xfrm rot="5400000">
                <a:off x="-2553120" y="3390840"/>
                <a:ext cx="61722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5" name="任意多边形 7174"/>
            <p:cNvSpPr/>
            <p:nvPr/>
          </p:nvSpPr>
          <p:spPr>
            <a:xfrm rot="5400000">
              <a:off x="-2304000" y="3635280"/>
              <a:ext cx="5293440" cy="381240"/>
            </a:xfrm>
            <a:custGeom>
              <a:avLst/>
              <a:gdLst/>
              <a:ahLst/>
              <a:rect l="l" t="t" r="r" b="b"/>
              <a:pathLst>
                <a:path w="4556" h="480">
                  <a:moveTo>
                    <a:pt x="969" y="480"/>
                  </a:moveTo>
                  <a:lnTo>
                    <a:pt x="0" y="0"/>
                  </a:lnTo>
                  <a:lnTo>
                    <a:pt x="4556" y="0"/>
                  </a:lnTo>
                  <a:lnTo>
                    <a:pt x="4556" y="480"/>
                  </a:lnTo>
                  <a:lnTo>
                    <a:pt x="969" y="48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4114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宋体"/>
              </a:rPr>
              <a:t>Elements  P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图片 7177" descr="backdrop"/>
          <p:cNvPicPr/>
          <p:nvPr/>
        </p:nvPicPr>
        <p:blipFill>
          <a:blip r:embed="rId4"/>
          <a:stretch/>
        </p:blipFill>
        <p:spPr>
          <a:xfrm>
            <a:off x="4952880" y="228600"/>
            <a:ext cx="3886200" cy="31082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2T08:32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08:56Z</dcterms:modified>
  <cp:revision>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