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D68-C92D-4B44-8FB8-5D5D0738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AF9-6764-4EF0-BD5E-9D0A1EB9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EA1-75E4-4145-AF59-23A291DE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C93-0F24-41A8-99DC-A0BD464B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5DC0-3284-4FB5-8EF4-465D8CCF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967D-6237-49CD-B877-9F67D365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8C7E-3573-43EB-A06A-4B626654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BBAB-573B-4A86-AA49-10FAB507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FAC4-80E3-498F-AA4D-EA823945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F618-D93B-4B8B-92B2-DFC68E18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8D6-0602-4E77-9C61-4D261CC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A36-8509-42BE-B2D4-DAC6AC6D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8B2D-7BE0-4D3D-A232-CC46A711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8E83-2EA6-49CD-AB76-2A7979F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3D5F-418C-4D89-BFD4-D9CEA03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9D35-87CD-4968-97A9-10F6B5EF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B25D-7E97-4C91-88AF-8FBB4029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797F-37B2-4C62-9E0C-72C2EDB4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16F6-C97B-4CAF-9711-2584CDD1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EACB-36A4-4511-9B42-2CF8EFE7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E283-6AB5-48B8-844F-A65E4740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2EA2-7058-4001-9831-0DD7DC7E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094-99AA-4BFA-BA31-F3BEBC01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1042-9805-48B8-91AD-D97562E7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B7BE-CAE8-40F7-B792-C358E096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6985-79C7-43B8-A0E5-EBE3CC8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9E67-75CD-4CE8-9E8E-AD6306FA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9929-1C3D-4E0D-BFCB-26E6E0B3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CC8E-0A84-453A-AC8E-246F243B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403D-84DE-4A7A-BDAF-EDAC95C2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09C-A34D-491D-9B13-21B2BA26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AB1-4883-471C-B20A-16EF848D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AA3-60D4-46F5-9D07-3F75C6CE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AC2-0C71-40A6-903F-0559435F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900-9F2C-4AD9-A643-1798FBD3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8D7-5214-4DBC-A1CA-7641890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F325-69DC-4635-A8FF-CCF1FDF4A076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646C-74C4-4E3D-85AF-190602AAE5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65E5-85D9-47FF-9EC6-A46F7543F5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A829-580C-4ACE-815F-FB8A55367D59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Impact"/>
              </a:rPr>
              <a:t>BLACK COFFEE BREA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437920" y="144792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9360" y="642924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8199"/>
          <p:cNvSpPr/>
          <p:nvPr/>
        </p:nvSpPr>
        <p:spPr>
          <a:xfrm>
            <a:off x="1079640" y="7632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黑色咖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657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520" y="7621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C0D9-BF6D-4AF4-BFEC-8A26932CF2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199"/>
          <p:cNvSpPr/>
          <p:nvPr/>
        </p:nvSpPr>
        <p:spPr>
          <a:xfrm>
            <a:off x="990720" y="243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2:05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57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