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6BA7-DBA6-49EB-AB18-12077667A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3FF3-36F7-4177-A2F3-E3B152A3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DFD0-133C-47A5-BA3D-67BD0525D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5F59-3D74-4413-92CD-DF68FD2F2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0BD9-25CC-451C-B188-CB01E3AE3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6169-C85E-4A48-BF2C-FEB94E27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1777-E712-4E9B-8608-022DA135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D9E4-FA92-42EC-9C33-A96FC7FF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7DC0-09DF-4E5F-A42B-DFFD9582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D64B-42D9-4229-9170-1171D40D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0825-1AD8-406D-A84A-8E07B4EF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A840-C891-4BD7-95C6-734E8631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9027-C027-40DB-A614-9B79604B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6BCF-F685-4991-9A74-6C00CA83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D35D-62EF-46E3-B165-B28F56E8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E142-403F-46FD-AFF5-AA5F70242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9293-77B1-49BD-B9AC-F9720BCF7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42DD-C8E6-4937-B9C0-607E8785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6773-2D08-4454-AC50-9DFDA218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FC10-0D4E-4192-AC75-BA1A8B34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03B2-570D-4E7C-9C8C-30960CB0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6943-37E0-409D-B686-E4779013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53D5-2B50-49EF-82FE-B4DC89F8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2A3F-93C9-4277-BA20-3A16B31D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6FC0-AF4F-4B7F-AA3D-89235CD577A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6ABC-C336-4510-A811-347A35AFBFE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F46C-CBA2-4755-9C28-6459C8E587A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5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3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hyperlink" Target="http://www.eeppt.com" TargetMode="External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平行四边形 39"/>
          <p:cNvSpPr/>
          <p:nvPr/>
        </p:nvSpPr>
        <p:spPr>
          <a:xfrm rot="1201800">
            <a:off x="166680" y="2571480"/>
            <a:ext cx="6996240" cy="1162080"/>
          </a:xfrm>
          <a:prstGeom prst="parallelogram">
            <a:avLst>
              <a:gd name="adj" fmla="val 6943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40"/>
          <p:cNvGrpSpPr/>
          <p:nvPr/>
        </p:nvGrpSpPr>
        <p:grpSpPr>
          <a:xfrm>
            <a:off x="1704960" y="117000"/>
            <a:ext cx="1299240" cy="3335760"/>
            <a:chOff x="1704960" y="117000"/>
            <a:chExt cx="1299240" cy="3335760"/>
          </a:xfrm>
        </p:grpSpPr>
        <p:sp>
          <p:nvSpPr>
            <p:cNvPr id="86" name="五边形 5"/>
            <p:cNvSpPr/>
            <p:nvPr/>
          </p:nvSpPr>
          <p:spPr>
            <a:xfrm rot="16200000">
              <a:off x="581400" y="1261440"/>
              <a:ext cx="3264480" cy="1017720"/>
            </a:xfrm>
            <a:custGeom>
              <a:avLst/>
              <a:gdLst/>
              <a:ahLst/>
              <a:rect l="l" t="t" r="r" b="b"/>
              <a:pathLst>
                <a:path w="2974943" h="1008112">
                  <a:moveTo>
                    <a:pt x="2974943" y="504056"/>
                  </a:moveTo>
                  <a:lnTo>
                    <a:pt x="2581245" y="1008112"/>
                  </a:lnTo>
                  <a:lnTo>
                    <a:pt x="0" y="1008112"/>
                  </a:lnTo>
                  <a:lnTo>
                    <a:pt x="367530" y="0"/>
                  </a:lnTo>
                  <a:lnTo>
                    <a:pt x="2581245" y="0"/>
                  </a:lnTo>
                  <a:close/>
                </a:path>
              </a:pathLst>
            </a:custGeom>
            <a:solidFill>
              <a:srgbClr val="edd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直角三角形 8"/>
            <p:cNvSpPr/>
            <p:nvPr/>
          </p:nvSpPr>
          <p:spPr>
            <a:xfrm>
              <a:off x="1704960" y="533160"/>
              <a:ext cx="501840" cy="2672280"/>
            </a:xfrm>
            <a:custGeom>
              <a:avLst/>
              <a:gdLst/>
              <a:ahLst/>
              <a:rect l="l" t="t" r="r" b="b"/>
              <a:pathLst>
                <a:path w="497158" h="2435372">
                  <a:moveTo>
                    <a:pt x="0" y="0"/>
                  </a:moveTo>
                  <a:lnTo>
                    <a:pt x="497158" y="2435372"/>
                  </a:lnTo>
                  <a:lnTo>
                    <a:pt x="0" y="2254122"/>
                  </a:lnTo>
                  <a:close/>
                </a:path>
              </a:pathLst>
            </a:custGeom>
            <a:solidFill>
              <a:srgbClr val="ffffff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直角三角形 43"/>
            <p:cNvSpPr/>
            <p:nvPr/>
          </p:nvSpPr>
          <p:spPr>
            <a:xfrm flipV="1" rot="20544000">
              <a:off x="2250720" y="384840"/>
              <a:ext cx="291240" cy="3096360"/>
            </a:xfrm>
            <a:prstGeom prst="rtTriangle">
              <a:avLst/>
            </a:prstGeom>
            <a:solidFill>
              <a:srgbClr val="ffff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五边形 6"/>
            <p:cNvSpPr/>
            <p:nvPr/>
          </p:nvSpPr>
          <p:spPr>
            <a:xfrm rot="16200000">
              <a:off x="1918800" y="-96840"/>
              <a:ext cx="590040" cy="1017720"/>
            </a:xfrm>
            <a:custGeom>
              <a:avLst/>
              <a:gdLst/>
              <a:ahLst/>
              <a:rect l="l" t="t" r="r" b="b"/>
              <a:pathLst>
                <a:path w="537715" h="1008112">
                  <a:moveTo>
                    <a:pt x="537715" y="504056"/>
                  </a:moveTo>
                  <a:lnTo>
                    <a:pt x="144017" y="1008112"/>
                  </a:lnTo>
                  <a:lnTo>
                    <a:pt x="0" y="1008112"/>
                  </a:lnTo>
                  <a:lnTo>
                    <a:pt x="393698" y="504056"/>
                  </a:lnTo>
                  <a:lnTo>
                    <a:pt x="0" y="0"/>
                  </a:lnTo>
                  <a:lnTo>
                    <a:pt x="144017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45"/>
          <p:cNvGrpSpPr/>
          <p:nvPr/>
        </p:nvGrpSpPr>
        <p:grpSpPr>
          <a:xfrm>
            <a:off x="2975040" y="606240"/>
            <a:ext cx="1298880" cy="3337200"/>
            <a:chOff x="2975040" y="606240"/>
            <a:chExt cx="1298880" cy="3337200"/>
          </a:xfrm>
        </p:grpSpPr>
        <p:sp>
          <p:nvSpPr>
            <p:cNvPr id="91" name="五边形 5"/>
            <p:cNvSpPr/>
            <p:nvPr/>
          </p:nvSpPr>
          <p:spPr>
            <a:xfrm rot="16200000">
              <a:off x="1850760" y="1751040"/>
              <a:ext cx="3265560" cy="1017360"/>
            </a:xfrm>
            <a:custGeom>
              <a:avLst/>
              <a:gdLst/>
              <a:ahLst/>
              <a:rect l="l" t="t" r="r" b="b"/>
              <a:pathLst>
                <a:path w="2974943" h="1008112">
                  <a:moveTo>
                    <a:pt x="2974943" y="504056"/>
                  </a:moveTo>
                  <a:lnTo>
                    <a:pt x="2581245" y="1008112"/>
                  </a:lnTo>
                  <a:lnTo>
                    <a:pt x="0" y="1008112"/>
                  </a:lnTo>
                  <a:lnTo>
                    <a:pt x="367530" y="0"/>
                  </a:lnTo>
                  <a:lnTo>
                    <a:pt x="2581245" y="0"/>
                  </a:lnTo>
                  <a:close/>
                </a:path>
              </a:pathLst>
            </a:custGeom>
            <a:solidFill>
              <a:srgbClr val="edd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直角三角形 8"/>
            <p:cNvSpPr/>
            <p:nvPr/>
          </p:nvSpPr>
          <p:spPr>
            <a:xfrm>
              <a:off x="2975040" y="1022760"/>
              <a:ext cx="501840" cy="2673360"/>
            </a:xfrm>
            <a:custGeom>
              <a:avLst/>
              <a:gdLst/>
              <a:ahLst/>
              <a:rect l="l" t="t" r="r" b="b"/>
              <a:pathLst>
                <a:path w="497158" h="2435372">
                  <a:moveTo>
                    <a:pt x="0" y="0"/>
                  </a:moveTo>
                  <a:lnTo>
                    <a:pt x="497158" y="2435372"/>
                  </a:lnTo>
                  <a:lnTo>
                    <a:pt x="0" y="2254122"/>
                  </a:lnTo>
                  <a:close/>
                </a:path>
              </a:pathLst>
            </a:custGeom>
            <a:solidFill>
              <a:srgbClr val="ffffff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直角三角形 48"/>
            <p:cNvSpPr/>
            <p:nvPr/>
          </p:nvSpPr>
          <p:spPr>
            <a:xfrm flipV="1" rot="20544000">
              <a:off x="3521880" y="873720"/>
              <a:ext cx="290880" cy="3097800"/>
            </a:xfrm>
            <a:prstGeom prst="rtTriangle">
              <a:avLst/>
            </a:prstGeom>
            <a:solidFill>
              <a:srgbClr val="ffff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五边形 6"/>
            <p:cNvSpPr/>
            <p:nvPr/>
          </p:nvSpPr>
          <p:spPr>
            <a:xfrm rot="16200000">
              <a:off x="3188520" y="392400"/>
              <a:ext cx="590040" cy="1017360"/>
            </a:xfrm>
            <a:custGeom>
              <a:avLst/>
              <a:gdLst/>
              <a:ahLst/>
              <a:rect l="l" t="t" r="r" b="b"/>
              <a:pathLst>
                <a:path w="537715" h="1008112">
                  <a:moveTo>
                    <a:pt x="537715" y="504056"/>
                  </a:moveTo>
                  <a:lnTo>
                    <a:pt x="144017" y="1008112"/>
                  </a:lnTo>
                  <a:lnTo>
                    <a:pt x="0" y="1008112"/>
                  </a:lnTo>
                  <a:lnTo>
                    <a:pt x="393698" y="504056"/>
                  </a:lnTo>
                  <a:lnTo>
                    <a:pt x="0" y="0"/>
                  </a:lnTo>
                  <a:lnTo>
                    <a:pt x="144017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组合 50"/>
          <p:cNvGrpSpPr/>
          <p:nvPr/>
        </p:nvGrpSpPr>
        <p:grpSpPr>
          <a:xfrm>
            <a:off x="4248000" y="1111320"/>
            <a:ext cx="1297800" cy="3335040"/>
            <a:chOff x="4248000" y="1111320"/>
            <a:chExt cx="1297800" cy="3335040"/>
          </a:xfrm>
        </p:grpSpPr>
        <p:sp>
          <p:nvSpPr>
            <p:cNvPr id="96" name="五边形 5"/>
            <p:cNvSpPr/>
            <p:nvPr/>
          </p:nvSpPr>
          <p:spPr>
            <a:xfrm rot="16200000">
              <a:off x="3124080" y="2255760"/>
              <a:ext cx="3264120" cy="1016280"/>
            </a:xfrm>
            <a:custGeom>
              <a:avLst/>
              <a:gdLst/>
              <a:ahLst/>
              <a:rect l="l" t="t" r="r" b="b"/>
              <a:pathLst>
                <a:path w="2974943" h="1008112">
                  <a:moveTo>
                    <a:pt x="2974943" y="504056"/>
                  </a:moveTo>
                  <a:lnTo>
                    <a:pt x="2581245" y="1008112"/>
                  </a:lnTo>
                  <a:lnTo>
                    <a:pt x="0" y="1008112"/>
                  </a:lnTo>
                  <a:lnTo>
                    <a:pt x="367530" y="0"/>
                  </a:lnTo>
                  <a:lnTo>
                    <a:pt x="2581245" y="0"/>
                  </a:lnTo>
                  <a:close/>
                </a:path>
              </a:pathLst>
            </a:custGeom>
            <a:solidFill>
              <a:srgbClr val="edd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直角三角形 8"/>
            <p:cNvSpPr/>
            <p:nvPr/>
          </p:nvSpPr>
          <p:spPr>
            <a:xfrm>
              <a:off x="4248000" y="1527120"/>
              <a:ext cx="501120" cy="2671920"/>
            </a:xfrm>
            <a:custGeom>
              <a:avLst/>
              <a:gdLst/>
              <a:ahLst/>
              <a:rect l="l" t="t" r="r" b="b"/>
              <a:pathLst>
                <a:path w="497158" h="2435372">
                  <a:moveTo>
                    <a:pt x="0" y="0"/>
                  </a:moveTo>
                  <a:lnTo>
                    <a:pt x="497158" y="2435372"/>
                  </a:lnTo>
                  <a:lnTo>
                    <a:pt x="0" y="2254122"/>
                  </a:lnTo>
                  <a:close/>
                </a:path>
              </a:pathLst>
            </a:custGeom>
            <a:solidFill>
              <a:srgbClr val="ffffff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直角三角形 53"/>
            <p:cNvSpPr/>
            <p:nvPr/>
          </p:nvSpPr>
          <p:spPr>
            <a:xfrm flipV="1" rot="20544000">
              <a:off x="4794120" y="1378080"/>
              <a:ext cx="290880" cy="3096720"/>
            </a:xfrm>
            <a:prstGeom prst="rtTriangle">
              <a:avLst/>
            </a:prstGeom>
            <a:solidFill>
              <a:srgbClr val="ffff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五边形 6"/>
            <p:cNvSpPr/>
            <p:nvPr/>
          </p:nvSpPr>
          <p:spPr>
            <a:xfrm rot="16200000">
              <a:off x="4461120" y="897840"/>
              <a:ext cx="589680" cy="1016280"/>
            </a:xfrm>
            <a:custGeom>
              <a:avLst/>
              <a:gdLst/>
              <a:ahLst/>
              <a:rect l="l" t="t" r="r" b="b"/>
              <a:pathLst>
                <a:path w="537715" h="1008112">
                  <a:moveTo>
                    <a:pt x="537715" y="504056"/>
                  </a:moveTo>
                  <a:lnTo>
                    <a:pt x="144017" y="1008112"/>
                  </a:lnTo>
                  <a:lnTo>
                    <a:pt x="0" y="1008112"/>
                  </a:lnTo>
                  <a:lnTo>
                    <a:pt x="393698" y="504056"/>
                  </a:lnTo>
                  <a:lnTo>
                    <a:pt x="0" y="0"/>
                  </a:lnTo>
                  <a:lnTo>
                    <a:pt x="144017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平行四边形 55"/>
          <p:cNvSpPr/>
          <p:nvPr/>
        </p:nvSpPr>
        <p:spPr>
          <a:xfrm rot="1201800">
            <a:off x="56880" y="3235320"/>
            <a:ext cx="6413400" cy="396720"/>
          </a:xfrm>
          <a:prstGeom prst="parallelogram">
            <a:avLst>
              <a:gd name="adj" fmla="val 69679"/>
            </a:avLst>
          </a:prstGeom>
          <a:gradFill rotWithShape="0">
            <a:gsLst>
              <a:gs pos="0">
                <a:srgbClr val="242424"/>
              </a:gs>
              <a:gs pos="100000">
                <a:srgbClr val="3f3f3f"/>
              </a:gs>
            </a:gsLst>
            <a:lin ang="15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五边形 5"/>
          <p:cNvSpPr/>
          <p:nvPr/>
        </p:nvSpPr>
        <p:spPr>
          <a:xfrm flipH="1" flipV="1" rot="16200000">
            <a:off x="905040" y="4152960"/>
            <a:ext cx="3363840" cy="1332000"/>
          </a:xfrm>
          <a:custGeom>
            <a:avLst/>
            <a:gdLst/>
            <a:ahLst/>
            <a:rect l="l" t="t" r="r" b="b"/>
            <a:pathLst>
              <a:path w="3065752" h="1320891">
                <a:moveTo>
                  <a:pt x="3065752" y="504056"/>
                </a:moveTo>
                <a:lnTo>
                  <a:pt x="2672054" y="1008112"/>
                </a:lnTo>
                <a:cubicBezTo>
                  <a:pt x="1796504" y="1079448"/>
                  <a:pt x="28006" y="805086"/>
                  <a:pt x="0" y="1320891"/>
                </a:cubicBezTo>
                <a:cubicBezTo>
                  <a:pt x="55829" y="1061829"/>
                  <a:pt x="111659" y="1066156"/>
                  <a:pt x="137219" y="938789"/>
                </a:cubicBezTo>
                <a:lnTo>
                  <a:pt x="458339" y="0"/>
                </a:lnTo>
                <a:lnTo>
                  <a:pt x="2672054" y="0"/>
                </a:lnTo>
                <a:lnTo>
                  <a:pt x="3065752" y="504056"/>
                </a:lnTo>
                <a:close/>
              </a:path>
            </a:pathLst>
          </a:custGeom>
          <a:gradFill rotWithShape="0">
            <a:gsLst>
              <a:gs pos="0">
                <a:srgbClr val="e4afae"/>
              </a:gs>
              <a:gs pos="100000">
                <a:srgbClr val="b977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角三角形 8"/>
          <p:cNvSpPr/>
          <p:nvPr/>
        </p:nvSpPr>
        <p:spPr>
          <a:xfrm flipH="1" flipV="1">
            <a:off x="2751120" y="3432240"/>
            <a:ext cx="501840" cy="2673360"/>
          </a:xfrm>
          <a:custGeom>
            <a:avLst/>
            <a:gdLst/>
            <a:ahLst/>
            <a:rect l="l" t="t" r="r" b="b"/>
            <a:pathLst>
              <a:path w="497158" h="2435372">
                <a:moveTo>
                  <a:pt x="0" y="0"/>
                </a:moveTo>
                <a:lnTo>
                  <a:pt x="497158" y="2435372"/>
                </a:lnTo>
                <a:lnTo>
                  <a:pt x="0" y="2254122"/>
                </a:lnTo>
                <a:close/>
              </a:path>
            </a:pathLst>
          </a:custGeom>
          <a:solidFill>
            <a:srgbClr val="ffff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角三角形 58"/>
          <p:cNvSpPr/>
          <p:nvPr/>
        </p:nvSpPr>
        <p:spPr>
          <a:xfrm flipH="1" rot="20544000">
            <a:off x="2414160" y="3106440"/>
            <a:ext cx="290520" cy="3097080"/>
          </a:xfrm>
          <a:prstGeom prst="rtTriangle">
            <a:avLst/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五边形 6"/>
          <p:cNvSpPr/>
          <p:nvPr/>
        </p:nvSpPr>
        <p:spPr>
          <a:xfrm flipH="1" flipV="1" rot="16200000">
            <a:off x="2445480" y="5699520"/>
            <a:ext cx="590760" cy="1016280"/>
          </a:xfrm>
          <a:custGeom>
            <a:avLst/>
            <a:gdLst/>
            <a:ahLst/>
            <a:rect l="l" t="t" r="r" b="b"/>
            <a:pathLst>
              <a:path w="537715" h="1008112">
                <a:moveTo>
                  <a:pt x="537715" y="504056"/>
                </a:moveTo>
                <a:lnTo>
                  <a:pt x="144017" y="1008112"/>
                </a:lnTo>
                <a:lnTo>
                  <a:pt x="0" y="1008112"/>
                </a:lnTo>
                <a:lnTo>
                  <a:pt x="393698" y="504056"/>
                </a:lnTo>
                <a:lnTo>
                  <a:pt x="0" y="0"/>
                </a:lnTo>
                <a:lnTo>
                  <a:pt x="144017" y="0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60"/>
          <p:cNvGrpSpPr/>
          <p:nvPr/>
        </p:nvGrpSpPr>
        <p:grpSpPr>
          <a:xfrm>
            <a:off x="3438000" y="3744720"/>
            <a:ext cx="1472400" cy="2749320"/>
            <a:chOff x="3438000" y="3744720"/>
            <a:chExt cx="1472400" cy="2749320"/>
          </a:xfrm>
        </p:grpSpPr>
        <p:sp>
          <p:nvSpPr>
            <p:cNvPr id="106" name="五边形 5"/>
            <p:cNvSpPr/>
            <p:nvPr/>
          </p:nvSpPr>
          <p:spPr>
            <a:xfrm flipH="1" flipV="1" rot="16383000">
              <a:off x="2833920" y="4451400"/>
              <a:ext cx="2679840" cy="1332000"/>
            </a:xfrm>
            <a:custGeom>
              <a:avLst/>
              <a:gdLst/>
              <a:ahLst/>
              <a:rect l="l" t="t" r="r" b="b"/>
              <a:pathLst>
                <a:path w="3065752" h="1320891">
                  <a:moveTo>
                    <a:pt x="3065752" y="504056"/>
                  </a:moveTo>
                  <a:lnTo>
                    <a:pt x="2672054" y="1008112"/>
                  </a:lnTo>
                  <a:cubicBezTo>
                    <a:pt x="1796504" y="1079448"/>
                    <a:pt x="28006" y="805086"/>
                    <a:pt x="0" y="1320891"/>
                  </a:cubicBezTo>
                  <a:cubicBezTo>
                    <a:pt x="55829" y="1061829"/>
                    <a:pt x="111659" y="1066156"/>
                    <a:pt x="137219" y="938789"/>
                  </a:cubicBezTo>
                  <a:lnTo>
                    <a:pt x="458339" y="0"/>
                  </a:lnTo>
                  <a:lnTo>
                    <a:pt x="2672054" y="0"/>
                  </a:lnTo>
                  <a:lnTo>
                    <a:pt x="3065752" y="504056"/>
                  </a:lnTo>
                  <a:close/>
                </a:path>
              </a:pathLst>
            </a:custGeom>
            <a:solidFill>
              <a:srgbClr val="64b7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直角三角形 8"/>
            <p:cNvSpPr/>
            <p:nvPr/>
          </p:nvSpPr>
          <p:spPr>
            <a:xfrm flipH="1" flipV="1" rot="182400">
              <a:off x="4339440" y="4061520"/>
              <a:ext cx="501120" cy="2128680"/>
            </a:xfrm>
            <a:custGeom>
              <a:avLst/>
              <a:gdLst/>
              <a:ahLst/>
              <a:rect l="l" t="t" r="r" b="b"/>
              <a:pathLst>
                <a:path w="497158" h="2435372">
                  <a:moveTo>
                    <a:pt x="0" y="0"/>
                  </a:moveTo>
                  <a:lnTo>
                    <a:pt x="497158" y="2435372"/>
                  </a:lnTo>
                  <a:lnTo>
                    <a:pt x="0" y="2254122"/>
                  </a:lnTo>
                  <a:close/>
                </a:path>
              </a:pathLst>
            </a:custGeom>
            <a:solidFill>
              <a:srgbClr val="ffffff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直角三角形 63"/>
            <p:cNvSpPr/>
            <p:nvPr/>
          </p:nvSpPr>
          <p:spPr>
            <a:xfrm flipH="1" rot="20726400">
              <a:off x="4008240" y="3780000"/>
              <a:ext cx="290880" cy="2467080"/>
            </a:xfrm>
            <a:prstGeom prst="rtTriangle">
              <a:avLst/>
            </a:prstGeom>
            <a:solidFill>
              <a:srgbClr val="ffff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五边形 6"/>
            <p:cNvSpPr/>
            <p:nvPr/>
          </p:nvSpPr>
          <p:spPr>
            <a:xfrm flipH="1" flipV="1" rot="16383000">
              <a:off x="4037760" y="5723640"/>
              <a:ext cx="469800" cy="1016640"/>
            </a:xfrm>
            <a:custGeom>
              <a:avLst/>
              <a:gdLst/>
              <a:ahLst/>
              <a:rect l="l" t="t" r="r" b="b"/>
              <a:pathLst>
                <a:path w="537715" h="1008112">
                  <a:moveTo>
                    <a:pt x="537715" y="504056"/>
                  </a:moveTo>
                  <a:lnTo>
                    <a:pt x="144017" y="1008112"/>
                  </a:lnTo>
                  <a:lnTo>
                    <a:pt x="0" y="1008112"/>
                  </a:lnTo>
                  <a:lnTo>
                    <a:pt x="393698" y="504056"/>
                  </a:lnTo>
                  <a:lnTo>
                    <a:pt x="0" y="0"/>
                  </a:lnTo>
                  <a:lnTo>
                    <a:pt x="144017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Box 65"/>
          <p:cNvSpPr/>
          <p:nvPr/>
        </p:nvSpPr>
        <p:spPr>
          <a:xfrm flipH="1">
            <a:off x="1712880" y="549360"/>
            <a:ext cx="9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f716f"/>
                </a:solidFill>
                <a:latin typeface="Baskerville Old Face"/>
                <a:ea typeface="微软雅黑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6"/>
          <p:cNvSpPr/>
          <p:nvPr/>
        </p:nvSpPr>
        <p:spPr>
          <a:xfrm>
            <a:off x="1712880" y="1400040"/>
            <a:ext cx="981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f3f3f"/>
                </a:solidFill>
                <a:latin typeface="Arial"/>
                <a:ea typeface="微软雅黑"/>
              </a:rPr>
              <a:t>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743120" y="1244520"/>
            <a:ext cx="896760" cy="360"/>
            <a:chOff x="1743120" y="1244520"/>
            <a:chExt cx="896760" cy="360"/>
          </a:xfrm>
        </p:grpSpPr>
        <p:sp>
          <p:nvSpPr>
            <p:cNvPr id="113" name="直接连接符 67"/>
            <p:cNvSpPr/>
            <p:nvPr/>
          </p:nvSpPr>
          <p:spPr>
            <a:xfrm>
              <a:off x="1743120" y="1244520"/>
              <a:ext cx="896760" cy="0"/>
            </a:xfrm>
            <a:prstGeom prst="line">
              <a:avLst/>
            </a:prstGeom>
            <a:ln w="19080">
              <a:solidFill>
                <a:srgbClr val="cf716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1743120" y="1244520"/>
              <a:ext cx="896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68"/>
          <p:cNvSpPr/>
          <p:nvPr/>
        </p:nvSpPr>
        <p:spPr>
          <a:xfrm flipH="1">
            <a:off x="2949480" y="1143000"/>
            <a:ext cx="9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4b7ce"/>
                </a:solidFill>
                <a:latin typeface="Baskerville Old Face"/>
                <a:ea typeface="微软雅黑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79720" y="1839960"/>
            <a:ext cx="897120" cy="360"/>
            <a:chOff x="2979720" y="1839960"/>
            <a:chExt cx="897120" cy="360"/>
          </a:xfrm>
        </p:grpSpPr>
        <p:sp>
          <p:nvSpPr>
            <p:cNvPr id="117" name="直接连接符 69"/>
            <p:cNvSpPr/>
            <p:nvPr/>
          </p:nvSpPr>
          <p:spPr>
            <a:xfrm>
              <a:off x="2979720" y="1839960"/>
              <a:ext cx="897120" cy="0"/>
            </a:xfrm>
            <a:prstGeom prst="line">
              <a:avLst/>
            </a:prstGeom>
            <a:ln w="19080">
              <a:solidFill>
                <a:srgbClr val="64b7c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2979720" y="1839960"/>
              <a:ext cx="897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Box 70"/>
          <p:cNvSpPr/>
          <p:nvPr/>
        </p:nvSpPr>
        <p:spPr>
          <a:xfrm flipH="1">
            <a:off x="4254480" y="1596960"/>
            <a:ext cx="9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f716f"/>
                </a:solidFill>
                <a:latin typeface="Baskerville Old Face"/>
                <a:ea typeface="微软雅黑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82920" y="2292480"/>
            <a:ext cx="898560" cy="1440"/>
            <a:chOff x="4282920" y="2292480"/>
            <a:chExt cx="898560" cy="1440"/>
          </a:xfrm>
        </p:grpSpPr>
        <p:sp>
          <p:nvSpPr>
            <p:cNvPr id="121" name="直接连接符 71"/>
            <p:cNvSpPr/>
            <p:nvPr/>
          </p:nvSpPr>
          <p:spPr>
            <a:xfrm>
              <a:off x="4282920" y="2292480"/>
              <a:ext cx="898560" cy="1440"/>
            </a:xfrm>
            <a:prstGeom prst="line">
              <a:avLst/>
            </a:prstGeom>
            <a:ln w="19080">
              <a:solidFill>
                <a:srgbClr val="cf716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4282920" y="2292480"/>
              <a:ext cx="8985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Box 72"/>
          <p:cNvSpPr/>
          <p:nvPr/>
        </p:nvSpPr>
        <p:spPr>
          <a:xfrm>
            <a:off x="2978280" y="1984320"/>
            <a:ext cx="981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f3f3f"/>
                </a:solidFill>
                <a:latin typeface="Arial"/>
                <a:ea typeface="微软雅黑"/>
              </a:rPr>
              <a:t>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3"/>
          <p:cNvSpPr/>
          <p:nvPr/>
        </p:nvSpPr>
        <p:spPr>
          <a:xfrm>
            <a:off x="4254480" y="2457360"/>
            <a:ext cx="981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f3f3f"/>
                </a:solidFill>
                <a:latin typeface="Arial"/>
                <a:ea typeface="微软雅黑"/>
              </a:rPr>
              <a:t>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4"/>
          <p:cNvSpPr/>
          <p:nvPr/>
        </p:nvSpPr>
        <p:spPr>
          <a:xfrm flipH="1" rot="5400000">
            <a:off x="1215000" y="4590360"/>
            <a:ext cx="29304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askerville Old Face"/>
                <a:ea typeface="微软雅黑"/>
              </a:rPr>
              <a:t>YOUR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5"/>
          <p:cNvSpPr/>
          <p:nvPr/>
        </p:nvSpPr>
        <p:spPr>
          <a:xfrm flipH="1" rot="5400000">
            <a:off x="3085200" y="4963680"/>
            <a:ext cx="2449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askerville Old Face"/>
                <a:ea typeface="微软雅黑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6"/>
          <p:cNvSpPr/>
          <p:nvPr/>
        </p:nvSpPr>
        <p:spPr>
          <a:xfrm rot="16200000">
            <a:off x="6076800" y="3671640"/>
            <a:ext cx="1538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62626"/>
                </a:solidFill>
                <a:latin typeface="Baskerville Old Face"/>
                <a:ea typeface="宋体"/>
              </a:rPr>
              <a:t>Click here to add you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3"/>
          <p:cNvSpPr/>
          <p:nvPr/>
        </p:nvSpPr>
        <p:spPr>
          <a:xfrm>
            <a:off x="2797920" y="33336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国外精美图表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A8FB-D0A5-48EC-9BBA-0DBB833AAD8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空心弧 1"/>
          <p:cNvSpPr/>
          <p:nvPr/>
        </p:nvSpPr>
        <p:spPr>
          <a:xfrm rot="923400">
            <a:off x="1186920" y="517320"/>
            <a:ext cx="2797200" cy="2395440"/>
          </a:xfrm>
          <a:custGeom>
            <a:avLst/>
            <a:gdLst/>
            <a:ahLst/>
            <a:rect l="l" t="t" r="r" b="b"/>
            <a:pathLst>
              <a:path w="2550659" h="2185365">
                <a:moveTo>
                  <a:pt x="963373" y="38801"/>
                </a:moveTo>
                <a:cubicBezTo>
                  <a:pt x="1449016" y="-83911"/>
                  <a:pt x="1966064" y="89396"/>
                  <a:pt x="2278996" y="488482"/>
                </a:cubicBezTo>
                <a:cubicBezTo>
                  <a:pt x="2530007" y="808601"/>
                  <a:pt x="2608618" y="1221611"/>
                  <a:pt x="2508386" y="1600763"/>
                </a:cubicBezTo>
                <a:lnTo>
                  <a:pt x="2154826" y="1698143"/>
                </a:lnTo>
                <a:cubicBezTo>
                  <a:pt x="2316817" y="1366552"/>
                  <a:pt x="2276752" y="967621"/>
                  <a:pt x="2044950" y="672001"/>
                </a:cubicBezTo>
                <a:cubicBezTo>
                  <a:pt x="1788997" y="345580"/>
                  <a:pt x="1354963" y="216140"/>
                  <a:pt x="962027" y="349047"/>
                </a:cubicBezTo>
                <a:cubicBezTo>
                  <a:pt x="569091" y="481954"/>
                  <a:pt x="302748" y="848289"/>
                  <a:pt x="297495" y="1263060"/>
                </a:cubicBezTo>
                <a:cubicBezTo>
                  <a:pt x="293222" y="1600548"/>
                  <a:pt x="462563" y="1910356"/>
                  <a:pt x="737222" y="2088591"/>
                </a:cubicBezTo>
                <a:lnTo>
                  <a:pt x="385866" y="2185365"/>
                </a:lnTo>
                <a:cubicBezTo>
                  <a:pt x="139643" y="1948652"/>
                  <a:pt x="-4411" y="1615817"/>
                  <a:pt x="103" y="1259294"/>
                </a:cubicBezTo>
                <a:cubicBezTo>
                  <a:pt x="6953" y="718382"/>
                  <a:pt x="354297" y="240637"/>
                  <a:pt x="866733" y="67311"/>
                </a:cubicBezTo>
                <a:cubicBezTo>
                  <a:pt x="898760" y="56478"/>
                  <a:pt x="930997" y="46982"/>
                  <a:pt x="963373" y="38801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空心弧 1"/>
          <p:cNvSpPr/>
          <p:nvPr/>
        </p:nvSpPr>
        <p:spPr>
          <a:xfrm flipV="1" rot="20676600">
            <a:off x="3205080" y="2309400"/>
            <a:ext cx="2797200" cy="2397240"/>
          </a:xfrm>
          <a:custGeom>
            <a:avLst/>
            <a:gdLst/>
            <a:ahLst/>
            <a:rect l="l" t="t" r="r" b="b"/>
            <a:pathLst>
              <a:path w="2550659" h="2185365">
                <a:moveTo>
                  <a:pt x="963373" y="38801"/>
                </a:moveTo>
                <a:cubicBezTo>
                  <a:pt x="1449016" y="-83911"/>
                  <a:pt x="1966064" y="89396"/>
                  <a:pt x="2278996" y="488482"/>
                </a:cubicBezTo>
                <a:cubicBezTo>
                  <a:pt x="2530007" y="808601"/>
                  <a:pt x="2608618" y="1221611"/>
                  <a:pt x="2508386" y="1600763"/>
                </a:cubicBezTo>
                <a:lnTo>
                  <a:pt x="2154826" y="1698143"/>
                </a:lnTo>
                <a:cubicBezTo>
                  <a:pt x="2316817" y="1366552"/>
                  <a:pt x="2276752" y="967621"/>
                  <a:pt x="2044950" y="672001"/>
                </a:cubicBezTo>
                <a:cubicBezTo>
                  <a:pt x="1788997" y="345580"/>
                  <a:pt x="1354963" y="216140"/>
                  <a:pt x="962027" y="349047"/>
                </a:cubicBezTo>
                <a:cubicBezTo>
                  <a:pt x="569091" y="481954"/>
                  <a:pt x="302748" y="848289"/>
                  <a:pt x="297495" y="1263060"/>
                </a:cubicBezTo>
                <a:cubicBezTo>
                  <a:pt x="293222" y="1600548"/>
                  <a:pt x="462563" y="1910356"/>
                  <a:pt x="737222" y="2088591"/>
                </a:cubicBezTo>
                <a:lnTo>
                  <a:pt x="385866" y="2185365"/>
                </a:lnTo>
                <a:cubicBezTo>
                  <a:pt x="139643" y="1948652"/>
                  <a:pt x="-4411" y="1615817"/>
                  <a:pt x="103" y="1259294"/>
                </a:cubicBezTo>
                <a:cubicBezTo>
                  <a:pt x="6953" y="718382"/>
                  <a:pt x="354297" y="240637"/>
                  <a:pt x="866733" y="67311"/>
                </a:cubicBezTo>
                <a:cubicBezTo>
                  <a:pt x="898760" y="56478"/>
                  <a:pt x="930997" y="46982"/>
                  <a:pt x="963373" y="38801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空心弧 1"/>
          <p:cNvSpPr/>
          <p:nvPr/>
        </p:nvSpPr>
        <p:spPr>
          <a:xfrm rot="923400">
            <a:off x="5229000" y="517320"/>
            <a:ext cx="2797200" cy="2395440"/>
          </a:xfrm>
          <a:custGeom>
            <a:avLst/>
            <a:gdLst/>
            <a:ahLst/>
            <a:rect l="l" t="t" r="r" b="b"/>
            <a:pathLst>
              <a:path w="2550659" h="2185365">
                <a:moveTo>
                  <a:pt x="963373" y="38801"/>
                </a:moveTo>
                <a:cubicBezTo>
                  <a:pt x="1449016" y="-83911"/>
                  <a:pt x="1966064" y="89396"/>
                  <a:pt x="2278996" y="488482"/>
                </a:cubicBezTo>
                <a:cubicBezTo>
                  <a:pt x="2530007" y="808601"/>
                  <a:pt x="2608618" y="1221611"/>
                  <a:pt x="2508386" y="1600763"/>
                </a:cubicBezTo>
                <a:lnTo>
                  <a:pt x="2154826" y="1698143"/>
                </a:lnTo>
                <a:cubicBezTo>
                  <a:pt x="2316817" y="1366552"/>
                  <a:pt x="2276752" y="967621"/>
                  <a:pt x="2044950" y="672001"/>
                </a:cubicBezTo>
                <a:cubicBezTo>
                  <a:pt x="1788997" y="345580"/>
                  <a:pt x="1354963" y="216140"/>
                  <a:pt x="962027" y="349047"/>
                </a:cubicBezTo>
                <a:cubicBezTo>
                  <a:pt x="569091" y="481954"/>
                  <a:pt x="302748" y="848289"/>
                  <a:pt x="297495" y="1263060"/>
                </a:cubicBezTo>
                <a:cubicBezTo>
                  <a:pt x="293222" y="1600548"/>
                  <a:pt x="462563" y="1910356"/>
                  <a:pt x="737222" y="2088591"/>
                </a:cubicBezTo>
                <a:lnTo>
                  <a:pt x="385866" y="2185365"/>
                </a:lnTo>
                <a:cubicBezTo>
                  <a:pt x="139643" y="1948652"/>
                  <a:pt x="-4411" y="1615817"/>
                  <a:pt x="103" y="1259294"/>
                </a:cubicBezTo>
                <a:cubicBezTo>
                  <a:pt x="6953" y="718382"/>
                  <a:pt x="354297" y="240637"/>
                  <a:pt x="866733" y="67311"/>
                </a:cubicBezTo>
                <a:cubicBezTo>
                  <a:pt x="898760" y="56478"/>
                  <a:pt x="930997" y="46982"/>
                  <a:pt x="963373" y="38801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空心弧 1"/>
          <p:cNvSpPr/>
          <p:nvPr/>
        </p:nvSpPr>
        <p:spPr>
          <a:xfrm flipV="1" rot="20676600">
            <a:off x="7267320" y="2456640"/>
            <a:ext cx="1685880" cy="2395800"/>
          </a:xfrm>
          <a:custGeom>
            <a:avLst/>
            <a:gdLst/>
            <a:ahLst/>
            <a:rect l="l" t="t" r="r" b="b"/>
            <a:pathLst>
              <a:path w="1686113" h="2395797">
                <a:moveTo>
                  <a:pt x="423161" y="2395797"/>
                </a:moveTo>
                <a:lnTo>
                  <a:pt x="808476" y="2289670"/>
                </a:lnTo>
                <a:cubicBezTo>
                  <a:pt x="507271" y="2094208"/>
                  <a:pt x="321562" y="1754456"/>
                  <a:pt x="326248" y="1384350"/>
                </a:cubicBezTo>
                <a:cubicBezTo>
                  <a:pt x="332009" y="929490"/>
                  <a:pt x="624095" y="527748"/>
                  <a:pt x="1055008" y="381995"/>
                </a:cubicBezTo>
                <a:cubicBezTo>
                  <a:pt x="1264032" y="311295"/>
                  <a:pt x="1483662" y="308289"/>
                  <a:pt x="1686113" y="366048"/>
                </a:cubicBezTo>
                <a:lnTo>
                  <a:pt x="1589582" y="15570"/>
                </a:lnTo>
                <a:cubicBezTo>
                  <a:pt x="1414704" y="-11850"/>
                  <a:pt x="1233688" y="-3012"/>
                  <a:pt x="1056485" y="41763"/>
                </a:cubicBezTo>
                <a:lnTo>
                  <a:pt x="950504" y="73029"/>
                </a:lnTo>
                <a:cubicBezTo>
                  <a:pt x="388540" y="263107"/>
                  <a:pt x="7625" y="787027"/>
                  <a:pt x="113" y="1380219"/>
                </a:cubicBezTo>
                <a:cubicBezTo>
                  <a:pt x="-4838" y="1771201"/>
                  <a:pt x="153140" y="2136205"/>
                  <a:pt x="423161" y="2395797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椭圆 60"/>
          <p:cNvSpPr/>
          <p:nvPr/>
        </p:nvSpPr>
        <p:spPr>
          <a:xfrm>
            <a:off x="6283440" y="1517760"/>
            <a:ext cx="645840" cy="64584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椭圆 61"/>
          <p:cNvSpPr/>
          <p:nvPr/>
        </p:nvSpPr>
        <p:spPr>
          <a:xfrm>
            <a:off x="4224240" y="3200400"/>
            <a:ext cx="646200" cy="6462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62"/>
          <p:cNvSpPr/>
          <p:nvPr/>
        </p:nvSpPr>
        <p:spPr>
          <a:xfrm>
            <a:off x="2187720" y="1517760"/>
            <a:ext cx="645840" cy="645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63"/>
          <p:cNvSpPr/>
          <p:nvPr/>
        </p:nvSpPr>
        <p:spPr>
          <a:xfrm>
            <a:off x="2087640" y="1604880"/>
            <a:ext cx="8445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 ESSENCE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64"/>
          <p:cNvSpPr/>
          <p:nvPr/>
        </p:nvSpPr>
        <p:spPr>
          <a:xfrm>
            <a:off x="4118040" y="3290760"/>
            <a:ext cx="8427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 ESSENCE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65"/>
          <p:cNvSpPr/>
          <p:nvPr/>
        </p:nvSpPr>
        <p:spPr>
          <a:xfrm>
            <a:off x="6200640" y="1608120"/>
            <a:ext cx="8445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 ESSENCE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66"/>
          <p:cNvSpPr/>
          <p:nvPr/>
        </p:nvSpPr>
        <p:spPr>
          <a:xfrm>
            <a:off x="1868400" y="2855880"/>
            <a:ext cx="13924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595959"/>
                </a:solidFill>
                <a:latin typeface="Arial"/>
                <a:ea typeface="微软雅黑"/>
              </a:rPr>
              <a:t>Click here to add your text. 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67"/>
          <p:cNvSpPr/>
          <p:nvPr/>
        </p:nvSpPr>
        <p:spPr>
          <a:xfrm>
            <a:off x="1603440" y="2352600"/>
            <a:ext cx="1781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74806"/>
                </a:solidFill>
                <a:latin typeface="Times New Roman"/>
                <a:ea typeface="微软雅黑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68"/>
          <p:cNvSpPr/>
          <p:nvPr/>
        </p:nvSpPr>
        <p:spPr>
          <a:xfrm>
            <a:off x="3648240" y="2679840"/>
            <a:ext cx="17809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53734"/>
                </a:solidFill>
                <a:latin typeface="Times New Roman"/>
                <a:ea typeface="微软雅黑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69"/>
          <p:cNvSpPr/>
          <p:nvPr/>
        </p:nvSpPr>
        <p:spPr>
          <a:xfrm>
            <a:off x="5910120" y="2855880"/>
            <a:ext cx="13924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595959"/>
                </a:solidFill>
                <a:latin typeface="Arial"/>
                <a:ea typeface="微软雅黑"/>
              </a:rPr>
              <a:t>Click here to add your text. 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70"/>
          <p:cNvSpPr/>
          <p:nvPr/>
        </p:nvSpPr>
        <p:spPr>
          <a:xfrm>
            <a:off x="5667480" y="2387520"/>
            <a:ext cx="17809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74806"/>
                </a:solidFill>
                <a:latin typeface="Times New Roman"/>
                <a:ea typeface="微软雅黑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71"/>
          <p:cNvSpPr/>
          <p:nvPr/>
        </p:nvSpPr>
        <p:spPr>
          <a:xfrm>
            <a:off x="3879720" y="504720"/>
            <a:ext cx="13924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595959"/>
                </a:solidFill>
                <a:latin typeface="Arial"/>
                <a:ea typeface="微软雅黑"/>
              </a:rPr>
              <a:t>Click here to add your text. 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72"/>
          <p:cNvSpPr/>
          <p:nvPr/>
        </p:nvSpPr>
        <p:spPr>
          <a:xfrm>
            <a:off x="611280" y="5589720"/>
            <a:ext cx="755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f3f3f"/>
                </a:solidFill>
                <a:latin typeface="AR ESSENCE"/>
                <a:ea typeface="微软雅黑"/>
              </a:rPr>
              <a:t>Click here to add your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73"/>
          <p:cNvSpPr/>
          <p:nvPr/>
        </p:nvSpPr>
        <p:spPr>
          <a:xfrm>
            <a:off x="0" y="6165720"/>
            <a:ext cx="9144000" cy="243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空心弧 1"/>
          <p:cNvSpPr/>
          <p:nvPr/>
        </p:nvSpPr>
        <p:spPr>
          <a:xfrm flipV="1" rot="20676600">
            <a:off x="-212400" y="2760120"/>
            <a:ext cx="2238480" cy="1862280"/>
          </a:xfrm>
          <a:custGeom>
            <a:avLst/>
            <a:gdLst/>
            <a:ahLst/>
            <a:rect l="l" t="t" r="r" b="b"/>
            <a:pathLst>
              <a:path w="2237910" h="1862273">
                <a:moveTo>
                  <a:pt x="2191551" y="1755481"/>
                </a:moveTo>
                <a:cubicBezTo>
                  <a:pt x="2301471" y="1339683"/>
                  <a:pt x="2215262" y="886755"/>
                  <a:pt x="1939990" y="535695"/>
                </a:cubicBezTo>
                <a:cubicBezTo>
                  <a:pt x="1596813" y="98037"/>
                  <a:pt x="1029791" y="-92021"/>
                  <a:pt x="497210" y="42552"/>
                </a:cubicBezTo>
                <a:lnTo>
                  <a:pt x="391229" y="73817"/>
                </a:lnTo>
                <a:cubicBezTo>
                  <a:pt x="247837" y="122319"/>
                  <a:pt x="116232" y="192556"/>
                  <a:pt x="0" y="280652"/>
                </a:cubicBezTo>
                <a:lnTo>
                  <a:pt x="95699" y="628105"/>
                </a:lnTo>
                <a:cubicBezTo>
                  <a:pt x="206229" y="519182"/>
                  <a:pt x="342165" y="434727"/>
                  <a:pt x="495734" y="382784"/>
                </a:cubicBezTo>
                <a:cubicBezTo>
                  <a:pt x="926648" y="237031"/>
                  <a:pt x="1402632" y="378982"/>
                  <a:pt x="1683323" y="736952"/>
                </a:cubicBezTo>
                <a:cubicBezTo>
                  <a:pt x="1937529" y="1061144"/>
                  <a:pt x="1981467" y="1498633"/>
                  <a:pt x="1803819" y="1862273"/>
                </a:cubicBez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42FF-62F7-4701-99DB-5BA535C95E1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组合 24"/>
          <p:cNvGrpSpPr/>
          <p:nvPr/>
        </p:nvGrpSpPr>
        <p:grpSpPr>
          <a:xfrm>
            <a:off x="1644480" y="3765600"/>
            <a:ext cx="5607360" cy="3324240"/>
            <a:chOff x="1644480" y="3765600"/>
            <a:chExt cx="5607360" cy="3324240"/>
          </a:xfrm>
        </p:grpSpPr>
        <p:sp>
          <p:nvSpPr>
            <p:cNvPr id="131" name="椭圆 25"/>
            <p:cNvSpPr/>
            <p:nvPr/>
          </p:nvSpPr>
          <p:spPr>
            <a:xfrm>
              <a:off x="1644480" y="3765600"/>
              <a:ext cx="5607360" cy="3324240"/>
            </a:xfrm>
            <a:prstGeom prst="ellipse">
              <a:avLst/>
            </a:prstGeom>
            <a:solidFill>
              <a:srgbClr val="76a2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椭圆 26"/>
            <p:cNvSpPr/>
            <p:nvPr/>
          </p:nvSpPr>
          <p:spPr>
            <a:xfrm>
              <a:off x="1800360" y="3859200"/>
              <a:ext cx="5295240" cy="3139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椭圆 27"/>
            <p:cNvSpPr/>
            <p:nvPr/>
          </p:nvSpPr>
          <p:spPr>
            <a:xfrm>
              <a:off x="2248200" y="4123440"/>
              <a:ext cx="4399920" cy="2608560"/>
            </a:xfrm>
            <a:prstGeom prst="ellipse">
              <a:avLst/>
            </a:prstGeom>
            <a:solidFill>
              <a:srgbClr val="668c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28"/>
            <p:cNvSpPr/>
            <p:nvPr/>
          </p:nvSpPr>
          <p:spPr>
            <a:xfrm>
              <a:off x="2849400" y="4480920"/>
              <a:ext cx="3197160" cy="1895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椭圆 29"/>
            <p:cNvSpPr/>
            <p:nvPr/>
          </p:nvSpPr>
          <p:spPr>
            <a:xfrm>
              <a:off x="3571920" y="4908240"/>
              <a:ext cx="1752120" cy="10386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6a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椭圆 30"/>
            <p:cNvSpPr/>
            <p:nvPr/>
          </p:nvSpPr>
          <p:spPr>
            <a:xfrm>
              <a:off x="3746880" y="5011920"/>
              <a:ext cx="1402560" cy="831600"/>
            </a:xfrm>
            <a:prstGeom prst="ellipse">
              <a:avLst/>
            </a:prstGeom>
            <a:solidFill>
              <a:srgbClr val="668c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等腰三角形 31"/>
          <p:cNvSpPr/>
          <p:nvPr/>
        </p:nvSpPr>
        <p:spPr>
          <a:xfrm flipV="1">
            <a:off x="3659040" y="4411800"/>
            <a:ext cx="1578240" cy="1038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c5512"/>
              </a:gs>
              <a:gs pos="100000">
                <a:srgbClr val="67932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3652920" y="4280040"/>
            <a:ext cx="1577880" cy="131760"/>
          </a:xfrm>
          <a:custGeom>
            <a:avLst/>
            <a:gdLst/>
            <a:ahLst/>
            <a:rect l="l" t="t" r="r" b="b"/>
            <a:pathLst>
              <a:path w="1640851" h="137774">
                <a:moveTo>
                  <a:pt x="144379" y="0"/>
                </a:moveTo>
                <a:lnTo>
                  <a:pt x="1544599" y="0"/>
                </a:lnTo>
                <a:lnTo>
                  <a:pt x="1640851" y="137774"/>
                </a:lnTo>
                <a:lnTo>
                  <a:pt x="0" y="137774"/>
                </a:lnTo>
                <a:lnTo>
                  <a:pt x="144379" y="0"/>
                </a:lnTo>
                <a:close/>
              </a:path>
            </a:pathLst>
          </a:custGeom>
          <a:gradFill rotWithShape="0">
            <a:gsLst>
              <a:gs pos="0">
                <a:srgbClr val="24340b"/>
              </a:gs>
              <a:gs pos="100000">
                <a:srgbClr val="405b1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2965320" y="3419640"/>
            <a:ext cx="2943360" cy="901440"/>
          </a:xfrm>
          <a:custGeom>
            <a:avLst/>
            <a:gdLst/>
            <a:ahLst/>
            <a:rect l="l" t="t" r="r" b="b"/>
            <a:pathLst>
              <a:path w="3061735" h="937284">
                <a:moveTo>
                  <a:pt x="0" y="0"/>
                </a:moveTo>
                <a:lnTo>
                  <a:pt x="3061735" y="0"/>
                </a:lnTo>
                <a:lnTo>
                  <a:pt x="2493758" y="937284"/>
                </a:lnTo>
                <a:lnTo>
                  <a:pt x="567977" y="937284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7"/>
          <p:cNvSpPr/>
          <p:nvPr/>
        </p:nvSpPr>
        <p:spPr>
          <a:xfrm>
            <a:off x="2336760" y="2381400"/>
            <a:ext cx="4202280" cy="901440"/>
          </a:xfrm>
          <a:custGeom>
            <a:avLst/>
            <a:gdLst/>
            <a:ahLst/>
            <a:rect l="l" t="t" r="r" b="b"/>
            <a:pathLst>
              <a:path w="4370803" h="937284">
                <a:moveTo>
                  <a:pt x="0" y="0"/>
                </a:moveTo>
                <a:lnTo>
                  <a:pt x="4370803" y="0"/>
                </a:lnTo>
                <a:lnTo>
                  <a:pt x="3802825" y="937284"/>
                </a:lnTo>
                <a:lnTo>
                  <a:pt x="567978" y="937284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8"/>
          <p:cNvSpPr/>
          <p:nvPr/>
        </p:nvSpPr>
        <p:spPr>
          <a:xfrm>
            <a:off x="1712880" y="1343160"/>
            <a:ext cx="5451480" cy="901440"/>
          </a:xfrm>
          <a:custGeom>
            <a:avLst/>
            <a:gdLst/>
            <a:ahLst/>
            <a:rect l="l" t="t" r="r" b="b"/>
            <a:pathLst>
              <a:path w="5670222" h="937284">
                <a:moveTo>
                  <a:pt x="0" y="0"/>
                </a:moveTo>
                <a:lnTo>
                  <a:pt x="5670222" y="0"/>
                </a:lnTo>
                <a:lnTo>
                  <a:pt x="5670222" y="5327"/>
                </a:lnTo>
                <a:lnTo>
                  <a:pt x="5105473" y="937284"/>
                </a:lnTo>
                <a:lnTo>
                  <a:pt x="561559" y="937284"/>
                </a:lnTo>
                <a:lnTo>
                  <a:pt x="0" y="10591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4"/>
          <p:cNvSpPr/>
          <p:nvPr/>
        </p:nvSpPr>
        <p:spPr>
          <a:xfrm>
            <a:off x="2965320" y="3287880"/>
            <a:ext cx="2943360" cy="131760"/>
          </a:xfrm>
          <a:custGeom>
            <a:avLst/>
            <a:gdLst/>
            <a:ahLst/>
            <a:rect l="l" t="t" r="r" b="b"/>
            <a:pathLst>
              <a:path w="1640851" h="137774">
                <a:moveTo>
                  <a:pt x="144379" y="0"/>
                </a:moveTo>
                <a:lnTo>
                  <a:pt x="1544599" y="0"/>
                </a:lnTo>
                <a:lnTo>
                  <a:pt x="1640851" y="137774"/>
                </a:lnTo>
                <a:lnTo>
                  <a:pt x="0" y="137774"/>
                </a:lnTo>
                <a:lnTo>
                  <a:pt x="144379" y="0"/>
                </a:lnTo>
                <a:close/>
              </a:path>
            </a:pathLst>
          </a:custGeom>
          <a:gradFill rotWithShape="0">
            <a:gsLst>
              <a:gs pos="0">
                <a:srgbClr val="664d00"/>
              </a:gs>
              <a:gs pos="100000">
                <a:srgbClr val="b08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4"/>
          <p:cNvSpPr/>
          <p:nvPr/>
        </p:nvSpPr>
        <p:spPr>
          <a:xfrm>
            <a:off x="2336760" y="2249640"/>
            <a:ext cx="4202280" cy="131760"/>
          </a:xfrm>
          <a:custGeom>
            <a:avLst/>
            <a:gdLst/>
            <a:ahLst/>
            <a:rect l="l" t="t" r="r" b="b"/>
            <a:pathLst>
              <a:path w="1640851" h="137774">
                <a:moveTo>
                  <a:pt x="144379" y="0"/>
                </a:moveTo>
                <a:lnTo>
                  <a:pt x="1544599" y="0"/>
                </a:lnTo>
                <a:lnTo>
                  <a:pt x="1640851" y="137774"/>
                </a:lnTo>
                <a:lnTo>
                  <a:pt x="0" y="137774"/>
                </a:lnTo>
                <a:lnTo>
                  <a:pt x="144379" y="0"/>
                </a:lnTo>
                <a:close/>
              </a:path>
            </a:pathLst>
          </a:custGeom>
          <a:gradFill rotWithShape="0">
            <a:gsLst>
              <a:gs pos="0">
                <a:srgbClr val="664d00"/>
              </a:gs>
              <a:gs pos="100000">
                <a:srgbClr val="b08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4"/>
          <p:cNvSpPr/>
          <p:nvPr/>
        </p:nvSpPr>
        <p:spPr>
          <a:xfrm>
            <a:off x="1712880" y="1206360"/>
            <a:ext cx="5451480" cy="136800"/>
          </a:xfrm>
          <a:custGeom>
            <a:avLst/>
            <a:gdLst/>
            <a:ahLst/>
            <a:rect l="l" t="t" r="r" b="b"/>
            <a:pathLst>
              <a:path w="1640851" h="137774">
                <a:moveTo>
                  <a:pt x="144379" y="0"/>
                </a:moveTo>
                <a:lnTo>
                  <a:pt x="1544599" y="0"/>
                </a:lnTo>
                <a:lnTo>
                  <a:pt x="1640851" y="137774"/>
                </a:lnTo>
                <a:lnTo>
                  <a:pt x="0" y="137774"/>
                </a:lnTo>
                <a:lnTo>
                  <a:pt x="144379" y="0"/>
                </a:lnTo>
                <a:close/>
              </a:path>
            </a:pathLst>
          </a:custGeom>
          <a:gradFill rotWithShape="0">
            <a:gsLst>
              <a:gs pos="0">
                <a:srgbClr val="664d00"/>
              </a:gs>
              <a:gs pos="100000">
                <a:srgbClr val="b08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9"/>
          <p:cNvSpPr/>
          <p:nvPr/>
        </p:nvSpPr>
        <p:spPr>
          <a:xfrm>
            <a:off x="2387520" y="1550880"/>
            <a:ext cx="426096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65a00"/>
                </a:solidFill>
                <a:latin typeface="微软雅黑"/>
                <a:ea typeface="微软雅黑"/>
              </a:rPr>
              <a:t>Click here to add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0"/>
          <p:cNvSpPr/>
          <p:nvPr/>
        </p:nvSpPr>
        <p:spPr>
          <a:xfrm>
            <a:off x="2973240" y="2631960"/>
            <a:ext cx="29401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65a00"/>
                </a:solidFill>
                <a:latin typeface="微软雅黑"/>
                <a:ea typeface="微软雅黑"/>
              </a:rPr>
              <a:t>Here add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41"/>
          <p:cNvSpPr/>
          <p:nvPr/>
        </p:nvSpPr>
        <p:spPr>
          <a:xfrm>
            <a:off x="3441600" y="3627360"/>
            <a:ext cx="21240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65a00"/>
                </a:solidFill>
                <a:latin typeface="微软雅黑"/>
                <a:ea typeface="微软雅黑"/>
              </a:rPr>
              <a:t>Add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2"/>
          <p:cNvSpPr/>
          <p:nvPr/>
        </p:nvSpPr>
        <p:spPr>
          <a:xfrm>
            <a:off x="3881520" y="4570560"/>
            <a:ext cx="10620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8"/>
          <p:cNvSpPr/>
          <p:nvPr/>
        </p:nvSpPr>
        <p:spPr>
          <a:xfrm>
            <a:off x="900000" y="325440"/>
            <a:ext cx="7056720" cy="901800"/>
          </a:xfrm>
          <a:custGeom>
            <a:avLst/>
            <a:gdLst/>
            <a:ahLst/>
            <a:rect l="l" t="t" r="r" b="b"/>
            <a:pathLst>
              <a:path w="5670222" h="937284">
                <a:moveTo>
                  <a:pt x="0" y="0"/>
                </a:moveTo>
                <a:lnTo>
                  <a:pt x="5670222" y="0"/>
                </a:lnTo>
                <a:lnTo>
                  <a:pt x="5670222" y="5327"/>
                </a:lnTo>
                <a:lnTo>
                  <a:pt x="5105473" y="937284"/>
                </a:lnTo>
                <a:lnTo>
                  <a:pt x="561559" y="937284"/>
                </a:lnTo>
                <a:lnTo>
                  <a:pt x="0" y="10591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4"/>
          <p:cNvSpPr/>
          <p:nvPr/>
        </p:nvSpPr>
        <p:spPr>
          <a:xfrm>
            <a:off x="900000" y="189000"/>
            <a:ext cx="7056720" cy="136440"/>
          </a:xfrm>
          <a:custGeom>
            <a:avLst/>
            <a:gdLst/>
            <a:ahLst/>
            <a:rect l="l" t="t" r="r" b="b"/>
            <a:pathLst>
              <a:path w="1640851" h="137774">
                <a:moveTo>
                  <a:pt x="144379" y="0"/>
                </a:moveTo>
                <a:lnTo>
                  <a:pt x="1544599" y="0"/>
                </a:lnTo>
                <a:lnTo>
                  <a:pt x="1640851" y="137774"/>
                </a:lnTo>
                <a:lnTo>
                  <a:pt x="0" y="137774"/>
                </a:lnTo>
                <a:lnTo>
                  <a:pt x="144379" y="0"/>
                </a:lnTo>
                <a:close/>
              </a:path>
            </a:pathLst>
          </a:custGeom>
          <a:gradFill rotWithShape="0">
            <a:gsLst>
              <a:gs pos="0">
                <a:srgbClr val="664d00"/>
              </a:gs>
              <a:gs pos="100000">
                <a:srgbClr val="b08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5"/>
          <p:cNvSpPr/>
          <p:nvPr/>
        </p:nvSpPr>
        <p:spPr>
          <a:xfrm>
            <a:off x="1332000" y="515880"/>
            <a:ext cx="62150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65a00"/>
                </a:solidFill>
                <a:latin typeface="微软雅黑"/>
                <a:ea typeface="微软雅黑"/>
              </a:rPr>
              <a:t>Click here to add your text. Click here to add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6"/>
          <p:cNvSpPr/>
          <p:nvPr/>
        </p:nvSpPr>
        <p:spPr>
          <a:xfrm rot="16200000">
            <a:off x="4286520" y="2166480"/>
            <a:ext cx="922320" cy="81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4f6128"/>
                </a:solidFill>
                <a:latin typeface="Baskerville Old Face"/>
                <a:ea typeface="宋体"/>
              </a:rPr>
              <a:t>Click here to 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DCD7-0496-4C81-8073-57766855926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19"/>
          <p:cNvSpPr/>
          <p:nvPr/>
        </p:nvSpPr>
        <p:spPr>
          <a:xfrm>
            <a:off x="3157560" y="0"/>
            <a:ext cx="4726080" cy="68580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图片 20" descr=""/>
          <p:cNvPicPr/>
          <p:nvPr/>
        </p:nvPicPr>
        <p:blipFill>
          <a:blip r:embed="rId1"/>
          <a:stretch/>
        </p:blipFill>
        <p:spPr>
          <a:xfrm>
            <a:off x="5435640" y="189000"/>
            <a:ext cx="2592360" cy="2344680"/>
          </a:xfrm>
          <a:prstGeom prst="rect">
            <a:avLst/>
          </a:prstGeom>
          <a:ln w="0">
            <a:noFill/>
          </a:ln>
        </p:spPr>
      </p:pic>
      <p:sp>
        <p:nvSpPr>
          <p:cNvPr id="156" name="六边形 21"/>
          <p:cNvSpPr/>
          <p:nvPr/>
        </p:nvSpPr>
        <p:spPr>
          <a:xfrm rot="19089000">
            <a:off x="5648040" y="1501560"/>
            <a:ext cx="772920" cy="666720"/>
          </a:xfrm>
          <a:prstGeom prst="hexagon">
            <a:avLst>
              <a:gd name="adj" fmla="val 24978"/>
              <a:gd name="vf" fmla="val 115470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2"/>
          <p:cNvSpPr/>
          <p:nvPr/>
        </p:nvSpPr>
        <p:spPr>
          <a:xfrm flipH="1" rot="20068200">
            <a:off x="5765400" y="1531440"/>
            <a:ext cx="584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Baskerville Old Face"/>
                <a:ea typeface="微软雅黑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3"/>
          <p:cNvSpPr/>
          <p:nvPr/>
        </p:nvSpPr>
        <p:spPr>
          <a:xfrm flipH="1" rot="20066400">
            <a:off x="6208560" y="1164240"/>
            <a:ext cx="1766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2d050"/>
                </a:solidFill>
                <a:latin typeface="Baskerville Old Face"/>
                <a:ea typeface="微软雅黑"/>
              </a:rPr>
              <a:t>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4"/>
          <p:cNvSpPr/>
          <p:nvPr/>
        </p:nvSpPr>
        <p:spPr>
          <a:xfrm>
            <a:off x="3436920" y="1557360"/>
            <a:ext cx="2023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图片 25" descr=""/>
          <p:cNvPicPr/>
          <p:nvPr/>
        </p:nvPicPr>
        <p:blipFill>
          <a:blip r:embed="rId2"/>
          <a:stretch/>
        </p:blipFill>
        <p:spPr>
          <a:xfrm>
            <a:off x="5435640" y="1944720"/>
            <a:ext cx="2592360" cy="2344680"/>
          </a:xfrm>
          <a:prstGeom prst="rect">
            <a:avLst/>
          </a:prstGeom>
          <a:ln w="0">
            <a:noFill/>
          </a:ln>
        </p:spPr>
      </p:pic>
      <p:sp>
        <p:nvSpPr>
          <p:cNvPr id="161" name="六边形 26"/>
          <p:cNvSpPr/>
          <p:nvPr/>
        </p:nvSpPr>
        <p:spPr>
          <a:xfrm rot="19089000">
            <a:off x="5648040" y="3257280"/>
            <a:ext cx="772920" cy="666720"/>
          </a:xfrm>
          <a:prstGeom prst="hexagon">
            <a:avLst>
              <a:gd name="adj" fmla="val 24978"/>
              <a:gd name="vf" fmla="val 115470"/>
            </a:avLst>
          </a:prstGeom>
          <a:solidFill>
            <a:srgbClr val="318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7"/>
          <p:cNvSpPr/>
          <p:nvPr/>
        </p:nvSpPr>
        <p:spPr>
          <a:xfrm flipH="1" rot="20068200">
            <a:off x="5765760" y="3287160"/>
            <a:ext cx="584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Baskerville Old Face"/>
                <a:ea typeface="微软雅黑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8"/>
          <p:cNvSpPr/>
          <p:nvPr/>
        </p:nvSpPr>
        <p:spPr>
          <a:xfrm flipH="1" rot="20066400">
            <a:off x="6208560" y="2919960"/>
            <a:ext cx="1766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1859b"/>
                </a:solidFill>
                <a:latin typeface="Baskerville Old Face"/>
                <a:ea typeface="微软雅黑"/>
              </a:rPr>
              <a:t>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9"/>
          <p:cNvSpPr/>
          <p:nvPr/>
        </p:nvSpPr>
        <p:spPr>
          <a:xfrm>
            <a:off x="3436920" y="3311640"/>
            <a:ext cx="2023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图片 30" descr=""/>
          <p:cNvPicPr/>
          <p:nvPr/>
        </p:nvPicPr>
        <p:blipFill>
          <a:blip r:embed="rId3"/>
          <a:stretch/>
        </p:blipFill>
        <p:spPr>
          <a:xfrm>
            <a:off x="5435640" y="3718080"/>
            <a:ext cx="2592360" cy="2342880"/>
          </a:xfrm>
          <a:prstGeom prst="rect">
            <a:avLst/>
          </a:prstGeom>
          <a:ln w="0">
            <a:noFill/>
          </a:ln>
        </p:spPr>
      </p:pic>
      <p:sp>
        <p:nvSpPr>
          <p:cNvPr id="166" name="六边形 31"/>
          <p:cNvSpPr/>
          <p:nvPr/>
        </p:nvSpPr>
        <p:spPr>
          <a:xfrm rot="19089000">
            <a:off x="5648040" y="5030280"/>
            <a:ext cx="772920" cy="666720"/>
          </a:xfrm>
          <a:prstGeom prst="hexagon">
            <a:avLst>
              <a:gd name="adj" fmla="val 24978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2"/>
          <p:cNvSpPr/>
          <p:nvPr/>
        </p:nvSpPr>
        <p:spPr>
          <a:xfrm flipH="1" rot="20068200">
            <a:off x="5765760" y="5060520"/>
            <a:ext cx="584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Baskerville Old Face"/>
                <a:ea typeface="微软雅黑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33"/>
          <p:cNvSpPr/>
          <p:nvPr/>
        </p:nvSpPr>
        <p:spPr>
          <a:xfrm flipH="1" rot="20066400">
            <a:off x="6209640" y="4693320"/>
            <a:ext cx="1766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b0f0"/>
                </a:solidFill>
                <a:latin typeface="Baskerville Old Face"/>
                <a:ea typeface="微软雅黑"/>
              </a:rPr>
              <a:t>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34"/>
          <p:cNvSpPr/>
          <p:nvPr/>
        </p:nvSpPr>
        <p:spPr>
          <a:xfrm>
            <a:off x="3436920" y="5084640"/>
            <a:ext cx="2023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35"/>
          <p:cNvSpPr/>
          <p:nvPr/>
        </p:nvSpPr>
        <p:spPr>
          <a:xfrm>
            <a:off x="1212840" y="0"/>
            <a:ext cx="1152360" cy="68850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6"/>
          <p:cNvSpPr/>
          <p:nvPr/>
        </p:nvSpPr>
        <p:spPr>
          <a:xfrm>
            <a:off x="1359000" y="404640"/>
            <a:ext cx="86184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Baskerville Old Face"/>
                <a:ea typeface="宋体"/>
              </a:rPr>
              <a:t>Click here to add you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4EDB-67A1-4120-9749-A8BCE5B709F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val 65"/>
          <p:cNvSpPr/>
          <p:nvPr/>
        </p:nvSpPr>
        <p:spPr>
          <a:xfrm flipV="1" rot="10800000">
            <a:off x="1039320" y="4984920"/>
            <a:ext cx="2521080" cy="666720"/>
          </a:xfrm>
          <a:prstGeom prst="ellipse">
            <a:avLst/>
          </a:prstGeom>
          <a:gradFill rotWithShape="0">
            <a:gsLst>
              <a:gs pos="0">
                <a:srgbClr val="7f7f7f"/>
              </a:gs>
              <a:gs pos="100000">
                <a:srgbClr val="eeece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图片 24" descr=""/>
          <p:cNvPicPr/>
          <p:nvPr/>
        </p:nvPicPr>
        <p:blipFill>
          <a:blip r:embed="rId1"/>
          <a:srcRect l="15727" t="22134" r="15020" b="0"/>
          <a:stretch/>
        </p:blipFill>
        <p:spPr>
          <a:xfrm>
            <a:off x="1254240" y="17640"/>
            <a:ext cx="2019240" cy="2325600"/>
          </a:xfrm>
          <a:prstGeom prst="rect">
            <a:avLst/>
          </a:prstGeom>
          <a:ln w="0">
            <a:noFill/>
          </a:ln>
        </p:spPr>
      </p:pic>
      <p:sp>
        <p:nvSpPr>
          <p:cNvPr id="175" name="Oval 65"/>
          <p:cNvSpPr/>
          <p:nvPr/>
        </p:nvSpPr>
        <p:spPr>
          <a:xfrm flipV="1" rot="10800000">
            <a:off x="1563480" y="5133960"/>
            <a:ext cx="1400040" cy="370080"/>
          </a:xfrm>
          <a:prstGeom prst="ellipse">
            <a:avLst/>
          </a:prstGeom>
          <a:gradFill rotWithShape="0">
            <a:gsLst>
              <a:gs pos="0">
                <a:srgbClr val="7f7f7f"/>
              </a:gs>
              <a:gs pos="100000">
                <a:srgbClr val="eeece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图片 26" descr=""/>
          <p:cNvPicPr/>
          <p:nvPr/>
        </p:nvPicPr>
        <p:blipFill>
          <a:blip r:embed="rId2"/>
          <a:stretch/>
        </p:blipFill>
        <p:spPr>
          <a:xfrm>
            <a:off x="1400040" y="2176560"/>
            <a:ext cx="1729080" cy="3556080"/>
          </a:xfrm>
          <a:prstGeom prst="rect">
            <a:avLst/>
          </a:prstGeom>
          <a:ln w="0">
            <a:noFill/>
          </a:ln>
        </p:spPr>
      </p:pic>
      <p:sp>
        <p:nvSpPr>
          <p:cNvPr id="177" name="TextBox 27"/>
          <p:cNvSpPr/>
          <p:nvPr/>
        </p:nvSpPr>
        <p:spPr>
          <a:xfrm>
            <a:off x="1747800" y="395280"/>
            <a:ext cx="934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gency FB"/>
                <a:ea typeface="微软雅黑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28"/>
          <p:cNvSpPr/>
          <p:nvPr/>
        </p:nvSpPr>
        <p:spPr>
          <a:xfrm>
            <a:off x="1387440" y="880920"/>
            <a:ext cx="1771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f3f3f"/>
                </a:solidFill>
                <a:latin typeface="Arial"/>
                <a:ea typeface="微软雅黑"/>
              </a:rPr>
              <a:t>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9"/>
          <p:cNvSpPr/>
          <p:nvPr/>
        </p:nvSpPr>
        <p:spPr>
          <a:xfrm>
            <a:off x="1689120" y="3960720"/>
            <a:ext cx="107964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gency FB"/>
                <a:ea typeface="微软雅黑"/>
              </a:rPr>
              <a:t>YOUR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65"/>
          <p:cNvSpPr/>
          <p:nvPr/>
        </p:nvSpPr>
        <p:spPr>
          <a:xfrm flipV="1" rot="10800000">
            <a:off x="3057120" y="4984920"/>
            <a:ext cx="2521080" cy="666720"/>
          </a:xfrm>
          <a:prstGeom prst="ellipse">
            <a:avLst/>
          </a:prstGeom>
          <a:gradFill rotWithShape="0">
            <a:gsLst>
              <a:gs pos="0">
                <a:srgbClr val="7f7f7f"/>
              </a:gs>
              <a:gs pos="100000">
                <a:srgbClr val="eeece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图片 31" descr=""/>
          <p:cNvPicPr/>
          <p:nvPr/>
        </p:nvPicPr>
        <p:blipFill>
          <a:blip r:embed="rId3"/>
          <a:srcRect l="15727" t="22134" r="15020" b="0"/>
          <a:stretch/>
        </p:blipFill>
        <p:spPr>
          <a:xfrm>
            <a:off x="3273480" y="17640"/>
            <a:ext cx="2017800" cy="2325600"/>
          </a:xfrm>
          <a:prstGeom prst="rect">
            <a:avLst/>
          </a:prstGeom>
          <a:ln w="0">
            <a:noFill/>
          </a:ln>
        </p:spPr>
      </p:pic>
      <p:sp>
        <p:nvSpPr>
          <p:cNvPr id="182" name="Oval 65"/>
          <p:cNvSpPr/>
          <p:nvPr/>
        </p:nvSpPr>
        <p:spPr>
          <a:xfrm flipV="1" rot="10800000">
            <a:off x="3581280" y="5133960"/>
            <a:ext cx="1400400" cy="370080"/>
          </a:xfrm>
          <a:prstGeom prst="ellipse">
            <a:avLst/>
          </a:prstGeom>
          <a:gradFill rotWithShape="0">
            <a:gsLst>
              <a:gs pos="0">
                <a:srgbClr val="7f7f7f"/>
              </a:gs>
              <a:gs pos="100000">
                <a:srgbClr val="eeece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图片 33" descr=""/>
          <p:cNvPicPr/>
          <p:nvPr/>
        </p:nvPicPr>
        <p:blipFill>
          <a:blip r:embed="rId4"/>
          <a:stretch/>
        </p:blipFill>
        <p:spPr>
          <a:xfrm>
            <a:off x="3417840" y="2176560"/>
            <a:ext cx="1728720" cy="3556080"/>
          </a:xfrm>
          <a:prstGeom prst="rect">
            <a:avLst/>
          </a:prstGeom>
          <a:ln w="0">
            <a:noFill/>
          </a:ln>
        </p:spPr>
      </p:pic>
      <p:sp>
        <p:nvSpPr>
          <p:cNvPr id="184" name="TextBox 34"/>
          <p:cNvSpPr/>
          <p:nvPr/>
        </p:nvSpPr>
        <p:spPr>
          <a:xfrm>
            <a:off x="3765600" y="395280"/>
            <a:ext cx="934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gency FB"/>
                <a:ea typeface="微软雅黑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5"/>
          <p:cNvSpPr/>
          <p:nvPr/>
        </p:nvSpPr>
        <p:spPr>
          <a:xfrm>
            <a:off x="3405240" y="880920"/>
            <a:ext cx="1770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f3f3f"/>
                </a:solidFill>
                <a:latin typeface="Arial"/>
                <a:ea typeface="微软雅黑"/>
              </a:rPr>
              <a:t>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6"/>
          <p:cNvSpPr/>
          <p:nvPr/>
        </p:nvSpPr>
        <p:spPr>
          <a:xfrm>
            <a:off x="3706920" y="3960720"/>
            <a:ext cx="10792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gency FB"/>
                <a:ea typeface="微软雅黑"/>
              </a:rPr>
              <a:t>YOUR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5"/>
          <p:cNvSpPr/>
          <p:nvPr/>
        </p:nvSpPr>
        <p:spPr>
          <a:xfrm flipV="1" rot="10800000">
            <a:off x="5076360" y="4984920"/>
            <a:ext cx="2519640" cy="666720"/>
          </a:xfrm>
          <a:prstGeom prst="ellipse">
            <a:avLst/>
          </a:prstGeom>
          <a:gradFill rotWithShape="0">
            <a:gsLst>
              <a:gs pos="0">
                <a:srgbClr val="7f7f7f"/>
              </a:gs>
              <a:gs pos="100000">
                <a:srgbClr val="eeece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图片 38" descr=""/>
          <p:cNvPicPr/>
          <p:nvPr/>
        </p:nvPicPr>
        <p:blipFill>
          <a:blip r:embed="rId5"/>
          <a:srcRect l="15727" t="22134" r="15020" b="0"/>
          <a:stretch/>
        </p:blipFill>
        <p:spPr>
          <a:xfrm>
            <a:off x="5291280" y="17640"/>
            <a:ext cx="2017440" cy="2325600"/>
          </a:xfrm>
          <a:prstGeom prst="rect">
            <a:avLst/>
          </a:prstGeom>
          <a:ln w="0">
            <a:noFill/>
          </a:ln>
        </p:spPr>
      </p:pic>
      <p:sp>
        <p:nvSpPr>
          <p:cNvPr id="189" name="Oval 65"/>
          <p:cNvSpPr/>
          <p:nvPr/>
        </p:nvSpPr>
        <p:spPr>
          <a:xfrm flipV="1" rot="10800000">
            <a:off x="5600520" y="5133960"/>
            <a:ext cx="1400040" cy="370080"/>
          </a:xfrm>
          <a:prstGeom prst="ellipse">
            <a:avLst/>
          </a:prstGeom>
          <a:gradFill rotWithShape="0">
            <a:gsLst>
              <a:gs pos="0">
                <a:srgbClr val="7f7f7f"/>
              </a:gs>
              <a:gs pos="100000">
                <a:srgbClr val="eeece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图片 40" descr=""/>
          <p:cNvPicPr/>
          <p:nvPr/>
        </p:nvPicPr>
        <p:blipFill>
          <a:blip r:embed="rId6"/>
          <a:stretch/>
        </p:blipFill>
        <p:spPr>
          <a:xfrm>
            <a:off x="5435640" y="2176560"/>
            <a:ext cx="1728720" cy="3556080"/>
          </a:xfrm>
          <a:prstGeom prst="rect">
            <a:avLst/>
          </a:prstGeom>
          <a:ln w="0">
            <a:noFill/>
          </a:ln>
        </p:spPr>
      </p:pic>
      <p:sp>
        <p:nvSpPr>
          <p:cNvPr id="191" name="TextBox 41"/>
          <p:cNvSpPr/>
          <p:nvPr/>
        </p:nvSpPr>
        <p:spPr>
          <a:xfrm>
            <a:off x="5783400" y="395280"/>
            <a:ext cx="934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gency FB"/>
                <a:ea typeface="微软雅黑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2"/>
          <p:cNvSpPr/>
          <p:nvPr/>
        </p:nvSpPr>
        <p:spPr>
          <a:xfrm>
            <a:off x="5423040" y="880920"/>
            <a:ext cx="1771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f3f3f"/>
                </a:solidFill>
                <a:latin typeface="Arial"/>
                <a:ea typeface="微软雅黑"/>
              </a:rPr>
              <a:t>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43"/>
          <p:cNvSpPr/>
          <p:nvPr/>
        </p:nvSpPr>
        <p:spPr>
          <a:xfrm>
            <a:off x="5724360" y="3960720"/>
            <a:ext cx="107964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gency FB"/>
                <a:ea typeface="微软雅黑"/>
              </a:rPr>
              <a:t>YOUR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44"/>
          <p:cNvSpPr/>
          <p:nvPr/>
        </p:nvSpPr>
        <p:spPr>
          <a:xfrm>
            <a:off x="1224000" y="5589720"/>
            <a:ext cx="63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95959"/>
                </a:solidFill>
                <a:latin typeface="Agency FB"/>
                <a:ea typeface="微软雅黑"/>
              </a:rPr>
              <a:t>Click here to add you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0831-F1E4-4542-B0F6-3143B4D01E9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8199"/>
          <p:cNvSpPr/>
          <p:nvPr/>
        </p:nvSpPr>
        <p:spPr>
          <a:xfrm>
            <a:off x="1476360" y="189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7"/>
              </a:rPr>
              <a:t>ppt</a:t>
            </a: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8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4572000" y="0"/>
            <a:ext cx="360" cy="2193840"/>
            <a:chOff x="4572000" y="0"/>
            <a:chExt cx="360" cy="2193840"/>
          </a:xfrm>
        </p:grpSpPr>
        <p:sp>
          <p:nvSpPr>
            <p:cNvPr id="198" name="直接连接符 23"/>
            <p:cNvSpPr/>
            <p:nvPr/>
          </p:nvSpPr>
          <p:spPr>
            <a:xfrm>
              <a:off x="4572000" y="0"/>
              <a:ext cx="0" cy="2193840"/>
            </a:xfrm>
            <a:prstGeom prst="line">
              <a:avLst/>
            </a:prstGeom>
            <a:ln w="3816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>
              <a:off x="4572000" y="0"/>
              <a:ext cx="360" cy="21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994040" y="0"/>
            <a:ext cx="1440" cy="2193840"/>
            <a:chOff x="1994040" y="0"/>
            <a:chExt cx="1440" cy="2193840"/>
          </a:xfrm>
        </p:grpSpPr>
        <p:sp>
          <p:nvSpPr>
            <p:cNvPr id="201" name="直接连接符 24"/>
            <p:cNvSpPr/>
            <p:nvPr/>
          </p:nvSpPr>
          <p:spPr>
            <a:xfrm>
              <a:off x="1994040" y="0"/>
              <a:ext cx="1440" cy="2193840"/>
            </a:xfrm>
            <a:prstGeom prst="line">
              <a:avLst/>
            </a:prstGeom>
            <a:ln w="3816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 txBox="1"/>
            <p:nvPr/>
          </p:nvSpPr>
          <p:spPr>
            <a:xfrm>
              <a:off x="1994040" y="0"/>
              <a:ext cx="1440" cy="21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7196040" y="0"/>
            <a:ext cx="1800" cy="2193840"/>
            <a:chOff x="7196040" y="0"/>
            <a:chExt cx="1800" cy="2193840"/>
          </a:xfrm>
        </p:grpSpPr>
        <p:sp>
          <p:nvSpPr>
            <p:cNvPr id="204" name="直接连接符 25"/>
            <p:cNvSpPr/>
            <p:nvPr/>
          </p:nvSpPr>
          <p:spPr>
            <a:xfrm>
              <a:off x="7196040" y="0"/>
              <a:ext cx="1800" cy="2193840"/>
            </a:xfrm>
            <a:prstGeom prst="line">
              <a:avLst/>
            </a:prstGeom>
            <a:ln w="3816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7196040" y="0"/>
              <a:ext cx="1800" cy="21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椭圆 26"/>
          <p:cNvSpPr/>
          <p:nvPr/>
        </p:nvSpPr>
        <p:spPr>
          <a:xfrm>
            <a:off x="3044880" y="1911240"/>
            <a:ext cx="2863800" cy="28638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椭圆 27"/>
          <p:cNvSpPr/>
          <p:nvPr/>
        </p:nvSpPr>
        <p:spPr>
          <a:xfrm>
            <a:off x="3327480" y="2193840"/>
            <a:ext cx="2297160" cy="229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椭圆 28"/>
          <p:cNvSpPr/>
          <p:nvPr/>
        </p:nvSpPr>
        <p:spPr>
          <a:xfrm>
            <a:off x="466560" y="1911240"/>
            <a:ext cx="2864160" cy="28638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椭圆 29"/>
          <p:cNvSpPr/>
          <p:nvPr/>
        </p:nvSpPr>
        <p:spPr>
          <a:xfrm>
            <a:off x="750960" y="2193840"/>
            <a:ext cx="2297160" cy="229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椭圆 30"/>
          <p:cNvSpPr/>
          <p:nvPr/>
        </p:nvSpPr>
        <p:spPr>
          <a:xfrm>
            <a:off x="5668920" y="1911240"/>
            <a:ext cx="2863800" cy="28638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椭圆 31"/>
          <p:cNvSpPr/>
          <p:nvPr/>
        </p:nvSpPr>
        <p:spPr>
          <a:xfrm>
            <a:off x="5951520" y="2193840"/>
            <a:ext cx="2297160" cy="229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476600" y="0"/>
            <a:ext cx="360" cy="2193840"/>
            <a:chOff x="4476600" y="0"/>
            <a:chExt cx="360" cy="2193840"/>
          </a:xfrm>
        </p:grpSpPr>
        <p:sp>
          <p:nvSpPr>
            <p:cNvPr id="213" name="直接连接符 32"/>
            <p:cNvSpPr/>
            <p:nvPr/>
          </p:nvSpPr>
          <p:spPr>
            <a:xfrm>
              <a:off x="4476600" y="0"/>
              <a:ext cx="0" cy="2193840"/>
            </a:xfrm>
            <a:prstGeom prst="line">
              <a:avLst/>
            </a:prstGeom>
            <a:ln w="381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4476600" y="0"/>
              <a:ext cx="360" cy="21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898640" y="0"/>
            <a:ext cx="1440" cy="2193840"/>
            <a:chOff x="1898640" y="0"/>
            <a:chExt cx="1440" cy="2193840"/>
          </a:xfrm>
        </p:grpSpPr>
        <p:sp>
          <p:nvSpPr>
            <p:cNvPr id="216" name="直接连接符 33"/>
            <p:cNvSpPr/>
            <p:nvPr/>
          </p:nvSpPr>
          <p:spPr>
            <a:xfrm>
              <a:off x="1898640" y="0"/>
              <a:ext cx="1440" cy="2193840"/>
            </a:xfrm>
            <a:prstGeom prst="line">
              <a:avLst/>
            </a:prstGeom>
            <a:ln w="381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>
              <a:off x="1898640" y="0"/>
              <a:ext cx="1440" cy="21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7101000" y="0"/>
            <a:ext cx="360" cy="2193840"/>
            <a:chOff x="7101000" y="0"/>
            <a:chExt cx="360" cy="2193840"/>
          </a:xfrm>
        </p:grpSpPr>
        <p:sp>
          <p:nvSpPr>
            <p:cNvPr id="219" name="直接连接符 34"/>
            <p:cNvSpPr/>
            <p:nvPr/>
          </p:nvSpPr>
          <p:spPr>
            <a:xfrm>
              <a:off x="7101000" y="0"/>
              <a:ext cx="0" cy="2193840"/>
            </a:xfrm>
            <a:prstGeom prst="line">
              <a:avLst/>
            </a:prstGeom>
            <a:ln w="381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>
              <a:off x="7101000" y="0"/>
              <a:ext cx="360" cy="21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椭圆 26"/>
          <p:cNvSpPr/>
          <p:nvPr/>
        </p:nvSpPr>
        <p:spPr>
          <a:xfrm>
            <a:off x="808200" y="2863800"/>
            <a:ext cx="2220840" cy="370080"/>
          </a:xfrm>
          <a:custGeom>
            <a:avLst/>
            <a:gdLst/>
            <a:ahLst/>
            <a:rect l="l" t="t" r="r" b="b"/>
            <a:pathLst>
              <a:path w="1849584" h="298748">
                <a:moveTo>
                  <a:pt x="81952" y="0"/>
                </a:moveTo>
                <a:lnTo>
                  <a:pt x="1767633" y="0"/>
                </a:lnTo>
                <a:cubicBezTo>
                  <a:pt x="1811383" y="92073"/>
                  <a:pt x="1839472" y="192797"/>
                  <a:pt x="1849584" y="298748"/>
                </a:cubicBezTo>
                <a:lnTo>
                  <a:pt x="0" y="298748"/>
                </a:lnTo>
                <a:cubicBezTo>
                  <a:pt x="10113" y="192797"/>
                  <a:pt x="38201" y="92073"/>
                  <a:pt x="81952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26"/>
          <p:cNvSpPr/>
          <p:nvPr/>
        </p:nvSpPr>
        <p:spPr>
          <a:xfrm>
            <a:off x="6013440" y="2865600"/>
            <a:ext cx="2219400" cy="369720"/>
          </a:xfrm>
          <a:custGeom>
            <a:avLst/>
            <a:gdLst/>
            <a:ahLst/>
            <a:rect l="l" t="t" r="r" b="b"/>
            <a:pathLst>
              <a:path w="1849584" h="298748">
                <a:moveTo>
                  <a:pt x="81952" y="0"/>
                </a:moveTo>
                <a:lnTo>
                  <a:pt x="1767633" y="0"/>
                </a:lnTo>
                <a:cubicBezTo>
                  <a:pt x="1811383" y="92073"/>
                  <a:pt x="1839472" y="192797"/>
                  <a:pt x="1849584" y="298748"/>
                </a:cubicBezTo>
                <a:lnTo>
                  <a:pt x="0" y="298748"/>
                </a:lnTo>
                <a:cubicBezTo>
                  <a:pt x="10113" y="192797"/>
                  <a:pt x="38201" y="92073"/>
                  <a:pt x="81952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椭圆 26"/>
          <p:cNvSpPr/>
          <p:nvPr/>
        </p:nvSpPr>
        <p:spPr>
          <a:xfrm>
            <a:off x="3381480" y="2863800"/>
            <a:ext cx="2220840" cy="370080"/>
          </a:xfrm>
          <a:custGeom>
            <a:avLst/>
            <a:gdLst/>
            <a:ahLst/>
            <a:rect l="l" t="t" r="r" b="b"/>
            <a:pathLst>
              <a:path w="1849584" h="298748">
                <a:moveTo>
                  <a:pt x="81952" y="0"/>
                </a:moveTo>
                <a:lnTo>
                  <a:pt x="1767633" y="0"/>
                </a:lnTo>
                <a:cubicBezTo>
                  <a:pt x="1811383" y="92073"/>
                  <a:pt x="1839472" y="192797"/>
                  <a:pt x="1849584" y="298748"/>
                </a:cubicBezTo>
                <a:lnTo>
                  <a:pt x="0" y="298748"/>
                </a:lnTo>
                <a:cubicBezTo>
                  <a:pt x="10113" y="192797"/>
                  <a:pt x="38201" y="92073"/>
                  <a:pt x="81952" y="0"/>
                </a:cubicBezTo>
                <a:close/>
              </a:path>
            </a:pathLst>
          </a:custGeom>
          <a:solidFill>
            <a:srgbClr val="73d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8"/>
          <p:cNvSpPr/>
          <p:nvPr/>
        </p:nvSpPr>
        <p:spPr>
          <a:xfrm>
            <a:off x="1365120" y="2128680"/>
            <a:ext cx="10684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b0f0"/>
                </a:solidFill>
                <a:latin typeface="Adidas Unity"/>
                <a:ea typeface="MS PGothic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9"/>
          <p:cNvSpPr/>
          <p:nvPr/>
        </p:nvSpPr>
        <p:spPr>
          <a:xfrm>
            <a:off x="3989520" y="2128680"/>
            <a:ext cx="10681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5eb52d"/>
                </a:solidFill>
                <a:latin typeface="Adidas Unity"/>
                <a:ea typeface="MS PGothic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0"/>
          <p:cNvSpPr/>
          <p:nvPr/>
        </p:nvSpPr>
        <p:spPr>
          <a:xfrm>
            <a:off x="6635880" y="2128680"/>
            <a:ext cx="10681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b0f0"/>
                </a:solidFill>
                <a:latin typeface="Adidas Unity"/>
                <a:ea typeface="MS PGothic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1"/>
          <p:cNvSpPr/>
          <p:nvPr/>
        </p:nvSpPr>
        <p:spPr>
          <a:xfrm>
            <a:off x="966960" y="3273480"/>
            <a:ext cx="1993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595959"/>
                </a:solidFill>
                <a:latin typeface="Arial"/>
                <a:ea typeface="微软雅黑"/>
              </a:rPr>
              <a:t>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42"/>
          <p:cNvSpPr/>
          <p:nvPr/>
        </p:nvSpPr>
        <p:spPr>
          <a:xfrm>
            <a:off x="3543480" y="3273480"/>
            <a:ext cx="1993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595959"/>
                </a:solidFill>
                <a:latin typeface="Arial"/>
                <a:ea typeface="微软雅黑"/>
              </a:rPr>
              <a:t>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43"/>
          <p:cNvSpPr/>
          <p:nvPr/>
        </p:nvSpPr>
        <p:spPr>
          <a:xfrm>
            <a:off x="6173640" y="3273480"/>
            <a:ext cx="19940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595959"/>
                </a:solidFill>
                <a:latin typeface="Arial"/>
                <a:ea typeface="微软雅黑"/>
              </a:rPr>
              <a:t>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44"/>
          <p:cNvSpPr/>
          <p:nvPr/>
        </p:nvSpPr>
        <p:spPr>
          <a:xfrm>
            <a:off x="1835280" y="5084640"/>
            <a:ext cx="544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Adidas Unity"/>
                <a:ea typeface="微软雅黑"/>
              </a:rPr>
              <a:t>Click here to add your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3C89-653E-4232-962A-73F492D4BCD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图片 12" descr=""/>
          <p:cNvPicPr/>
          <p:nvPr/>
        </p:nvPicPr>
        <p:blipFill>
          <a:blip r:embed="rId1"/>
          <a:srcRect l="5261" t="0" r="10026" b="0"/>
          <a:stretch/>
        </p:blipFill>
        <p:spPr>
          <a:xfrm>
            <a:off x="0" y="333360"/>
            <a:ext cx="9144000" cy="420516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3"/>
          <p:cNvSpPr/>
          <p:nvPr/>
        </p:nvSpPr>
        <p:spPr>
          <a:xfrm flipH="1">
            <a:off x="3851280" y="549360"/>
            <a:ext cx="9777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Baskerville Old Face"/>
                <a:ea typeface="微软雅黑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4"/>
          <p:cNvSpPr/>
          <p:nvPr/>
        </p:nvSpPr>
        <p:spPr>
          <a:xfrm flipH="1">
            <a:off x="3348000" y="1339920"/>
            <a:ext cx="19353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askerville Old Face"/>
                <a:ea typeface="微软雅黑"/>
              </a:rPr>
              <a:t>YOUR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5"/>
          <p:cNvSpPr/>
          <p:nvPr/>
        </p:nvSpPr>
        <p:spPr>
          <a:xfrm rot="16200000">
            <a:off x="3711240" y="3795480"/>
            <a:ext cx="1538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62626"/>
                </a:solidFill>
                <a:latin typeface="Baskerville Old Face"/>
                <a:ea typeface="宋体"/>
              </a:rPr>
              <a:t>Click here to add you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6"/>
          <p:cNvSpPr/>
          <p:nvPr/>
        </p:nvSpPr>
        <p:spPr>
          <a:xfrm flipH="1">
            <a:off x="474120" y="2637000"/>
            <a:ext cx="9759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Baskerville Old Face"/>
                <a:ea typeface="微软雅黑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7"/>
          <p:cNvSpPr/>
          <p:nvPr/>
        </p:nvSpPr>
        <p:spPr>
          <a:xfrm flipH="1">
            <a:off x="-29160" y="3429000"/>
            <a:ext cx="1935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askerville Old Face"/>
                <a:ea typeface="微软雅黑"/>
              </a:rPr>
              <a:t>YOUR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8"/>
          <p:cNvSpPr/>
          <p:nvPr/>
        </p:nvSpPr>
        <p:spPr>
          <a:xfrm flipH="1">
            <a:off x="7461360" y="2637000"/>
            <a:ext cx="976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Baskerville Old Face"/>
                <a:ea typeface="微软雅黑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9"/>
          <p:cNvSpPr/>
          <p:nvPr/>
        </p:nvSpPr>
        <p:spPr>
          <a:xfrm flipH="1">
            <a:off x="6956280" y="3429000"/>
            <a:ext cx="19368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askerville Old Face"/>
                <a:ea typeface="微软雅黑"/>
              </a:rPr>
              <a:t>YOUR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0"/>
          <p:cNvSpPr/>
          <p:nvPr/>
        </p:nvSpPr>
        <p:spPr>
          <a:xfrm>
            <a:off x="65160" y="4600440"/>
            <a:ext cx="2058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f3f3f"/>
                </a:solidFill>
                <a:latin typeface="Arial"/>
                <a:ea typeface="微软雅黑"/>
              </a:rPr>
              <a:t>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1"/>
          <p:cNvSpPr/>
          <p:nvPr/>
        </p:nvSpPr>
        <p:spPr>
          <a:xfrm>
            <a:off x="3378240" y="2637000"/>
            <a:ext cx="205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f3f3f"/>
                </a:solidFill>
                <a:latin typeface="Arial"/>
                <a:ea typeface="微软雅黑"/>
              </a:rPr>
              <a:t>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2"/>
          <p:cNvSpPr/>
          <p:nvPr/>
        </p:nvSpPr>
        <p:spPr>
          <a:xfrm>
            <a:off x="6896160" y="4613400"/>
            <a:ext cx="205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f3f3f"/>
                </a:solidFill>
                <a:latin typeface="Arial"/>
                <a:ea typeface="微软雅黑"/>
              </a:rPr>
              <a:t>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345B-508E-4C02-A301-187FA8EB71B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等腰三角形 3"/>
          <p:cNvSpPr/>
          <p:nvPr/>
        </p:nvSpPr>
        <p:spPr>
          <a:xfrm>
            <a:off x="-166680" y="2803680"/>
            <a:ext cx="2924280" cy="2009520"/>
          </a:xfrm>
          <a:custGeom>
            <a:avLst/>
            <a:gdLst/>
            <a:ahLst/>
            <a:rect l="l" t="t" r="r" b="b"/>
            <a:pathLst>
              <a:path w="3710564" h="2550404">
                <a:moveTo>
                  <a:pt x="0" y="2550404"/>
                </a:moveTo>
                <a:lnTo>
                  <a:pt x="1673575" y="0"/>
                </a:lnTo>
                <a:lnTo>
                  <a:pt x="3710564" y="2386282"/>
                </a:lnTo>
                <a:lnTo>
                  <a:pt x="0" y="2550404"/>
                </a:lnTo>
                <a:close/>
              </a:path>
            </a:pathLst>
          </a:custGeom>
          <a:gradFill rotWithShape="0">
            <a:gsLst>
              <a:gs pos="0">
                <a:srgbClr val="6f0000"/>
              </a:gs>
              <a:gs pos="100000">
                <a:srgbClr val="c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C:\Documents and Settings\Administrator\桌面\timer.png"/>
          <p:cNvPicPr/>
          <p:nvPr/>
        </p:nvPicPr>
        <p:blipFill>
          <a:blip r:embed="rId1"/>
          <a:stretch/>
        </p:blipFill>
        <p:spPr>
          <a:xfrm rot="8108400">
            <a:off x="210600" y="1852560"/>
            <a:ext cx="2052720" cy="2162160"/>
          </a:xfrm>
          <a:prstGeom prst="rect">
            <a:avLst/>
          </a:prstGeom>
          <a:ln w="0">
            <a:noFill/>
          </a:ln>
        </p:spPr>
      </p:pic>
      <p:sp>
        <p:nvSpPr>
          <p:cNvPr id="246" name="等腰三角形 3"/>
          <p:cNvSpPr/>
          <p:nvPr/>
        </p:nvSpPr>
        <p:spPr>
          <a:xfrm>
            <a:off x="1967040" y="2803680"/>
            <a:ext cx="2925720" cy="2009520"/>
          </a:xfrm>
          <a:custGeom>
            <a:avLst/>
            <a:gdLst/>
            <a:ahLst/>
            <a:rect l="l" t="t" r="r" b="b"/>
            <a:pathLst>
              <a:path w="3710564" h="2550404">
                <a:moveTo>
                  <a:pt x="0" y="2550404"/>
                </a:moveTo>
                <a:lnTo>
                  <a:pt x="1673575" y="0"/>
                </a:lnTo>
                <a:lnTo>
                  <a:pt x="3710564" y="2386282"/>
                </a:lnTo>
                <a:lnTo>
                  <a:pt x="0" y="2550404"/>
                </a:lnTo>
                <a:close/>
              </a:path>
            </a:pathLst>
          </a:custGeom>
          <a:gradFill rotWithShape="0">
            <a:gsLst>
              <a:gs pos="0">
                <a:srgbClr val="6f0000"/>
              </a:gs>
              <a:gs pos="100000">
                <a:srgbClr val="c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C:\Documents and Settings\Administrator\桌面\timer.png"/>
          <p:cNvPicPr/>
          <p:nvPr/>
        </p:nvPicPr>
        <p:blipFill>
          <a:blip r:embed="rId2"/>
          <a:stretch/>
        </p:blipFill>
        <p:spPr>
          <a:xfrm rot="8108400">
            <a:off x="2344680" y="1852200"/>
            <a:ext cx="2054160" cy="2162160"/>
          </a:xfrm>
          <a:prstGeom prst="rect">
            <a:avLst/>
          </a:prstGeom>
          <a:ln w="0">
            <a:noFill/>
          </a:ln>
        </p:spPr>
      </p:pic>
      <p:sp>
        <p:nvSpPr>
          <p:cNvPr id="248" name="等腰三角形 3"/>
          <p:cNvSpPr/>
          <p:nvPr/>
        </p:nvSpPr>
        <p:spPr>
          <a:xfrm>
            <a:off x="4100400" y="2803680"/>
            <a:ext cx="2925720" cy="2009520"/>
          </a:xfrm>
          <a:custGeom>
            <a:avLst/>
            <a:gdLst/>
            <a:ahLst/>
            <a:rect l="l" t="t" r="r" b="b"/>
            <a:pathLst>
              <a:path w="3710564" h="2550404">
                <a:moveTo>
                  <a:pt x="0" y="2550404"/>
                </a:moveTo>
                <a:lnTo>
                  <a:pt x="1673575" y="0"/>
                </a:lnTo>
                <a:lnTo>
                  <a:pt x="3710564" y="2386282"/>
                </a:lnTo>
                <a:lnTo>
                  <a:pt x="0" y="2550404"/>
                </a:lnTo>
                <a:close/>
              </a:path>
            </a:pathLst>
          </a:custGeom>
          <a:gradFill rotWithShape="0">
            <a:gsLst>
              <a:gs pos="0">
                <a:srgbClr val="6f0000"/>
              </a:gs>
              <a:gs pos="100000">
                <a:srgbClr val="c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C:\Documents and Settings\Administrator\桌面\timer.png"/>
          <p:cNvPicPr/>
          <p:nvPr/>
        </p:nvPicPr>
        <p:blipFill>
          <a:blip r:embed="rId3"/>
          <a:stretch/>
        </p:blipFill>
        <p:spPr>
          <a:xfrm rot="8108400">
            <a:off x="4478400" y="1852200"/>
            <a:ext cx="2054160" cy="2162160"/>
          </a:xfrm>
          <a:prstGeom prst="rect">
            <a:avLst/>
          </a:prstGeom>
          <a:ln w="0">
            <a:noFill/>
          </a:ln>
        </p:spPr>
      </p:pic>
      <p:sp>
        <p:nvSpPr>
          <p:cNvPr id="250" name="TextBox 26"/>
          <p:cNvSpPr/>
          <p:nvPr/>
        </p:nvSpPr>
        <p:spPr>
          <a:xfrm>
            <a:off x="797040" y="2760840"/>
            <a:ext cx="8222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gency FB"/>
                <a:ea typeface="微软雅黑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7"/>
          <p:cNvSpPr/>
          <p:nvPr/>
        </p:nvSpPr>
        <p:spPr>
          <a:xfrm>
            <a:off x="2960640" y="2760840"/>
            <a:ext cx="8222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gency FB"/>
                <a:ea typeface="微软雅黑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8"/>
          <p:cNvSpPr/>
          <p:nvPr/>
        </p:nvSpPr>
        <p:spPr>
          <a:xfrm>
            <a:off x="5103720" y="2760840"/>
            <a:ext cx="8222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gency FB"/>
                <a:ea typeface="微软雅黑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9"/>
          <p:cNvSpPr/>
          <p:nvPr/>
        </p:nvSpPr>
        <p:spPr>
          <a:xfrm>
            <a:off x="385920" y="3895560"/>
            <a:ext cx="17064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f3f3f"/>
                </a:solidFill>
                <a:latin typeface="Arial"/>
                <a:ea typeface="微软雅黑"/>
              </a:rPr>
              <a:t>Click here to add your text. Click here to add your text. 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30"/>
          <p:cNvSpPr/>
          <p:nvPr/>
        </p:nvSpPr>
        <p:spPr>
          <a:xfrm>
            <a:off x="1841400" y="787320"/>
            <a:ext cx="5372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f3f3f"/>
                </a:solidFill>
                <a:latin typeface="Agency FB"/>
                <a:ea typeface="微软雅黑"/>
              </a:rPr>
              <a:t>Click here to add you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等腰三角形 3"/>
          <p:cNvSpPr/>
          <p:nvPr/>
        </p:nvSpPr>
        <p:spPr>
          <a:xfrm>
            <a:off x="6234120" y="2803680"/>
            <a:ext cx="2925720" cy="2009520"/>
          </a:xfrm>
          <a:custGeom>
            <a:avLst/>
            <a:gdLst/>
            <a:ahLst/>
            <a:rect l="l" t="t" r="r" b="b"/>
            <a:pathLst>
              <a:path w="3710564" h="2550404">
                <a:moveTo>
                  <a:pt x="0" y="2550404"/>
                </a:moveTo>
                <a:lnTo>
                  <a:pt x="1673575" y="0"/>
                </a:lnTo>
                <a:lnTo>
                  <a:pt x="3710564" y="2386282"/>
                </a:lnTo>
                <a:lnTo>
                  <a:pt x="0" y="2550404"/>
                </a:lnTo>
                <a:close/>
              </a:path>
            </a:pathLst>
          </a:custGeom>
          <a:gradFill rotWithShape="0">
            <a:gsLst>
              <a:gs pos="0">
                <a:srgbClr val="6f0000"/>
              </a:gs>
              <a:gs pos="100000">
                <a:srgbClr val="c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C:\Documents and Settings\Administrator\桌面\timer.png"/>
          <p:cNvPicPr/>
          <p:nvPr/>
        </p:nvPicPr>
        <p:blipFill>
          <a:blip r:embed="rId4"/>
          <a:stretch/>
        </p:blipFill>
        <p:spPr>
          <a:xfrm rot="8108400">
            <a:off x="6611400" y="1852560"/>
            <a:ext cx="2054520" cy="21621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33"/>
          <p:cNvSpPr/>
          <p:nvPr/>
        </p:nvSpPr>
        <p:spPr>
          <a:xfrm>
            <a:off x="7237440" y="2760840"/>
            <a:ext cx="8222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gency FB"/>
                <a:ea typeface="微软雅黑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34"/>
          <p:cNvSpPr/>
          <p:nvPr/>
        </p:nvSpPr>
        <p:spPr>
          <a:xfrm>
            <a:off x="2606760" y="3895560"/>
            <a:ext cx="17082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f3f3f"/>
                </a:solidFill>
                <a:latin typeface="Arial"/>
                <a:ea typeface="微软雅黑"/>
              </a:rPr>
              <a:t>Click here to add your text. Click here to add your text. 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35"/>
          <p:cNvSpPr/>
          <p:nvPr/>
        </p:nvSpPr>
        <p:spPr>
          <a:xfrm>
            <a:off x="4724280" y="3882960"/>
            <a:ext cx="17082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f3f3f"/>
                </a:solidFill>
                <a:latin typeface="Arial"/>
                <a:ea typeface="微软雅黑"/>
              </a:rPr>
              <a:t>Click here to add your text. Click here to add your text. 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36"/>
          <p:cNvSpPr/>
          <p:nvPr/>
        </p:nvSpPr>
        <p:spPr>
          <a:xfrm>
            <a:off x="6859440" y="3882960"/>
            <a:ext cx="17067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f3f3f"/>
                </a:solidFill>
                <a:latin typeface="Arial"/>
                <a:ea typeface="微软雅黑"/>
              </a:rPr>
              <a:t>Click here to add your text. Click here to add your text. 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A3DA-EC57-471B-9D31-D91AAAE1AF0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8199"/>
          <p:cNvSpPr/>
          <p:nvPr/>
        </p:nvSpPr>
        <p:spPr>
          <a:xfrm>
            <a:off x="2556000" y="3645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6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C:\Documents and Settings\Administrator\桌面\a362-1.png"/>
          <p:cNvPicPr/>
          <p:nvPr/>
        </p:nvPicPr>
        <p:blipFill>
          <a:blip r:embed="rId1"/>
          <a:srcRect l="0" t="0" r="0" b="11595"/>
          <a:stretch/>
        </p:blipFill>
        <p:spPr>
          <a:xfrm>
            <a:off x="1727280" y="0"/>
            <a:ext cx="5529240" cy="4552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C:\Documents and Settings\Administrator\桌面\a362-1.png"/>
          <p:cNvPicPr/>
          <p:nvPr/>
        </p:nvPicPr>
        <p:blipFill>
          <a:blip r:embed="rId2"/>
          <a:srcRect l="0" t="0" r="0" b="11595"/>
          <a:stretch/>
        </p:blipFill>
        <p:spPr>
          <a:xfrm>
            <a:off x="1042920" y="3198960"/>
            <a:ext cx="2319480" cy="1908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C:\Documents and Settings\Administrator\桌面\a362-1.png"/>
          <p:cNvPicPr/>
          <p:nvPr/>
        </p:nvPicPr>
        <p:blipFill>
          <a:blip r:embed="rId3"/>
          <a:srcRect l="0" t="0" r="0" b="11595"/>
          <a:stretch/>
        </p:blipFill>
        <p:spPr>
          <a:xfrm>
            <a:off x="3376440" y="3198960"/>
            <a:ext cx="2319480" cy="1908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C:\Documents and Settings\Administrator\桌面\a362-1.png"/>
          <p:cNvPicPr/>
          <p:nvPr/>
        </p:nvPicPr>
        <p:blipFill>
          <a:blip r:embed="rId4"/>
          <a:srcRect l="0" t="0" r="0" b="11595"/>
          <a:stretch/>
        </p:blipFill>
        <p:spPr>
          <a:xfrm>
            <a:off x="5695920" y="3198960"/>
            <a:ext cx="2317680" cy="19080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14"/>
          <p:cNvSpPr/>
          <p:nvPr/>
        </p:nvSpPr>
        <p:spPr>
          <a:xfrm>
            <a:off x="1476360" y="3844800"/>
            <a:ext cx="13971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26300"/>
                </a:solidFill>
                <a:latin typeface="Adidas Unity"/>
                <a:ea typeface="微软雅黑"/>
              </a:rPr>
              <a:t>Your</a:t>
            </a:r>
            <a:r>
              <a:rPr b="1" i="1" lang="en-US" sz="2400" spc="-1" strike="noStrike">
                <a:solidFill>
                  <a:srgbClr val="826300"/>
                </a:solidFill>
                <a:latin typeface="Adidas Unity"/>
                <a:ea typeface="微软雅黑"/>
              </a:rPr>
              <a:t> </a:t>
            </a:r>
            <a:r>
              <a:rPr b="1" i="1" lang="en-US" sz="3200" spc="-1" strike="noStrike">
                <a:solidFill>
                  <a:srgbClr val="826300"/>
                </a:solidFill>
                <a:latin typeface="Adidas Unity"/>
                <a:ea typeface="微软雅黑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5"/>
          <p:cNvSpPr/>
          <p:nvPr/>
        </p:nvSpPr>
        <p:spPr>
          <a:xfrm>
            <a:off x="3851280" y="3844800"/>
            <a:ext cx="13986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26300"/>
                </a:solidFill>
                <a:latin typeface="Adidas Unity"/>
                <a:ea typeface="微软雅黑"/>
              </a:rPr>
              <a:t>Your</a:t>
            </a:r>
            <a:r>
              <a:rPr b="1" i="1" lang="en-US" sz="2400" spc="-1" strike="noStrike">
                <a:solidFill>
                  <a:srgbClr val="826300"/>
                </a:solidFill>
                <a:latin typeface="Adidas Unity"/>
                <a:ea typeface="微软雅黑"/>
              </a:rPr>
              <a:t> </a:t>
            </a:r>
            <a:r>
              <a:rPr b="1" i="1" lang="en-US" sz="3200" spc="-1" strike="noStrike">
                <a:solidFill>
                  <a:srgbClr val="826300"/>
                </a:solidFill>
                <a:latin typeface="Adidas Unity"/>
                <a:ea typeface="微软雅黑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6"/>
          <p:cNvSpPr/>
          <p:nvPr/>
        </p:nvSpPr>
        <p:spPr>
          <a:xfrm>
            <a:off x="6168960" y="3844800"/>
            <a:ext cx="13986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26300"/>
                </a:solidFill>
                <a:latin typeface="Adidas Unity"/>
                <a:ea typeface="微软雅黑"/>
              </a:rPr>
              <a:t>Your</a:t>
            </a:r>
            <a:r>
              <a:rPr b="1" i="1" lang="en-US" sz="2400" spc="-1" strike="noStrike">
                <a:solidFill>
                  <a:srgbClr val="826300"/>
                </a:solidFill>
                <a:latin typeface="Adidas Unity"/>
                <a:ea typeface="微软雅黑"/>
              </a:rPr>
              <a:t> </a:t>
            </a:r>
            <a:r>
              <a:rPr b="1" i="1" lang="en-US" sz="3200" spc="-1" strike="noStrike">
                <a:solidFill>
                  <a:srgbClr val="826300"/>
                </a:solidFill>
                <a:latin typeface="Adidas Unity"/>
                <a:ea typeface="微软雅黑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7"/>
          <p:cNvSpPr/>
          <p:nvPr/>
        </p:nvSpPr>
        <p:spPr>
          <a:xfrm>
            <a:off x="3060720" y="1322280"/>
            <a:ext cx="295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595959"/>
                </a:solidFill>
                <a:latin typeface="Arial"/>
                <a:ea typeface="微软雅黑"/>
              </a:rPr>
              <a:t>Click here to add your text. Click here to add your text. Click here to add your text. Click here to add your text. </a:t>
            </a:r>
            <a:r>
              <a:rPr b="0" lang="en-US" sz="1400" spc="-1" strike="noStrike">
                <a:solidFill>
                  <a:srgbClr val="595959"/>
                </a:solidFill>
                <a:latin typeface="Arial"/>
                <a:ea typeface="微软雅黑"/>
              </a:rPr>
              <a:t>Click here to add your text. 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8"/>
          <p:cNvSpPr/>
          <p:nvPr/>
        </p:nvSpPr>
        <p:spPr>
          <a:xfrm>
            <a:off x="682560" y="5657760"/>
            <a:ext cx="792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a47d00"/>
                </a:solidFill>
                <a:latin typeface="Adidas Unity"/>
                <a:ea typeface="微软雅黑"/>
              </a:rPr>
              <a:t>Click here to add your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9F22-AB4A-48D4-B9D1-FF9C7278B13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组合 18"/>
          <p:cNvGrpSpPr/>
          <p:nvPr/>
        </p:nvGrpSpPr>
        <p:grpSpPr>
          <a:xfrm>
            <a:off x="466560" y="1413000"/>
            <a:ext cx="2737080" cy="2160360"/>
            <a:chOff x="466560" y="1413000"/>
            <a:chExt cx="2737080" cy="2160360"/>
          </a:xfrm>
        </p:grpSpPr>
        <p:sp>
          <p:nvSpPr>
            <p:cNvPr id="274" name="椭圆 2"/>
            <p:cNvSpPr/>
            <p:nvPr/>
          </p:nvSpPr>
          <p:spPr>
            <a:xfrm>
              <a:off x="466560" y="1413000"/>
              <a:ext cx="2737080" cy="2160360"/>
            </a:xfrm>
            <a:custGeom>
              <a:avLst/>
              <a:gdLst/>
              <a:ahLst/>
              <a:rect l="l" t="t" r="r" b="b"/>
              <a:pathLst>
                <a:path w="3600400" h="2842090">
                  <a:moveTo>
                    <a:pt x="1800200" y="0"/>
                  </a:moveTo>
                  <a:cubicBezTo>
                    <a:pt x="2794423" y="0"/>
                    <a:pt x="3600400" y="805977"/>
                    <a:pt x="3600400" y="1800200"/>
                  </a:cubicBezTo>
                  <a:cubicBezTo>
                    <a:pt x="3600400" y="2188690"/>
                    <a:pt x="3477342" y="2548437"/>
                    <a:pt x="3267426" y="2842090"/>
                  </a:cubicBezTo>
                  <a:lnTo>
                    <a:pt x="332975" y="2842090"/>
                  </a:lnTo>
                  <a:cubicBezTo>
                    <a:pt x="123060" y="2548437"/>
                    <a:pt x="0" y="2188690"/>
                    <a:pt x="0" y="1800200"/>
                  </a:cubicBezTo>
                  <a:cubicBezTo>
                    <a:pt x="0" y="805977"/>
                    <a:pt x="805977" y="0"/>
                    <a:pt x="1800200" y="0"/>
                  </a:cubicBez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椭圆 2"/>
            <p:cNvSpPr/>
            <p:nvPr/>
          </p:nvSpPr>
          <p:spPr>
            <a:xfrm>
              <a:off x="630720" y="1597320"/>
              <a:ext cx="2408760" cy="1976040"/>
            </a:xfrm>
            <a:custGeom>
              <a:avLst/>
              <a:gdLst/>
              <a:ahLst/>
              <a:rect l="l" t="t" r="r" b="b"/>
              <a:pathLst>
                <a:path w="3600400" h="2953855">
                  <a:moveTo>
                    <a:pt x="1800200" y="0"/>
                  </a:moveTo>
                  <a:cubicBezTo>
                    <a:pt x="2794423" y="0"/>
                    <a:pt x="3600400" y="805977"/>
                    <a:pt x="3600400" y="1800200"/>
                  </a:cubicBezTo>
                  <a:cubicBezTo>
                    <a:pt x="3600400" y="2239327"/>
                    <a:pt x="3443171" y="2641730"/>
                    <a:pt x="3181542" y="2953855"/>
                  </a:cubicBezTo>
                  <a:lnTo>
                    <a:pt x="418859" y="2953855"/>
                  </a:lnTo>
                  <a:cubicBezTo>
                    <a:pt x="157230" y="2641730"/>
                    <a:pt x="0" y="2239327"/>
                    <a:pt x="0" y="1800200"/>
                  </a:cubicBezTo>
                  <a:cubicBezTo>
                    <a:pt x="0" y="805977"/>
                    <a:pt x="805977" y="0"/>
                    <a:pt x="18002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b1c17"/>
                </a:gs>
                <a:gs pos="100000">
                  <a:srgbClr val="37221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组合 21"/>
          <p:cNvGrpSpPr/>
          <p:nvPr/>
        </p:nvGrpSpPr>
        <p:grpSpPr>
          <a:xfrm>
            <a:off x="3203640" y="1413000"/>
            <a:ext cx="2736720" cy="2160360"/>
            <a:chOff x="3203640" y="1413000"/>
            <a:chExt cx="2736720" cy="2160360"/>
          </a:xfrm>
        </p:grpSpPr>
        <p:sp>
          <p:nvSpPr>
            <p:cNvPr id="277" name="椭圆 2"/>
            <p:cNvSpPr/>
            <p:nvPr/>
          </p:nvSpPr>
          <p:spPr>
            <a:xfrm>
              <a:off x="3203640" y="1413000"/>
              <a:ext cx="2736720" cy="2160360"/>
            </a:xfrm>
            <a:custGeom>
              <a:avLst/>
              <a:gdLst/>
              <a:ahLst/>
              <a:rect l="l" t="t" r="r" b="b"/>
              <a:pathLst>
                <a:path w="3600400" h="2842090">
                  <a:moveTo>
                    <a:pt x="1800200" y="0"/>
                  </a:moveTo>
                  <a:cubicBezTo>
                    <a:pt x="2794423" y="0"/>
                    <a:pt x="3600400" y="805977"/>
                    <a:pt x="3600400" y="1800200"/>
                  </a:cubicBezTo>
                  <a:cubicBezTo>
                    <a:pt x="3600400" y="2188690"/>
                    <a:pt x="3477342" y="2548437"/>
                    <a:pt x="3267426" y="2842090"/>
                  </a:cubicBezTo>
                  <a:lnTo>
                    <a:pt x="332975" y="2842090"/>
                  </a:lnTo>
                  <a:cubicBezTo>
                    <a:pt x="123060" y="2548437"/>
                    <a:pt x="0" y="2188690"/>
                    <a:pt x="0" y="1800200"/>
                  </a:cubicBezTo>
                  <a:cubicBezTo>
                    <a:pt x="0" y="805977"/>
                    <a:pt x="805977" y="0"/>
                    <a:pt x="1800200" y="0"/>
                  </a:cubicBez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椭圆 2"/>
            <p:cNvSpPr/>
            <p:nvPr/>
          </p:nvSpPr>
          <p:spPr>
            <a:xfrm>
              <a:off x="3367800" y="1597320"/>
              <a:ext cx="2408400" cy="1976040"/>
            </a:xfrm>
            <a:custGeom>
              <a:avLst/>
              <a:gdLst/>
              <a:ahLst/>
              <a:rect l="l" t="t" r="r" b="b"/>
              <a:pathLst>
                <a:path w="3600400" h="2953855">
                  <a:moveTo>
                    <a:pt x="1800200" y="0"/>
                  </a:moveTo>
                  <a:cubicBezTo>
                    <a:pt x="2794423" y="0"/>
                    <a:pt x="3600400" y="805977"/>
                    <a:pt x="3600400" y="1800200"/>
                  </a:cubicBezTo>
                  <a:cubicBezTo>
                    <a:pt x="3600400" y="2239327"/>
                    <a:pt x="3443171" y="2641730"/>
                    <a:pt x="3181542" y="2953855"/>
                  </a:cubicBezTo>
                  <a:lnTo>
                    <a:pt x="418859" y="2953855"/>
                  </a:lnTo>
                  <a:cubicBezTo>
                    <a:pt x="157230" y="2641730"/>
                    <a:pt x="0" y="2239327"/>
                    <a:pt x="0" y="1800200"/>
                  </a:cubicBezTo>
                  <a:cubicBezTo>
                    <a:pt x="0" y="805977"/>
                    <a:pt x="805977" y="0"/>
                    <a:pt x="18002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b1c17"/>
                </a:gs>
                <a:gs pos="100000">
                  <a:srgbClr val="37221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组合 24"/>
          <p:cNvGrpSpPr/>
          <p:nvPr/>
        </p:nvGrpSpPr>
        <p:grpSpPr>
          <a:xfrm>
            <a:off x="5940360" y="1413000"/>
            <a:ext cx="2737080" cy="2160360"/>
            <a:chOff x="5940360" y="1413000"/>
            <a:chExt cx="2737080" cy="2160360"/>
          </a:xfrm>
        </p:grpSpPr>
        <p:sp>
          <p:nvSpPr>
            <p:cNvPr id="280" name="椭圆 2"/>
            <p:cNvSpPr/>
            <p:nvPr/>
          </p:nvSpPr>
          <p:spPr>
            <a:xfrm>
              <a:off x="5940360" y="1413000"/>
              <a:ext cx="2737080" cy="2160360"/>
            </a:xfrm>
            <a:custGeom>
              <a:avLst/>
              <a:gdLst/>
              <a:ahLst/>
              <a:rect l="l" t="t" r="r" b="b"/>
              <a:pathLst>
                <a:path w="3600400" h="2842090">
                  <a:moveTo>
                    <a:pt x="1800200" y="0"/>
                  </a:moveTo>
                  <a:cubicBezTo>
                    <a:pt x="2794423" y="0"/>
                    <a:pt x="3600400" y="805977"/>
                    <a:pt x="3600400" y="1800200"/>
                  </a:cubicBezTo>
                  <a:cubicBezTo>
                    <a:pt x="3600400" y="2188690"/>
                    <a:pt x="3477342" y="2548437"/>
                    <a:pt x="3267426" y="2842090"/>
                  </a:cubicBezTo>
                  <a:lnTo>
                    <a:pt x="332975" y="2842090"/>
                  </a:lnTo>
                  <a:cubicBezTo>
                    <a:pt x="123060" y="2548437"/>
                    <a:pt x="0" y="2188690"/>
                    <a:pt x="0" y="1800200"/>
                  </a:cubicBezTo>
                  <a:cubicBezTo>
                    <a:pt x="0" y="805977"/>
                    <a:pt x="805977" y="0"/>
                    <a:pt x="1800200" y="0"/>
                  </a:cubicBez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椭圆 2"/>
            <p:cNvSpPr/>
            <p:nvPr/>
          </p:nvSpPr>
          <p:spPr>
            <a:xfrm>
              <a:off x="6104520" y="1597320"/>
              <a:ext cx="2408760" cy="1976040"/>
            </a:xfrm>
            <a:custGeom>
              <a:avLst/>
              <a:gdLst/>
              <a:ahLst/>
              <a:rect l="l" t="t" r="r" b="b"/>
              <a:pathLst>
                <a:path w="3600400" h="2953855">
                  <a:moveTo>
                    <a:pt x="1800200" y="0"/>
                  </a:moveTo>
                  <a:cubicBezTo>
                    <a:pt x="2794423" y="0"/>
                    <a:pt x="3600400" y="805977"/>
                    <a:pt x="3600400" y="1800200"/>
                  </a:cubicBezTo>
                  <a:cubicBezTo>
                    <a:pt x="3600400" y="2239327"/>
                    <a:pt x="3443171" y="2641730"/>
                    <a:pt x="3181542" y="2953855"/>
                  </a:cubicBezTo>
                  <a:lnTo>
                    <a:pt x="418859" y="2953855"/>
                  </a:lnTo>
                  <a:cubicBezTo>
                    <a:pt x="157230" y="2641730"/>
                    <a:pt x="0" y="2239327"/>
                    <a:pt x="0" y="1800200"/>
                  </a:cubicBezTo>
                  <a:cubicBezTo>
                    <a:pt x="0" y="805977"/>
                    <a:pt x="805977" y="0"/>
                    <a:pt x="18002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b1c17"/>
                </a:gs>
                <a:gs pos="100000">
                  <a:srgbClr val="37221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2" name="Picture 3" descr=""/>
          <p:cNvPicPr/>
          <p:nvPr/>
        </p:nvPicPr>
        <p:blipFill>
          <a:blip r:embed="rId4"/>
          <a:srcRect l="0" t="-33163" r="0" b="0"/>
          <a:stretch/>
        </p:blipFill>
        <p:spPr>
          <a:xfrm flipH="1" rot="10800000">
            <a:off x="0" y="3563280"/>
            <a:ext cx="9144000" cy="455400"/>
          </a:xfrm>
          <a:prstGeom prst="rect">
            <a:avLst/>
          </a:prstGeom>
          <a:ln w="0">
            <a:noFill/>
          </a:ln>
        </p:spPr>
      </p:pic>
      <p:sp>
        <p:nvSpPr>
          <p:cNvPr id="283" name="TextBox 28"/>
          <p:cNvSpPr/>
          <p:nvPr/>
        </p:nvSpPr>
        <p:spPr>
          <a:xfrm>
            <a:off x="900000" y="2468520"/>
            <a:ext cx="1922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9"/>
          <p:cNvSpPr/>
          <p:nvPr/>
        </p:nvSpPr>
        <p:spPr>
          <a:xfrm>
            <a:off x="1547640" y="1447920"/>
            <a:ext cx="6717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gency FB"/>
                <a:ea typeface="微软雅黑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30"/>
          <p:cNvSpPr/>
          <p:nvPr/>
        </p:nvSpPr>
        <p:spPr>
          <a:xfrm>
            <a:off x="3657600" y="2468520"/>
            <a:ext cx="1922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31"/>
          <p:cNvSpPr/>
          <p:nvPr/>
        </p:nvSpPr>
        <p:spPr>
          <a:xfrm>
            <a:off x="4305240" y="1447920"/>
            <a:ext cx="6732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gency FB"/>
                <a:ea typeface="微软雅黑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32"/>
          <p:cNvSpPr/>
          <p:nvPr/>
        </p:nvSpPr>
        <p:spPr>
          <a:xfrm>
            <a:off x="6394320" y="2468520"/>
            <a:ext cx="1922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3"/>
          <p:cNvSpPr/>
          <p:nvPr/>
        </p:nvSpPr>
        <p:spPr>
          <a:xfrm>
            <a:off x="7042320" y="1447920"/>
            <a:ext cx="6714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gency FB"/>
                <a:ea typeface="微软雅黑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34"/>
          <p:cNvSpPr/>
          <p:nvPr/>
        </p:nvSpPr>
        <p:spPr>
          <a:xfrm>
            <a:off x="1042920" y="4268880"/>
            <a:ext cx="7056360" cy="22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5c3c32"/>
                </a:solidFill>
                <a:latin typeface="Agency FB"/>
                <a:ea typeface="微软雅黑"/>
              </a:rPr>
              <a:t>Click here to add your tit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456D-B3A0-438B-9BC2-9294B827DFB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7T08:4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8:34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